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09A-A1C3-4072-8F1E-02C71B0A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552-B275-4E9B-9907-05AB799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B60-C3C3-40CE-9FAA-9506F959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19A-4B67-4BB1-B03E-779F26FC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9B60-0C1C-4033-9394-1A93CB8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ECA2-EBAA-436A-815E-2D929617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E3F2-22E9-4037-9EA4-0A5A4357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34F1-36A2-4E83-95E3-E47C91D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92CC-96C9-427F-9011-0E6BC8CD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ED0-4086-401D-9510-ACEF243F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0172-F283-4E58-8FF4-D3CB98B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889-4ADB-411B-ACFB-18DDD6C5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05F8-07EF-46A4-995D-9C4B650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DE5A-8F2B-452B-899D-35E44EF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3CB-C87E-4800-8FEE-424649F1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A21-6D9F-4D4F-9D07-08955A80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5C03-E9AE-40FB-8567-80E25187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9CB-4244-40BE-BF27-298AAA3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CED-2998-4652-93EA-B18F448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789-F3A1-4824-8B1E-82C73F61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95F-0608-45B6-A861-CDE2AB1B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BB6-20F9-405B-BE5E-977F9B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D4A-D381-447D-B7E8-0ACC6C8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61C-BE5A-489F-8F67-A9C67F9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BB1B-3255-4FE8-B920-BA2F3364E3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A55-9571-41A6-B549-5942963A07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дводные камни компьютеризации медицины – 5 лет спуст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ОЧИ - 201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, к.т.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499) 200-10-6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Постоянное сокращение числа фирм – разработчиков компьютерных систе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781360"/>
          <a:ext cx="9144000" cy="3387600"/>
        </p:xfrm>
        <a:graphic>
          <a:graphicData uri="http://schemas.openxmlformats.org/drawingml/2006/table">
            <a:tbl>
              <a:tblPr/>
              <a:tblGrid>
                <a:gridCol w="2340000"/>
                <a:gridCol w="876240"/>
                <a:gridCol w="828720"/>
                <a:gridCol w="799920"/>
                <a:gridCol w="928800"/>
                <a:gridCol w="830160"/>
                <a:gridCol w="830520"/>
                <a:gridCol w="907920"/>
                <a:gridCol w="801720"/>
              </a:tblGrid>
              <a:tr h="12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фи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авлено в каталог за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ключено из каталога за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Всего фи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Arial"/>
                        </a:rPr>
                        <a:t>2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Arial"/>
                        </a:rPr>
                        <a:t>2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Arial"/>
                        </a:rPr>
                        <a:t>2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труктура парка компьютерных систем ЛПУ(в %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труктура парка компьютерных систем ЛПУ(в шт.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временное состояние парка компьютерных систем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ост числа МИС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дставленных в каталоге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557360"/>
          <a:ext cx="8713800" cy="5300640"/>
        </p:xfrm>
        <a:graphic>
          <a:graphicData uri="http://schemas.openxmlformats.org/drawingml/2006/table">
            <a:tbl>
              <a:tblPr/>
              <a:tblGrid>
                <a:gridCol w="1474920"/>
                <a:gridCol w="2698560"/>
                <a:gridCol w="2019600"/>
                <a:gridCol w="2520720"/>
              </a:tblGrid>
              <a:tr h="121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систем в каталог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 М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С в %% от общего числа сис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2 варианта использования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T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.1                             v.2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427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ы – «кассовые аппараты»,  калькуляторы и пишущие маши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чечная компью-теризация на усмотрение руковод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инирование бумажных носи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ая цель: информатизация статистики и системы взаиморасче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27280" y="1412640"/>
            <a:ext cx="4716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нализ эффективности (в т.ч. финансовой) проводимых мероприятий (напр., диспансеризации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статистике, основанной на анализе исключительно первичных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ЭДО и ведению ЭИ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лавная цель: сокращение числа врачебных и управленческих оши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Факторы, сдерживающие компьютеризацию медицинских учрежд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197000"/>
          <a:ext cx="9144000" cy="5660640"/>
        </p:xfrm>
        <a:graphic>
          <a:graphicData uri="http://schemas.openxmlformats.org/drawingml/2006/table">
            <a:tbl>
              <a:tblPr/>
              <a:tblGrid>
                <a:gridCol w="6156360"/>
                <a:gridCol w="1800360"/>
                <a:gridCol w="11872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балл по 10-ти бал-льной шка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йтинг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Отсутствие гос. политики в сфере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Отсутствие у медучреждения денежных сред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ие документов, регламентирующих статус электронных документов и ЭЦ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еделенность экономической и др. выгоды от использования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ертность персонала, нежелание менять привычную форму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очность знаний и навыков по ИКТ у работников медуч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Отсутствует концепция и законодательств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 концепция и план компьютеризации здравоохранения. Главный врач самостоятельно вынужден решать вопрос: что и как компьютеризиров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 законодательная база в сфере медицински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ни одного документа с 2002 г. (!!!). Приказ МЗСР РФ  от 16.10.2006  №713 «Об утверждении принципов создания единой информационной системы в сфере здравоохранения и соц. развития» носит абсолютно декларативный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пределен статус электронных документов и т.д. Абсолютное большинство руководителей медучреждений не согласится вести документооборот в двух вариантах: бумажном и электрон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Пилите, Шура. Пилите!»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    И. Ильф, Е. Петров «Золотой теленок»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1%  на нужды чиновников, 9% - медучрежд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урсы проводятся в условиях отсутствия концепции развития ИКТ для 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ый бизнес оттирается от участия в конкурсах административными метод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 один из членов комиссии не является специалистом в вопросах мед. ИК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ие конкурсы абсолютно не обоснова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Отсутствует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T-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ддержка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ЛПУ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разбериха со статус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лужб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уют типовые документы по ВСЕМ аспектам использования ИКТ в ЛПУ (должностные инструкции, регламенты, права доступа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Качество оказания медицинской помощ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числа госпитализаций за счет использования телемедицины и мониторинга здоровья пациента на дому. 5 600 000 госпитализаций пациентов с хр. заболеваниями может быть предупреждено в 6 странах Е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дублирования при выполнении клинических исследований и тестов. Более 800 000 ненужных лабораторных исследований можно предупредить только в Англии при использовании ЭИБ, что даст экономическую выгоду в 3.6 млн. евр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и повторных госпитализаций больных с сердечной недостаточностью на 39 000 в год за счет внедрения ЭИБ и системой менеджмента хронических заболеваний (СМХЗ), что экономит более 110 млн. евро в год (Франция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облемы с образованием и повышением квалификации в сфере медицинских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ледипломное образование медиков (и в первую очередь руководящих) в сфере ИКТ практически отсутству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39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А также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мим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численных выше объективных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, на которые принято указыва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ются причины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мене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ущественные, но которые упоминаются значительно реж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равданный оптимизм по поводу ожидания быстрого экономического эффекта от внедрения ПК, который часто сменяется потерей интереса к компьютериз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елание руководства ЛПУ внедрять то, в чем не разбираешься. Уровень компьютерной грамотности абсолютного большинства медиков (в т.ч.  руководящих) катастрофически низок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ные фоб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изация – это «усилитель» тех управленческих методов, которые используются в ЛПУ. Если работа организована плохо, то компьютеризация не улучш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только ухудш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итуаци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обычной неразберихи появляется неразбериха компьютеризирован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ние информационных систем и в первую очередь Интернета - очень сильный антикоррупционный механизм: целесообразность приобретения аппаратуры, расходных материалов  и т.д. на основании «рекомендаций»  (руководящих или собственных сотрудников) может быть поставлена под сомнение в результате поиска необходимой информации в Интернет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. 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язн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ководителя любого ранга утрати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нополь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информацию и (или) на ее использование. Любой допущенный пользователь компьютерной системы может получить те же данные, что и руководитель. Чем выше уровень руководителя, тем сильне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бы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го противодейств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7840"/>
            <a:ext cx="78487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2. Отсутствие методики обосновани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экономическ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целесообразности внедрения  информационных технолог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13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Главное: в основе всего лежит НЕЖЕЛАНИЕ что-либо всерьез менять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520" y="220500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КТ не будут широко использоваться в медицине до тех пор, п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знь и здоровье людей не станут реальной экономической категори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риальное положение медицинского чиновника не будет напрямую связано с конечным результатом его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Нужна ли компьютеризация чиновнику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изация – это путь к получению ОБЪЕКТИВНОЙ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изация – это изменение форм УПРАВЛЕНИЯ и, следовательно, «ограничивание» чиновника и в т.ч. – его финансовых аппет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изация требует других чинов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Безопасность пациентов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исла ошибок при назначении препаратов при использовании компьютеризированной системы врач. назначений и системы поддержки принятия решений. Более 26 000 ошибок только в Нидерландах; в т.ч. 1300 случаев средних и тяжелых опасных осложнений, что в сумме экономит до 118 млн. евр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смертности среди диабетиков за счет использования электронной истории болезни (ЭИБ) и системы менеджмента хронических заболеваний (СМХЗ). 11 000 смертей, вызванных осложнениями диабета, могут быть предупреждены ежегодно в 6 странах ЕС за счет внедрения ЭИБ и СМХЗ. Только в одной Испании, где в год умирает 10 000 диабетиков, можно спасти 3 000 за счет использовании этих же технолог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Мнения участников опроса, проведенного АРМИТ в 2008 г.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истема управления здравоохранением построена так, что осязаемых и всем понятных выгод от компьютеризации просто нет»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е короткое и точное определ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«На словах все ЗА, а на деле – плевать».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глашаем Вас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мпозиум 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-201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(Москва, 15 ноября 20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 Международный форум 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» - выставка и конференция по медицинским информационным технологиям (Москва, ЦВК «Экспоцентр», 18-20 мая 201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тавить заявку на регулярное получение информации по всем аспектам развития и использования М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 в остальном, прекрасная маркиза …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лающие принять участие в мероприятиях Ассоциации и регулярно получать информацию о мире медицински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бращайтесь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4581360"/>
            <a:ext cx="87631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, Президент АРМ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Возрастание доступности медпомощ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ание доступности госпитализации за счет снижения числа койко-дней на одного больного в результате использования ЭИБ и компьютеризирован-ной системы врачебных назначений. Более 9 млн. койко-дней (3.6 млрд. евро) может быть сэкономлено в 6 странах ЕС. Только в одних Нидерландах можно освободить 560 000 койко-дней (600 млн. евр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возможностей для вторичного посещения врача за счет системы электронного бронирования визита. Число пропущенных посещений врачей в системе вторичной медицинской помощи Англии составляет 600 000 в год (130 млн. евро). Внедрение электронной системы бронирования визита сопровождается снижением неявок пациента на прием на 33%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зиция Президента России по созданию информационного обществ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ование преодоления разрыва с развитыми стр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совета по развитию информационного общества в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малого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иентация на инновационную экономи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казом Президента РФ от 1 ноября 2008 г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№ 1576 создан Совет при Президенте РФ по развитию информационного общества в РФ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.А. Медведев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По ключевым показателям развития информационного общества мы еще колоссально далеки от большинства развитых государств. В соответствующих международных рейтингах Россия занимает, даже, не 20-30-е , а 70-80-е места! Это при том, что у нас в целом очень высокий исторический интеллектуальный потенциал. … По индексу развития электронного правительства мы были в 2005-м году на 56-м месте, а в 2007 году достигли 92-го. … У нас нет никакого электронного правительства, все это – химера. В рейтинге готовности стран к сетевому миру мы также находимся на «почетном» 72-м мест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Власть и медицинские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инздравсоцразвития создан Департамент информатиза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а межведомственная рабочая группа по вопросам использования ИКТ в сфере здравоохранения и соцзащиты населения во главе с Министром Минздравсоцразвития РФ Т.А. Голиков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информатизацию здравоохранения предполагается направить 24 млрд. руб. за 2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10-й выпуск катало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фирм-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85% фирм разработчиков – коммерческие 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5% - гос. 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324972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намика численности ПК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в 72 ЛПУ УЗ СВА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06800" y="1557360"/>
          <a:ext cx="414828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0" y="1557360"/>
                    <a:ext cx="41482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58840" y="1603440"/>
          <a:ext cx="4240080" cy="49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840" y="1603440"/>
                    <a:ext cx="424008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0-10-27T04:33:26Z</dcterms:modified>
  <cp:revision>124</cp:revision>
  <dc:subject/>
  <dc:title>PowerPoint Presentation</dc:title>
</cp:coreProperties>
</file>