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DD7-8675-404F-8776-0D6F2A09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621-9EBA-4F96-A9E3-1F62935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476-F253-403B-8B4F-64E7BC85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BC7-C2D0-4F9E-93BE-AF488E6C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FF9-E9EA-421F-9E81-27A3A735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A88C-87F9-4027-8AEB-824D75E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9F38-06B5-413A-B6E2-F4301F34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1162-B69F-4247-88B2-DE4118F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346-EFA0-44FA-AEDA-1BA9367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4CFD-B7C0-4A1E-B53E-ADAF321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78C-B876-4CCE-82C7-C34BF82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C07-8BFB-44EA-89B5-281991E5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2C49-DEAE-4D27-BA99-E3EAD25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E68-8E47-4D6F-A301-83C6741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C839-78EA-4D4E-A27D-84CC2AA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153-3DFC-4784-9F44-ECE5F7A8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D6B3-BD27-4E3A-ABE9-8BDF4F95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5DF-9C29-4289-AFB0-DD9CF2B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59B-D87E-4590-986F-95FCAFF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D56-DF43-44B3-98CD-0388A399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8D4-1DF8-4C19-A150-E0DA4BB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E9C-DFB0-43DE-A65E-4E09C44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369-2F7B-4B4E-AE70-4B58781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56B-356A-4F80-9ACB-A543563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6453-25EB-4E35-8CA0-CADB51959B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5EC-6BC7-4B4D-84A0-BCB422EFDE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cross.ru/" TargetMode="External"/><Relationship Id="rId2" Type="http://schemas.openxmlformats.org/officeDocument/2006/relationships/hyperlink" Target="http://www.biochemmack.ru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87080"/>
            <a:ext cx="864216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"/>
              </a:rPr>
              <a:t>Российский рынок медицинских компьютерных систем. Направления развития, перспективы и проблемы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280" y="4149360"/>
            <a:ext cx="876312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5) 4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(УЗ СВАО г. Москвы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197000"/>
          <a:ext cx="9180360" cy="5656320"/>
        </p:xfrm>
        <a:graphic>
          <a:graphicData uri="http://schemas.openxmlformats.org/drawingml/2006/table">
            <a:tbl>
              <a:tblPr/>
              <a:tblGrid>
                <a:gridCol w="5940360"/>
                <a:gridCol w="1079640"/>
                <a:gridCol w="1081080"/>
                <a:gridCol w="10792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АРМ в 72 ЛПУ УЗ СВА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ск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е число АРМ в ЛП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ы для администрации (бухгалтерия, кадры, статистика, регистр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ы для решения задач ОМ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.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.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Собственно медицинские системы (диагностика, лечение, профилакти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.0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12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9.6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ридические справочные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раструктура (серверы, коммутационные станци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«Пишущие машинки» или не использ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12.1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36.1</a:t>
                      </a:r>
                      <a:r>
                        <a:rPr b="1" lang="en-US" sz="2400" spc="-1" strike="noStrike">
                          <a:solidFill>
                            <a:srgbClr val="cccc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1197000"/>
          <a:ext cx="8653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653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%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Число компьютеров, установленных в 72 ЛПУ УЗ СВАО г. Москвы (по годам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346040"/>
          <a:ext cx="91440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440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79280" y="620640"/>
          <a:ext cx="896472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омпьютерных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кторы, сдерживающие компьютеризацию медицинских учрежден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197000"/>
          <a:ext cx="9144000" cy="5660640"/>
        </p:xfrm>
        <a:graphic>
          <a:graphicData uri="http://schemas.openxmlformats.org/drawingml/2006/table">
            <a:tbl>
              <a:tblPr/>
              <a:tblGrid>
                <a:gridCol w="6012000"/>
                <a:gridCol w="1873080"/>
                <a:gridCol w="1258920"/>
              </a:tblGrid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10-ти бал-льной шка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йтинг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ы с сопровождением П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ы с обслуживанием В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оответствие возможностей существующих компьютерных систем потребностям медуч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ативное отношение к компьютеризации со стороны работников медуч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ативное отношение к компьютеризации со стороны руководства медуч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ативное отношение к компьютеризации со стороны вышестоящих организац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ие литературы и методических материалов по выбору и использованию ИК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кторы, сдерживающие компьютеризацию медицинских учреждений (продолжение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197000"/>
          <a:ext cx="9144000" cy="5660640"/>
        </p:xfrm>
        <a:graphic>
          <a:graphicData uri="http://schemas.openxmlformats.org/drawingml/2006/table">
            <a:tbl>
              <a:tblPr/>
              <a:tblGrid>
                <a:gridCol w="6156360"/>
                <a:gridCol w="1800360"/>
                <a:gridCol w="11872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балл по 10-ти бал-льной шка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йтинг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Отсутствие гос. политики в сфере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Отсутствие у медучреждения денежных сред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ие документов, регламентирующих статус электронных документов и ЭЦ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еделенность экономической и др. выгоды от использования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ертность персонала, нежелание менять привычную форму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очность знаний и навыков по ИКТ у работников медуч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нения участников опрос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истема управления здравоохранением построена так, что осязаемых и всем понятных выгод от компьютеризации просто нет»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е короткое и точное определ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На словах все ЗА, а на деле – плевать».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это означает на практике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ует концепция компьютеризации здравоохранения. Каждый главный врач фактически самостоятельно вынужден решать вопрос: что и как компьютеризиров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проекте практически ничего не сказано о И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отворчество: ни одного документа с 2002 г. (!!!). Приказ Минздравсоцразвития РФ  от 16.10.2006  №713 «Об утверждении принципов создания единой информационной системы в сфере здравоохранения и социального развития» носит абсолютно декларативный харак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тус электронных документов не определен. Абсолютное большинство руководителей медучреждений не согласится вести документооборот в двух вариантах: бумажном и электрон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дипломное образование медиков в сфере ИКТ практически отсутству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тификация программных средств отсутству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13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чему это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исходи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80520" y="1700280"/>
            <a:ext cx="84582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снове всего лежит НЕЖЕЛАНИЕ что-либо всерьез менять. ИКТ не будут широко использоваться в медицине до тех пор, п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знь и здоровье людей не станут реальной экономической категорие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териальное положение медицинского чиновника не будет напрямую связано с конечным результатом его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Минздравсоцразвития РФ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е отсутствие политики в области медицинских ИКТ в течении многих л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онятно: кто за что отвечает и отвечает ли вооб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ординация - но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радуе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0920" y="2060280"/>
            <a:ext cx="864216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ущественно возросло финансирование ИКТ в здравоохранени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  Нацпроек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  ОМ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  Появилась статья расходов на сопровождение программных средст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ужна ли компьютеризация чиновник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421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изация – это путь к получени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ЕКТИВН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изация – это изменение форм анализа этой информации 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и к тому ни к другому большинство наших чиновников не готовы и не стремя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результате создания единого информационного пространства и реальной конкурентной среды может исчезнуть много кормушек в виде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924280"/>
            <a:ext cx="864216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жно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живых» денег на разработку (приобретение) и сопровождение неконкурентноспособной проду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ндировок по родной стране, в страны ближнего и дальнего зарубежья с целью обмена несуществующим опытом по неработающим системам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о надо делать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лжна быть поставлена конкретная задача: поэтапный переход к представлению и использованию ВСЕЙ информации, циркулирующей в системе здравоохранения, в электронном вид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партамент ИКТ должен решать те задачи, которые не может решить ни одна конкретная организация или группа организаций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вердить концепцию и план развития медицинских ИТ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ИКТ-инфраструктуру (организационную, информационную, техническую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вопросы юридического обеспечения использования ИКТ в здравоохранении; статуса электронных докум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ть систему последипломного повышения квалификация медиков и специалистов по управлению здравоохранением в сфере И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 также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ть концентрацию финансовых ресурсов на наиболее принципиальных участках; финансирование расходов на ИКТ на всех уровнях должно идти отдельной строкой, дать стимул инвестиционной актив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ть взаимодействие с руководством системы ОМС в вопросах информационного обм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епить в сознании медиков и организаторов здравоохранения, что компьютер — это не просто один из видов техники (пусть даже и очень хорошей), а в первую очеред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ноябре 2007 г.  АРМИТ провела опрос по вопросам управления компьютеризаци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2349360"/>
          <a:ext cx="8785440" cy="4532400"/>
        </p:xfrm>
        <a:graphic>
          <a:graphicData uri="http://schemas.openxmlformats.org/drawingml/2006/table">
            <a:tbl>
              <a:tblPr/>
              <a:tblGrid>
                <a:gridCol w="6985080"/>
                <a:gridCol w="180036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лали анкет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8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 Моск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5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 других городов: Белгород, Владивосток, Владимир, Воронеж, Ижевск, Казань, Кемерово, Краснодар, Липецк, Новокузнецк, Омск, Пенза, Пермь, Петрозаводск, С.-Петербург, Самара, Смоленск, Ставрополь, Томск, Ханты-Мансийс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3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50440" y="304920"/>
            <a:ext cx="8016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 типу организац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557360"/>
          <a:ext cx="8229600" cy="4392720"/>
        </p:xfrm>
        <a:graphic>
          <a:graphicData uri="http://schemas.openxmlformats.org/drawingml/2006/table">
            <a:tbl>
              <a:tblPr/>
              <a:tblGrid>
                <a:gridCol w="6624720"/>
                <a:gridCol w="16048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ы управления здравоохранени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дицинские орган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АЦ (РАМН, Белгород, Владимир, Кемерово, Красноярск, Липецк, Новокузнецк, Приморский, С.-Петербург, Смоленск, Удмуртски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1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и разработчики медицинских И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4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лжностной состав респондент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5960" y="1987560"/>
          <a:ext cx="7932600" cy="2527200"/>
        </p:xfrm>
        <a:graphic>
          <a:graphicData uri="http://schemas.openxmlformats.org/drawingml/2006/table">
            <a:tbl>
              <a:tblPr/>
              <a:tblGrid>
                <a:gridCol w="6116760"/>
                <a:gridCol w="181584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ководители организа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4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уководители подразделений, направлений, проек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2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1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учный уровень респондент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2730600"/>
          <a:ext cx="8642160" cy="1778040"/>
        </p:xfrm>
        <a:graphic>
          <a:graphicData uri="http://schemas.openxmlformats.org/drawingml/2006/table">
            <a:tbl>
              <a:tblPr/>
              <a:tblGrid>
                <a:gridCol w="6664320"/>
                <a:gridCol w="19778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тора наук (8 д.м.н., 4 д.т.н., 1 д.э.н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1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ндидаты наук (8 к.м.н., 2 к.б.н., 9 к.т.н., 2 к.ф.-м.н., 3 к.э.н., 1 к.п.н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2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опрос №1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читаете ли Вы необходимым создание в Минздравсоцразвития РФ специализированного подразделения, отвечающего за развитие и использование ИКТ в здравоохранении ?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(условно -  Департамент ИКТ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Число компьютеров, установленных в 72 ЛПУ УЗ СВАО г. Москвы (по годам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346040"/>
          <a:ext cx="91440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6040"/>
                    <a:ext cx="91440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сновные аргументы ПРОТИ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Главные врачи не все идиоты, которые не имеют понятия о том, что такое электронная почта, интернет и автоматизированное рабочее место. … Осталось подождать, когда врачи на 100% будут уметь работать на компьютере. И когда каждое рабочее место будет оснащено компьютером. И не думаю, что на зарплату в департаменте пойдет хороший айтишник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Есть такая народная мудрость: если надо что-то провалить окончательно, его надо организовать и возглавить. Как-то не верится, что очередная бюрократическая структура что-то радикально изменит. Просто получим еще один аппарат и кучу бумажек, которые добавят проблем в работе, но никак ее не облегчат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Я далек от мысли, что Ваше стремление обусловлено созданием коррупционных условий в данной сфере оборота финансовых средств, однако, поверьте, так и буде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твет на вопрос №1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4680" y="3103560"/>
          <a:ext cx="7932240" cy="2415960"/>
        </p:xfrm>
        <a:graphic>
          <a:graphicData uri="http://schemas.openxmlformats.org/drawingml/2006/table">
            <a:tbl>
              <a:tblPr/>
              <a:tblGrid>
                <a:gridCol w="6108120"/>
                <a:gridCol w="1824120"/>
              </a:tblGrid>
              <a:tr h="12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80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5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опрос №2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читаете ли Вы, что Департамент ИКТ должен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0920" y="1989000"/>
          <a:ext cx="8447040" cy="4542120"/>
        </p:xfrm>
        <a:graphic>
          <a:graphicData uri="http://schemas.openxmlformats.org/drawingml/2006/table">
            <a:tbl>
              <a:tblPr/>
              <a:tblGrid>
                <a:gridCol w="6799320"/>
                <a:gridCol w="1647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ять на себя по максимуму все функции по наведению порядка в нашем хозяйств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уществлять в первую очередь управляющие и координирующие функции, а основная техническая работа должна быть передана в профессиональные ассоциации, научно-исследовательские организации и т.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опрос №3</a:t>
            </a:r>
            <a:br>
              <a:rPr sz="36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читаете ли Вы целесообразным создание при Департаменте ИКТ экспертного совета, состоящих из наиболее авторитетных представителей профессионального сообщества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3357720"/>
          <a:ext cx="8229600" cy="3068640"/>
        </p:xfrm>
        <a:graphic>
          <a:graphicData uri="http://schemas.openxmlformats.org/drawingml/2006/table">
            <a:tbl>
              <a:tblPr/>
              <a:tblGrid>
                <a:gridCol w="6624720"/>
                <a:gridCol w="160488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7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Основной вопрос: по каким критериям отбирать (выбирать )в сов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опрос №4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читаете ли Вы необходимым создание соответствующих подразделений в региональных органах управления здравоохранением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2565360"/>
          <a:ext cx="9144000" cy="3876840"/>
        </p:xfrm>
        <a:graphic>
          <a:graphicData uri="http://schemas.openxmlformats.org/drawingml/2006/table">
            <a:tbl>
              <a:tblPr/>
              <a:tblGrid>
                <a:gridCol w="7524720"/>
                <a:gridCol w="16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6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итата: «Региональные МИАЦ призваны делать то же самое, но не выполняют своих функций по факту. Если дело пойдёт, с ними будет драка страшна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иоритеты компьютеризации в ЛП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907920"/>
          <a:ext cx="9147240" cy="5742000"/>
        </p:xfrm>
        <a:graphic>
          <a:graphicData uri="http://schemas.openxmlformats.org/drawingml/2006/table">
            <a:tbl>
              <a:tblPr/>
              <a:tblGrid>
                <a:gridCol w="6492600"/>
                <a:gridCol w="2439000"/>
                <a:gridCol w="21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10-ти бал-льной шк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орато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ачи-специалис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пансериз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альная диагно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карственное обесп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рапевтическая служ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люорография, рент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карственное обесп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кретарь, документообор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зяйственная служ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иоритеты компьютеризации в ЛП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484280"/>
          <a:ext cx="9147240" cy="5373360"/>
        </p:xfrm>
        <a:graphic>
          <a:graphicData uri="http://schemas.openxmlformats.org/drawingml/2006/table">
            <a:tbl>
              <a:tblPr/>
              <a:tblGrid>
                <a:gridCol w="6634800"/>
                <a:gridCol w="2296800"/>
                <a:gridCol w="21600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балл по 10-ти бал-льной шк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ист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8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лексная компьютеризация ЛП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аиморасчеты при разных формах обслуживания (ОМС, ДМС, платные услуги и т.д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равление потоками пациен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онные истории болезни, электронные амбулаторные кар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6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Ассоциация Развития Медицинских Информационных Технологий (АРМИТ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560" y="1844640"/>
            <a:ext cx="8893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а в 2001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ленами АРМИТ является 73 организа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ммерческие структуры – ведущие разработчики медицин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крупные государственные научные центры (ИПС РАН, ИРЭ РАН, ИППИ РАН, НЦ гематологии РАМ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семирно известные бренды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Systems, HP, Int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организаций представляют регионы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организаций вступили в АРМИТ в 2008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600" y="286920"/>
            <a:ext cx="7697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новные направления работы АРМИТ в 2008 год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2134800"/>
            <a:ext cx="7850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я консультативного центра по медицинским компьютер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урнал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C WEE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to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тираж 10.000 экз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 по стандарт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сультативный центр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Медицинские компьютерные системы»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Фрагмент на сайте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00"/>
                </a:solidFill>
                <a:uFillTx/>
                <a:latin typeface="Arial"/>
              </a:rPr>
              <a:t>Лабораторные информационные систе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ОО «Лаборатория Акросс Инжиниринг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www.across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дмила Захарова, ген. директор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колай Горшков, менеджер. Тел. …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О «БиоХимМак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biochemmack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ргий Отставнов, нач. отдела. Тел.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-mail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деры компьютериза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3046320"/>
          <a:ext cx="8229600" cy="2349720"/>
        </p:xfrm>
        <a:graphic>
          <a:graphicData uri="http://schemas.openxmlformats.org/drawingml/2006/table">
            <a:tbl>
              <a:tblPr/>
              <a:tblGrid>
                <a:gridCol w="7423200"/>
                <a:gridCol w="80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ее 500 компьютер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ее 250 компьютер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ктуальные вопрос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2276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тификация программных сред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лицензионного программного обеспе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ьютерные подразделения медучреж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ати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а компьютеризации. Оценка экономической эффек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ециализированное издание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C Week Docto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местный проект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C Week/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АРМ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евая аудитория. В первую очередь: руководители медицинских учреждений, специалисты ЛПУ, сотрудник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дразде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раж 10 тыс. эк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дание бесплат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та выхода первого номера  – март 2008 (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0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Задачи издани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чь медицинским учреждениям  в вопросах выбора и использования медицинских компьютерных систем, эксплуатации вычислительной тех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ть рекомендации по созданию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луж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 с позитивным и негативным опытом использования И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значить «подводные камни» компьютеризации и научить, как их обход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ы использования лицензионного программного обеспечения, сертификации программных средств, статус электронных историй болезни и электронных амбулаторных карт, нормативная и правовая база в сфере медицинских ИК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3600" y="286920"/>
            <a:ext cx="7697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роприятия АРМИТ в 2008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й Международный форум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Sof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2008» – выставка и конференции по медицинским информационным технологиям (Москва, Центральный дом предпринимателя, 9-11 апреля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мпозиум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Sof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(Скандинавия, август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3-й международный конгресс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Ne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2008" (С.-Петербург, октябрь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о-практическая конференция молодых ученых «Информационные технологии и математическое моделирование в здравоохранении 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Soft Jr. Scienc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Москва, ноябрь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341280"/>
            <a:ext cx="864216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аром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030320"/>
            <a:ext cx="85690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2253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9144000" cy="6478560"/>
        </p:xfrm>
        <a:graphic>
          <a:graphicData uri="http://schemas.openxmlformats.org/drawingml/2006/table">
            <a:tbl>
              <a:tblPr/>
              <a:tblGrid>
                <a:gridCol w="755640"/>
                <a:gridCol w="838836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езд группы в Финляндию из С.-Петербурга в 05:45 Переезд в Хельсинки. Обзорная экскурсия. Посадка на паром Silja Line “SERENADE”. Отправление в 17:05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бытие в Стокгольм в 09:55. Обзорная экскурсия по Стокгольму. Переезд в Норвегию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езд в Берген. Обзорная экскурсия по Бергену. Свободное время до 20:00. Переезд в район Согнефьорд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езд во Флом. Вы сможете совершить уникальное путешествие по горной железной дороге Фломсбана (за доп. плату: €  35), а также двухчасовой круиз по Согнефьорду (€ 25 EUR). Выезд в Осло.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зорная экскурсия по Осло с посещением парка скульптур Вигеланна. Свободное время. Для желающих трансфер на музейный полуостров Бюгдой. Во второй половине дня выезд в Швецию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ловая программа. Выезд из центра города на терминал, посадка на паром Silja Line “SYMFONY”. Отправление в 17:05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бытие в Хельсинки (09:55). Деловая программа. Выезд в Санкт-Петербург в 13:00. По дороге возможно посещение рыбной коптильни (покупка свежей и копченой рыбы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лагодарю за внима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Желающие принять участие в мероприятиях Ассоциации и (или) регулярно получать информацию о событиях в мире медицинских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– обращайтесь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5) 4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епень компьютеризации = число компьютеров, деленное на число сотрудн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3035160"/>
          <a:ext cx="7867440" cy="1836720"/>
        </p:xfrm>
        <a:graphic>
          <a:graphicData uri="http://schemas.openxmlformats.org/drawingml/2006/table">
            <a:tbl>
              <a:tblPr/>
              <a:tblGrid>
                <a:gridCol w="5173560"/>
                <a:gridCol w="269388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чень высок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0 и выш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0 – 0.5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я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5 – 0.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040" y="409680"/>
            <a:ext cx="7510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8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3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90 фирм-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3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10280" y="1731960"/>
            <a:ext cx="324936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ост числа экспонентов и участников Международного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форум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600200"/>
          <a:ext cx="3960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3960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711680" y="1600200"/>
          <a:ext cx="418140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1600200"/>
                    <a:ext cx="4181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 радуе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6421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е отсутствие политики в сфере ИКТ на государственном уров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оянное сокращение числа фирм – разработчиков компьютерных сист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стоянное сокращение числа фирм – разработчиков компьютерных систем (по данным каталога «Медицинские информационные технологии»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2708280"/>
          <a:ext cx="8964720" cy="3892680"/>
        </p:xfrm>
        <a:graphic>
          <a:graphicData uri="http://schemas.openxmlformats.org/drawingml/2006/table">
            <a:tbl>
              <a:tblPr/>
              <a:tblGrid>
                <a:gridCol w="2771640"/>
                <a:gridCol w="1079640"/>
                <a:gridCol w="1081080"/>
                <a:gridCol w="1008000"/>
                <a:gridCol w="1033560"/>
                <a:gridCol w="995400"/>
                <a:gridCol w="9954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фи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авлено в каталог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ключено из каталога за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Всего фи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2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08-07-05T04:52:38Z</dcterms:modified>
  <cp:revision>208</cp:revision>
  <dc:subject/>
  <dc:title>PowerPoint Presentation</dc:title>
</cp:coreProperties>
</file>