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32.wmf" ContentType="image/x-wmf"/>
  <Override PartName="/ppt/media/image4.png" ContentType="image/png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95E-3108-419F-9FDF-D820BF15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078-18F2-42C7-B95B-CEA29F82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CC8-9475-4BFC-B6D9-5CE25305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80D-AF6D-46C1-B950-5A73B2BD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43EF-A8F7-4C02-99F7-7BEB6184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859-BB53-4E55-93DF-C65EDFD3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1921-9C07-4FBF-AA31-F7C17FE8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6722-A959-4FD1-A126-AAB92904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3C5E-2830-4E65-98E2-8507D14A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77C6-280E-44AB-8517-16B51AED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EB9-1FF3-4DFD-B5D4-19795384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CC8-832D-4190-88C0-40FAEB97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2EF7-2A22-48D7-AC83-B76C88C9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026C-4807-4E34-BEF2-1D66141E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BEFC-E80D-453C-A99B-460442C7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8D2D-8F3A-4BB6-9B1B-ACD7D677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DB9A-957B-4A2A-BBF3-44FE2228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03E5-B69D-480A-8450-578B1A4C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BD70-3627-4AD2-9208-8C1AD5D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4F5E-4EF7-4A07-8E6A-BAEF0B48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CE66-72ED-46F4-BC9A-258BE3BF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4747-6E3F-4310-A6B7-04C0060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119-F63B-4275-92AA-8CBC3ED9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68061-E20F-4011-8CFC-A25BF29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5B45-1FA2-4119-A72E-64AEBFC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548A-435B-4091-9688-778F23A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85FE-DC40-4E3C-AD2C-9883D0E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A0C6-9305-48C8-BBDC-594963D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E4E8-1B21-4095-A502-14F5F032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0EBB-E945-4412-B9E8-3EE447B2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D808-A0FE-47C3-99E2-9EA91C18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9222-1094-4B1E-948D-791284A6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FE5E-F372-4843-8A93-BCB99225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C63-D830-43C4-BA4C-7C2D4A6B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4203-8AAE-4A5F-BADD-CD939309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094A-DEC3-439F-8657-496A4505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0C777-CFB9-414D-8DFC-B8458B09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5EA6-128A-4AB6-9049-498E2BAD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42BC-5A6D-4DA0-9615-08E84ED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FAC0-C702-49FC-A6F7-A2FDF49A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C0C6-A727-44AB-9794-ABD6F5EC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3B76-2E00-45F3-9CF3-0DDF544E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6909-0AA1-42FF-9B79-880B8795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55BC-102E-465C-B6D4-35A7FF55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0BB-3B33-4A08-943E-5ACF56E8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83EFB-7BFC-45CE-BAD5-B1EB9BC8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E2F9-6922-43DE-A848-2920A3F1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E44F-0334-4C0E-9EB3-FC560393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D0B3A-C436-4A90-BC0D-4B732603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049F1-70AE-48D7-82D7-8E41B764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18C9-A45E-4584-8B70-55C0B439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693D3-BBFD-478C-AE73-F8E756DB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9AB94-3F3E-4839-BD4E-E6CE0D76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FF70C-75AF-4FC9-A927-5AFCBEA5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3A6F-562D-431A-AEEC-5FFB7DA7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80B-AD95-43C7-84C2-DD2131D0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DE00C-16EC-4965-AA2D-10D8877A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43125-27DB-44BC-8409-36AAB804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67FB-1183-45B4-ACD1-46F48D27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890FA-99E9-4995-A495-C59F81FA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A9F7-EC82-4E63-A1F9-79639CE4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E15FB-A5FE-46E6-9A42-4EB9A4D4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6F3C3-27B7-4A27-B41E-5C53C6F8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30C29-5B6F-4414-88D5-E137EA80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6F3E4-2DAE-40C0-9190-04D45018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96385-42C9-484B-B14F-F173CC6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E8E-4BF7-4395-9231-BFC6149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F52C8-CC05-485F-8E78-8F8AD5DE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9A7EB-426D-46BE-AF17-D3CD948B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B3ADC-E97F-4DBF-9DCC-7FF15B50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7B373-7D03-478A-9F35-ABB55E17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FEFFD-7CBE-4DF7-8BD8-A694F65D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B0FB2-A69D-4DC1-A68B-70D7773C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3496E-2B8D-4AC3-B6BF-072299CD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95679-7947-4DC4-AA38-31E022A9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AA05B-A2DC-4456-BD66-5DB3028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6B40-0B78-4C8A-A7DE-50393C5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DAF-9A53-46B5-AE84-BB46E17B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6470-7A88-43A7-BD47-75FB88BD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A042D-579F-4903-BC90-47D81E22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C2232-52D6-450A-A0BD-393D4A8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83205-FF45-4927-9DF2-C4E0598D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9CF92-5876-47E7-9CA3-A0771341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749-5611-413C-B6C3-67A9FC3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F3E6-0802-4D1B-B1CB-44FE976A160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2739-617E-44D2-A41A-09594DE9BA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EF9A-E32D-45E8-B191-A750E2C4F0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9E3F-46F9-435C-A6DA-E31BF78CB76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64B4-F41F-411F-A6D5-D4F3CFB3107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111F-B5A6-4639-A226-CF21E85A476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FAD-5896-4D6E-96EB-560C5DE2984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mailto:boris@blood.ru" TargetMode="External"/><Relationship Id="rId4" Type="http://schemas.openxmlformats.org/officeDocument/2006/relationships/hyperlink" Target="mailto:boris@blood.ru" TargetMode="External"/><Relationship Id="rId5" Type="http://schemas.openxmlformats.org/officeDocument/2006/relationships/hyperlink" Target="mailto:boris@blood.ru" TargetMode="External"/><Relationship Id="rId6" Type="http://schemas.openxmlformats.org/officeDocument/2006/relationships/hyperlink" Target="mailto:boris@blood.ru" TargetMode="External"/><Relationship Id="rId7" Type="http://schemas.openxmlformats.org/officeDocument/2006/relationships/hyperlink" Target="mailto:boris@blood.ru" TargetMode="Externa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2"/>
          <a:stretch/>
        </p:blipFill>
        <p:spPr>
          <a:xfrm>
            <a:off x="835200" y="2328840"/>
            <a:ext cx="8315280" cy="26211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71360" y="5157720"/>
            <a:ext cx="7964280" cy="13953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rbel"/>
              </a:rPr>
              <a:t>Зингерман Борис Валентинович Гематологический научный центр РАМН       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rbel"/>
              </a:rPr>
              <a:t>boris@blood.ru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4"/>
          <p:cNvSpPr/>
          <p:nvPr/>
        </p:nvSpPr>
        <p:spPr>
          <a:xfrm>
            <a:off x="250920" y="501840"/>
            <a:ext cx="864216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Персональная электронная медицинская карта (ПЭМК)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– совокупность электронных персональных медицинских записей (ЭПМЗ), поступивших из различных источников и относящихся к одному человеку, который и осуществляет их сбор, управление ими, а также определяет права доступа к ним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мин ПЭМК является аналогом международного терми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ение ПЭМК может осуществляться ее владельцем на собственных электронных носителях (личном компьютере, устройствах флэш-памяти и др.) или в специализированных хранилищах, доступных через сеть интернет или другие каналы связи. В последнем случае хранение, а также предоставление сервиса ведения и управления ПЭМК, осуществляет специализированный провайдер на основании соглашения, заключенного с владельцем ПЭМ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щие требования к провайдерам ПЭМК и предоставляемому ими сервису, а также к системам ведения ПЭМК на личных электронных носителях должны быть сформулированы в отдельном национальном стандарт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3859200" y="1657440"/>
            <a:ext cx="5145120" cy="1847880"/>
          </a:xfrm>
          <a:prstGeom prst="rect">
            <a:avLst/>
          </a:prstGeom>
          <a:ln w="0">
            <a:noFill/>
          </a:ln>
        </p:spPr>
      </p:pic>
      <p:pic>
        <p:nvPicPr>
          <p:cNvPr id="327" name="Заголовок 1" descr=""/>
          <p:cNvPicPr/>
          <p:nvPr/>
        </p:nvPicPr>
        <p:blipFill>
          <a:blip r:embed="rId2"/>
          <a:stretch/>
        </p:blipFill>
        <p:spPr>
          <a:xfrm>
            <a:off x="85680" y="85680"/>
            <a:ext cx="8704440" cy="1346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bpic9"/>
          <p:cNvPicPr/>
          <p:nvPr/>
        </p:nvPicPr>
        <p:blipFill>
          <a:blip r:embed="rId3"/>
          <a:stretch/>
        </p:blipFill>
        <p:spPr>
          <a:xfrm>
            <a:off x="0" y="1500120"/>
            <a:ext cx="3786120" cy="2592360"/>
          </a:xfrm>
          <a:prstGeom prst="rect">
            <a:avLst/>
          </a:prstGeom>
          <a:ln w="0">
            <a:noFill/>
          </a:ln>
        </p:spPr>
      </p:pic>
      <p:pic>
        <p:nvPicPr>
          <p:cNvPr id="329" name="Заголовок 1" descr=""/>
          <p:cNvPicPr/>
          <p:nvPr/>
        </p:nvPicPr>
        <p:blipFill>
          <a:blip r:embed="rId4"/>
          <a:stretch/>
        </p:blipFill>
        <p:spPr>
          <a:xfrm>
            <a:off x="993600" y="4425840"/>
            <a:ext cx="4413600" cy="2224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27" descr="107_8-web"/>
          <p:cNvPicPr/>
          <p:nvPr/>
        </p:nvPicPr>
        <p:blipFill>
          <a:blip r:embed="rId5"/>
          <a:stretch/>
        </p:blipFill>
        <p:spPr>
          <a:xfrm>
            <a:off x="5357880" y="4041720"/>
            <a:ext cx="37861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е собирает пациент (потому что больше некому), но создают их и пользуются ими врач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нцепция «ответственный пациент» отличаться тем, что ответственность за ввод данных в систему и  предоставление к ним доступа возлагается на пациента при сохранении ответственности медицинских, социальных и других работников за их содержание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Содержание медицинских записей, хранящихся в электронном персональном архиве,  будет недоступно для изменения пациентом и защищено электронно-цифровой подписью врача(или провайдер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PHR-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ПЭМК)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что обеспечит доверие лечащих врачей к содержимому персональных архив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77840" y="0"/>
            <a:ext cx="860904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j0149673"/>
          <p:cNvPicPr/>
          <p:nvPr/>
        </p:nvPicPr>
        <p:blipFill>
          <a:blip r:embed="rId1"/>
          <a:stretch/>
        </p:blipFill>
        <p:spPr>
          <a:xfrm>
            <a:off x="6288120" y="3581280"/>
            <a:ext cx="2855880" cy="3276720"/>
          </a:xfrm>
          <a:prstGeom prst="rect">
            <a:avLst/>
          </a:prstGeom>
          <a:ln w="0">
            <a:noFill/>
          </a:ln>
        </p:spPr>
      </p:pic>
      <p:pic>
        <p:nvPicPr>
          <p:cNvPr id="335" name="Заголовок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ританские Тори (сидя в оппозиции) выдвинули первое конкретное предложение в рамках программы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«Пост бюрократическая эра»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 закрыть нашумевший проект </a:t>
            </a:r>
            <a:r>
              <a:rPr b="0" lang="en-US" sz="2400" spc="-1" strike="noStrike">
                <a:solidFill>
                  <a:srgbClr val="60b5cc"/>
                </a:solidFill>
                <a:latin typeface="Corbel"/>
              </a:rPr>
              <a:t>Connecting for Health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который слишком дорог (20 млр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$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слишком долог (не ранее 2015 и уже сильно отстает)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раздать гражданам их данные, с тем чтобы они хранили их в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Google Health, Microsoft Health Vault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или у другого провайдера по их выбору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ект </a:t>
            </a:r>
            <a:r>
              <a:rPr b="0" lang="en-US" sz="2400" spc="-1" strike="noStrike">
                <a:solidFill>
                  <a:srgbClr val="60b5cc"/>
                </a:solidFill>
                <a:latin typeface="Corbel"/>
              </a:rPr>
              <a:t>Connecting for Health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ыл витрин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racle, Fujitsu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других грандов ИТ бизнеса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6600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2009 году стартовал проект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Информационная система в здравоохранении, обеспечивающая, в том числе, </a:t>
            </a:r>
            <a:r>
              <a:rPr b="1" lang="ru-RU" sz="3600" spc="-1" strike="noStrike">
                <a:solidFill>
                  <a:srgbClr val="d9253e"/>
                </a:solidFill>
                <a:latin typeface="Corbel"/>
              </a:rPr>
              <a:t>персонифицированный учет оказания медицинской помощи гражданам Российской Федер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214200" y="1214280"/>
            <a:ext cx="87156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вис для врачей и пациентов будет запущен 01.01.10 (вместо закона о персональных дан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есь комплекс взаимодействий  пациента с врач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ерсональная медицинская карта и средства предоставления доступа к 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врача, и запись на прием онла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зывы о врач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ультации (частная переписка с врач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исная книжка «Мои врачи», «Мои визиты», «Мои коллеги» (для врач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Напоминалки» (в том числе и чере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ка объявлений медицинской 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logo"/>
          <p:cNvPicPr/>
          <p:nvPr/>
        </p:nvPicPr>
        <p:blipFill>
          <a:blip r:embed="rId1"/>
          <a:stretch/>
        </p:blipFill>
        <p:spPr>
          <a:xfrm>
            <a:off x="250920" y="260280"/>
            <a:ext cx="3106800" cy="7398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"/>
          <p:cNvSpPr/>
          <p:nvPr/>
        </p:nvSpPr>
        <p:spPr>
          <a:xfrm>
            <a:off x="5000760" y="2858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www. medarhiv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05"/>
          <p:cNvPicPr/>
          <p:nvPr/>
        </p:nvPicPr>
        <p:blipFill>
          <a:blip r:embed="rId2"/>
          <a:stretch/>
        </p:blipFill>
        <p:spPr>
          <a:xfrm>
            <a:off x="214200" y="1285920"/>
            <a:ext cx="4211640" cy="557208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"/>
          <p:cNvSpPr/>
          <p:nvPr/>
        </p:nvSpPr>
        <p:spPr>
          <a:xfrm>
            <a:off x="4572000" y="45720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ингерман Бор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68bba"/>
                </a:solidFill>
                <a:uFillTx/>
                <a:latin typeface="Calibri"/>
                <a:hlinkClick r:id="rId3"/>
              </a:rPr>
              <a:t>boris</a:t>
            </a:r>
            <a:r>
              <a:rPr b="0" lang="ru-RU" sz="4000" spc="-1" strike="noStrike" u="sng">
                <a:solidFill>
                  <a:srgbClr val="168bba"/>
                </a:solidFill>
                <a:uFillTx/>
                <a:latin typeface="Calibri"/>
                <a:hlinkClick r:id="rId4"/>
              </a:rPr>
              <a:t>@</a:t>
            </a:r>
            <a:r>
              <a:rPr b="0" lang="en-US" sz="4000" spc="-1" strike="noStrike" u="sng">
                <a:solidFill>
                  <a:srgbClr val="168bba"/>
                </a:solidFill>
                <a:uFillTx/>
                <a:latin typeface="Calibri"/>
                <a:hlinkClick r:id="rId5"/>
              </a:rPr>
              <a:t>blood</a:t>
            </a:r>
            <a:r>
              <a:rPr b="0" lang="ru-RU" sz="4000" spc="-1" strike="noStrike" u="sng">
                <a:solidFill>
                  <a:srgbClr val="168bba"/>
                </a:solidFill>
                <a:uFillTx/>
                <a:latin typeface="Calibri"/>
                <a:hlinkClick r:id="rId6"/>
              </a:rPr>
              <a:t>.</a:t>
            </a:r>
            <a:r>
              <a:rPr b="0" lang="en-US" sz="4000" spc="-1" strike="noStrike" u="sng">
                <a:solidFill>
                  <a:srgbClr val="168bba"/>
                </a:solidFill>
                <a:uFillTx/>
                <a:latin typeface="Calibri"/>
                <a:hlinkClick r:id="rId7"/>
              </a:rPr>
              <a:t>r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(495) 612-44-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8032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льшие государственные проекты (Канада, Нидерланды, Швеция, Англи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стные хранилища (США 193 местные инициативы электронного обмена мед.данным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раховые компании (пример Израиля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России озвучена идея персонифицированного учета медицинских услу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tiveHealth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pMed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llowMe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Google Health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HealthAtoZ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althString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althTrio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CW-Global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etriku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XOR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dem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diKeeper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yMedicalRecord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MoreClipboard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DH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RelayHealth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volutionHealth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mplyWell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talChart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WebMD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85680" y="85680"/>
            <a:ext cx="8704440" cy="134640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500040" y="164304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72020"/>
                </a:solidFill>
                <a:uFillTx/>
                <a:latin typeface="Arial"/>
              </a:rPr>
              <a:t>Где лежит Ваша медицинская ка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стой вопр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ая медицинская информация о пациенте рассыпана по многим медицинским организациям (по их бумажным и электронным архивам), а кое-что, например, старые рентгеновские снимки лежат у каждого в платяном шкафу (так сказать, «свой скелет в шкафу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врач может опереться на медицинскую карту своего учреждения, память пациента и то, что пациент ему принес (имеется в виду медицинская документ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ступ пациента в хранилища медицинской организаци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EMR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HR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достатк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 пациента много ящиков, паролей, все забывается, нет целостной картины и нет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«длинного хвоста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5042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214200" y="1463760"/>
          <a:ext cx="8786880" cy="5394240"/>
        </p:xfrm>
        <a:graphic>
          <a:graphicData uri="http://schemas.openxmlformats.org/drawingml/2006/table">
            <a:tbl>
              <a:tblPr/>
              <a:tblGrid>
                <a:gridCol w="2500560"/>
                <a:gridCol w="3214440"/>
                <a:gridCol w="3071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осударств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аци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зопас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ксимальная (как для рок-звезд и министр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ределяется пациентом (в зависимости от платежеспособности и потребностей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дентифик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диная система идентификации должна быть определяется закон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циент определяет идентификатор и носит его с собой в голове, на карточке, электронном ключ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а досту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становить единые и разумные права доступа почти невозмож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циент сам определяет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,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му предоставить досту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189000" y="36360"/>
            <a:ext cx="8504280" cy="970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28760" y="185724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Традиционный российский абсолютизм (или все или ничего). Но идеального идентификатора не существу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войственная роль идентификатора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никальный ключ, на который вешаются все сведения о пациент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редство идентификации физ.лица на основании уникального кода, который он знает или имеет на материальном носителе (с возможностью автоидентификации по штрихкоду, смартчипу и др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Процедура идентификации физ.лица всегда требует подтверждения по ФИО, фото, а также запасной «сложной идентификации» по совокупности демографических данных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Технический носитель аутоидентификатора, должен быть не слишком дорог и не должен предполагать смену всего компьютерного парка (для широкой идентификации штрихкод лучше смарткарты, но смарткарта решает больший круг задач аутентификации – пароли, ЭЦП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189000" y="-66600"/>
            <a:ext cx="850428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214200" y="857160"/>
          <a:ext cx="8786880" cy="5883480"/>
        </p:xfrm>
        <a:graphic>
          <a:graphicData uri="http://schemas.openxmlformats.org/drawingml/2006/table">
            <a:tbl>
              <a:tblPr/>
              <a:tblGrid>
                <a:gridCol w="2500560"/>
                <a:gridCol w="3214440"/>
                <a:gridCol w="3071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осударств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аци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тветственность пац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ациент выключен из процесса и только мешает врачу «нормально лечи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адиционный для России «патернализ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 здравоохранении большинство надеется на государ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централизация здравоохранения. Появление коммерческой медиц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сударство не замечает коммерческий сектор, хотя все больше технологических процедур (анализы, КТ) уходят в коммерцию и выпадают из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ена стимулирует ответственность. Заплатив 10000 за КТ, пациент потратит пару минут, чтобы сохранить его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вер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рачи больше доверяют записям врачей и лучше рукопис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ло ли какие ошибки наделал пациент при вводе и мало л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к он подправил запись, сделанную врач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циент сам определяет кому он предоставляет доступ к своим данным. Он может поместить данные в один из 3-х раздело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чные данные (недоступны никому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дицинские данные (пациент предоставляет к ним доступ своим врачам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кстренные данные (лежат почти открыто)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-201600" y="146160"/>
            <a:ext cx="9352080" cy="12808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356760" y="1571760"/>
            <a:ext cx="865836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ациент может(должен) вбить (отсканировать) каждую медицинскую бумажк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грузить мед.данные, полученные в электронном виде (анализ, рентген с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иска, данные полученные в мед.организации на флешк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.учреждения могут пересылать данные на конкретного пациента прямло в его персональную мед кар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рач может вводить на приемке данные прямо в карту пациент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(PHR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меняет МИС для маленьких мед.офисов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всеместно лоббировать саму идею «ответственного пациент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делать сервис который решит все проблем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думать как все это прода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3" descr="j0149400"/>
          <p:cNvPicPr/>
          <p:nvPr/>
        </p:nvPicPr>
        <p:blipFill>
          <a:blip r:embed="rId2"/>
          <a:stretch/>
        </p:blipFill>
        <p:spPr>
          <a:xfrm>
            <a:off x="6072120" y="39290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71524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711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011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3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7404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>
            <a:off x="611280" y="1550880"/>
            <a:ext cx="7889760" cy="54514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684360" y="249228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заданию Офиса национального координатора (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 в области медицинских ИТ в США проведены работы,  цель которых - прийти к соглашению относительно определений ключевых терминов, относящихся к  информационным технологиям в сфере медиц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0" y="836640"/>
            <a:ext cx="8713800" cy="54640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13"/>
          <p:cNvGrpSpPr/>
          <p:nvPr/>
        </p:nvGrpSpPr>
        <p:grpSpPr>
          <a:xfrm>
            <a:off x="142920" y="1989000"/>
            <a:ext cx="8286840" cy="3800520"/>
            <a:chOff x="142920" y="1989000"/>
            <a:chExt cx="8286840" cy="3800520"/>
          </a:xfrm>
        </p:grpSpPr>
        <p:sp>
          <p:nvSpPr>
            <p:cNvPr id="315" name="Rectangle 8"/>
            <p:cNvSpPr/>
            <p:nvPr/>
          </p:nvSpPr>
          <p:spPr>
            <a:xfrm>
              <a:off x="2928960" y="1989000"/>
              <a:ext cx="2663640" cy="432000"/>
            </a:xfrm>
            <a:prstGeom prst="rect">
              <a:avLst/>
            </a:prstGeom>
            <a:solidFill>
              <a:srgbClr val="00ff00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"/>
            <p:cNvSpPr/>
            <p:nvPr/>
          </p:nvSpPr>
          <p:spPr>
            <a:xfrm>
              <a:off x="5765760" y="2000160"/>
              <a:ext cx="2664000" cy="432000"/>
            </a:xfrm>
            <a:prstGeom prst="rect">
              <a:avLst/>
            </a:prstGeom>
            <a:solidFill>
              <a:srgbClr val="00ff00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"/>
            <p:cNvSpPr/>
            <p:nvPr/>
          </p:nvSpPr>
          <p:spPr>
            <a:xfrm>
              <a:off x="142920" y="5143680"/>
              <a:ext cx="2376360" cy="431640"/>
            </a:xfrm>
            <a:prstGeom prst="rect">
              <a:avLst/>
            </a:prstGeom>
            <a:solidFill>
              <a:srgbClr val="00ff00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1"/>
            <p:cNvSpPr/>
            <p:nvPr/>
          </p:nvSpPr>
          <p:spPr>
            <a:xfrm>
              <a:off x="2981160" y="5357880"/>
              <a:ext cx="2376720" cy="431640"/>
            </a:xfrm>
            <a:prstGeom prst="rect">
              <a:avLst/>
            </a:prstGeom>
            <a:solidFill>
              <a:srgbClr val="00ff00">
                <a:alpha val="1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12"/>
          <p:cNvSpPr/>
          <p:nvPr/>
        </p:nvSpPr>
        <p:spPr>
          <a:xfrm>
            <a:off x="969840" y="115920"/>
            <a:ext cx="73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нчательная версия ключевых определ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0"/>
          <p:cNvSpPr/>
          <p:nvPr/>
        </p:nvSpPr>
        <p:spPr>
          <a:xfrm>
            <a:off x="1181520" y="34290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1"/>
          <p:cNvSpPr/>
          <p:nvPr/>
        </p:nvSpPr>
        <p:spPr>
          <a:xfrm>
            <a:off x="4071240" y="34290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2"/>
          <p:cNvSpPr/>
          <p:nvPr/>
        </p:nvSpPr>
        <p:spPr>
          <a:xfrm>
            <a:off x="7091640" y="34290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250920" y="279720"/>
            <a:ext cx="864216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лектронная медицинская карта (ЭМ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– совокупность электронных персональных медицинских записей (ЭПМЗ), относящихся к одному человеку, собираемых, хранящихся и используемых в рамках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дной медицинской организаци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мин ЭМК является аналогом международного терми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ответствии с типом медицинской организации можно говорить о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нной амбулаторной медицинской карте для амбулаторий, поликлиник, диагностических центров, диспансеров, поликлинических отделений стационаров или специализированных медицинских центров, частных врачей, коммерческих лаборатор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онной медицинской карте стационарного больного для стационаров. При этом следует подчеркнуть, что для стационара, под электронной медицинской картой понимаются не записи, относящиеся к одной госпитализации, а все записи, относящиеся к данному пациен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324000" y="28512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грированная электронная медицинская карта (ИЭМК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совокупность электронных персональных медицинских записей (ЭПМЗ), относящихся к одному человеку, собираемых и используемы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сколькими медицинскими организациям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мин ИЭМК является аналогом международн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H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касается хранения ИЭМК, то входящие в него электронные персональные медицинские записи (ЭПМЗ), могут храниться как централизованно, так и распределено (в различных медицинских организациях). При распределенном хранении доступ к отдельным ЭПМЗ, входящим в ИЭМК, осуществляется через централизованный индекс, содержащий информацию о месте хранения и способе доступа к каждой ЭПМ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d9253e"/>
                </a:solidFill>
                <a:uFillTx/>
                <a:latin typeface="Calibri"/>
              </a:rPr>
              <a:t>Интегрированная электронная медицинская карта может быть создана, группой медицинских организаций, органом управления здравоохранением региона или даже на национальном уровне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 управления ИЭМК, хранения информации в ней, права доступа и стандарты информационного обмена и интероперабильости, должны быть определены организациями, использующими ИЭМК, или органами управления здравоохранения, создающими ИЭМ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бщие требования к ИЭМК должны быть сформулированы в отдельном национальном стандарт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6:05:26Z</dcterms:created>
  <dc:creator>инна</dc:creator>
  <dc:description/>
  <dc:language>en-US</dc:language>
  <cp:lastModifiedBy>Diana Zingerman</cp:lastModifiedBy>
  <dcterms:modified xsi:type="dcterms:W3CDTF">2009-12-10T09:01:48Z</dcterms:modified>
  <cp:revision>6</cp:revision>
  <dc:subject/>
  <dc:title>EHR   и   PHR два пути</dc:title>
</cp:coreProperties>
</file>