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8.wmf" ContentType="image/x-wmf"/>
  <Override PartName="/ppt/media/image30.wmf" ContentType="image/x-wmf"/>
  <Override PartName="/ppt/media/image10.png" ContentType="image/png"/>
  <Override PartName="/ppt/media/image1.jpeg" ContentType="image/jpeg"/>
  <Override PartName="/ppt/media/image7.png" ContentType="image/png"/>
  <Override PartName="/ppt/media/image29.wmf" ContentType="image/x-wmf"/>
  <Override PartName="/ppt/media/image31.wmf" ContentType="image/x-wmf"/>
  <Override PartName="/ppt/media/image6.png" ContentType="image/png"/>
  <Override PartName="/ppt/media/image8.png" ContentType="image/png"/>
  <Override PartName="/ppt/media/image14.jpeg" ContentType="image/jpeg"/>
  <Override PartName="/ppt/media/image23.wmf" ContentType="image/x-wmf"/>
  <Override PartName="/ppt/media/image11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15.jpeg" ContentType="image/jpeg"/>
  <Override PartName="/ppt/media/image25.wmf" ContentType="image/x-wmf"/>
  <Override PartName="/ppt/media/image5.wmf" ContentType="image/x-wmf"/>
  <Override PartName="/ppt/media/image16.jpeg" ContentType="image/jpeg"/>
  <Override PartName="/ppt/media/image17.jpeg" ContentType="image/jpeg"/>
  <Override PartName="/ppt/media/image32.jpeg" ContentType="image/jpeg"/>
  <Override PartName="/ppt/media/image20.wmf" ContentType="image/x-wmf"/>
  <Override PartName="/ppt/media/image18.png" ContentType="image/png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FB30-24E7-490D-9B64-BDB0CF0CA6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7B02-6059-43CA-9A39-1EB1E5AA310F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ое преимущество нашего подхода – все технологии бесплатные, лицензионных сборов не требуется. Переход от технологии клиент – сервер, к более современной технологии сервисно-ориентированной архитектуры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A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514-9535-4473-98C0-36C52F46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19D5-DCA8-4386-BF6E-08E16582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497-290E-4E61-A577-FD7D9618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357-1B33-4803-A451-B1A0399C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FED4-7ECD-4E78-8A0B-197DD2C6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9277-B985-471D-89CC-57B9EBC4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A044-2B37-4D64-9DF5-2F50096C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1CCA-6CCF-4257-9E3A-84ABDF6F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7071-6AF7-4722-8E8F-69538688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B732-28CE-4B19-B989-9605590D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23C1-B424-4F1F-A537-CD8DFEC8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9559-9552-42D3-AA45-FD42958E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5C9B-7FFD-4048-B271-507DAF7C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FB82-8BA1-422A-902B-6446B3A2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82CE-415E-49E7-AFE3-92F8FB8E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56A2-17E9-48B3-9A1D-2736EBAB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9D2C-C1C0-4AD3-BC2A-982F535B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F08-F368-4FD8-819C-5D4934E5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91D-1077-4CC5-89CA-58210B99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F12-DB96-49CE-8410-FABDE7AD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802-3AED-4940-B42F-E6C2605F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5F65-11AE-4078-9375-7F4ED97A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6957-7ECA-478C-A8CB-0157D036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9E5D-AA03-4F72-9222-9EBC9303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17B7-559C-43D5-A106-793812B740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5CB4-00E3-4E7F-AED6-7A261D1FF32C}" type="slidenum">
              <a:rPr b="0" lang="ru-RU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1773360"/>
            <a:ext cx="792468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Tahoma"/>
              </a:rPr>
              <a:t>«Менеджмент ориентированная информационная система»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3933360"/>
            <a:ext cx="85010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84c74"/>
                </a:solidFill>
                <a:latin typeface="Tahoma"/>
              </a:rPr>
              <a:t>И.В. Ушаков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84c74"/>
                </a:solidFill>
                <a:latin typeface="Tahoma"/>
              </a:rPr>
              <a:t>Главный врач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84c74"/>
                </a:solidFill>
                <a:latin typeface="Tahoma"/>
              </a:rPr>
              <a:t>Иркутского диагностического центра, к.м.н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d577f"/>
                </a:solidFill>
                <a:latin typeface="Tahoma"/>
              </a:rPr>
              <a:t>Москва, 10 декабря 2009г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Arial"/>
              </a:rPr>
              <a:t>Блок бизнес аналитики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управление складом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управление запасами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управление договорами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управление основными средствами (ТОРО)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управление любой экономической информацией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управление любой статистической информацией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все данные в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on-line</a:t>
            </a: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 в любом объеме за любой период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Rectangle 7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7391520" cy="4354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900000" y="1484280"/>
            <a:ext cx="7488360" cy="3643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58920" y="333360"/>
            <a:ext cx="7670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6" name="Rectangle 7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7391520" cy="35114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7" descr="3.jpg"/>
          <p:cNvPicPr/>
          <p:nvPr/>
        </p:nvPicPr>
        <p:blipFill>
          <a:blip r:embed="rId3"/>
          <a:stretch/>
        </p:blipFill>
        <p:spPr>
          <a:xfrm>
            <a:off x="5796000" y="549360"/>
            <a:ext cx="3348000" cy="327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556000" cy="1836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9400" y="2011320"/>
            <a:ext cx="468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айм -менеджмент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ahoma"/>
              </a:rPr>
              <a:t>Разработка и внедрение стандартов. Стандартные операционные процедуры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31" name="Rectangle 7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537080" cy="5329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59200" y="1268280"/>
            <a:ext cx="43848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808"/>
                </a:solidFill>
                <a:latin typeface="Tahoma"/>
              </a:rPr>
              <a:t>Эффективность внедрения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134" name="Rectangle 7"/>
          <p:cNvGraphicFramePr/>
          <p:nvPr/>
        </p:nvGraphicFramePr>
        <p:xfrm>
          <a:off x="246240" y="2627280"/>
          <a:ext cx="4222440" cy="3598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Rectangle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2627280"/>
                    <a:ext cx="422244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468360" y="126828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Динамика объемов медицинской помощи (ед.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37" name="Rectangle 7"/>
          <p:cNvGraphicFramePr/>
          <p:nvPr/>
        </p:nvGraphicFramePr>
        <p:xfrm>
          <a:off x="4710240" y="2575080"/>
          <a:ext cx="4219560" cy="37033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8" name="Rectangle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0240" y="2575080"/>
                    <a:ext cx="4219560" cy="37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4788000" y="126828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Показатель качества медицинской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помощи в ИДЦ (УКЛ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43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Tahoma"/>
              </a:rPr>
              <a:t>Эффективность внедрения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141" name="Rectangle 7"/>
          <p:cNvGraphicFramePr/>
          <p:nvPr/>
        </p:nvGraphicFramePr>
        <p:xfrm>
          <a:off x="468360" y="2565360"/>
          <a:ext cx="4059360" cy="386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2" name="Rectangle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565360"/>
                    <a:ext cx="4059360" cy="38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216000" y="141300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Динамика медицинских услуг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на 1 врачебную должность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44" name="Rectangle 7"/>
          <p:cNvGraphicFramePr/>
          <p:nvPr/>
        </p:nvGraphicFramePr>
        <p:xfrm>
          <a:off x="4862520" y="2612880"/>
          <a:ext cx="3962520" cy="37879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5" name="Rectangle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62520" y="2612880"/>
                    <a:ext cx="396252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5435640" y="1413000"/>
            <a:ext cx="33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Динамика дохода на 1 врачебную должность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0920" y="75960"/>
            <a:ext cx="8294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Tahoma"/>
              </a:rPr>
              <a:t>Эффективность внедрения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148" name="Rectangle 7"/>
          <p:cNvGraphicFramePr/>
          <p:nvPr/>
        </p:nvGraphicFramePr>
        <p:xfrm>
          <a:off x="473040" y="2638440"/>
          <a:ext cx="3870360" cy="3730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9" name="Rectangle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3040" y="2638440"/>
                    <a:ext cx="387036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Rectangle 7"/>
          <p:cNvGraphicFramePr/>
          <p:nvPr/>
        </p:nvGraphicFramePr>
        <p:xfrm>
          <a:off x="4572000" y="2637000"/>
          <a:ext cx="4191120" cy="3732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1" name="Rectangle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637000"/>
                    <a:ext cx="419112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50920" y="1197000"/>
            <a:ext cx="424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Выявление онкопатологии</a:t>
            </a:r>
            <a:br>
              <a:rPr sz="2400"/>
            </a:b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ЖКТ в 0 и 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 стадии (%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1268280"/>
            <a:ext cx="435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Срок ожидания гистологического заключения (дней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43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Tahoma"/>
              </a:rPr>
              <a:t>Эффективность внедрения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155" name="Rectangle 7"/>
          <p:cNvGraphicFramePr/>
          <p:nvPr/>
        </p:nvGraphicFramePr>
        <p:xfrm>
          <a:off x="517680" y="2746440"/>
          <a:ext cx="4084560" cy="3562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6" name="Rectangle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7680" y="2746440"/>
                    <a:ext cx="408456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Rectangle 7"/>
          <p:cNvGraphicFramePr/>
          <p:nvPr/>
        </p:nvGraphicFramePr>
        <p:xfrm>
          <a:off x="4716360" y="2666880"/>
          <a:ext cx="4248360" cy="37004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8" name="Rectangle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6360" y="2666880"/>
                    <a:ext cx="4248360" cy="37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11280" y="1197000"/>
            <a:ext cx="4105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Доля рабочего времени врача, затраченного на работу с пациентами</a:t>
            </a:r>
            <a:r>
              <a:rPr b="1" lang="ru-RU" sz="18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03640" y="1268280"/>
            <a:ext cx="4500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Время ожидания пациентами исследований, консультаций, лечебно-диагностических манипуляций внутри ЛПУ (мин.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920" y="75960"/>
            <a:ext cx="78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Tahoma"/>
              </a:rPr>
              <a:t>Эффективность внедрения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62" name="Rectangle 7" descr=""/>
          <p:cNvPicPr/>
          <p:nvPr/>
        </p:nvPicPr>
        <p:blipFill>
          <a:blip r:embed="rId2"/>
          <a:stretch/>
        </p:blipFill>
        <p:spPr>
          <a:xfrm>
            <a:off x="4664160" y="2135160"/>
            <a:ext cx="4235400" cy="4157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63000" y="141300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Динамика средней зарплаты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64" name="Rectangle 7"/>
          <p:cNvGraphicFramePr/>
          <p:nvPr/>
        </p:nvGraphicFramePr>
        <p:xfrm>
          <a:off x="468360" y="2133720"/>
          <a:ext cx="3886200" cy="4174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5" name="Rectangle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133720"/>
                    <a:ext cx="3886200" cy="41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05200" y="1413000"/>
            <a:ext cx="43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Коэффициент фондоотдачи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65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808"/>
                </a:solidFill>
                <a:latin typeface="Tahoma"/>
              </a:rPr>
              <a:t>Эффективность внедрения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168" name="Rectangle 7"/>
          <p:cNvGraphicFramePr/>
          <p:nvPr/>
        </p:nvGraphicFramePr>
        <p:xfrm>
          <a:off x="465120" y="1771560"/>
          <a:ext cx="4179960" cy="465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Rectangle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" y="1771560"/>
                    <a:ext cx="41799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2785680" y="119700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Финансовый результа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71" name="Rectangle 7"/>
          <p:cNvGraphicFramePr/>
          <p:nvPr/>
        </p:nvGraphicFramePr>
        <p:xfrm>
          <a:off x="4862520" y="1785960"/>
          <a:ext cx="4005360" cy="46292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2" name="Rectangle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62520" y="1785960"/>
                    <a:ext cx="400536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2" name="Rectangle 7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808"/>
                </a:solidFill>
                <a:latin typeface="Tahoma"/>
              </a:rPr>
              <a:t>Эффективность внедрения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74" name="Rectangle 7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4789440" cy="4465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1333440"/>
            <a:ext cx="95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Программа кольцевого завоза биологического материала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76" name="Rectangle 7"/>
          <p:cNvGraphicFramePr/>
          <p:nvPr/>
        </p:nvGraphicFramePr>
        <p:xfrm>
          <a:off x="5292720" y="1844640"/>
          <a:ext cx="3468600" cy="460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7" name="Rectangle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1844640"/>
                    <a:ext cx="3468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80808"/>
                </a:solidFill>
                <a:latin typeface="Tahoma"/>
              </a:rPr>
              <a:t>Спасибо за внимание!</a:t>
            </a:r>
            <a:endParaRPr b="0" lang="en-US" sz="5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80808"/>
                </a:solidFill>
                <a:latin typeface="Tahoma"/>
              </a:rPr>
              <a:t>ushakov@dc.baikal.ru</a:t>
            </a:r>
            <a:endParaRPr b="0" lang="en-US" sz="5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24364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Tahoma"/>
              </a:rPr>
              <a:t>Где мы находимся и куда мы хотим (эволюция управления)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4" name="Content Placeholder 4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7893000" cy="485784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3"/>
          <p:cNvSpPr/>
          <p:nvPr/>
        </p:nvSpPr>
        <p:spPr>
          <a:xfrm>
            <a:off x="8433000" y="6707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2ECBD-6AD3-47A7-91A5-ED05B45662FB}" type="slidenum">
              <a:rPr b="0" lang="en-US" sz="900" spc="-1" strike="noStrike">
                <a:solidFill>
                  <a:srgbClr val="080808"/>
                </a:solidFill>
                <a:latin typeface="Arial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6" name="Straight Connector 6"/>
          <p:cNvSpPr/>
          <p:nvPr/>
        </p:nvSpPr>
        <p:spPr>
          <a:xfrm>
            <a:off x="4453920" y="2995560"/>
            <a:ext cx="19080" cy="606600"/>
          </a:xfrm>
          <a:prstGeom prst="line">
            <a:avLst/>
          </a:prstGeom>
          <a:ln w="2062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" name="Right Arrow 5"/>
          <p:cNvSpPr/>
          <p:nvPr/>
        </p:nvSpPr>
        <p:spPr>
          <a:xfrm>
            <a:off x="1042920" y="1911600"/>
            <a:ext cx="1944720" cy="426960"/>
          </a:xfrm>
          <a:prstGeom prst="rightArrow">
            <a:avLst>
              <a:gd name="adj1" fmla="val 50000"/>
              <a:gd name="adj2" fmla="val 50103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Arial"/>
                <a:ea typeface="ＭＳ Ｐゴシック"/>
              </a:rPr>
              <a:t>Хотим быть здесь</a:t>
            </a:r>
            <a:r>
              <a:rPr b="1" lang="ru-RU" sz="1100" spc="-1" strike="noStrike">
                <a:solidFill>
                  <a:srgbClr val="080808"/>
                </a:solidFill>
                <a:latin typeface="Arial"/>
                <a:ea typeface="ＭＳ Ｐゴシック"/>
              </a:rPr>
              <a:t>!</a:t>
            </a:r>
            <a:endParaRPr b="0" lang="en-US" sz="11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8" name="Right Arrow 6"/>
          <p:cNvSpPr/>
          <p:nvPr/>
        </p:nvSpPr>
        <p:spPr>
          <a:xfrm>
            <a:off x="1042920" y="5008680"/>
            <a:ext cx="1946520" cy="427320"/>
          </a:xfrm>
          <a:prstGeom prst="rightArrow">
            <a:avLst>
              <a:gd name="adj1" fmla="val 50000"/>
              <a:gd name="adj2" fmla="val 5010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Arial"/>
                <a:ea typeface="ＭＳ Ｐゴシック"/>
              </a:rPr>
              <a:t>Сегодня мы здесь</a:t>
            </a:r>
            <a:r>
              <a:rPr b="1" lang="ru-RU" sz="1100" spc="-1" strike="noStrike">
                <a:solidFill>
                  <a:srgbClr val="080808"/>
                </a:solidFill>
                <a:latin typeface="Arial"/>
                <a:ea typeface="ＭＳ Ｐゴシック"/>
              </a:rPr>
              <a:t>!</a:t>
            </a:r>
            <a:endParaRPr b="0" lang="en-US" sz="11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726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808"/>
                </a:solidFill>
                <a:latin typeface="Tahoma"/>
              </a:rPr>
              <a:t>       </a:t>
            </a:r>
            <a:r>
              <a:rPr b="0" lang="ru-RU" sz="4000" spc="-1" strike="noStrike">
                <a:solidFill>
                  <a:srgbClr val="080808"/>
                </a:solidFill>
                <a:latin typeface="Tahoma"/>
              </a:rPr>
              <a:t>Измененная  парадигма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80808"/>
                </a:solidFill>
                <a:latin typeface="Tahoma"/>
              </a:rPr>
              <a:t>Качественная медицинская помощь возможна только при качественном менеджменте!!! </a:t>
            </a:r>
            <a:endParaRPr b="0" lang="en-US" sz="4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726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Tahoma"/>
              </a:rPr>
              <a:t>Этапы внедрение инновационных управленческих технологий в ИДЦ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1 этап – 1997-1999 –стажировка главного врача в Японии по вопросам менеджмента здравоохранения, сотрудниче-ство с САФом ИГУ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2 этап – 1999-2002 –внедрение в практическую деятельность технологии управления персоналом, маркетинга, бенчмаркинга, 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CALS</a:t>
            </a: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, реинжиниринга бизнес-процессов, 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TQM</a:t>
            </a: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, цикла 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PDCA</a:t>
            </a: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, создание менеджмент ориентированной информационной системы, второе высшее образование главного врача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3 этап – 2003 -2008 – стандартизация всех сфер деятельности ИДЦ, разработка СМК, получение сертификата соответствия СМК стандартам ИСО 9001:2000, внедрение логистических технологий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4 этап – 2009 -2011 –совершенствование СМК, применение идеологии ИСО 9001:2008 и 100% компьютеризация  всех сфер деятельности ИДЦ, сертификация по 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OHSAS</a:t>
            </a: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, внедрение технологий 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BSC</a:t>
            </a: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, бережливого производства, бюджетирования.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Наличие сертификата ИСО 9001:2008 не гарантирует высокое качество медицинской помощи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Наличие  информационной системы  не гарантирует повышение эффективности  деятельности ЛПУ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ahoma"/>
              </a:rPr>
              <a:t>Качество медицинской помощи может быть значительно повышено за счет  внедрения информационной системы, разработанной  с применением  микса  современных технологий управления.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Tahoma"/>
              </a:rPr>
              <a:t>Менеджмент ориентированная информационная система ИДЦ 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106" name="Rectangle 7"/>
          <p:cNvGraphicFramePr/>
          <p:nvPr/>
        </p:nvGraphicFramePr>
        <p:xfrm>
          <a:off x="179280" y="981000"/>
          <a:ext cx="8856720" cy="554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Rectangle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85672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Tahoma"/>
              </a:rPr>
              <a:t>Применяемые </a:t>
            </a: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IT</a:t>
            </a:r>
            <a:r>
              <a:rPr b="0" lang="ru-RU" sz="3600" spc="-1" strike="noStrike">
                <a:solidFill>
                  <a:srgbClr val="080808"/>
                </a:solidFill>
                <a:latin typeface="Tahoma"/>
              </a:rPr>
              <a:t>-технологии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Рабочие места пользователей – ОС </a:t>
            </a: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Linux CentOS 5.4 + </a:t>
            </a: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приложения mozilla на базе технологии xul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Сервера - Linux CentOS 5.4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Сервер базы данных - Postgree 8.4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Сервера приложений - JBoss, Tomcat, Apache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Дайком-сервер - DICOM Server DCM4Chee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Аналитика и отчетность - Mondrian OLAP Server, из линейки продуктов Pantaho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Система тайм- менеджмента и управления проектами –eGroupWare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Система поддержки пользователей -  eSupport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Офисный пакет – OpenOffice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Система хранения документов – Alfresco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5840" y="290520"/>
            <a:ext cx="8518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Arial"/>
              </a:rPr>
              <a:t>Медицинский блок</a:t>
            </a:r>
            <a:r>
              <a:rPr b="0" lang="ru-RU" sz="40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1" name="Rectangle 7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2791080" cy="1605240"/>
          </a:xfrm>
          <a:prstGeom prst="rect">
            <a:avLst/>
          </a:prstGeom>
          <a:ln w="0">
            <a:noFill/>
          </a:ln>
        </p:spPr>
      </p:pic>
      <p:pic>
        <p:nvPicPr>
          <p:cNvPr id="112" name="Rectangle 7" descr=""/>
          <p:cNvPicPr/>
          <p:nvPr/>
        </p:nvPicPr>
        <p:blipFill>
          <a:blip r:embed="rId3"/>
          <a:stretch/>
        </p:blipFill>
        <p:spPr>
          <a:xfrm>
            <a:off x="250920" y="3068640"/>
            <a:ext cx="2052720" cy="18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Rectangle 7" descr=""/>
          <p:cNvPicPr/>
          <p:nvPr/>
        </p:nvPicPr>
        <p:blipFill>
          <a:blip r:embed="rId4"/>
          <a:stretch/>
        </p:blipFill>
        <p:spPr>
          <a:xfrm>
            <a:off x="2703600" y="4632480"/>
            <a:ext cx="3168720" cy="202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getFile" descr=""/>
          <p:cNvPicPr/>
          <p:nvPr/>
        </p:nvPicPr>
        <p:blipFill>
          <a:blip r:embed="rId5"/>
          <a:stretch/>
        </p:blipFill>
        <p:spPr>
          <a:xfrm>
            <a:off x="250920" y="5013360"/>
            <a:ext cx="2089080" cy="1568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771640" y="1628640"/>
            <a:ext cx="36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Интеграции всех процессов этапа предоставления медицинской услуги, включая регистрацию, оплату, координацию, непосредственно предоставление услуги, выдачу результатов и экспертизу качества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6283440" y="4917960"/>
            <a:ext cx="2663640" cy="175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Rectangle 7"/>
          <p:cNvGraphicFramePr/>
          <p:nvPr/>
        </p:nvGraphicFramePr>
        <p:xfrm>
          <a:off x="6523200" y="1268280"/>
          <a:ext cx="2384280" cy="378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Rectangle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23200" y="1268280"/>
                    <a:ext cx="238428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8:18:59Z</dcterms:created>
  <dc:creator>kochanovskaya</dc:creator>
  <dc:description/>
  <dc:language>en-US</dc:language>
  <cp:lastModifiedBy>ASUS</cp:lastModifiedBy>
  <dcterms:modified xsi:type="dcterms:W3CDTF">2009-12-10T08:11:58Z</dcterms:modified>
  <cp:revision>1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9</vt:lpwstr>
  </property>
</Properties>
</file>