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B5C-39B9-494E-AE4C-A291E207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B2E-BDB3-42FD-AD95-C67071F0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36364-5C62-409F-91FA-23978EA0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D93CE-A89C-41CF-AC1A-DD71C49F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711E4-FD9F-4C85-94C9-FB681E64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0716D-C471-4658-ADDE-ACBA5228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BFE0A-9878-45BE-9E76-9B7E784D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4A8AF-B5E0-434F-89DD-B6D0ED18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81572-4305-441F-B57C-059CB482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E779E-83DE-406B-8031-75F09D2C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38CD8-711F-4880-9A71-CB11B922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FF44D9-3221-4CF3-9BB6-45F00A85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4A4-9902-4AC7-8E35-98883EEC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BCBEB8-C8EC-4C12-A23C-5F7837BF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1A2712-B2C1-48BF-B04B-395C87EA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5A472A-0725-4BDC-8CFE-A53987AF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2C480F-1BAD-4A1B-892A-56134A63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934CA6-C724-4FFF-9F78-EAD3B19D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EBAD97-ED7C-4BCE-94E7-0173A0FD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A737E9-380A-4A18-9B1C-B6438EF9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C74FC9-D3A5-4093-ACDC-E7717D05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85DFA5-EA58-46C2-821E-8CB9C138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B714BF-913F-4F61-B25B-7796D715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7BD-59CB-4A5A-826A-775F83DE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87B2F4-F0B3-48C1-BC4B-10A239DE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C7A13-E211-4DE2-BC5B-E7ECBAB4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0A8D1-B5EC-48D5-88E1-1FD8941D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ED134-8952-46F3-9A2F-2CAE70D0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5C9BA-DAB7-462F-9D04-6D79E274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463BC-C981-40AD-BA53-D80F2AF7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EBB23-56D3-48DF-815D-B932B9BB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3F4B6-CF13-4D7B-BE2A-A6E34571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43092-9DAA-4DA0-9568-5276AFCD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EE6C0-D535-48AD-B322-88EC6950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B067-D0E4-4FD0-9C51-813DB07F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82F51-5E4A-46F3-A023-65B3AC63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E4C8E-5ED4-44E7-9F88-CFF93259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D8657-7459-4454-ACD9-500AB590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BBB2-36F6-4533-859E-40FA5F84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FDA3-A36E-48C6-84F3-78F0FCF9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DE33-AA84-4CB6-824A-837ED089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15B9-5ACB-4304-88AB-FC308435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0A10-E23D-47B3-9414-F6B58033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310E-4437-4283-806C-C757E963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C77-75A4-4F75-9537-676CFDC2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6B9B-FCF8-4DDB-BE17-FDC77C01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C429-4D7E-4330-B5BE-209A939B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1014-BAB0-4EDC-96C3-C64C14FF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9C68-8D25-4E72-ADF3-9CDB13BF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E42B-29DE-4830-8C69-52CF4A08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1F9C3-AB09-4CA1-837A-5CFB3164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1963F-0E36-42A7-A265-BDA3B408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49B5A-8161-42C0-8E0E-4DCAC620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F6E5C-5A3B-49E9-AC87-6F1D95EF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C301A-3DF1-4C13-9676-32C1E7EB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991-6487-4B95-AE91-D5F2653A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D8096-22C8-4E2E-8D83-ED9D06A2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33D73-AB25-41A0-9F4F-C67EC88C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0A282-93E9-4820-84B4-5AE751B8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43596-C9CC-443C-A871-47598A6D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2FEDA-1D4B-4F2F-9199-FD02620F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16822-2904-435E-9E94-7FD7DF1C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37FA5-E3ED-4182-B669-27C8DB2E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649FC-17C6-40B5-87B3-EC64E62F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D9CED-B561-4A54-9CB0-4208FBAA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1370B-44C9-4ED0-9AC1-096A0522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7AE-B985-415B-8D7D-5C26ECB7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F4D9A-D5B9-4710-A359-93F6E6B7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D9AD8-57D5-4305-8214-70D80329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EBE79-BEC8-40B2-BB28-F860956C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5E1FC-66E8-46E9-9F0E-D681E8C8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F1AA0-F5FF-4BD0-A0CB-FA68E00D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7A328-B3D1-4069-8F5F-0155B3BB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3324E-6D96-40F2-9D35-552E5951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9ED7D-DC08-4E5F-994F-848775C0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6DBDA-BAF3-44F1-86A1-6BC8516D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3C5F2-F3A6-48E3-996E-5908690F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2DE-49E5-4588-BCE2-9292E890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9E8A7-7B69-4FB7-BC8A-F0A65494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21F3E-65BF-41B6-8B93-FE8D43BA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26FE7-2818-4CBA-A097-E1075BF9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9C2F0-8423-4D86-9157-40AFE5F7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2BB1F-850E-4F77-B83A-A2FFE382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EA76E-ECBF-4ADE-A451-38B12F24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8D2CC-5356-47FB-93BB-5E4ADFCA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7DA05-61E1-49B4-A1D9-DE334286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A7B9E-7942-4E84-AF11-6A3ED6FD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FEF67-F23F-47D5-B1FF-9FC4F4FB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574-2927-4D7D-BEED-DB6EA1B2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C330D-31F7-4A44-9F27-B4492EF6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5A7BD-C31C-4F1D-9514-2940C162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9A0DB-FD9D-4B4C-9D0B-2E80A11E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8DEE1-820D-4847-ACA9-49F8BDFB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F874F-924D-4258-BB27-1AE85025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A0B39-5A90-47CE-83BD-2C4E2458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2CC21-3CE1-442F-9CC7-31A6D8BC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A5DC5-6969-487E-9EF1-AEE29A75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C4852-0C84-43A0-A6A5-449698ED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8FE16-6443-42E5-99C0-5A161151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6C2-D22D-4177-BF0F-68955718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4F590-0D7E-4F3E-9CB2-17BF12C9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F4F2B-7D97-4865-932D-897B50EB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AB0F1-0BCA-4E7C-B45D-C782ECA3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84F64-7E4E-4C9E-A32D-9FD1315C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DFA53-9F2F-4704-AE33-7DC184BD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34293-9B48-4B1B-9C8F-5FD6D2D0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C857C-6030-4276-86AD-D09569D1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D2708-8DAD-4022-A56B-379981F4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B69D3-1E67-4C85-BA78-0E004B28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7B447-FD37-430A-9ED0-C6895E16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2B5-DE53-4B23-BE32-C385CA63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879D1-9039-45CB-AB30-AAB5D882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739E6-161B-4968-8D41-ACF4BFDD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14ABC-FE8A-4355-9C96-EDBA13BF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A8B0C-2025-481D-A156-360A09FB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565C9-3DFB-4B9E-B6D3-016C693A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9FFB6-E95B-40DD-B40C-5A15AF2C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AEAB4-338C-4A44-9D5A-71BB68F1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265BE-0872-4D35-85B5-6969477B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D8DDF-623C-461D-81CA-93ACF46C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71C54-5915-4486-9D45-B2A7188A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A20-6619-4A9F-87BD-2AAD980E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7AD7F-DA47-403F-8999-4B3EB2BA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BE3A2-041B-4CF5-A526-9A3DF0F5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AF261-F470-48A9-A898-4B8E0F61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404C0-48C3-44A0-862F-5A2728EA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90EC5-2921-45DA-A728-D0551904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3EE09-DE53-48FB-94A6-7113416C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21B0F-BE1A-4C07-A2D5-E25D889E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0EAE9-57B6-4B56-963D-9162261F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9F735-1B79-4ED0-91FE-E68C704D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4034C-86B2-4875-8484-699D83F3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AFE8-C82B-4704-AD4B-152D98B1E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DE92-52EB-4F3B-992D-F4AF123AB66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7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1825-5B2F-40C2-9140-8BB24324CD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2D39-AA2F-4547-ADD1-2F280C6C4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965B-A0A9-4E5C-AD63-A13C76DA9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91D2-CAE7-41EA-8FF4-3DB457D00F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2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A8CE-D30B-4BDB-BFE3-099D87D42C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0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D87F-5418-4D8D-9B74-458C105227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44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5904-AA37-4135-8561-20785B0A58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E0C3-7856-4288-AB61-3E8E7469B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116E-B87D-4D69-800B-E006E0BF9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79280" y="287640"/>
            <a:ext cx="878544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Рекомендаций ВОЗ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 в отношении содержания деятельности по обеспечению качества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–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Качественное выполнение профессиональных функций (технологии лечебно-диагностического процесса с критерием соответствия современному уровню развития медицин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Повышение качества использования ресурсов (с критерием оптимальности использования ресурсов для достижения наилучшего результата лечения);</a:t>
            </a: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Минимизация риска для пациента в результате медицинского вмешательства (критерий – отсутствие дополнительного риска ухудшения или отсутствие улучшения состояния пациента и его трудоспособности в результате оказанной медицинской помощ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Достижение удовлетворенности пациента качеством медицинской помощи (аналогично формируется и критер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дачи системы Мониторинг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ценка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остояни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 изменений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оказателей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оступности и качества медицинской помощ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нализ, выявление и прогнозирование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тенденци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показателей (индикаторов качеств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становление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ичин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выявление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условий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явления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рачебных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ошибок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случаев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екачественного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оказания медицинской помощ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дготовка предложений для принятия мер по устранению выявленных факторов, оказывающих негативное воздействие на деятельность медицинских организаций и специалист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нализ эффективности принимаемых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управленческих решени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по повышению доступности и качества медицинской помощ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ценка и анализ эффективности медицинских и социально-экономических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оследствий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 реализации задач мониторинг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правление функционированием системы мониторинг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240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формационные ресурсы системы Мониторинга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показатели доступности и качества медицинской помощи различных уровней руководства здравоохранение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стандарты различных видов медицинской помощ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классификаторы медицинских услуг, справочники и нормативно-правовая информац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сведения писем и обращений граждан по вопросам доступности и качества оказания медицинской помощ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данные проверок деятельности медицинских организаций и медицинской экспертиз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данные статистических отчётов медицинских организ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данные социологических опросов (по отдельным территориальным образованиям федеральных административных округов или субъектов Российской Федерации) групп насе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сведения об оценке руководителями органов и учреждений здравоохранения  состояния  работы  по  оказанию медицинской помощи населению и её совершенствованию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2050920" y="189000"/>
            <a:ext cx="5715000" cy="6389640"/>
            <a:chOff x="2050920" y="189000"/>
            <a:chExt cx="5715000" cy="6389640"/>
          </a:xfrm>
        </p:grpSpPr>
        <p:sp>
          <p:nvSpPr>
            <p:cNvPr id="668" name=""/>
            <p:cNvSpPr/>
            <p:nvPr/>
          </p:nvSpPr>
          <p:spPr>
            <a:xfrm>
              <a:off x="2050920" y="236520"/>
              <a:ext cx="4533840" cy="457200"/>
            </a:xfrm>
            <a:prstGeom prst="rect">
              <a:avLst/>
            </a:pr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осздравнадзор и его территориальные орг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09840" y="1230120"/>
              <a:ext cx="2151000" cy="1532160"/>
            </a:xfrm>
            <a:prstGeom prst="rect">
              <a:avLst/>
            </a:prstGeom>
            <a:gradFill rotWithShape="0">
              <a:gsLst>
                <a:gs pos="0">
                  <a:srgbClr val="fabf8f"/>
                </a:gs>
                <a:gs pos="50000">
                  <a:srgbClr val="f79646"/>
                </a:gs>
                <a:gs pos="100000">
                  <a:srgbClr val="fabf8f"/>
                </a:gs>
              </a:gsLst>
              <a:lin ang="5400000"/>
            </a:gradFill>
            <a:ln w="12600">
              <a:solidFill>
                <a:srgbClr val="f79646"/>
              </a:solidFill>
              <a:miter/>
            </a:ln>
            <a:effectLst>
              <a:outerShdw dist="17819" dir="2700000" blurRad="0" rotWithShape="0">
                <a:srgbClr val="97470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рган субъекта РФ, осуществляющий контроль соответствия качества оказываемой медицинской помощи установленным федеральным стандарт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36600" y="3232080"/>
              <a:ext cx="4362480" cy="96192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81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Эксперты и экспертные организ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165040" y="4608360"/>
              <a:ext cx="4362480" cy="695520"/>
            </a:xfrm>
            <a:prstGeom prst="rect">
              <a:avLst/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рачебные комиссии медицинских организац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26880" y="5954760"/>
              <a:ext cx="714600" cy="57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81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27240" y="6006960"/>
              <a:ext cx="7142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81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84480" y="6006960"/>
              <a:ext cx="71460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81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022880" y="4887720"/>
              <a:ext cx="714240" cy="57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lin ang="54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41960" y="1812960"/>
              <a:ext cx="714240" cy="57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lin ang="54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051320" y="189000"/>
              <a:ext cx="714600" cy="57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lin ang="54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2388600" y="5611680"/>
              <a:ext cx="276480" cy="36180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81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4179600" y="5611680"/>
              <a:ext cx="276480" cy="36216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81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036840" y="5611680"/>
              <a:ext cx="276480" cy="36180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81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617840" y="404640"/>
            <a:ext cx="58356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чество 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643280" y="907920"/>
            <a:ext cx="187200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48360" y="981000"/>
            <a:ext cx="1657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909800" y="981000"/>
            <a:ext cx="2158560" cy="4535640"/>
            <a:chOff x="1909800" y="981000"/>
            <a:chExt cx="2158560" cy="4535640"/>
          </a:xfrm>
        </p:grpSpPr>
        <p:sp>
          <p:nvSpPr>
            <p:cNvPr id="685" name=""/>
            <p:cNvSpPr/>
            <p:nvPr/>
          </p:nvSpPr>
          <p:spPr>
            <a:xfrm>
              <a:off x="1909800" y="2060640"/>
              <a:ext cx="504720" cy="345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т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(п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т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л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р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т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р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41440" y="981000"/>
              <a:ext cx="12236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Контр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57440" y="2060640"/>
              <a:ext cx="360000" cy="345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60720" y="2060640"/>
              <a:ext cx="432720" cy="345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Эк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36720" y="2060640"/>
              <a:ext cx="431640" cy="345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ци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г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че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л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2196720" y="1628640"/>
              <a:ext cx="28836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773080" y="1628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78160" y="1628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421080" y="1628640"/>
              <a:ext cx="50436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 flipH="1">
            <a:off x="3564000" y="1268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589800" y="1268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26920" y="1484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0" y="981000"/>
            <a:ext cx="1979640" cy="5688000"/>
            <a:chOff x="0" y="981000"/>
            <a:chExt cx="1979640" cy="5688000"/>
          </a:xfrm>
        </p:grpSpPr>
        <p:sp>
          <p:nvSpPr>
            <p:cNvPr id="698" name=""/>
            <p:cNvSpPr/>
            <p:nvPr/>
          </p:nvSpPr>
          <p:spPr>
            <a:xfrm>
              <a:off x="250920" y="981000"/>
              <a:ext cx="1728720" cy="50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1773360"/>
              <a:ext cx="169236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Ресурсы ка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50920" y="2421000"/>
              <a:ext cx="1368360" cy="7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Материаль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техническая ба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ЛПУ (МГБ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0920" y="3141720"/>
              <a:ext cx="1368360" cy="57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адры медицин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ких работн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0920" y="3716280"/>
              <a:ext cx="136836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Технолог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есур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0920" y="4508640"/>
              <a:ext cx="1368360" cy="43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Финансов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есур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50920" y="4941720"/>
              <a:ext cx="1368360" cy="865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Научные (интел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лектуальные) ре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ур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0920" y="5805360"/>
              <a:ext cx="136836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труктурные ре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ур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0920" y="6237360"/>
              <a:ext cx="136836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Информацио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ресурс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1835280" y="6237360"/>
            <a:ext cx="75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сновные направления обеспечения качества медицинск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16360" y="1989000"/>
            <a:ext cx="432000" cy="34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64000" y="1989000"/>
            <a:ext cx="362160" cy="34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942160" y="1989000"/>
            <a:ext cx="358560" cy="36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4858920" y="155736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364000" y="15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867280" y="1557360"/>
            <a:ext cx="2174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308720" y="2060640"/>
            <a:ext cx="360360" cy="33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101080" y="2060640"/>
            <a:ext cx="361800" cy="33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7524360" y="1557360"/>
            <a:ext cx="71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8172360" y="1557360"/>
            <a:ext cx="144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1908000" y="207252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79280" y="269496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52360" y="189000"/>
            <a:ext cx="4319640" cy="640872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ИНИСТЕРСТВО ЗДРАВООХРА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СОЦИАЛЬНОГО РАЗВИ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«УТВЕРЖДАЮ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ЗАМЕСТИТЕЛЬ  МИНИС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ЗДРАВООХРАНЕНИЯ       И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ОЦИАЛЬНОГО 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В.И. СТАРОДУ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2 июля 200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ИСПОЛЬЗ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ИНФОРМАЦИО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ТЕХНОЛОГИЙ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УПРАВЛЕНИИ КАЧЕ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МЕТОДИЧЕСКИЕ РЕКОМЕНД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ОСКВА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643280" y="189000"/>
            <a:ext cx="4176720" cy="640872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ецензенты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  д.м.н.,  профессор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.А. Гаспарян, г. Москва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 д.м.н., проф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.К. Гасников, г. Иже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 д.м.н. , проф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Г.И. Чеченин, г. Новокузнец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* В.Ф. Мартыненко, А.Х. Мустаф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.Ф. Серегина, М.А. Хутор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*НИИ общественного здоровь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правления здравоохра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Московской медицинской акаде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м. И.М. Сече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79280" y="1309680"/>
            <a:ext cx="8785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держивающими факторами 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сутствие единого универсального определения понятия качества медицинской помощи и общепризнанных его критери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хнологические основы совершенствования качества    медицинской помощи недостаточно разработаны и лишь косвенно или фрагментарно освещены в научной медицинской литерату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сутствие общепринятой информационно, юридически и нормативно подкреплённой системы оценки и контроля медицинской пом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52360" y="364320"/>
            <a:ext cx="871236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качестве рабочих приняты следующие опред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ачество медицинской помощи - совокупность характеристик, подтверждающих соответствие оказанной помощи имеющимся потребностям пациента (населения), его ожиданиям и современному уровню доказательной медицинской науки и технологии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Под качеством медицинской помощи понимается такой комплекс медицинских услуг, который ведёт к достижению оптимальных для здоровья пациента (населения) результатов в соответствии с уровнем медицинской науки и биологическими  особенностями пациентов, достигаемых минимальными средствами, с минимальным риском осложнений и максимально возможной степенью удовлетворения потребностей пациента (населения)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«Доступность медицинской помощи – э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доступ к службам здравоохранения, который не зависит от географических, экономических, социальных, культурных, организационных или языковых барьер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79280" y="408600"/>
            <a:ext cx="8785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ллегия МЗ РФ, 200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здравоохран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иентация на конечн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нципы доказательной медиц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стемное научное об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временные образовательны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ет мнения паци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1280" y="1989000"/>
            <a:ext cx="2736720" cy="1584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Контроль отд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составляющ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лечебного 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профилакт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48360" y="1989000"/>
            <a:ext cx="2952720" cy="1584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Непрерывное улуч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работы врача, учрежд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здравоохранения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637080" y="2492280"/>
            <a:ext cx="1222200" cy="792360"/>
          </a:xfrm>
          <a:prstGeom prst="rightArrow">
            <a:avLst>
              <a:gd name="adj1" fmla="val 50000"/>
              <a:gd name="adj2" fmla="val 3856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250920" y="83556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раслевая  программа «Управление качеством в здравоохранении на 2003-2007 годы» (Решение Коллегии Министерства здравоохранения  Российской  Федерации  от  18-21 марта 2003 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52360" y="274320"/>
            <a:ext cx="871236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2006 го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Федеральной службой по надзору в сфере здравоохранения и социального развития Российской федерации было проведено масштабное социологическое исследование по оценке доступности и качества медицинской помощи населению 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е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убъектах страны: Алтайском, Краснодарском, Хабаровском краях, Мурманской, Воронежской, Самарской, Свердловской областях. Всего было опрошен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65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человека, две трети из которых городские жители. В целях репрезентативности выборки в опросе участвовали лица разного социального статуса и уровня материального обесп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2008 г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проведено беспрецендентное по масштабам и глубине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СПЛОШНОЕ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оциоло-гическое исследование по всей территории РФ (число опрошенных граждан составило 39 141 человек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 flipH="1">
            <a:off x="2340000" y="1036800"/>
            <a:ext cx="1441440" cy="50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84600" y="10368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22960" y="1036800"/>
            <a:ext cx="2087640" cy="50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692360" y="2260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584600" y="21160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524720" y="218772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044720" y="3916440"/>
            <a:ext cx="170640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рачебная коми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229440" y="3844800"/>
            <a:ext cx="17064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7093080" y="34128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620720" y="34131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2268000" y="4779720"/>
            <a:ext cx="136692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219640" y="4652640"/>
            <a:ext cx="11541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987640" y="551664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раждане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65440" y="60480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ОСЗДРАВНАДЗ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55640" y="153036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Орган  управления здравоохранением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субъекта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89320" y="1565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Территориальный орган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Росздравнадз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229440" y="159084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Территориальный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Фонд ОМ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189080" y="2692440"/>
            <a:ext cx="69134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Контрольно-надзорные мероприятия, экспертиза качества медицин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мощи,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статистическая отчетность,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социологические исследования, рассмотрение  обращений гражд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08000" y="6093000"/>
            <a:ext cx="57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дель системы Мониторинга доступности и качества медицинской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8:24:50Z</dcterms:created>
  <dc:creator>USER</dc:creator>
  <dc:description/>
  <dc:language>en-US</dc:language>
  <cp:lastModifiedBy>USER</cp:lastModifiedBy>
  <dcterms:modified xsi:type="dcterms:W3CDTF">2009-12-07T15:38:13Z</dcterms:modified>
  <cp:revision>19</cp:revision>
  <dc:subject/>
  <dc:title>Слайд 1</dc:title>
</cp:coreProperties>
</file>