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a4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a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a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a4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D225-F7E1-4F8C-B718-CA13EA709B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BE45-3912-415A-8AE3-31C0750366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a4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7EBC-3676-40A4-9095-41D48B8E39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a4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86200" y="8686800"/>
            <a:ext cx="29671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EA357-2BEB-46BB-B1C6-56D9071A9B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0000a4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a4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040" y="4338720"/>
            <a:ext cx="5024520" cy="41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654-DD44-4AF8-A33E-875A2D20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3916-D3C1-4FC0-BCD0-4A089E06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868-364C-4C2B-AE8A-E000BE3D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237-D79C-4587-A816-20ADE612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E142-AC58-49F0-A998-A18935EF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5567-9BFA-482F-975A-B4DC7FFE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8369-5547-4D21-BACC-A027E54B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21D-A062-4F47-B231-2EE73485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4A4-EC11-4C8F-85E6-29BE4439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078-17C7-468F-B786-410F60F0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4BB-28EC-4C3D-94C9-F9D3672D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6E9-040E-432A-978D-DF7FD318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F20E-0A39-415B-8587-977054A6F82E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a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A18A-13B7-41FA-A773-0371165E806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52280" y="685800"/>
            <a:ext cx="8915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a4"/>
                </a:solidFill>
                <a:latin typeface="Arial Narrow"/>
              </a:rPr>
              <a:t>Медицинская информационная система «</a:t>
            </a:r>
            <a:r>
              <a:rPr b="1" i="1" lang="ru-RU" sz="5400" spc="-1" strike="noStrike">
                <a:solidFill>
                  <a:srgbClr val="0000a4"/>
                </a:solidFill>
                <a:latin typeface="Arial Narrow"/>
              </a:rPr>
              <a:t>Инфомед</a:t>
            </a:r>
            <a:r>
              <a:rPr b="1" i="1" lang="ru-RU" sz="3600" spc="-1" strike="noStrike">
                <a:solidFill>
                  <a:srgbClr val="0000a4"/>
                </a:solidFill>
                <a:latin typeface="Arial Narrow"/>
              </a:rPr>
              <a:t>»</a:t>
            </a:r>
            <a:endParaRPr b="1" lang="en-US" sz="3600" spc="-1" strike="noStrike">
              <a:solidFill>
                <a:srgbClr val="0000a4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3517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О  «Информатика Сибири», г. Омск</a:t>
            </a:r>
            <a:br>
              <a:rPr sz="4400"/>
            </a:br>
            <a:r>
              <a:rPr b="1" i="1" lang="ru-RU" sz="2200" spc="-1" strike="noStrike">
                <a:solidFill>
                  <a:srgbClr val="0000a4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ww.infosib.com.ru</a:t>
            </a:r>
            <a:endParaRPr b="1" lang="en-US" sz="3200" spc="-1" strike="noStrike">
              <a:solidFill>
                <a:srgbClr val="0000a4"/>
              </a:solidFill>
              <a:latin typeface="Arial"/>
            </a:endParaRPr>
          </a:p>
        </p:txBody>
      </p:sp>
      <p:pic>
        <p:nvPicPr>
          <p:cNvPr id="50" name="Picture 4" descr="blue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743200" y="4432320"/>
            <a:ext cx="3962520" cy="20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686800" cy="64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3055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a4"/>
                </a:solidFill>
                <a:latin typeface="Arial"/>
              </a:rPr>
              <a:t>Отрицательные  факто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1-  Человеческий  фак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2-  Формализация  подхода  к  лече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3-  Избыточность назнач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Итоговое  заключение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Необходимость  сохранения  балан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2"/>
          <p:cNvSpPr/>
          <p:nvPr/>
        </p:nvSpPr>
        <p:spPr>
          <a:xfrm>
            <a:off x="1450800" y="6324480"/>
            <a:ext cx="7696440" cy="0"/>
          </a:xfrm>
          <a:prstGeom prst="line">
            <a:avLst/>
          </a:prstGeom>
          <a:ln w="19080">
            <a:solidFill>
              <a:srgbClr val="7770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a4"/>
              </a:solidFill>
              <a:latin typeface="Arial"/>
            </a:endParaRPr>
          </a:p>
        </p:txBody>
      </p:sp>
      <p:pic>
        <p:nvPicPr>
          <p:cNvPr id="86" name="Picture 3" descr="blue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6249960"/>
            <a:ext cx="1187280" cy="612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1390680" y="687240"/>
            <a:ext cx="7070760" cy="219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a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8461440" y="685800"/>
            <a:ext cx="685800" cy="219240"/>
          </a:xfrm>
          <a:prstGeom prst="rect">
            <a:avLst/>
          </a:prstGeom>
          <a:solidFill>
            <a:srgbClr val="c5b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a4"/>
              </a:solidFill>
              <a:latin typeface="Arial"/>
            </a:endParaRPr>
          </a:p>
        </p:txBody>
      </p:sp>
      <p:grpSp>
        <p:nvGrpSpPr>
          <p:cNvPr id="89" name="Group 7"/>
          <p:cNvGrpSpPr/>
          <p:nvPr/>
        </p:nvGrpSpPr>
        <p:grpSpPr>
          <a:xfrm>
            <a:off x="1284840" y="649440"/>
            <a:ext cx="337320" cy="380880"/>
            <a:chOff x="1284840" y="649440"/>
            <a:chExt cx="337320" cy="380880"/>
          </a:xfrm>
        </p:grpSpPr>
        <p:sp>
          <p:nvSpPr>
            <p:cNvPr id="90" name="Rectangle 8"/>
            <p:cNvSpPr/>
            <p:nvPr/>
          </p:nvSpPr>
          <p:spPr>
            <a:xfrm>
              <a:off x="1339920" y="689040"/>
              <a:ext cx="230040" cy="219240"/>
            </a:xfrm>
            <a:prstGeom prst="rect">
              <a:avLst/>
            </a:prstGeom>
            <a:solidFill>
              <a:srgbClr val="0e1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a4"/>
                </a:solidFill>
                <a:latin typeface="Arial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 rot="5400000">
              <a:off x="1262880" y="67104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a4"/>
                  </a:solidFill>
                  <a:latin typeface="Arial"/>
                </a:rPr>
                <a:t>&gt;</a:t>
              </a:r>
              <a:endParaRPr b="1" lang="en-US" sz="1600" spc="-1" strike="noStrike">
                <a:solidFill>
                  <a:srgbClr val="0000a4"/>
                </a:solidFill>
                <a:latin typeface="Arial"/>
              </a:endParaRPr>
            </a:p>
          </p:txBody>
        </p:sp>
      </p:grpSp>
      <p:sp>
        <p:nvSpPr>
          <p:cNvPr id="92" name="Rectangle 10"/>
          <p:cNvSpPr/>
          <p:nvPr/>
        </p:nvSpPr>
        <p:spPr>
          <a:xfrm>
            <a:off x="1222200" y="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a4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1143000" y="13716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a4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1066680" y="114300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a4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914400" y="2819520"/>
            <a:ext cx="77724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a4"/>
                </a:solidFill>
                <a:latin typeface="Arial"/>
              </a:rPr>
              <a:t>Спасибо за внимание</a:t>
            </a:r>
            <a:endParaRPr b="1" lang="en-US" sz="4400" spc="-1" strike="noStrike">
              <a:solidFill>
                <a:srgbClr val="0000a4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a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ЗАО  «Информатика Сибири», г. Омск</a:t>
            </a:r>
            <a:br>
              <a:rPr sz="1800"/>
            </a:br>
            <a:r>
              <a:rPr b="1" i="1" lang="ru-RU" sz="1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ww.infosib.com.ru</a:t>
            </a:r>
            <a:endParaRPr b="1" lang="en-US" sz="1800" spc="-1" strike="noStrike">
              <a:solidFill>
                <a:srgbClr val="0000a4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a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a4"/>
                </a:solidFill>
                <a:latin typeface="Arial"/>
              </a:rPr>
              <a:t>Способы  контрол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CG Times"/>
              </a:rPr>
              <a:t>1- Качество  ведения  докумен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CG Times"/>
              </a:rPr>
              <a:t>2- Лист  врачебных  назнач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CG Times"/>
              </a:rPr>
              <a:t>3- Книга  жалоб  паци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CG Times"/>
              </a:rPr>
              <a:t>4- Выборочные  провер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a4"/>
                </a:solidFill>
                <a:latin typeface="Arial"/>
              </a:rPr>
              <a:t>Критерии  качест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1-  Требования  к  докумен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2-  Медико-экономические  стандар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3-  Протоколы  планов  ле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4-  Жалобы  и  претензии  паци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5-  Результаты  ле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a4"/>
                </a:solidFill>
                <a:latin typeface="Arial"/>
              </a:rPr>
              <a:t>Основное  требов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a4"/>
                </a:solidFill>
                <a:latin typeface="Arial"/>
              </a:rPr>
              <a:t>Четкая  формализация  требований  и  критериев  оценки  качества  леч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22200" y="108000"/>
            <a:ext cx="75978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a4"/>
                </a:solidFill>
                <a:latin typeface="Arial"/>
                <a:ea typeface="Lucida Sans Unicode"/>
              </a:rPr>
              <a:t>Формирование плана ведения больного:</a:t>
            </a:r>
            <a:endParaRPr b="1" lang="en-US" sz="1800" spc="-1" strike="noStrike">
              <a:solidFill>
                <a:srgbClr val="0000a4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a4"/>
                </a:solidFill>
                <a:latin typeface="Arial"/>
                <a:ea typeface="Lucida Sans Unicode"/>
              </a:rPr>
              <a:t>привязка плана к диагнозам, стадиям, специальностям и врачам</a:t>
            </a:r>
            <a:endParaRPr b="1" lang="en-US" sz="1800" spc="-1" strike="noStrike">
              <a:solidFill>
                <a:srgbClr val="0000a4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981080"/>
            <a:ext cx="77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buClr>
                <a:srgbClr val="b7e7ff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a4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59040" y="1008000"/>
            <a:ext cx="63849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24000" y="179280"/>
            <a:ext cx="75978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a4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a4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a4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301080" cy="52196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4"/>
                </a:solidFill>
                <a:latin typeface="Arial"/>
              </a:rPr>
              <a:t>План  ведения  больного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22200" y="360360"/>
            <a:ext cx="75978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a4"/>
                </a:solidFill>
                <a:latin typeface="Arial"/>
                <a:ea typeface="Lucida Sans Unicode"/>
              </a:rPr>
              <a:t>Формирование плана ведения больного: </a:t>
            </a:r>
            <a:endParaRPr b="1" lang="en-US" sz="2000" spc="-1" strike="noStrike">
              <a:solidFill>
                <a:srgbClr val="0000a4"/>
              </a:solidFill>
              <a:latin typeface="Arial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0000a4"/>
                </a:solidFill>
                <a:latin typeface="Arial"/>
                <a:ea typeface="Lucida Sans Unicode"/>
              </a:rPr>
              <a:t>индикаторы качества, безопасность пациента</a:t>
            </a:r>
            <a:endParaRPr b="1" lang="en-US" sz="2000" spc="-1" strike="noStrike">
              <a:solidFill>
                <a:srgbClr val="0000a4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81080"/>
            <a:ext cx="7770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buClr>
                <a:srgbClr val="b7e7ff"/>
              </a:buClr>
              <a:buSzPct val="45000"/>
              <a:buFont typeface="Wingdings" charset="2"/>
              <a:buChar char="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a4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60360" y="1260360"/>
            <a:ext cx="7020000" cy="2340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260360" y="3780000"/>
            <a:ext cx="702000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996840" y="304920"/>
            <a:ext cx="7151760" cy="624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06560" y="309600"/>
            <a:ext cx="7132680" cy="623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gk</cp:lastModifiedBy>
  <dcterms:modified xsi:type="dcterms:W3CDTF">2009-12-10T07:27:27Z</dcterms:modified>
  <cp:revision>1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