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png" ContentType="image/png"/>
  <Override PartName="/ppt/media/image29.wmf" ContentType="image/x-wmf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9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48.jpeg" ContentType="image/jpeg"/>
  <Override PartName="/ppt/media/image44.png" ContentType="image/png"/>
  <Override PartName="/ppt/media/image13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34.png" ContentType="image/png"/>
  <Override PartName="/ppt/media/image12.jpeg" ContentType="image/jpeg"/>
  <Override PartName="/ppt/media/image28.wmf" ContentType="image/x-wmf"/>
  <Override PartName="/ppt/media/image3.jpeg" ContentType="image/jpeg"/>
  <Override PartName="/ppt/media/image37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7120" y="730080"/>
            <a:ext cx="4876920" cy="365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8465-646D-4B1D-AFF2-14785F4D7D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3D64-CE3A-4EE8-88EB-A94DD49537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88920" y="730080"/>
            <a:ext cx="4873680" cy="36561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кальность интегральных решени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y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операционных залов, диагностических и лечебных кабинетов состоит в том, что вся информация, которую врачи используют в этих залах и кабинетах преобразуется в цифровой вид со всеми преимуществами ее обработки, передачи, хранения, регистрации и.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ированное цифровое представление всех видов медицинской информации: видео (от видеокамеры операционного поля, эндоскопа, операционного микроскопа, аппарата ультразвуковой диагностики и т.д.), аудио (речь врачей, звук доплеровского анализатора, звук от стетоскопа и т.д.), телеметрической (данные от анестезиологического оборудования, монитора пациента, станции инфузионной терапии, газовых датчиков и т.д.), текст, и другой необходимой информации, позволяет получить к ней одинаковый доступ как локальных, так и удаленных враче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88920" y="730080"/>
            <a:ext cx="4873680" cy="36561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айде показаны данные с монитора пациента автоматически занесенные в электронную историю болезни (наркозную карту пациента) непосредственно в процессе операции (данные обведены красным цветом). Справа внизу имеется кнопка – «Просмотр операции», нажав на которую можно просмотреть всю информацию, записанною в процессе операции с момента, когда были получены конкретные данные с монитора пациента.  Просмотр осуществляется автоматическим запуском программного обеспечения многодорожечного плейера, интерфейс которого показан на следующем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BF39-1B6D-409A-8052-1A3B4398DA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88920" y="730080"/>
            <a:ext cx="4873680" cy="36561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программного обеспечения многодорожечного плейера удаленный врач может посмотреть все виды медицинской информации в цифровом операционном зале, диагностическом и лечебном кабинете как в реальном времени, так и в предыдущие периоды времени, не прерывая процесс запис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024E-C95E-471F-A8D2-F6C5551886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88920" y="730080"/>
            <a:ext cx="4873680" cy="36561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цифровой операционный зал, диагностический и лечебный кабинет на базе комплекс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y DO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автоматически оснащен всем необходимым для организации сеансов интерактивного дистанционного медицинского обучения непосредственно в процессе проведения операций, диагностики и ле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D5A0-CDFA-43D7-A249-25F0C3B27B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88920" y="730080"/>
            <a:ext cx="4873680" cy="36561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айде приведена модел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Clinic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базе интегрированных решени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y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цифровых операционных залов, диагностических и лечебных кабине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й уровень такой клиники состоит из медицинского оборудования и информационной, потоков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ти передачи данных в клин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ующим уровнем является медицинское оборудование, медицинская информационная система, систе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автоматизированная клиническая лаборатория, которые работают в соста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ти передачи дан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ее высоким уровнем являются интегральные решения для операционных залов, диагностических и лечебных кабинет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базе комплекс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y DO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Они имеют возможность информационного обмена с предыдущим уровнем. Интегральные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y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ют организовать информационный обмен непосредственно с пациентом, находящимся дома, на работе, в командировке, на отдыхе в различных географических точках земного ша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высшим уровнем является уровень технологических карт и стандартов проведения хирургических операций, диагностических и лечебных процессов, созданных на базе медицинской информации, получаемой от двух предыдущих уровн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4F8D-BAA7-49AF-BABC-42956B9955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88920" y="730080"/>
            <a:ext cx="4873680" cy="36561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айде перечислены преимущества, которые получает медицинское учреждение, оснащенное интегрирован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y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базе комплекс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y DO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ы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дрения интегрированных решений: повышение качества и финансовой эффективности здравоохран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C6FF-6B42-49EF-AD36-44E40582BF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88920" y="730080"/>
            <a:ext cx="4873680" cy="36561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едицинских учреждениях, построенных на базе интегральных решени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y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операционных залов, диагностических и лечебных кабинетов создается принципиально новый более эффективный уровень медицинского менеджмента. Каждый врач на своем рабочем месте может получить в реальном времени любую медицинскую информацию относительно пациента. Кроме этого, каждый врач может получить консультацию от своих удаленных коллег непосредственно в то время когда она ему нужна, а именно в процессе проведения операции, диагностики или лечения. Нет необходимости перемещаться со своего рабочего места для получения дополнительной информации или консультации от своих коллег, в том числе и находящихся за пределами клиники. Аналогичным образом проводятся видеоконсилиумы, видеоселеторные совещания и инструкт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43C5-DF05-4DF5-BF8D-AB7613956C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88920" y="730080"/>
            <a:ext cx="4873680" cy="36561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но специальное решение для проведения интраоперационных консультаций, без необходимости присутствия врача-патоморфолога непосредственно в операционном зале. Патоморфолог, находясь на своем рабочем месте, совместно с хирургом определяет, например, места взятия биопсий, контролирует весь процесс изготовления препарата и дистанционно анализирует препараты, установленные в роботизированном микроскопе. После этого, диагноз доставляется в цифровой операционный зал и хирурги продолжают операцию в соответствии с данным диагнозом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08E1-1E44-4C70-9BF6-726A27AEC5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88920" y="730080"/>
            <a:ext cx="4873680" cy="36561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айде приведен пример интегральных решени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y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алат реанимации и интенсивной терапии. К комплекс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y DOR D-R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ключается от одной до четырех видеокамер с дистанционным управлением, наблюдающих за пациентами, мониторы пациентов, а также другое медицинское оборудование жизнеобеспечения (станция инфузионной терапии, энцефаллограф, аппарат искусственной вентиляции легких, и т.д.). Весь процесс терапии записывается на многодорожечный цифровой рекордер, и удаленные врачи могут получить всю информацию о пациенте как в реальном времени, так и просмотреть ранее записанную информ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огичным образом реализуются интегральные решения для реанимации и интенсивной терапии  при лечении, например,  новорожденных де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CCC3-2B0C-44CA-8ECB-B9C407D41F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88920" y="730080"/>
            <a:ext cx="4873680" cy="36561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айде приведены некоторые источники повышения финансовой эффективности здравоохранения а медицинских учреждениях построенных на базе интегральных решени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y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операционных залов, диагностических и лечебных кабине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нце июня 2008 г. на прошедшем в Моск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российском форуме «Медицина за качество жизни» в докладе НИИ общественного здоровья и управления здравоохранением ММА им. И.М. Сеченова было сказано, что каждый третий диагноз пациентам в России ставиться неправильно. Неверный диагноз – это повторные диагностики, анализы и часто повторные хирургические операции, что существенно увеличивает затраты на лечение пациентов, не говоря уже об угрозе их нормальн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каждый третий диагноз требует консультации от высококвалифицированных врачей в той или иной области медицины, и данную консультацию необходимо оказать дистанционно на базе использования современных телекоммуникационных технолог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дрение интегральных решени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y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едицинских учреждениях повышают качество и финансовую эффективность оказания медицинской помощ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8D88-E843-46B5-A469-2594E6DD4C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88920" y="730080"/>
            <a:ext cx="4873680" cy="36561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сновная идея интегральных решений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ViSy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для медицины состоит в том, что все виды медицинской информации, которые используют врачи в процессе профилактики заболеваний, диагностики, лечения или хирургического вмешательства преобразуются в цифровой вид. Например, при проведении операций врачи используют многоканальную медицинскую видеоинформацию (от видеокамеры операционного светильника, от видеокамеры общего вида, от эндоскопа, операционного микроскопа, и т.д.), звуковую информацию, информацию от медицинских приборов (монитора пациента, анестезиологического оборудования, аппарата искусственного кровообращения, станции инфузионной терапии и т.д.) и информацию от инженерного оборудования (датчики газов, температуры, ламинарного потока, и т.д.). Вся эта информация преобразуется в цифровой вид в реальном времени и далее синхронно и параллельно регистрируется, обрабатывается и передается. Тоже самое происходит и в процессе профилактики заболеваний, диагностики и лечения.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Интегральные решения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ViSy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представляют собой новый уровень развития медицинских информационных систем (МИС), госпитальных информационных систем (ГИС) и радиологических информационных систем (РИС), дополняющими электронную историю болезни записями операций, диагностических и лечебных процессов и диагностически значимой медицинской информацией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а базе интегральных решений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ViSy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 медицинских учреждениях создается новый вид менеджмента, обеспечивающий высокое качество и финансовую эффективность процессов оказания медицинской помощи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E608-7671-4E23-B008-88C27220B8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88920" y="730080"/>
            <a:ext cx="4873680" cy="36561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8029-8079-4432-B5E3-BD9FE810A1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88920" y="730080"/>
            <a:ext cx="4873680" cy="36561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айде приведен цифровой операционный зал. Представленное решение предназначено для проведения полостных и эндоскопических операций. Однако вместо эндоскопического оборудования может быть подключено и другое медицинское оборудование: операционный микроскоп, рентгеновский аппарат, ультразвуковой анализатор, дентальная камера и т.д. На тре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ch Scree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ониторах отображается различная медицинская информация, и на четвертом мониторе отображается информация от систем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/или медицинской информационной системы. Медицинская информация может различным образом отображаться на мониторах. Например, когда в процессе эндоскопической операции врачи располагаются один против другого, то перед каждым врачом располагается свой монитор с одной и той же медицинской информацией – изображением с видеокамеры эндоскопа. В другом случае, когда операцию проводит приглашенный врач и операционная бригада не имеет опыта работы с ним, то один из мониторов отображающий операционное поле размещается так, чтобы ассистенты или операционные сестры наблюдали за процессом операции и вовремя реагировали на требования оперирующего врача. Возможности переключения процессов отображения медицинской информации между мониторами удовлетворяют различным сценариям проведения операций. Все медицинское оборудование и медицинские мониторы размещаются на консолях фирм производителей оборудования для операционных. Внутри консолей расположены кабели питания, информационные и видео кабели, а также устройства подавления искажений и перекрестных помех. Комплек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y DOR Pro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навливается в предоперационном помещении и к нему подключается все медицинское оборудова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BAF6-D40A-42C6-8B96-D1CE81D5CF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88920" y="730080"/>
            <a:ext cx="4873680" cy="36561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айде показан один из интерфейсов монитора цифрового операционного з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дном окне интерфейса цифрового операционного зала отображается изображение от видеокамеры операционного поля, в другом окне, например, изображение внешнего вида операционного зала и работа операционной бригады. Кроме этого, можно посмотреть данные от различного медицинского оборудования, такого как анестезиологическое оборудование, монитор пациента, станция инфузионной терапии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7390-85AE-4AFF-A51E-FD3644DC73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88920" y="730080"/>
            <a:ext cx="4873680" cy="36561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данном слайде показан интегрированное решение цифрового кабинета ультразвуковой диагностики на базе комплекс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y DOR 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Справа расположен аппарат УЗИ, а слева комплек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y DOR D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ультразвуковой диагностики. На правом мониторе отображается вся необходимая информация в процессе ультразвуковой диагностики, а на левом мониторе, например можно посмотреть информацию о процессе ультразвуковой диагностики, которая проводилась данному пациенту в предыдущий период времени для оценки динамики тех или иных процес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огичным образом создаются и другие интегрированные решения цифровых диагностических и лечебных кабинетов для эндоскопической диагностики, гинекологии, дерматологии, офтальмологии, стоматологии,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лек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y DOR D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уществляет запись всей информации в процессе диагностики и ле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709C-128F-40CE-9A65-1E02C41E3C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88920" y="730080"/>
            <a:ext cx="4873680" cy="36561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данном слайде показан интерфейс цифрового кабинета ультразвуковой диагностики. В одном окне отображается изображение от ультразвукового аппарата, в другом окне изображение расположения датчика на теле пациента. Параллельно регистрируется и передается два звуковых канала: речь врачей и пациентов, а также звук от аппарата ультразвуковой диагност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3F4A-50BF-409D-8395-3FA9064CEF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88920" y="730080"/>
            <a:ext cx="4873680" cy="36561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данном слайде показан модуль взаимодействия комплекс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y DOR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цифровых операционных залов, диагностических и лечебных кабинетов с систем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тандарт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om 3.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5966-4D05-4E93-97DC-EC9B3E9457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88920" y="730080"/>
            <a:ext cx="4873680" cy="36561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из важнейших модулей интегральных решени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y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ется многодорожечный, синхронный рекордер различных видов медицинской информации. Рекордер записывает синхронно и параллельно до 4-х потоков медицинской видеоинформации (от видеокамеры операционного светильника, видеокамеры общего вида операционного зала, эндоскопа, и т.д.), до 3-х аудио потоков и до 5-ти потоков данных от медицинских приборов (монитора пациента, станции инфузионной терапии, и т.д.). Цифры приведены для базовой комплектации. Количество каналов записи медицинской информации может быть увеличе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роцессе проведения записи информации хода проведения операции, диагностического или лечебного процессов, любой вид информации может быть передан в медицинскую информационную систему (МИС), госпитальную информационную систему (ГИС), радиологическую информационную систему (РИС) и систем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тандарт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4847-3BFA-43B4-ABFF-FB15651A22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B2C-A9AF-4843-90D9-B15BAA02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033-6507-4CE4-AB5C-89E9846A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7741-FDA4-443A-9244-3DE7E4A8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E792-C380-4087-B80E-5B6BA816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2161-4C44-47EA-99AB-8FEA5864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1FF1-C93E-465E-B13F-A83DDF52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0AF3-F8C9-4F2B-A095-027A4CF5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599-4B93-4B10-AB80-E00AFEFC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EB4-47FB-4D05-8C38-CA0AB5B0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6DF-E794-4CC3-A762-313F1AA7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E15-4AC8-4953-BC17-724E2C29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3B7-BEE7-44E9-8E64-EF9209E4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www.divisy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8585-A235-476A-BCE4-F598261DF8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png"/><Relationship Id="rId7" Type="http://schemas.openxmlformats.org/officeDocument/2006/relationships/image" Target="../media/image16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6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16430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Интегральные решения для медицины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новый инструмен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повышения качества и финансовой эффективности здравоохран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975680" y="5486400"/>
            <a:ext cx="505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зинов Владимир Александрович, к.т.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ViSy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430800" y="624852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ViSy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roup,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1991 –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514240" y="22860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2395"/>
                </a:solidFill>
                <a:latin typeface="Times New Roman"/>
              </a:rPr>
              <a:t>ОБЪЕДИНЯЕМ 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1143000" y="0"/>
            <a:ext cx="80010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Интеграция комплексов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iViSy DOR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с М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C:\Мои документы\EMBL3.BMP"/>
          <p:cNvPicPr/>
          <p:nvPr/>
        </p:nvPicPr>
        <p:blipFill>
          <a:blip r:embed="rId1"/>
          <a:stretch/>
        </p:blipFill>
        <p:spPr>
          <a:xfrm>
            <a:off x="0" y="0"/>
            <a:ext cx="39060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Монитор1.JPG"/>
          <p:cNvPicPr/>
          <p:nvPr/>
        </p:nvPicPr>
        <p:blipFill>
          <a:blip r:embed="rId2"/>
          <a:stretch/>
        </p:blipFill>
        <p:spPr>
          <a:xfrm>
            <a:off x="571680" y="650880"/>
            <a:ext cx="800100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1143000" y="0"/>
            <a:ext cx="80010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Многодорожечный, синхронный, цифровой плеер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iViSy DOR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:\Мои документы\EMBL3.BMP"/>
          <p:cNvPicPr/>
          <p:nvPr/>
        </p:nvPicPr>
        <p:blipFill>
          <a:blip r:embed="rId1"/>
          <a:stretch/>
        </p:blipFill>
        <p:spPr>
          <a:xfrm>
            <a:off x="0" y="0"/>
            <a:ext cx="39060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4.bmp"/>
          <p:cNvPicPr/>
          <p:nvPr/>
        </p:nvPicPr>
        <p:blipFill>
          <a:blip r:embed="rId2"/>
          <a:stretch/>
        </p:blipFill>
        <p:spPr>
          <a:xfrm>
            <a:off x="0" y="642960"/>
            <a:ext cx="914400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3"/>
          <p:cNvSpPr/>
          <p:nvPr/>
        </p:nvSpPr>
        <p:spPr>
          <a:xfrm>
            <a:off x="1143000" y="0"/>
            <a:ext cx="80010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Интерактивное медицинское обучение в клиника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4" descr="C:\Мои документы\EMBL3.BMP"/>
          <p:cNvPicPr/>
          <p:nvPr/>
        </p:nvPicPr>
        <p:blipFill>
          <a:blip r:embed="rId1"/>
          <a:stretch/>
        </p:blipFill>
        <p:spPr>
          <a:xfrm>
            <a:off x="0" y="0"/>
            <a:ext cx="390600" cy="533520"/>
          </a:xfrm>
          <a:prstGeom prst="rect">
            <a:avLst/>
          </a:prstGeom>
          <a:ln w="0">
            <a:noFill/>
          </a:ln>
        </p:spPr>
      </p:pic>
      <p:sp>
        <p:nvSpPr>
          <p:cNvPr id="108" name="Line 15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55" descr="DiViSy DOR дистанционное обучение.jpg"/>
          <p:cNvPicPr/>
          <p:nvPr/>
        </p:nvPicPr>
        <p:blipFill>
          <a:blip r:embed="rId2"/>
          <a:stretch/>
        </p:blipFill>
        <p:spPr>
          <a:xfrm>
            <a:off x="0" y="714240"/>
            <a:ext cx="914400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4"/>
          <p:cNvSpPr/>
          <p:nvPr/>
        </p:nvSpPr>
        <p:spPr>
          <a:xfrm>
            <a:off x="1071720" y="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будущего медицинского учре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Рисунок 15" descr="Модель клиники2.JPG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4" descr=""/>
          <p:cNvPicPr/>
          <p:nvPr/>
        </p:nvPicPr>
        <p:blipFill>
          <a:blip r:embed="rId2"/>
          <a:stretch/>
        </p:blipFill>
        <p:spPr>
          <a:xfrm>
            <a:off x="5357880" y="714240"/>
            <a:ext cx="3610080" cy="117180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6" descr=""/>
          <p:cNvPicPr/>
          <p:nvPr/>
        </p:nvPicPr>
        <p:blipFill>
          <a:blip r:embed="rId3"/>
          <a:stretch/>
        </p:blipFill>
        <p:spPr>
          <a:xfrm>
            <a:off x="214200" y="642960"/>
            <a:ext cx="3035520" cy="1171440"/>
          </a:xfrm>
          <a:prstGeom prst="rect">
            <a:avLst/>
          </a:prstGeom>
          <a:ln w="0">
            <a:noFill/>
          </a:ln>
        </p:spPr>
      </p:pic>
      <p:cxnSp>
        <p:nvCxnSpPr>
          <p:cNvPr id="114" name="Прямая со стрелкой 18"/>
          <p:cNvCxnSpPr/>
          <p:nvPr/>
        </p:nvCxnSpPr>
        <p:spPr>
          <a:xfrm flipV="1">
            <a:off x="6642720" y="1856520"/>
            <a:ext cx="857880" cy="1786680"/>
          </a:xfrm>
          <a:prstGeom prst="straightConnector1">
            <a:avLst/>
          </a:prstGeom>
          <a:ln w="38160">
            <a:solidFill>
              <a:srgbClr val="00cc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Прямая со стрелкой 19"/>
          <p:cNvCxnSpPr/>
          <p:nvPr/>
        </p:nvCxnSpPr>
        <p:spPr>
          <a:xfrm flipH="1" flipV="1">
            <a:off x="1356480" y="1785240"/>
            <a:ext cx="786600" cy="1857960"/>
          </a:xfrm>
          <a:prstGeom prst="straightConnector1">
            <a:avLst/>
          </a:prstGeom>
          <a:ln w="38160">
            <a:solidFill>
              <a:srgbClr val="00cc99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143000" y="0"/>
            <a:ext cx="80010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Интегральное решение для медицинских учрежд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C:\Мои документы\EMBL3.BMP"/>
          <p:cNvPicPr/>
          <p:nvPr/>
        </p:nvPicPr>
        <p:blipFill>
          <a:blip r:embed="rId1"/>
          <a:stretch/>
        </p:blipFill>
        <p:spPr>
          <a:xfrm>
            <a:off x="0" y="0"/>
            <a:ext cx="390600" cy="53352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0" y="928800"/>
            <a:ext cx="914400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ние нового типа медицинского менеджмента организаций направленного на повышение качества медицинской помощ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крытость и подконтрольность всех процессов предостав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дицинско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ание иллюстрированных инструкций, технологических карт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дения процессов оказания медицинской помощ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спектра услуг медицинской помощи, за счет дистанцион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я врачей различных медицинских специальнос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ие качества предоставления медицинской помощи в процесс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ультаций удаленных врачей высокой квалифик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ие финансовой эффективности работы медицинских учреждени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0"/>
          <p:cNvSpPr/>
          <p:nvPr/>
        </p:nvSpPr>
        <p:spPr>
          <a:xfrm>
            <a:off x="1143000" y="0"/>
            <a:ext cx="80010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Новый уровень медицинского менеджмента в клиник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91" descr="C:\Мои документы\EMBL3.BMP"/>
          <p:cNvPicPr/>
          <p:nvPr/>
        </p:nvPicPr>
        <p:blipFill>
          <a:blip r:embed="rId1"/>
          <a:stretch/>
        </p:blipFill>
        <p:spPr>
          <a:xfrm>
            <a:off x="0" y="0"/>
            <a:ext cx="390600" cy="533520"/>
          </a:xfrm>
          <a:prstGeom prst="rect">
            <a:avLst/>
          </a:prstGeom>
          <a:ln w="0">
            <a:noFill/>
          </a:ln>
        </p:spPr>
      </p:pic>
      <p:sp>
        <p:nvSpPr>
          <p:cNvPr id="122" name="Line 92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Рисунок 5" descr="Интегральные решения в клинике.jpg"/>
          <p:cNvPicPr/>
          <p:nvPr/>
        </p:nvPicPr>
        <p:blipFill>
          <a:blip r:embed="rId2"/>
          <a:stretch/>
        </p:blipFill>
        <p:spPr>
          <a:xfrm>
            <a:off x="0" y="576360"/>
            <a:ext cx="914400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143000" y="0"/>
            <a:ext cx="80010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Интегральное решение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ля интраоперационных консульт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C:\Мои документы\EMBL3.BMP"/>
          <p:cNvPicPr/>
          <p:nvPr/>
        </p:nvPicPr>
        <p:blipFill>
          <a:blip r:embed="rId1"/>
          <a:stretch/>
        </p:blipFill>
        <p:spPr>
          <a:xfrm>
            <a:off x="0" y="0"/>
            <a:ext cx="390600" cy="533520"/>
          </a:xfrm>
          <a:prstGeom prst="rect">
            <a:avLst/>
          </a:prstGeom>
          <a:ln w="0">
            <a:noFill/>
          </a:ln>
        </p:spPr>
      </p:pic>
      <p:sp>
        <p:nvSpPr>
          <p:cNvPr id="126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C:\Documents and Settings\Administrator\My Documents\My Pictures\Medicine\Pathomorphology\Telepathology-DOR-Rus.jpg"/>
          <p:cNvPicPr/>
          <p:nvPr/>
        </p:nvPicPr>
        <p:blipFill>
          <a:blip r:embed="rId2"/>
          <a:stretch/>
        </p:blipFill>
        <p:spPr>
          <a:xfrm>
            <a:off x="380880" y="609480"/>
            <a:ext cx="837720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143000" y="0"/>
            <a:ext cx="80010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Интегральное решение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ля реанимации и интенсивной терап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C:\Мои документы\EMBL3.BMP"/>
          <p:cNvPicPr/>
          <p:nvPr/>
        </p:nvPicPr>
        <p:blipFill>
          <a:blip r:embed="rId1"/>
          <a:stretch/>
        </p:blipFill>
        <p:spPr>
          <a:xfrm>
            <a:off x="0" y="0"/>
            <a:ext cx="390600" cy="533520"/>
          </a:xfrm>
          <a:prstGeom prst="rect">
            <a:avLst/>
          </a:prstGeom>
          <a:ln w="0">
            <a:noFill/>
          </a:ln>
        </p:spPr>
      </p:pic>
      <p:sp>
        <p:nvSpPr>
          <p:cNvPr id="130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Рисунок 5" descr="DiViSy DOR реанимация 1.jpg"/>
          <p:cNvPicPr/>
          <p:nvPr/>
        </p:nvPicPr>
        <p:blipFill>
          <a:blip r:embed="rId2"/>
          <a:stretch/>
        </p:blipFill>
        <p:spPr>
          <a:xfrm>
            <a:off x="285840" y="673200"/>
            <a:ext cx="849924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1143000" y="0"/>
            <a:ext cx="80010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Финансовая эффективность внедрения интегральных реш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8" descr="C:\Мои документы\EMBL3.BMP"/>
          <p:cNvPicPr/>
          <p:nvPr/>
        </p:nvPicPr>
        <p:blipFill>
          <a:blip r:embed="rId1"/>
          <a:stretch/>
        </p:blipFill>
        <p:spPr>
          <a:xfrm>
            <a:off x="0" y="0"/>
            <a:ext cx="390600" cy="533520"/>
          </a:xfrm>
          <a:prstGeom prst="rect">
            <a:avLst/>
          </a:prstGeom>
          <a:ln w="0">
            <a:noFill/>
          </a:ln>
        </p:spPr>
      </p:pic>
      <p:sp>
        <p:nvSpPr>
          <p:cNvPr id="134" name="Line 9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0" y="61596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кращение числ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ы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агностик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, леч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хирургическ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ерац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оном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15% от сумм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ществующих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ат н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эти процедур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Сокращ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а повторных госпитализаций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ономия состави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50%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ществующего числ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ых госпитализаци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С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ащения срока содержания больных в стационара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ка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лемедицинских консультаций, так 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сч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вышения эффектив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енения новых медицинских технологий и оборудов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чет повышения профессионального уровня врачей в процессе консульт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еансов интерактивного дистанционного обучения непосредственно в процесс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я диагностики, лечения и хирургического вмешательств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За сч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зации рабочего времени врачей и сокращения непродуктив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чего времени связанного с перемещением врачей, переодеванием и т.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чет оптимизации времени проведения совещаний и инструктаж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чет дополнительных средств, получаемых от производителей медицинск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я, технологий и лекарственных средст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harite_neu"/>
          <p:cNvPicPr/>
          <p:nvPr/>
        </p:nvPicPr>
        <p:blipFill>
          <a:blip r:embed="rId1"/>
          <a:stretch/>
        </p:blipFill>
        <p:spPr>
          <a:xfrm>
            <a:off x="214200" y="714240"/>
            <a:ext cx="1524240" cy="676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Bicubisch_Logo-dot"/>
          <p:cNvPicPr/>
          <p:nvPr/>
        </p:nvPicPr>
        <p:blipFill>
          <a:blip r:embed="rId2"/>
          <a:stretch/>
        </p:blipFill>
        <p:spPr>
          <a:xfrm>
            <a:off x="1857240" y="714240"/>
            <a:ext cx="118116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medical_workstation"/>
          <p:cNvPicPr/>
          <p:nvPr/>
        </p:nvPicPr>
        <p:blipFill>
          <a:blip r:embed="rId3"/>
          <a:stretch/>
        </p:blipFill>
        <p:spPr>
          <a:xfrm>
            <a:off x="357120" y="3643200"/>
            <a:ext cx="2714760" cy="25686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origin instruments head tracker brain"/>
          <p:cNvPicPr/>
          <p:nvPr/>
        </p:nvPicPr>
        <p:blipFill>
          <a:blip r:embed="rId4"/>
          <a:stretch/>
        </p:blipFill>
        <p:spPr>
          <a:xfrm>
            <a:off x="2643120" y="1928880"/>
            <a:ext cx="3664080" cy="23572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8" descr="Cave 3D Brain (Format2)"/>
          <p:cNvPicPr/>
          <p:nvPr/>
        </p:nvPicPr>
        <p:blipFill>
          <a:blip r:embed="rId5"/>
          <a:stretch/>
        </p:blipFill>
        <p:spPr>
          <a:xfrm>
            <a:off x="4572000" y="4286160"/>
            <a:ext cx="4032360" cy="21430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Logo5.bmp"/>
          <p:cNvPicPr/>
          <p:nvPr/>
        </p:nvPicPr>
        <p:blipFill>
          <a:blip r:embed="rId6"/>
          <a:stretch/>
        </p:blipFill>
        <p:spPr>
          <a:xfrm>
            <a:off x="6929280" y="714240"/>
            <a:ext cx="1719360" cy="6685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1143000" y="0"/>
            <a:ext cx="80010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uropean project of physicians workplace at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8" descr="C:\Мои документы\EMBL3.BMP"/>
          <p:cNvPicPr/>
          <p:nvPr/>
        </p:nvPicPr>
        <p:blipFill>
          <a:blip r:embed="rId7"/>
          <a:stretch/>
        </p:blipFill>
        <p:spPr>
          <a:xfrm>
            <a:off x="0" y="0"/>
            <a:ext cx="390600" cy="5335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3" descr="logo Ikegami.gif"/>
          <p:cNvPicPr/>
          <p:nvPr/>
        </p:nvPicPr>
        <p:blipFill>
          <a:blip r:embed="rId8"/>
          <a:stretch/>
        </p:blipFill>
        <p:spPr>
          <a:xfrm>
            <a:off x="3143160" y="714240"/>
            <a:ext cx="1785960" cy="6699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4" descr="logo_header_shc2.gif"/>
          <p:cNvPicPr/>
          <p:nvPr/>
        </p:nvPicPr>
        <p:blipFill>
          <a:blip r:embed="rId9"/>
          <a:stretch/>
        </p:blipFill>
        <p:spPr>
          <a:xfrm>
            <a:off x="5000760" y="785880"/>
            <a:ext cx="17618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accuvix_xq.jpg"/>
          <p:cNvPicPr/>
          <p:nvPr/>
        </p:nvPicPr>
        <p:blipFill>
          <a:blip r:embed="rId1"/>
          <a:stretch/>
        </p:blipFill>
        <p:spPr>
          <a:xfrm>
            <a:off x="642960" y="8571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eus-02.jpg"/>
          <p:cNvPicPr/>
          <p:nvPr/>
        </p:nvPicPr>
        <p:blipFill>
          <a:blip r:embed="rId2"/>
          <a:stretch/>
        </p:blipFill>
        <p:spPr>
          <a:xfrm>
            <a:off x="1857240" y="571680"/>
            <a:ext cx="641520" cy="14144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iled_002_small.jpg"/>
          <p:cNvPicPr/>
          <p:nvPr/>
        </p:nvPicPr>
        <p:blipFill>
          <a:blip r:embed="rId3"/>
          <a:stretch/>
        </p:blipFill>
        <p:spPr>
          <a:xfrm>
            <a:off x="2643120" y="857160"/>
            <a:ext cx="1278000" cy="9702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oms-800_2.jpg"/>
          <p:cNvPicPr/>
          <p:nvPr/>
        </p:nvPicPr>
        <p:blipFill>
          <a:blip r:embed="rId4"/>
          <a:stretch/>
        </p:blipFill>
        <p:spPr>
          <a:xfrm>
            <a:off x="4143240" y="785880"/>
            <a:ext cx="839880" cy="1247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arcadis1.jpg"/>
          <p:cNvPicPr/>
          <p:nvPr/>
        </p:nvPicPr>
        <p:blipFill>
          <a:blip r:embed="rId5"/>
          <a:stretch/>
        </p:blipFill>
        <p:spPr>
          <a:xfrm>
            <a:off x="5143680" y="642960"/>
            <a:ext cx="1244520" cy="14479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Гистлогия2.jpg"/>
          <p:cNvPicPr/>
          <p:nvPr/>
        </p:nvPicPr>
        <p:blipFill>
          <a:blip r:embed="rId6"/>
          <a:stretch/>
        </p:blipFill>
        <p:spPr>
          <a:xfrm>
            <a:off x="6643800" y="928800"/>
            <a:ext cx="1230120" cy="9284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MP40.jpg"/>
          <p:cNvPicPr/>
          <p:nvPr/>
        </p:nvPicPr>
        <p:blipFill>
          <a:blip r:embed="rId7"/>
          <a:stretch/>
        </p:blipFill>
        <p:spPr>
          <a:xfrm>
            <a:off x="642960" y="2857680"/>
            <a:ext cx="120024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8" descr="award6937_lg.jpg"/>
          <p:cNvPicPr/>
          <p:nvPr/>
        </p:nvPicPr>
        <p:blipFill>
          <a:blip r:embed="rId8"/>
          <a:stretch/>
        </p:blipFill>
        <p:spPr>
          <a:xfrm>
            <a:off x="2071800" y="2643120"/>
            <a:ext cx="1160280" cy="154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Space.jpg"/>
          <p:cNvPicPr/>
          <p:nvPr/>
        </p:nvPicPr>
        <p:blipFill>
          <a:blip r:embed="rId9"/>
          <a:stretch/>
        </p:blipFill>
        <p:spPr>
          <a:xfrm>
            <a:off x="3357720" y="2857680"/>
            <a:ext cx="1530360" cy="10792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0" descr="60625.jpg"/>
          <p:cNvPicPr/>
          <p:nvPr/>
        </p:nvPicPr>
        <p:blipFill>
          <a:blip r:embed="rId10"/>
          <a:stretch/>
        </p:blipFill>
        <p:spPr>
          <a:xfrm>
            <a:off x="5072040" y="2571840"/>
            <a:ext cx="1192320" cy="17380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1" descr="hl20full.jpg"/>
          <p:cNvPicPr/>
          <p:nvPr/>
        </p:nvPicPr>
        <p:blipFill>
          <a:blip r:embed="rId11"/>
          <a:stretch/>
        </p:blipFill>
        <p:spPr>
          <a:xfrm>
            <a:off x="6500880" y="2714760"/>
            <a:ext cx="1485720" cy="14382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2" descr="konsol_1-3_big.jpg"/>
          <p:cNvPicPr/>
          <p:nvPr/>
        </p:nvPicPr>
        <p:blipFill>
          <a:blip r:embed="rId12"/>
          <a:stretch/>
        </p:blipFill>
        <p:spPr>
          <a:xfrm>
            <a:off x="714240" y="485784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3" descr="5_2.jpg"/>
          <p:cNvPicPr/>
          <p:nvPr/>
        </p:nvPicPr>
        <p:blipFill>
          <a:blip r:embed="rId13"/>
          <a:stretch/>
        </p:blipFill>
        <p:spPr>
          <a:xfrm>
            <a:off x="2286000" y="4857840"/>
            <a:ext cx="154764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4" descr="GD-xS-mini.jpg"/>
          <p:cNvPicPr/>
          <p:nvPr/>
        </p:nvPicPr>
        <p:blipFill>
          <a:blip r:embed="rId14"/>
          <a:stretch/>
        </p:blipFill>
        <p:spPr>
          <a:xfrm>
            <a:off x="4071960" y="4857840"/>
            <a:ext cx="101448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15"/>
          <p:cNvSpPr/>
          <p:nvPr/>
        </p:nvSpPr>
        <p:spPr>
          <a:xfrm>
            <a:off x="2520360" y="142920"/>
            <a:ext cx="40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ое оборуд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16"/>
          <p:cNvSpPr/>
          <p:nvPr/>
        </p:nvSpPr>
        <p:spPr>
          <a:xfrm>
            <a:off x="2966760" y="214308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приб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3058560" y="442908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женерные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18" descr="5.jpg"/>
          <p:cNvPicPr/>
          <p:nvPr/>
        </p:nvPicPr>
        <p:blipFill>
          <a:blip r:embed="rId15"/>
          <a:stretch/>
        </p:blipFill>
        <p:spPr>
          <a:xfrm>
            <a:off x="5357880" y="48578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3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4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2643120" y="2143080"/>
            <a:ext cx="3786120" cy="3143160"/>
          </a:xfrm>
          <a:prstGeom prst="rect">
            <a:avLst/>
          </a:prstGeom>
          <a:noFill/>
          <a:ln w="5724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Рисунок 2" descr="images1.jpg"/>
          <p:cNvPicPr/>
          <p:nvPr/>
        </p:nvPicPr>
        <p:blipFill>
          <a:blip r:embed="rId1"/>
          <a:stretch/>
        </p:blipFill>
        <p:spPr>
          <a:xfrm>
            <a:off x="857160" y="785880"/>
            <a:ext cx="1041480" cy="10414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3" descr="Endoscop1.jpg"/>
          <p:cNvPicPr/>
          <p:nvPr/>
        </p:nvPicPr>
        <p:blipFill>
          <a:blip r:embed="rId2"/>
          <a:stretch/>
        </p:blipFill>
        <p:spPr>
          <a:xfrm>
            <a:off x="7358040" y="78588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4" descr="b5.bmp"/>
          <p:cNvPicPr/>
          <p:nvPr/>
        </p:nvPicPr>
        <p:blipFill>
          <a:blip r:embed="rId3"/>
          <a:stretch/>
        </p:blipFill>
        <p:spPr>
          <a:xfrm>
            <a:off x="2286000" y="714240"/>
            <a:ext cx="1571760" cy="11224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TM21-OPH1-Engl.bmp"/>
          <p:cNvPicPr/>
          <p:nvPr/>
        </p:nvPicPr>
        <p:blipFill>
          <a:blip r:embed="rId4"/>
          <a:stretch/>
        </p:blipFill>
        <p:spPr>
          <a:xfrm>
            <a:off x="5500800" y="714240"/>
            <a:ext cx="1571400" cy="11322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6" descr="6.bmp"/>
          <p:cNvPicPr/>
          <p:nvPr/>
        </p:nvPicPr>
        <p:blipFill>
          <a:blip r:embed="rId5"/>
          <a:stretch/>
        </p:blipFill>
        <p:spPr>
          <a:xfrm>
            <a:off x="2357280" y="5572080"/>
            <a:ext cx="1500480" cy="10810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7" descr="Гистлогия2.jpg"/>
          <p:cNvPicPr/>
          <p:nvPr/>
        </p:nvPicPr>
        <p:blipFill>
          <a:blip r:embed="rId6"/>
          <a:stretch/>
        </p:blipFill>
        <p:spPr>
          <a:xfrm>
            <a:off x="928800" y="5572080"/>
            <a:ext cx="1325520" cy="10000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8" descr="USI.JPG"/>
          <p:cNvPicPr/>
          <p:nvPr/>
        </p:nvPicPr>
        <p:blipFill>
          <a:blip r:embed="rId7"/>
          <a:stretch/>
        </p:blipFill>
        <p:spPr>
          <a:xfrm>
            <a:off x="7215120" y="5572080"/>
            <a:ext cx="1285920" cy="10317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9" descr="УЗИ2.jpg"/>
          <p:cNvPicPr/>
          <p:nvPr/>
        </p:nvPicPr>
        <p:blipFill>
          <a:blip r:embed="rId8"/>
          <a:stretch/>
        </p:blipFill>
        <p:spPr>
          <a:xfrm>
            <a:off x="5715000" y="5572080"/>
            <a:ext cx="1330200" cy="1000080"/>
          </a:xfrm>
          <a:prstGeom prst="rect">
            <a:avLst/>
          </a:prstGeom>
          <a:ln w="0">
            <a:noFill/>
          </a:ln>
        </p:spPr>
      </p:pic>
      <p:cxnSp>
        <p:nvCxnSpPr>
          <p:cNvPr id="159" name="Прямая со стрелкой 10"/>
          <p:cNvCxnSpPr/>
          <p:nvPr/>
        </p:nvCxnSpPr>
        <p:spPr>
          <a:xfrm>
            <a:off x="5715000" y="4500720"/>
            <a:ext cx="1572480" cy="1000800"/>
          </a:xfrm>
          <a:prstGeom prst="straightConnector1">
            <a:avLst/>
          </a:prstGeom>
          <a:ln w="28440">
            <a:solidFill>
              <a:srgbClr val="3212f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Прямая со стрелкой 11"/>
          <p:cNvCxnSpPr/>
          <p:nvPr/>
        </p:nvCxnSpPr>
        <p:spPr>
          <a:xfrm>
            <a:off x="1714680" y="1856880"/>
            <a:ext cx="1429200" cy="1001160"/>
          </a:xfrm>
          <a:prstGeom prst="straightConnector1">
            <a:avLst/>
          </a:prstGeom>
          <a:ln w="28440">
            <a:solidFill>
              <a:srgbClr val="3212f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Прямая со стрелкой 12"/>
          <p:cNvCxnSpPr/>
          <p:nvPr/>
        </p:nvCxnSpPr>
        <p:spPr>
          <a:xfrm flipV="1">
            <a:off x="1714320" y="4428720"/>
            <a:ext cx="1572120" cy="1000800"/>
          </a:xfrm>
          <a:prstGeom prst="straightConnector1">
            <a:avLst/>
          </a:prstGeom>
          <a:ln w="28440">
            <a:solidFill>
              <a:srgbClr val="3212f4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62" name="Рисунок 20" descr="Пациент и доктор.jpg"/>
          <p:cNvPicPr/>
          <p:nvPr/>
        </p:nvPicPr>
        <p:blipFill>
          <a:blip r:embed="rId9"/>
          <a:stretch/>
        </p:blipFill>
        <p:spPr>
          <a:xfrm>
            <a:off x="3309840" y="2638440"/>
            <a:ext cx="2381400" cy="2009880"/>
          </a:xfrm>
          <a:prstGeom prst="rect">
            <a:avLst/>
          </a:prstGeom>
          <a:ln w="0">
            <a:noFill/>
          </a:ln>
        </p:spPr>
      </p:pic>
      <p:cxnSp>
        <p:nvCxnSpPr>
          <p:cNvPr id="163" name="Прямая со стрелкой 14"/>
          <p:cNvCxnSpPr/>
          <p:nvPr/>
        </p:nvCxnSpPr>
        <p:spPr>
          <a:xfrm flipV="1">
            <a:off x="5715000" y="1785600"/>
            <a:ext cx="1572480" cy="1000800"/>
          </a:xfrm>
          <a:prstGeom prst="straightConnector1">
            <a:avLst/>
          </a:prstGeom>
          <a:ln w="28440">
            <a:solidFill>
              <a:srgbClr val="3212f4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4" name="Rectangle 6"/>
          <p:cNvSpPr/>
          <p:nvPr/>
        </p:nvSpPr>
        <p:spPr>
          <a:xfrm>
            <a:off x="1143000" y="0"/>
            <a:ext cx="80010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Медицина будуще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8" descr="C:\Мои документы\EMBL3.BMP"/>
          <p:cNvPicPr/>
          <p:nvPr/>
        </p:nvPicPr>
        <p:blipFill>
          <a:blip r:embed="rId10"/>
          <a:stretch/>
        </p:blipFill>
        <p:spPr>
          <a:xfrm>
            <a:off x="0" y="0"/>
            <a:ext cx="3906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5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5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5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5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143000" y="0"/>
            <a:ext cx="80010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Интегральные решения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iViSy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для медиц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3" descr="C:\Мои документы\EMBL3.BMP"/>
          <p:cNvPicPr/>
          <p:nvPr/>
        </p:nvPicPr>
        <p:blipFill>
          <a:blip r:embed="rId1"/>
          <a:stretch/>
        </p:blipFill>
        <p:spPr>
          <a:xfrm>
            <a:off x="0" y="0"/>
            <a:ext cx="390600" cy="533520"/>
          </a:xfrm>
          <a:prstGeom prst="rect">
            <a:avLst/>
          </a:prstGeom>
          <a:ln w="0">
            <a:noFill/>
          </a:ln>
        </p:spPr>
      </p:pic>
      <p:sp>
        <p:nvSpPr>
          <p:cNvPr id="169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33520" y="914400"/>
            <a:ext cx="815328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Приглашаю посетить стенды фирм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rumpf 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и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rae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Павильон 2, зал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+7495) 4600212, 46047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Тел./факс: (+7495)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688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ww.divisy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fo@divisy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pport@divisy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143000" y="0"/>
            <a:ext cx="80010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Интегральное решение для операционного зала на базе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iViSy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OR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C:\Мои документы\EMBL3.BMP"/>
          <p:cNvPicPr/>
          <p:nvPr/>
        </p:nvPicPr>
        <p:blipFill>
          <a:blip r:embed="rId1"/>
          <a:stretch/>
        </p:blipFill>
        <p:spPr>
          <a:xfrm>
            <a:off x="0" y="0"/>
            <a:ext cx="390600" cy="5335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Цифровой операционный зал2.jpg"/>
          <p:cNvPicPr/>
          <p:nvPr/>
        </p:nvPicPr>
        <p:blipFill>
          <a:blip r:embed="rId2"/>
          <a:stretch/>
        </p:blipFill>
        <p:spPr>
          <a:xfrm>
            <a:off x="0" y="544680"/>
            <a:ext cx="914400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26"/>
          <p:cNvSpPr/>
          <p:nvPr/>
        </p:nvSpPr>
        <p:spPr>
          <a:xfrm>
            <a:off x="1143000" y="0"/>
            <a:ext cx="80010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Интерфейс пользователя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цифрового операционного з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27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028" descr="C:\Мои документы\EMBL3.BMP"/>
          <p:cNvPicPr/>
          <p:nvPr/>
        </p:nvPicPr>
        <p:blipFill>
          <a:blip r:embed="rId1"/>
          <a:stretch/>
        </p:blipFill>
        <p:spPr>
          <a:xfrm>
            <a:off x="0" y="0"/>
            <a:ext cx="390600" cy="5335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123.JPG"/>
          <p:cNvPicPr/>
          <p:nvPr/>
        </p:nvPicPr>
        <p:blipFill>
          <a:blip r:embed="rId2"/>
          <a:stretch/>
        </p:blipFill>
        <p:spPr>
          <a:xfrm>
            <a:off x="428760" y="642960"/>
            <a:ext cx="82944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26"/>
          <p:cNvSpPr/>
          <p:nvPr/>
        </p:nvSpPr>
        <p:spPr>
          <a:xfrm>
            <a:off x="1143000" y="0"/>
            <a:ext cx="80010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Интегральные решения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ля кабинетов ультразвуковой диагност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027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28" descr="C:\Мои документы\EMBL3.BMP"/>
          <p:cNvPicPr/>
          <p:nvPr/>
        </p:nvPicPr>
        <p:blipFill>
          <a:blip r:embed="rId1"/>
          <a:stretch/>
        </p:blipFill>
        <p:spPr>
          <a:xfrm>
            <a:off x="0" y="0"/>
            <a:ext cx="39060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0912122508.JPG"/>
          <p:cNvPicPr/>
          <p:nvPr/>
        </p:nvPicPr>
        <p:blipFill>
          <a:blip r:embed="rId2"/>
          <a:stretch/>
        </p:blipFill>
        <p:spPr>
          <a:xfrm>
            <a:off x="500040" y="714240"/>
            <a:ext cx="814392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143000" y="0"/>
            <a:ext cx="80010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Интерфейс пользователя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iViSy DOR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ля УЗ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C:\Мои документы\EMBL3.BMP"/>
          <p:cNvPicPr/>
          <p:nvPr/>
        </p:nvPicPr>
        <p:blipFill>
          <a:blip r:embed="rId1"/>
          <a:stretch/>
        </p:blipFill>
        <p:spPr>
          <a:xfrm>
            <a:off x="0" y="0"/>
            <a:ext cx="390600" cy="533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Documents and Settings\Administrator\My Documents\My Pictures\Medicine\Screens\Screens for TM21-Engl\TM21-4.bmp"/>
          <p:cNvPicPr/>
          <p:nvPr/>
        </p:nvPicPr>
        <p:blipFill>
          <a:blip r:embed="rId2"/>
          <a:stretch/>
        </p:blipFill>
        <p:spPr>
          <a:xfrm>
            <a:off x="533520" y="609480"/>
            <a:ext cx="82296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1143000" y="0"/>
            <a:ext cx="80010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Взаим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iViSy DOR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 МИС и системами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A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" descr="C:\Мои документы\EMBL3.BMP"/>
          <p:cNvPicPr/>
          <p:nvPr/>
        </p:nvPicPr>
        <p:blipFill>
          <a:blip r:embed="rId1"/>
          <a:stretch/>
        </p:blipFill>
        <p:spPr>
          <a:xfrm>
            <a:off x="0" y="0"/>
            <a:ext cx="39060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C:\Documents and Settings\Administrator\My Documents\My Pictures\Medicine\MedScreens\Screen for TM21 Dicom\TM21-7.bmp"/>
          <p:cNvPicPr/>
          <p:nvPr/>
        </p:nvPicPr>
        <p:blipFill>
          <a:blip r:embed="rId2"/>
          <a:stretch/>
        </p:blipFill>
        <p:spPr>
          <a:xfrm>
            <a:off x="533520" y="609480"/>
            <a:ext cx="839124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K:\b6.bmp"/>
          <p:cNvPicPr/>
          <p:nvPr/>
        </p:nvPicPr>
        <p:blipFill>
          <a:blip r:embed="rId1"/>
          <a:stretch/>
        </p:blipFill>
        <p:spPr>
          <a:xfrm>
            <a:off x="304920" y="750960"/>
            <a:ext cx="8534160" cy="6107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1143000" y="0"/>
            <a:ext cx="80010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Взаим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iViSy DOR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 МИС и системами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A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C:\Мои документы\EMBL3.BMP"/>
          <p:cNvPicPr/>
          <p:nvPr/>
        </p:nvPicPr>
        <p:blipFill>
          <a:blip r:embed="rId2"/>
          <a:stretch/>
        </p:blipFill>
        <p:spPr>
          <a:xfrm>
            <a:off x="0" y="0"/>
            <a:ext cx="3906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1143000" y="0"/>
            <a:ext cx="80010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Многодорожечный, синхронный, цифровой рекордер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iViSy DOR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C:\Мои документы\EMBL3.BMP"/>
          <p:cNvPicPr/>
          <p:nvPr/>
        </p:nvPicPr>
        <p:blipFill>
          <a:blip r:embed="rId1"/>
          <a:stretch/>
        </p:blipFill>
        <p:spPr>
          <a:xfrm>
            <a:off x="0" y="0"/>
            <a:ext cx="3906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5.JPG"/>
          <p:cNvPicPr/>
          <p:nvPr/>
        </p:nvPicPr>
        <p:blipFill>
          <a:blip r:embed="rId2"/>
          <a:stretch/>
        </p:blipFill>
        <p:spPr>
          <a:xfrm>
            <a:off x="214200" y="633240"/>
            <a:ext cx="86360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1:58:24Z</dcterms:created>
  <dc:creator>12</dc:creator>
  <dc:description/>
  <dc:language>en-US</dc:language>
  <cp:lastModifiedBy>Dr. V. Kazinov</cp:lastModifiedBy>
  <dcterms:modified xsi:type="dcterms:W3CDTF">2009-12-10T09:22:31Z</dcterms:modified>
  <cp:revision>402</cp:revision>
  <dc:subject/>
  <dc:title>Презентация PowerPoint</dc:title>
</cp:coreProperties>
</file>