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CLAP.WAV" ContentType="audio/x-wav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0196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11160" y="7333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893880" y="4642920"/>
            <a:ext cx="4921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9066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01960" y="9284760"/>
            <a:ext cx="29066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1B36-690D-4FC7-BF36-88F177DC78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01960" y="9284760"/>
            <a:ext cx="29066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0B5B-3CFC-42F7-B546-3480E0B978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284760"/>
            <a:ext cx="290664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1960" y="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867200" cy="3651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93880" y="4642920"/>
            <a:ext cx="49212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320-7D03-4418-A64D-4757B66A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018-1CCD-4081-8B1C-2DD1DB90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27F-4B39-4E55-BF4E-0463DEA5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BE4-F35F-4DF9-A0A1-C48E0FFF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C71E-C34E-4CD7-8252-AC21BD87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05CE-0C12-4E6B-89E4-418A963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85D-4AA3-4E6E-912F-C0496BC3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3FBB-75B5-4E1B-AA5C-107C997F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CB1E-28C0-428B-AB1F-4DB2EBAF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EE26-B57F-469A-93D4-A5C2E85A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B4A9-3245-42AB-BE87-00C6831F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E99-D17A-455E-BACD-D66C14A8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BBFD-1BE8-4C08-B43A-AB27B62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1D33-6CC8-46F7-BBEC-BF3F2667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002F-910A-4C92-8608-FECD34C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16A1-1D41-4F13-BBD3-9179B364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B846-0EB1-4413-A7E0-31C878E5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1A1-50F0-4AA0-8DCE-9E6842A4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5121-CAB5-4A00-8024-AFD3579D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348-9B57-4B61-9683-96FA81D0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A2A-C011-434F-8ACF-06D3AD26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5741-DEF7-4315-9421-A804292B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532-FFF2-493F-9C18-E08884F5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0693-53BF-409E-85C3-7FC8443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6C89-20E9-4EF6-8254-C7CDCE99C0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5E5A-4F9D-428E-BBB2-AD50AE070A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0.xml"/><Relationship Id="rId11" Type="http://schemas.openxmlformats.org/officeDocument/2006/relationships/audio" Target="../media/WHOOSH.WAV"/><Relationship Id="rId12" Type="http://schemas.openxmlformats.org/officeDocument/2006/relationships/audio" Target="../media/CLAP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400" spc="-1" strike="noStrike">
                <a:solidFill>
                  <a:srgbClr val="feec94"/>
                </a:solidFill>
                <a:latin typeface="Arial"/>
              </a:rPr>
              <a:t>А нужна ли вообще информатизация нашему здравоохранению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2280" y="4149360"/>
            <a:ext cx="87631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28520" y="3236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Участковые терапевты.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ециалис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791480" cy="16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авляют пациента на обследовани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елях профилакти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роведении  диспансеризации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365720"/>
            <a:ext cx="87422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итоге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варительное компьютерное заключ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рта доврачебного обслед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авление на доп. исследова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дварительные компьютерные заключения по типу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583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ь патологии: по 20-ти основным профилям (онкология, кардиология, гастроэнтерология, нефрология и др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ровень тревог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От «Изменения не выявлены»   (отсутствие уровня тревог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До «Особое внимание» (высокий уровень тревог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езультат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начительное повышение выявляемости заболеваемости заболеваний до уровня контрольных обследований (т.е. в 2-5 раз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базы данных за весь период наблюд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ный контроль за качеством работы врачей: исключение «потерь» диагнозов, контроль полноты использования «настораживающей» информации, контроль своевременности проведения лечебно-профилактических мероприят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тимизация программы обследования и загрузки персон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ъективный анализ уровня и структуры заболеваем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еличение зарплаты медперсон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93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Эффективность компьютерного обследования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1219320"/>
          <a:ext cx="9067320" cy="5529240"/>
        </p:xfrm>
        <a:graphic>
          <a:graphicData uri="http://schemas.openxmlformats.org/drawingml/2006/table">
            <a:tbl>
              <a:tblPr/>
              <a:tblGrid>
                <a:gridCol w="3223080"/>
                <a:gridCol w="1586520"/>
                <a:gridCol w="1319040"/>
                <a:gridCol w="1490040"/>
                <a:gridCol w="144864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боле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следо-вание группой экспер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радици-онное обследо-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истема «Скрининг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номо-ментный скринин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инами-ческий контро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ердечно-сосудист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щеварительн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ронхолегочн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очевыделительной систем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лавный вывод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филактика и раннее выявление заболеваний – не обуза, а очень выгодное направление деятель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ужны ли кому-нибудь эти результат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изводству?     Не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рмии?                 Не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УЗам?                 Не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ому конкретно качество НЕ НУЖ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3040" y="409680"/>
            <a:ext cx="7510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9-й выпуск Катало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42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84 фирм-разработчик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3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10280" y="1731960"/>
            <a:ext cx="324936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404640"/>
          <a:ext cx="9144000" cy="6597720"/>
        </p:xfrm>
        <a:graphic>
          <a:graphicData uri="http://schemas.openxmlformats.org/drawingml/2006/table">
            <a:tbl>
              <a:tblPr/>
              <a:tblGrid>
                <a:gridCol w="7308720"/>
                <a:gridCol w="936720"/>
                <a:gridCol w="89856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Раздел каталога по рубрикатор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 сист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ы комплексной компьютеризации медицинских учрежд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сследование, диагностика, профилакт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6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рганизационно-экономическая деятельность медицинских учрежд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правление здравоохранением, состояние здоровья населения, социально-гигиенический мониторинг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армация, аптека, фармаколог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редства обучения аттестации, электронные атласы, издания и библиотеки, переводчи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ы искусственного интеллекта (экспертные системы, системы поддержки принятия решений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истемы обработки данных и изображ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Телемедицина, Интернет-медиц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сего систем в каталог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4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%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79280" y="836640"/>
          <a:ext cx="896472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964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шт.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ы стоим перед альтернативой -   цел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 здравоохранении: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v.1                             v.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ая цель: информати-зация статистики и системы взаиморасче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ьютеры – «кассовые аппараты»,  калькуляторы и пишущие машин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чечная компью-теризация на усмотрение руководи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минирование бумажных носител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27280" y="1557000"/>
            <a:ext cx="471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Главная цель: сокращение числа врачебных и управленческих ошиб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Анализ эффективности (в т.ч. финансовой) проводимых мероприятий (напр., диспансеризации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еход к статистике, основанной на анализе искл. первичных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ереход к ЭДО и ведению ЭИ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ким образом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К используется в качестве пишущих машинок или не используется вообще (большинство их этих ПК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tium III, 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Это почти в 4 (!) раза больше числа медицинских АР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олю менее 8% персонала приходится более 80% вычислительных ресурсов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временное состояние парка компьютерных систе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биться качества без использования специализированных систем невозможн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2997000"/>
            <a:ext cx="896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 одна фирма не в состоянии создать всю линейку специализированных систем (АРМов): лабораторные системы, системы функциональной диагностики, системы обработки изображений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дна из главных проблем – обеспечение интероперабельности (информационной совместимости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е технологии информационной совместимости между системами ЛПУ, интегрирующими информацию (руководители, статистика) с  компьютерными регистрами ОМС и с системами первичного сбора данных (системами «датчиками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ведение уникального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ациентов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акторы, сдерживающие компьютеризацию медицинских учреждений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197000"/>
          <a:ext cx="9144000" cy="5660640"/>
        </p:xfrm>
        <a:graphic>
          <a:graphicData uri="http://schemas.openxmlformats.org/drawingml/2006/table">
            <a:tbl>
              <a:tblPr/>
              <a:tblGrid>
                <a:gridCol w="6156360"/>
                <a:gridCol w="1800360"/>
                <a:gridCol w="11872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ий балл по 10-ти бал-льной шка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йтинг факто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Отсутствие гос. политики в сфере И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47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Отсутствие у медучреждения денежных средст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сутствие документов, регламентирующих статус электронных документов и ЭЦП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определенность экономической и др. выгоды от использования ИК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ертность персонала, нежелание менять привычную форму работ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достаточность знаний и навыков по ИКТ у работников медучреж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рганы управления здравоохранением совместно с профессиональным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-сообществом должны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аботать критерии оценки качества работы медицинских организаций по всем аспектам их деятельности (исследования, диагностика, лечение, профилактика),  основанные на компьютерной обработке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ть инфраструктуру, обеспечивающую возможность поэтапного перехода к представлению и использованию ВСЕЙ информации, циркулирующей в системе здравоохранения, в электронном вид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497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сутствует концепция и законодательство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 концепция и план компьютеризации здравоохранения. Главный врач самостоятельно вынужден решать вопрос: что и как компьютеризиров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сутствует законодательная база в сфере медицинских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ни одного документа с 2002 г. (!!!). Приказ МЗСР РФ  от 16.10.2006  №713 «Об утверждении принципов создания единой информационной системы в сфере здравоохранения и соц. развития» носит абсолютно декларативный характ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пределен статус электронных документов и т.д. Абсолютное большинство руководителей медучреждений не согласится вести документооборот в двух вариантах: бумажном и электрон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тсутствует нормативная поддерж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09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разбериха со статусо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службы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уют типовые документы по ВСЕМ аспектам использования ИКТ в ЛПУ (должностные инструкции, регламенты, права доступа и т.д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резолюцию Круглого стол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ка концепция и плана компьютеризации здравоохранения на период 2010-2012 г.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едение системы электронного документооборо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законодательной и нормативной база в сфере медицинских ИКТ; в первую очередь – документов, определяющих статус электронных документов в системе здравоохра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типового положения о ИКТ-службе ЛП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ведение уникального идентификатора граждани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резолюцию Круглого стол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рганизация последипломного образования и повышения квалификации медиков – в первую очередь руководителей - в сфере ИК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здание экспертного совета Росздравнадзора по использованию ИКТ в здравоо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работать критерии оценки качества работы медицинских организаций по всем аспектам их деятельности,  основанные на компьютерной обработке да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еспечить контроль за гласностью и прозрачностью системы подготовки и проведения конкурсов, тендеров и т.д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а 1-м месте должно стоять сокращение числа врачебных ошибок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507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квидация проблемы безобразного почер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ение возможности потерь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всей имеющейся диагностической информ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лючение возможности «неиспользования» важных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роль за работой медперсонала и т.д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Благодарю за внима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Желающие принять участие в мероприятиях Ассоциации и (или) регулярно получать информацию о событиях в мире медицинских 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– обращайтесь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7138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мпьютеризация должна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997360"/>
            <a:ext cx="8280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мочь хорошему врач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щитить пациента от плохого врач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277560"/>
            <a:ext cx="856908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ез компьютерных систем невозможно обойтись в первую очередь там, где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781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е потоки пациентов (например, лабораторные исследован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е объемы информации (системы работы с изображениям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возможно обеспечить качество традиционными средствами (скрининг, диспансеризация) - 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лавные проблем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сутствует потребность в качестве (нет заказа на качество медпомощи со стороны государств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сутствуют критерии оценки каче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64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-2009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ценка участниками посещаемост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0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чиновниками – 3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0)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ллов (самая низкая из всех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акой официальной реакции Минздравсоцразвития Р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ого из руководства институтов, занимающихся организацией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дин из примеров - диспансеризац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ференция «Медицина и качество – 2008»: отчет о выполненных мероприятиях и израсходованных средствах, но не о реальных результат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зультаты использования Информационно-диагностической систем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КРИНИНГ-ПРОФИЛАКТИКА» (ВНИИМП совм. С НИИ ГдиП, план ГКНТ СССР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77240" y="30240"/>
            <a:ext cx="485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ршрут обследования паци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558720" y="2825640"/>
            <a:ext cx="2413080" cy="98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Участковы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терапевт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Специалис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558720" y="920880"/>
            <a:ext cx="2413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Анамне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rId3" action="ppaction://hlinksldjump"/>
          </p:cNvPr>
          <p:cNvSpPr/>
          <p:nvPr/>
        </p:nvSpPr>
        <p:spPr>
          <a:xfrm>
            <a:off x="3657600" y="914400"/>
            <a:ext cx="2133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Флюорограф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4" action="ppaction://hlinksldjump"/>
          </p:cNvPr>
          <p:cNvSpPr/>
          <p:nvPr/>
        </p:nvSpPr>
        <p:spPr>
          <a:xfrm>
            <a:off x="6400800" y="914400"/>
            <a:ext cx="213372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Стоматоло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>
            <a:hlinkClick r:id="rId5" action="ppaction://hlinksldjump"/>
          </p:cNvPr>
          <p:cNvSpPr/>
          <p:nvPr/>
        </p:nvSpPr>
        <p:spPr>
          <a:xfrm>
            <a:off x="6477120" y="2971800"/>
            <a:ext cx="2133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Смотр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кабине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rId6" action="ppaction://hlinksldjump"/>
          </p:cNvPr>
          <p:cNvSpPr/>
          <p:nvPr/>
        </p:nvSpPr>
        <p:spPr>
          <a:xfrm>
            <a:off x="6477120" y="4921200"/>
            <a:ext cx="21333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ЭК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7" action="ppaction://hlinksldjump"/>
          </p:cNvPr>
          <p:cNvSpPr/>
          <p:nvPr/>
        </p:nvSpPr>
        <p:spPr>
          <a:xfrm>
            <a:off x="558720" y="4921200"/>
            <a:ext cx="24130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Функциональ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исслед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>
            <a:hlinkClick r:id="rId8" action="ppaction://hlinksldjump"/>
          </p:cNvPr>
          <p:cNvSpPr/>
          <p:nvPr/>
        </p:nvSpPr>
        <p:spPr>
          <a:xfrm>
            <a:off x="3581280" y="6032520"/>
            <a:ext cx="2438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Заведующ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отделени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9" action="ppaction://hlinksldjump"/>
          </p:cNvPr>
          <p:cNvSpPr/>
          <p:nvPr/>
        </p:nvSpPr>
        <p:spPr>
          <a:xfrm>
            <a:off x="3505320" y="2819520"/>
            <a:ext cx="2514600" cy="10666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Банк данны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Администрато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12408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924200" y="1981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2952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0120" y="41148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3885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6320" y="33526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2952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971440" y="533412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4240" y="29718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095880" y="533412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>
            <a:hlinkClick r:id="rId10" action="ppaction://hlinksldjump"/>
          </p:cNvPr>
          <p:cNvSpPr/>
          <p:nvPr/>
        </p:nvSpPr>
        <p:spPr>
          <a:xfrm>
            <a:off x="3505320" y="4800600"/>
            <a:ext cx="25146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Лаборатор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bb5f03"/>
                </a:solidFill>
                <a:latin typeface="Times New Roman"/>
              </a:rPr>
              <a:t>исслед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43800" y="205740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85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9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09-12-10T05:36:57Z</dcterms:modified>
  <cp:revision>441</cp:revision>
  <dc:subject/>
  <dc:title>PowerPoint Presentation</dc:title>
</cp:coreProperties>
</file>