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1964880" y="69480"/>
            <a:ext cx="3003480" cy="275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74160" y="8965800"/>
            <a:ext cx="1320840" cy="214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A62FFF-0C7B-4330-803D-D41FFD42ADF9}" type="datetime5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2035080" y="8965800"/>
            <a:ext cx="3005280" cy="214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6195600" y="8967600"/>
            <a:ext cx="684360" cy="214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80E5FE-4B1F-48EE-9D10-1C5A7AC4E71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74520" y="8966160"/>
            <a:ext cx="13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2B8F0F-3133-4610-9A38-AB685D1A5729}" type="datetime5">
              <a:rPr b="0" lang="en-US" sz="8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035080" y="8966160"/>
            <a:ext cx="300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626FC6-5E7C-46A4-8CB6-0CE9A33025A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52A5B4-9262-489C-B409-98D99AFDB2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2A71AC-5FBD-4D35-BC67-6EE5B58B0FC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74520" y="8966160"/>
            <a:ext cx="13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1EDEFB-4E33-4E03-AB5D-5074D60F3B64}" type="datetime5">
              <a:rPr b="0" lang="en-US" sz="8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2035080" y="8966160"/>
            <a:ext cx="300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6F93E3-98FD-45D9-94B9-08264F6D640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9CD4B1-10D1-4DA2-9692-631A9A51E93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Date Placeholder 3"/>
          <p:cNvSpPr/>
          <p:nvPr/>
        </p:nvSpPr>
        <p:spPr>
          <a:xfrm>
            <a:off x="74520" y="8966160"/>
            <a:ext cx="13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FF10DE-F711-48FC-9B45-19AE06FFEC51}" type="datetime5">
              <a:rPr b="0" lang="en-US" sz="8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035080" y="8966160"/>
            <a:ext cx="300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736EFF5-29C9-4AD3-B514-AD23B66FBE0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74520" y="8966160"/>
            <a:ext cx="13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B69AC1-4451-462D-B12B-D028EC46DE18}" type="datetime5">
              <a:rPr b="0" lang="en-US" sz="8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035080" y="8966160"/>
            <a:ext cx="300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9FB15D-3CDE-496D-A05B-91098DF3C7A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9"/>
          <p:cNvSpPr/>
          <p:nvPr/>
        </p:nvSpPr>
        <p:spPr>
          <a:xfrm>
            <a:off x="74520" y="8966160"/>
            <a:ext cx="13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CF1AE2-BE36-4D98-8F79-B407682191B9}" type="datetime5">
              <a:rPr b="0" lang="en-US" sz="8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2035080" y="8966160"/>
            <a:ext cx="300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C8B9816-ED6D-4FBD-845C-F17245A8799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9"/>
          <p:cNvSpPr/>
          <p:nvPr/>
        </p:nvSpPr>
        <p:spPr>
          <a:xfrm>
            <a:off x="74520" y="8966160"/>
            <a:ext cx="13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B8EDAA-9840-432F-A53B-B2422485AD80}" type="datetime5">
              <a:rPr b="0" lang="en-US" sz="8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2035080" y="8966160"/>
            <a:ext cx="300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AA71C8-CA79-4751-BF62-6A29A4F1C2A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2CF8DB-0D9B-4B5B-A38F-61CE6D2B7E5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9"/>
          <p:cNvSpPr/>
          <p:nvPr/>
        </p:nvSpPr>
        <p:spPr>
          <a:xfrm>
            <a:off x="74520" y="8966160"/>
            <a:ext cx="13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7E587F-81E5-4DFE-A46E-5CB66092E2B8}" type="datetime5">
              <a:rPr b="0" lang="en-US" sz="8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2035080" y="8966160"/>
            <a:ext cx="300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0CF169-D24D-4E79-BDCC-F402F48720E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74520" y="8966160"/>
            <a:ext cx="13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590AB6-528B-47FA-9907-DFC8181C2232}" type="datetime5">
              <a:rPr b="0" lang="en-US" sz="8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2035080" y="8966160"/>
            <a:ext cx="300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AE9BA9-89CC-4CCA-8121-630DF4E7DB0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B997EA-E761-4817-B382-054082871A3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15ED54-15B5-48DC-8645-A7278861889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195960" y="8967960"/>
            <a:ext cx="684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sp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B7A561-3F20-4E45-BE18-AA6D0E6BE22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7206-41D9-4E1C-8954-75029B7E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8521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116520"/>
            <a:ext cx="8521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A056-4EAC-47A8-AB3C-B9F18876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36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CCFC-AB9C-495C-9607-6B02DBEE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920" y="122868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000" y="122868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11652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920" y="311652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000" y="311652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34F8-3D4D-4267-A45C-D4C8D83E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73E90-8066-4052-A168-BE3ABF55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228680"/>
            <a:ext cx="852156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9A40F-EA6F-4A36-9330-48262BEB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85215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2F3E6-F718-49AB-A783-CDD61311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85370-53DB-4CE5-A255-FE226F15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4881A-97CC-4003-ADA1-A3035F61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1000" y="339120"/>
            <a:ext cx="8481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2C5EC-5A4D-4B24-887E-A73280C6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7527E-79CA-4635-A67A-FB3FD23D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28680"/>
            <a:ext cx="852156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1BAB-4B39-4438-940B-9CA036B7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36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E57C1-1864-4A45-97C5-627CEE5C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16520"/>
            <a:ext cx="8521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5B557-110E-4F5F-9B41-4224F43B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8521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116520"/>
            <a:ext cx="8521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D259F-88BB-493D-A24E-8BD18F87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36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1C2FE-F678-4208-8EB9-5945FB3D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7920" y="122868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000" y="122868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11652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7920" y="311652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000" y="311652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16870-637F-4B27-B626-41F70313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4357B5-F117-4F1A-A775-E6FE3A9E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228680"/>
            <a:ext cx="852156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B1A51-156D-4611-B78A-0A4EA879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85215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82E72-C374-4898-AB8D-47F203F7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13F280-69C7-4A50-9BD4-4AC9FC38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93A637-C574-4900-AF38-9BDCF091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85215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B1E0-5262-48AB-9567-806269DA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1000" y="339120"/>
            <a:ext cx="8481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AE57A-CECC-4347-95CE-7D36599A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42FEF-8682-4370-8BBD-954CC5FE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236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5E9AAA-18E4-470E-B88C-90F3B3C1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116520"/>
            <a:ext cx="8521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A5A27-94F1-4E48-9EAB-4272D7C7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8521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116520"/>
            <a:ext cx="8521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31D8C-61EE-4F2F-84D4-AB434AA3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236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B03CEE-83F8-4A4C-9F7E-9B80EFCE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7920" y="122868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19000" y="122868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11652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7920" y="311652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19000" y="3116520"/>
            <a:ext cx="2743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FA502-A99D-41EC-A39C-F5262D97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90CC-0464-4F1A-9D72-FF700CDB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4548-563F-4CA8-A158-BF816059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1000" y="339120"/>
            <a:ext cx="8481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6E62-816A-4CCF-8CBD-567EC82C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A747-0814-4270-BF5F-A8015FA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3640" y="311652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C6F7-2BA5-42E6-8AAE-18240FF1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3640" y="1228680"/>
            <a:ext cx="41583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116520"/>
            <a:ext cx="8521560" cy="17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AAF8-EBA3-4590-AD50-933D088D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28680"/>
            <a:ext cx="85215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7160" indent="-227160">
              <a:spcBef>
                <a:spcPts val="700"/>
              </a:spcBef>
              <a:buClr>
                <a:srgbClr val="525759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700"/>
              </a:spcBef>
              <a:buClr>
                <a:srgbClr val="52575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2" marL="581040" indent="-125280">
              <a:spcBef>
                <a:spcPts val="700"/>
              </a:spcBef>
              <a:buClr>
                <a:srgbClr val="525759"/>
              </a:buClr>
              <a:buSzPct val="80000"/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3" marL="744480" indent="-162000">
              <a:spcBef>
                <a:spcPts val="700"/>
              </a:spcBef>
              <a:buClr>
                <a:srgbClr val="525759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4" marL="914400" indent="-168120">
              <a:spcBef>
                <a:spcPts val="700"/>
              </a:spcBef>
              <a:buClr>
                <a:srgbClr val="525759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5" marL="914400" indent="-168120"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6" marL="914400" indent="-168120"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2240" y="6483240"/>
            <a:ext cx="316080" cy="21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EAE2-142E-4621-8B4B-CA5B3C8F4693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3216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514476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3C3D-BC12-4BDF-AA52-A7FF9B68D0C8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228320"/>
            <a:ext cx="8521560" cy="260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marL="3394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olexRegularItal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SolexRegularItalic"/>
            </a:endParaRPr>
          </a:p>
          <a:p>
            <a:pPr lvl="1" marL="339480" indent="-339480">
              <a:spcBef>
                <a:spcPts val="499"/>
              </a:spcBef>
              <a:buClr>
                <a:srgbClr val="525759"/>
              </a:buClr>
              <a:buSzPct val="80000"/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olexRegularItal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olexRegularItalic"/>
            </a:endParaRPr>
          </a:p>
          <a:p>
            <a:pPr lvl="2" marL="339480" indent="-339480">
              <a:spcBef>
                <a:spcPts val="499"/>
              </a:spcBef>
              <a:buClr>
                <a:srgbClr val="525759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olexRegularItal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olexRegularItalic"/>
            </a:endParaRPr>
          </a:p>
          <a:p>
            <a:pPr lvl="3" marL="339480" indent="-339480">
              <a:spcBef>
                <a:spcPts val="499"/>
              </a:spcBef>
              <a:buClr>
                <a:srgbClr val="525759"/>
              </a:buClr>
              <a:buSzPct val="80000"/>
              <a:buFont typeface="Arial Narrow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olexRegularItal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olexRegularItalic"/>
            </a:endParaRPr>
          </a:p>
          <a:p>
            <a:pPr lvl="4" marL="339480" indent="-339480">
              <a:spcBef>
                <a:spcPts val="499"/>
              </a:spcBef>
              <a:buClr>
                <a:srgbClr val="525759"/>
              </a:buClr>
              <a:buSzPct val="8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olexRegularItal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olexRegularItalic"/>
            </a:endParaRPr>
          </a:p>
          <a:p>
            <a:pPr lvl="5"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olexRegularItal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olexRegularItalic"/>
            </a:endParaRPr>
          </a:p>
          <a:p>
            <a:pPr lvl="6" marL="339480" indent="-3394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olexRegularItal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olexRegularItal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742240" y="6483240"/>
            <a:ext cx="316080" cy="21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BA0C-A5F1-475F-A108-3838AC1C4F16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3216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514476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C7E1-D0F5-4B93-9292-3F2DF1C28806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1000" y="339120"/>
            <a:ext cx="8481960" cy="520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228680"/>
            <a:ext cx="8521560" cy="361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7160" indent="-227160">
              <a:spcBef>
                <a:spcPts val="700"/>
              </a:spcBef>
              <a:buClr>
                <a:srgbClr val="525759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700"/>
              </a:spcBef>
              <a:buClr>
                <a:srgbClr val="52575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2" marL="581040" indent="-125280">
              <a:spcBef>
                <a:spcPts val="700"/>
              </a:spcBef>
              <a:buClr>
                <a:srgbClr val="525759"/>
              </a:buClr>
              <a:buSzPct val="80000"/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3" marL="744480" indent="-162000">
              <a:spcBef>
                <a:spcPts val="700"/>
              </a:spcBef>
              <a:buClr>
                <a:srgbClr val="525759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4" marL="914400" indent="-168120">
              <a:spcBef>
                <a:spcPts val="700"/>
              </a:spcBef>
              <a:buClr>
                <a:srgbClr val="525759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5" marL="914400" indent="-168120"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6" marL="914400" indent="-168120"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75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8755200" y="6483240"/>
            <a:ext cx="303120" cy="21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C284-555D-4BAA-A82F-8061B85BE7ED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8"/>
          </p:nvPr>
        </p:nvSpPr>
        <p:spPr>
          <a:xfrm>
            <a:off x="514476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4311-4470-4577-81AF-D7BAED0B713D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603216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3960" y="193680"/>
            <a:ext cx="8174160" cy="48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olexBold"/>
              </a:rPr>
              <a:t>Mobile Health Applications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95280" y="2896920"/>
            <a:ext cx="6006960" cy="238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olexRegularItalic"/>
              </a:rPr>
              <a:t>Bruce Satchwe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olexRegularItalic"/>
              </a:rPr>
              <a:t>CEO </a:t>
            </a:r>
            <a:endParaRPr b="0" lang="en-US" sz="3600" spc="-1" strike="noStrike">
              <a:solidFill>
                <a:srgbClr val="52575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olexRegularItalic"/>
              </a:rPr>
              <a:t>Alive Technologies</a:t>
            </a:r>
            <a:endParaRPr b="0" lang="en-US" sz="3600" spc="-1" strike="noStrike">
              <a:solidFill>
                <a:srgbClr val="525759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RegularItalic"/>
              </a:rPr>
              <a:t>Hong Kong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olexRegularItalic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SolexRegularItalic"/>
              </a:rPr>
              <a:t> March 2011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755200" y="648324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7D34-6B7A-466E-B1ED-72C40FB05CCD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4512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8196-3558-44DF-BB51-6D11EF7168EF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603252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live Techn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live02_r1_c4.jpg"/>
          <p:cNvPicPr/>
          <p:nvPr/>
        </p:nvPicPr>
        <p:blipFill>
          <a:blip r:embed="rId2"/>
          <a:stretch/>
        </p:blipFill>
        <p:spPr>
          <a:xfrm>
            <a:off x="0" y="1460520"/>
            <a:ext cx="9144000" cy="120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liveTech3.gif"/>
          <p:cNvPicPr/>
          <p:nvPr/>
        </p:nvPicPr>
        <p:blipFill>
          <a:blip r:embed="rId3"/>
          <a:stretch/>
        </p:blipFill>
        <p:spPr>
          <a:xfrm>
            <a:off x="7174080" y="4210200"/>
            <a:ext cx="1596960" cy="156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CardioMobileC1080x805.png"/>
          <p:cNvPicPr/>
          <p:nvPr/>
        </p:nvPicPr>
        <p:blipFill>
          <a:blip r:embed="rId2"/>
          <a:stretch/>
        </p:blipFill>
        <p:spPr>
          <a:xfrm>
            <a:off x="847800" y="934920"/>
            <a:ext cx="7097760" cy="52898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735120" y="0"/>
            <a:ext cx="791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Cardio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Remote Exercise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Presentations\ScreenshotD800x600.png"/>
          <p:cNvPicPr/>
          <p:nvPr/>
        </p:nvPicPr>
        <p:blipFill>
          <a:blip r:embed="rId2"/>
          <a:stretch/>
        </p:blipFill>
        <p:spPr>
          <a:xfrm>
            <a:off x="820800" y="932040"/>
            <a:ext cx="6959520" cy="52196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0" y="0"/>
            <a:ext cx="83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Alive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Sports Performance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4362480" y="636732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alivespor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1000" y="339480"/>
            <a:ext cx="8481960" cy="52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USE CASE – CARDIAC DISEASE MANAGEMENT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228680"/>
            <a:ext cx="8521560" cy="570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s multiple sensors to assist patient to better manage their disease in partnership with their health care providers.</a:t>
            </a:r>
            <a:endParaRPr b="0" lang="en-US" sz="24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nsors using Classic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luetoot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Bluetoot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ow energy technolog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CG Heart Monitoring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tivity and Fall monitoring us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elerometers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lood Pressure monitoring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ight Scale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atch to monitor heart rate, activity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 emergency alert function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Mobile phone  with GPS as gateway 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 remote monitoring centre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601"/>
              </a:spcBef>
              <a:buClr>
                <a:srgbClr val="525759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8742240" y="6483240"/>
            <a:ext cx="31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01A5-439C-48B7-8A3E-5F080B7FE73E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603252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live Techn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ate Placeholder 5"/>
          <p:cNvSpPr/>
          <p:nvPr/>
        </p:nvSpPr>
        <p:spPr>
          <a:xfrm>
            <a:off x="514512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FE96-9BDB-423E-80C0-63D4CB8317BC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4853160" y="2522520"/>
            <a:ext cx="3990960" cy="301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4760" y="174240"/>
            <a:ext cx="6257880" cy="52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AliveCare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pic>
        <p:nvPicPr>
          <p:cNvPr id="188" name="Picture 5" descr="AliveCareBP800x571.png"/>
          <p:cNvPicPr/>
          <p:nvPr/>
        </p:nvPicPr>
        <p:blipFill>
          <a:blip r:embed="rId2"/>
          <a:stretch/>
        </p:blipFill>
        <p:spPr>
          <a:xfrm>
            <a:off x="3240000" y="2774880"/>
            <a:ext cx="5719680" cy="4083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4975200" y="1006560"/>
            <a:ext cx="405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5759"/>
                </a:solidFill>
                <a:latin typeface="Arial Narrow"/>
              </a:rPr>
              <a:t>Automatically records weight, blood pressure and blood glucose via Bluetooth to online Personal Health Record (PHR)</a:t>
            </a:r>
            <a:br>
              <a:rPr sz="2000"/>
            </a:br>
            <a:r>
              <a:rPr b="0" lang="en-US" sz="2000" spc="-1" strike="noStrike">
                <a:solidFill>
                  <a:srgbClr val="525759"/>
                </a:solidFill>
                <a:latin typeface="Arial Narrow"/>
              </a:rPr>
              <a:t>-integrates with Microsoft HealthVault and Google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TLCSystem2a.png"/>
          <p:cNvPicPr/>
          <p:nvPr/>
        </p:nvPicPr>
        <p:blipFill>
          <a:blip r:embed="rId3"/>
          <a:stretch/>
        </p:blipFill>
        <p:spPr>
          <a:xfrm>
            <a:off x="608040" y="898560"/>
            <a:ext cx="4157640" cy="178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UA-767+Plus+BTNew.jpg"/>
          <p:cNvPicPr/>
          <p:nvPr/>
        </p:nvPicPr>
        <p:blipFill>
          <a:blip r:embed="rId4"/>
          <a:stretch/>
        </p:blipFill>
        <p:spPr>
          <a:xfrm>
            <a:off x="409680" y="2151000"/>
            <a:ext cx="2359080" cy="157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UC-321PBTNew.jpg"/>
          <p:cNvPicPr/>
          <p:nvPr/>
        </p:nvPicPr>
        <p:blipFill>
          <a:blip r:embed="rId5"/>
          <a:stretch/>
        </p:blipFill>
        <p:spPr>
          <a:xfrm>
            <a:off x="263520" y="3897360"/>
            <a:ext cx="2513160" cy="187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1000" y="339840"/>
            <a:ext cx="8481960" cy="51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Alive Equine Performance Monitoring System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pic>
        <p:nvPicPr>
          <p:cNvPr id="194" name="Content Placeholder 6" descr="equine.jpg"/>
          <p:cNvPicPr/>
          <p:nvPr/>
        </p:nvPicPr>
        <p:blipFill>
          <a:blip r:embed="rId2"/>
          <a:stretch/>
        </p:blipFill>
        <p:spPr>
          <a:xfrm>
            <a:off x="378000" y="804960"/>
            <a:ext cx="3852720" cy="289080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3"/>
          <p:cNvSpPr/>
          <p:nvPr/>
        </p:nvSpPr>
        <p:spPr>
          <a:xfrm>
            <a:off x="8742240" y="6483240"/>
            <a:ext cx="31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C7EE-99D8-4A0A-95B8-855E769538D4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603252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514512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BEDF-B7B7-4A88-AD8A-8C6A0E233F3C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Equine Screenshot.jpg"/>
          <p:cNvPicPr/>
          <p:nvPr/>
        </p:nvPicPr>
        <p:blipFill>
          <a:blip r:embed="rId3"/>
          <a:stretch/>
        </p:blipFill>
        <p:spPr>
          <a:xfrm>
            <a:off x="1173240" y="3184560"/>
            <a:ext cx="6783480" cy="305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1000" y="339840"/>
            <a:ext cx="8481960" cy="51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AliveCor iPhone ECG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8742240" y="6483240"/>
            <a:ext cx="31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4ABA-57B5-4F2F-BC16-D770D6E789E7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603252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luetooth SIG Proprietary and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514512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A232-889E-4690-BA27-8719B2ADF111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Content Placeholder 10" descr="iphoneipad.jpg"/>
          <p:cNvPicPr/>
          <p:nvPr/>
        </p:nvPicPr>
        <p:blipFill>
          <a:blip r:embed="rId2"/>
          <a:stretch/>
        </p:blipFill>
        <p:spPr>
          <a:xfrm>
            <a:off x="246240" y="1611360"/>
            <a:ext cx="5214600" cy="4456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IMAGE_093.jpg"/>
          <p:cNvPicPr/>
          <p:nvPr/>
        </p:nvPicPr>
        <p:blipFill>
          <a:blip r:embed="rId3"/>
          <a:stretch/>
        </p:blipFill>
        <p:spPr>
          <a:xfrm>
            <a:off x="4708440" y="787320"/>
            <a:ext cx="407988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1000" y="339840"/>
            <a:ext cx="8481960" cy="51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228680"/>
            <a:ext cx="8521560" cy="383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27160" indent="-227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Health technology </a:t>
            </a:r>
            <a:endParaRPr b="0" lang="en-US" sz="32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nhancing health services and outcomes while controlling costs by helping people to better manage their own health.</a:t>
            </a:r>
            <a:endParaRPr b="0" lang="en-US" sz="32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- large market need </a:t>
            </a:r>
            <a:endParaRPr b="0" lang="en-US" sz="32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portunities for device manufacturers, healthcare providers and mobile carriers.</a:t>
            </a:r>
            <a:endParaRPr b="0" lang="en-US" sz="32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8742240" y="6483240"/>
            <a:ext cx="31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5D12-E4CE-41E8-B423-DA26E95D45BE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603252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live Techn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ate Placeholder 5"/>
          <p:cNvSpPr/>
          <p:nvPr/>
        </p:nvSpPr>
        <p:spPr>
          <a:xfrm>
            <a:off x="514512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2B1F-A7F5-4719-BFCB-A36C39BCBFA3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1000" y="339840"/>
            <a:ext cx="8481960" cy="51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CONTACT DETAILS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4520" y="1063440"/>
            <a:ext cx="5921280" cy="56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27160" indent="-227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uce Satchwel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EO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ive Technologies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nit 1A 19 Expo Court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hmore Queensland Australia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 +61 7 5563 2871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uce@alivetec.com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www.alivetec.com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0" lang="en-US" sz="40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8742240" y="6483240"/>
            <a:ext cx="31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A049-D18C-4127-844B-EEEDAC1F1BA8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603252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live Techn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Date Placeholder 5"/>
          <p:cNvSpPr/>
          <p:nvPr/>
        </p:nvSpPr>
        <p:spPr>
          <a:xfrm>
            <a:off x="514512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80BA-22FC-42E1-80BB-8AC42C278B50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1000" y="339480"/>
            <a:ext cx="8481960" cy="52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ALIVE TECHNOLOGIES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28320"/>
            <a:ext cx="51372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ounder and CEO – Bruce Satchwell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Develops wireless health screening,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diagnostic and monitoring systems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for worldwide markets. 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Based in Queensland, Australia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pplications: 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Wireless medical monitoring</a:t>
            </a:r>
            <a:endParaRPr b="0" lang="en-US" sz="24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Health, fitness and wellness</a:t>
            </a:r>
            <a:endParaRPr b="0" lang="en-US" sz="24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ose Collaboration with Universities and Research Institutions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39" name="Slide Number Placeholder 2"/>
          <p:cNvSpPr/>
          <p:nvPr/>
        </p:nvSpPr>
        <p:spPr>
          <a:xfrm>
            <a:off x="8742240" y="6483240"/>
            <a:ext cx="31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219B-C08D-4CC3-A9DD-03DC6B714E2E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603252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live Techn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4"/>
          <p:cNvSpPr/>
          <p:nvPr/>
        </p:nvSpPr>
        <p:spPr>
          <a:xfrm>
            <a:off x="514512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C64D-BCA6-471C-A4F2-AAED5CBC718C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man4b"/>
          <p:cNvPicPr/>
          <p:nvPr/>
        </p:nvPicPr>
        <p:blipFill>
          <a:blip r:embed="rId2"/>
          <a:stretch/>
        </p:blipFill>
        <p:spPr>
          <a:xfrm>
            <a:off x="5303880" y="1490760"/>
            <a:ext cx="3699000" cy="37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1000" y="339840"/>
            <a:ext cx="8481960" cy="51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olexBold"/>
              </a:rPr>
              <a:t>THE VISION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228680"/>
            <a:ext cx="8521560" cy="36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adio News Magazine1924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Radio Doctor – Maybe!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nally a Reality in 2010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525759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525759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8742240" y="6483240"/>
            <a:ext cx="31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C599-F1CF-4FCC-8D73-C1C75ED340CD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603252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live Techn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5"/>
          <p:cNvSpPr/>
          <p:nvPr/>
        </p:nvSpPr>
        <p:spPr>
          <a:xfrm>
            <a:off x="514512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6CF0-78D7-4116-A1B0-6F27F0811287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RadioNews1924"/>
          <p:cNvPicPr/>
          <p:nvPr/>
        </p:nvPicPr>
        <p:blipFill>
          <a:blip r:embed="rId2"/>
          <a:stretch/>
        </p:blipFill>
        <p:spPr>
          <a:xfrm>
            <a:off x="4881600" y="590400"/>
            <a:ext cx="4071960" cy="585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209160"/>
            <a:ext cx="8620200" cy="194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olexBold"/>
              </a:rPr>
              <a:t>The first wireless e-health service  192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SolexBold"/>
            </a:endParaRPr>
          </a:p>
        </p:txBody>
      </p:sp>
      <p:pic>
        <p:nvPicPr>
          <p:cNvPr id="150" name="Picture 3" descr="sectionhead"/>
          <p:cNvPicPr/>
          <p:nvPr/>
        </p:nvPicPr>
        <p:blipFill>
          <a:blip r:embed="rId2"/>
          <a:stretch/>
        </p:blipFill>
        <p:spPr>
          <a:xfrm>
            <a:off x="179280" y="1484280"/>
            <a:ext cx="7429680" cy="1397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276720" y="2421000"/>
            <a:ext cx="3168360" cy="825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n Royal Flying Docto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pedal radio"/>
          <p:cNvPicPr/>
          <p:nvPr/>
        </p:nvPicPr>
        <p:blipFill>
          <a:blip r:embed="rId3"/>
          <a:stretch/>
        </p:blipFill>
        <p:spPr>
          <a:xfrm>
            <a:off x="255600" y="3236760"/>
            <a:ext cx="2540160" cy="3162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hart"/>
          <p:cNvPicPr/>
          <p:nvPr/>
        </p:nvPicPr>
        <p:blipFill>
          <a:blip r:embed="rId4"/>
          <a:stretch/>
        </p:blipFill>
        <p:spPr>
          <a:xfrm>
            <a:off x="2846520" y="3236760"/>
            <a:ext cx="2539800" cy="336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medkit"/>
          <p:cNvPicPr/>
          <p:nvPr/>
        </p:nvPicPr>
        <p:blipFill>
          <a:blip r:embed="rId5"/>
          <a:stretch/>
        </p:blipFill>
        <p:spPr>
          <a:xfrm>
            <a:off x="5538960" y="3236760"/>
            <a:ext cx="3174840" cy="24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1000" y="339480"/>
            <a:ext cx="8481960" cy="52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WIRELESS HEALTH MONITORING MARKET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02840" y="1186920"/>
            <a:ext cx="8521560" cy="493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geing population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Obesity and Diabetes epidemic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Growing interest in “wellness” </a:t>
            </a: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In the US alone</a:t>
            </a:r>
            <a:endParaRPr b="0" lang="en-US" sz="2400" spc="-1" strike="noStrike">
              <a:solidFill>
                <a:srgbClr val="525759"/>
              </a:solidFill>
              <a:latin typeface="Arial Narrow"/>
            </a:endParaRPr>
          </a:p>
          <a:p>
            <a:pPr lvl="2" marL="581040" indent="-12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More than 61.8 million with cardiovascular disease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2" marL="581040" indent="-12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More than 2 million diagnosed with atrial fibrillation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(AF) have a 5-6 fold increased likelihood of stroke,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 &gt; expected to double by 2050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2" marL="581040" indent="-12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Over 31.8 million health club members across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18,203 clubs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Potential market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&gt;US$5 Billion for wireless health monitoring products</a:t>
            </a:r>
            <a:endParaRPr b="0" lang="en-US" sz="24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8742240" y="6483240"/>
            <a:ext cx="31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C5C8-03C3-4396-9827-2464B99DAE1C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603252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live Techn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ate Placeholder 4"/>
          <p:cNvSpPr/>
          <p:nvPr/>
        </p:nvSpPr>
        <p:spPr>
          <a:xfrm>
            <a:off x="514512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60F7-9452-468E-8431-F63C7CAEC7B8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gingPopulationChart"/>
          <p:cNvPicPr/>
          <p:nvPr/>
        </p:nvPicPr>
        <p:blipFill>
          <a:blip r:embed="rId2"/>
          <a:stretch/>
        </p:blipFill>
        <p:spPr>
          <a:xfrm>
            <a:off x="5843520" y="1362240"/>
            <a:ext cx="3276720" cy="367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61680" y="339840"/>
            <a:ext cx="8481960" cy="51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STANDARDS FOR INTEROPERABILITY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181160"/>
            <a:ext cx="8521560" cy="490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luetooth SIG Medical Device Working Group (MED WG)</a:t>
            </a:r>
            <a:endParaRPr b="0" lang="en-US" sz="24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med 2006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urrently 125 members representing 33 Companies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veloped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Bluetoo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Health Device Profile (HDP) approved in June 2008 by Bluetooth SIG and available for public download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w standard for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Bluetoo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low energy health and fitness devices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inua Health Alliance</a:t>
            </a:r>
            <a:endParaRPr b="0" lang="en-US" sz="24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e companies dedicated to making personal tele-health a reality. 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veloping design guidelines and product certification programs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llaborating to address regulatory and cost issues for personal tele-health systems.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ave adopted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Bluetoo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HDP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lvl="1" marL="4539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O /IEEE 11073 standards</a:t>
            </a: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5759"/>
              </a:solidFill>
              <a:latin typeface="Arial Narrow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8742240" y="6483240"/>
            <a:ext cx="31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2730-5780-47EA-9DF6-9DDC42C05650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6032520" y="6483240"/>
            <a:ext cx="275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live Techn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5"/>
          <p:cNvSpPr/>
          <p:nvPr/>
        </p:nvSpPr>
        <p:spPr>
          <a:xfrm>
            <a:off x="5145120" y="6480000"/>
            <a:ext cx="8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1451-75EE-4385-87CC-F293A95F635D}" type="datetime5">
              <a:rPr b="0" lang="en-US" sz="800" spc="-1" strike="noStrike">
                <a:solidFill>
                  <a:srgbClr val="000000"/>
                </a:solidFill>
                <a:latin typeface="Arial Narrow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1000" y="339840"/>
            <a:ext cx="8481960" cy="51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Alive Bluetooth Heart Monitor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pic>
        <p:nvPicPr>
          <p:cNvPr id="167" name="Picture 3" descr="alivemonitor_transparent"/>
          <p:cNvPicPr/>
          <p:nvPr/>
        </p:nvPicPr>
        <p:blipFill>
          <a:blip r:embed="rId2"/>
          <a:stretch/>
        </p:blipFill>
        <p:spPr>
          <a:xfrm>
            <a:off x="179280" y="682560"/>
            <a:ext cx="3343320" cy="2533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imateECG"/>
          <p:cNvPicPr/>
          <p:nvPr/>
        </p:nvPicPr>
        <p:blipFill>
          <a:blip r:embed="rId3"/>
          <a:stretch/>
        </p:blipFill>
        <p:spPr>
          <a:xfrm>
            <a:off x="7223040" y="2720880"/>
            <a:ext cx="1711440" cy="3934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68360" y="2743200"/>
            <a:ext cx="6742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asures ECG, Heart Rate, activity , body position and falls (using accelerometers), with internal SD card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nects to Bluetooth phone or access point with 100m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l time remote monitoring on the internet using brow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pplications include holter monitoring for heart arrhythmias, home cardiac monitoring, cardiac rehabilitation, sleep apnea screening, and health and f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erates with Windows Mobile, Android, Symbian, Blackberry, and Java mobile phones. iPhone version i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Willem_Einthoven_ECG"/>
          <p:cNvPicPr/>
          <p:nvPr/>
        </p:nvPicPr>
        <p:blipFill>
          <a:blip r:embed="rId4"/>
          <a:stretch/>
        </p:blipFill>
        <p:spPr>
          <a:xfrm>
            <a:off x="5676840" y="0"/>
            <a:ext cx="3220920" cy="263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3400" y="52920"/>
            <a:ext cx="8359560" cy="179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CardioMobil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Remote Wireless Cardiac Rehabilitation Monitoring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169812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27160" indent="-22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provides effective cardiac rehabilitation remote from hospitals and healthcare providers. </a:t>
            </a:r>
            <a:endParaRPr b="0" lang="en-US" sz="1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ients are remotely monitored live during their exercise program, via an internet browser interface, with each patient using a Bluetooth Heart Monitor, Bluetooth GPS and mobile phone. </a:t>
            </a:r>
            <a:endParaRPr b="0" lang="en-US" sz="1800" spc="-1" strike="noStrike">
              <a:solidFill>
                <a:srgbClr val="525759"/>
              </a:solidFill>
              <a:latin typeface="Arial Narrow"/>
            </a:endParaRPr>
          </a:p>
          <a:p>
            <a:pPr marL="227160" indent="-22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s realtime ECG, HR, arrhythmia monitoring, location, speed and activity</a:t>
            </a:r>
            <a:endParaRPr b="0" lang="en-US" sz="1800" spc="-1" strike="noStrike">
              <a:solidFill>
                <a:srgbClr val="525759"/>
              </a:solidFill>
              <a:latin typeface="Arial Narrow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127400" y="3400560"/>
            <a:ext cx="4572000" cy="345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6840" y="239400"/>
            <a:ext cx="8115120" cy="52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lexBold"/>
              </a:rPr>
              <a:t>CardioMobile- 9 Network News</a:t>
            </a:r>
            <a:endParaRPr b="0" lang="en-US" sz="2800" spc="-1" strike="noStrike">
              <a:solidFill>
                <a:srgbClr val="000000"/>
              </a:solidFill>
              <a:latin typeface="SolexBold"/>
            </a:endParaRPr>
          </a:p>
        </p:txBody>
      </p:sp>
      <p:pic>
        <p:nvPicPr>
          <p:cNvPr id="175" name="CardiomobileCh9.wmv" descr=""/>
          <p:cNvPicPr/>
          <p:nvPr/>
        </p:nvPicPr>
        <p:blipFill>
          <a:blip r:embed="rId2"/>
          <a:stretch/>
        </p:blipFill>
        <p:spPr>
          <a:xfrm>
            <a:off x="1054080" y="1652760"/>
            <a:ext cx="65833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3:17:55Z</dcterms:created>
  <dc:creator>Lindsay Peattie</dc:creator>
  <dc:description/>
  <dc:language>en-US</dc:language>
  <cp:lastModifiedBy>Oleg</cp:lastModifiedBy>
  <dcterms:modified xsi:type="dcterms:W3CDTF">2011-04-05T05:33:45Z</dcterms:modified>
  <cp:revision>86</cp:revision>
  <dc:subject/>
  <dc:title>INSERT DOCUMENT TITLE HERE</dc:title>
</cp:coreProperties>
</file>