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60F-3327-44F2-A669-EB02004A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266-8D6F-4A4E-940F-A3613FF7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4B6-FD63-47FA-AFBC-BF80B3C15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A37-6C09-48F2-A349-FF4B889A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61CE-653F-4A0F-A8CC-D48800D0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8B0D-3414-4257-98E3-FA9FE5A9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6FC8-7F1B-4685-B7AD-18FB68C9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0859-F6DD-499F-B2CF-4D46CF8F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A21A-0DC1-4600-921E-A5CA7C53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86BC-D6B1-4DF5-9348-02D85439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3349-E456-4F8B-A9F2-C55489FC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6FD-88FF-42DE-823A-559EFA00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CF5E-9388-4BAD-BB85-8F74A869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68D8-C821-4267-814C-B4A04821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A850-C2D8-43D3-876D-E39C9A58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79EB-8B04-49C2-9BE6-599A46B7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584B-4773-4B46-A8A9-B23713DF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ABDE-0969-4D37-A16D-E5B3A9B5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65C-0DB3-4FBA-912A-FE55CC46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315-7A7D-450F-BBBC-5C1B9417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EC2-5BEE-4701-B43C-E707EBC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B7A7-694B-453D-AB24-000838C0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D5C-0860-47B6-89A8-958D44DC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311-4C2C-49E5-AC82-071635A1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001A-71E9-49FC-BFA2-071B8E53251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6ED6-6F84-4627-A654-5133E9CCDAC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71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24 миллиарда на информатизацию здравоохранения России: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мы знаем, что с ними делать?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онконг-Хайнань. 3-15 марта 2011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50920" y="4292640"/>
            <a:ext cx="866448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х Технологий (АРМИТ), к.т.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кандал с конкурсо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андал разгорелся после того как пользователи Интернета обнаружили тендер на право заключения государственного контракта на создание социальной сети медицинских работников и пациентов на основе портала главных внештатных специалистов ведомства. Известный блогер и адвокат Алексей Навальный обратил внимание общественности на странные условия конкурса: весь объем работ стоимостью около 2 млн. долларов должен быть выполнен в течение 16 дней с момента заключения госконтракт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ращении А.Навального в ФАС отмечалось, что Минздрав грубо нарушил нормы действующего законодательства РФ, регулирующего размещение госзак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 обращении А.Навального в ФАС говорится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Требуемая социальная сеть должна представлять сложный электронный портал, оперирующий значительными информационными базами данных … Однако, согласно условиям размещенного заказа, весь объем работ должен быть выполнен в течение 16 дней с момента заключения государственного контракта. Данный срок является заведомо нереалистичным и, скорее всего, установлен для уменьшения количества потенциальных участников конкурса, что может быть результатом преступного сговора между должностными лицами Минздравсоцразвития и неустановленными лицами, планирующими принять участие в указанном конкурс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кже было обращено внимание на деятельность О.В.Симакова и еще ряд провидимых по его заказу тендеров Минздравсоцразвития: 20 млн. руб. на сайт «система принятия решений врача при постановке диагноза» (срок выполнения - 16 дней), за электронную медицинскую библиотеку предлагается 35 млн. руб. (срок - 14 дне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82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ы и методы управления процессами информатизации здравоохранения вызывали и вызывают очень много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 прецедент: профессиональное сообщество может реально влиять на ситуац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1-й выпуск каталога «Медицинские информационные технологии»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0 компьютерн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50 фирм-разработчи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регионов Ро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85% фирм разработчиков – коммерческие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5% - гос. 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3249720" cy="45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ост доли МИС (от 7.4% до 16.0%)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в общем числе компьютерных систем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0" y="1600200"/>
          <a:ext cx="44276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427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788000" y="1603440"/>
          <a:ext cx="3971880" cy="52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603440"/>
                    <a:ext cx="3971880" cy="52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711680" y="1600200"/>
          <a:ext cx="4432320" cy="525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1680" y="1600200"/>
                    <a:ext cx="44323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брасывание бюджетных средств на неподготовленную «региональную» почву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избежно приведет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964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нерациональному использованию этих сред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вероятному разрушению существующей информационной инфраструкт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разрастанию зоопарка МИС и др. сист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появлению через два года множества несовместимых региональных систем информатизации, интеграция которых может потребовать больших средств, чем разработка с «нул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избежные последствия отсутствия единых требований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 автоматизации регистратур и приемных отделений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96472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собственной (уникальной) компьютерной регистратуры ЛПУ на основе базы данных пациентов собственного (уникального) форм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 следствие - создание уникальных МИС и системы уникальных подключений «клинических» систем (т.е. стыковка «каждого» с «каждым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избежный (и практически неустранимый мирными средствами) «зоопарк» в масштабах страны (а возможно, и субъекта РФ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 идее создания единой гос. информационной системы (ЕГМС) в сфере здравоохранения можно ставить КРЕ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Есть ли инфраструктура,  альтернативная системе МИАЦ?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Есть ли у МИАЦ реальные стимулы приобретать решения других МИАЦ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т данных (и никто, судя по всему, не планирует считать)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надо установить ПК в регион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это будет сто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будет стоить выполнение ФЗ 152 «О персональных данных»? (например, в Москве, как минимум – 3 млрд. руб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олько будет стоить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держка ЛП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ешение заседания Совета при Президенте РФ по развитию информационного общества в РФ (Москва, 8 июня 2010)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тить внимание Минздравсоцразвития на срыв срока выполнения поручения Президента РФ от 1 августа 2008 №Пр-1572Г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работать проект концепции создания единой гос. информационной системы (ЕГМС) в сфере здравоохра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овать общественное обсуждение на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Тверском социально-экономич. форуме проект программы информатизации здравоохра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Обеспечить в 2010 завершение проектирования и реализацию фрагмента ЕГИС в сфере здравоохран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труктура парка компьютерных систем ЛПУ(в %)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64960" y="982800"/>
          <a:ext cx="856296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982800"/>
                    <a:ext cx="856296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286920"/>
            <a:ext cx="878544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 многих руководителей и специалистов здравоохранения сформирована стойкая ненависть или предубеждение и к информатизации и к тем, кто ее «навязывает»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1.  Разработка требований, стандартов,  нормативных документов, регламентирующих решение первоочередных вопросов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ктронная регистратура ЛПУ (в т.ч. дистанционная запись к врачам через Интерн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 электронной истории болезни (электронной амбулаторной карт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9144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.  Создание при Минздравсоцразвития Экспертного совета, обеспечивающего возможность взаимодействия с профессиональным сообществом в процессе выработки, принятия и оценки эффективности управленческих решений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3.  Разработка и принятие концепции и плана работ информатизации здравоохранения Российской Федерации на 2011-2012 г.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-255600"/>
            <a:ext cx="8964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4. Разработка и утверждение нормативных актов, регламентирующих и стимулирующих использование электронного документооборота в здравоохран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5. Разработка нормативных актов и типовых документов (положений, инструкций и т.д.) по сопровождению ИКТ (обслуживание, ремонт, модернизация) в учреждениях здравоохранения (собств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служба ЛПУ, аутсорсинг, распределение работ между внутренними и внешними исполнителями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.  Введение общероссийского идентификатора пациента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(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.  Разработка перечня стандартов информационной совместимости (интероперабельности) медицинских компьютерных систем всех уровней (уровня медучреждений, регионального и федерального уровней и т.д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.  Разработка перечня стандартов и нормативных документов, регламентирующих межведомственный обмен данными (здравоохранение, обязательное медицинское и социальное страхование, пенсионное обеспечение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2631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9.  Разработка методических рекомендаций по определению расчетно-нормативных затрат на ИТ-обеспечение в субъектах РФ и в различных типах государственных и муниципальных медицинских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0. Организация разработки типовых требований к медицинским информационным систем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293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1.  Создание на базе федерального и региональных Интернет-ресурсов системы мониторинга оснащенности учреждений здравоохранения средствами ИК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2.  Разработка методических рекомендаций по оценке деятельности субъектов РФ и отдельных ЛПУ по внедрению ИКТ в сфере здравоохранения. Публикация в Интернете результа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3.  Создание и сопровождение общедоступного Интернет-ресурса, отражающего все аспекты информатизации здравоохранения РФ (информация о государственной политике в сфере медицинских ИКТ, приказах, конкурсах, утвержденных справочниках и т.д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14.  Развитие общедоступного банка данных по разработкам в сфере ИКТ (и их использованию), предоставляющего систематизированную информацию о существующих ИКТ и организациях-разработчиках, с целью сокращения неоправданного дублирования разработок и определения тенденций развит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15. Повышения квалификации медицинских специалистов в сфере ИКТ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последипломного образования и повышения квалификации медицинских специалистов – в первую очередь руководителей - в сфере ИК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лючение курсов по ИКТ в программу последипломного 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полнение квалификационных требований к основным медицинским специальностям положениями об овладени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28620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роведение в рамках 7-го Международного форума «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dSoft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-2011 - выставка и конференция по мед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(18-20 мая 2011 г.) расширенного заседания экспертно-консультативной группы Совета по вопросам внедрения ИТ в рамках модернизации здравоохранения в субъектах РФ с участием представителей субъектов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Перенесение срока выполнения п.5 раздел 3 Решения на 1 июня 2011 г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 июля 2010 (Тверь)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РФ Дмитрий Медведев поручил Минздравсоцразвития отчитаться за невыполнение поручения по информатизации здравоохранения. Президент напомнил, что два года назад на заседании президиума Госсовета в Петрозаводске он поручил разработать и утвердить комплекс мер по информатизации системы здравоохранения. Позднее Минздравсоцразвития докладывало о подготовленной стратегии, затем о программе, но, по словам Медведева, "до настоящего времени документы не согласованы, реализация поручения задерживается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ужно дать объяснение" - сказал президе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Благодарю за внимание.</a:t>
            </a:r>
            <a:br>
              <a:rPr sz="36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52280" y="4436640"/>
            <a:ext cx="87631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Ассоциации Развития Медицинск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х Технологий (АРМИ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-40176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1.04.2010.  Владимир Путин: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ечение двух ближайших лет на внедрение современных информационных систем в здравоохранении предполагается направить порядка 24 млрд. руб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позволит повысить эффективность использования средств, значительно улучшить организацию доступа граждан к услугам медицинских учрежд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5.08.2010. Дмитрий Медведев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дил перечень поручений по итогам заседания Совета при Президенте РФ по развитию информационного общества в РФ от 8 июля 2010 года. «Правительство 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) Совместно с высшими органами исполнительной власти субъектов РФ обеспечить создание и внедрение в деятельность учреждений здравоохран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едицинских информационно-справочных систем, в том числе в цел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едения электронной истории болез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и работы регистратур и приёмных отделений, включая использование систем записи на приём к врачу через интер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емедицинских технолог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ы непрерывного дистанционного обучения врач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 – 31 декабря 2012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) Совместно с высшими органами исполнительной власти субъектов РФ обеспечить оснащение станций и центров скорой медицинской помощи современными автоматизированными системами обмена информацией, обработки вызовов и управления мобильными бригадами скорой медицинской помощи с использованием аппаратуры спутниковой навигации ГЛОНАСС (Срок – 1 декабря 2012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) Обеспечить создание национального библио-течного ресурса с унифицированным каталогом на базе оцифрованных фондов Российской государ-ственной библиотеки, Российской национальной библиотеки, Президентской библиотеки имени Б.Н.Ельцина, библиотек гос. академий наук РФ, а также гос. и муниципальных публичных библиотек (Срок – 1 июля 2011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Но: за два года существования Департамента информатизации не решена ни одна из ключевых проблем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пределен статус электронных документов в здравоохранен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чески ничего не сделано в плане стандартизации и информационной совмест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определены «правила игры» в сфер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оддержки медучреж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на продолжает расплачиваться за невежество медчиновников в сфере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В боль-шинстве случаев их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компетенция ниже ну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ы Минздравсоцразвит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эти деньги все выше указанные выше проблемы могли быть реализованы в течение двух л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2009-2010 г.г. Минздравсоцразвития провел конкурсы по тематике «ИКТ для здравоохранения» на общую сумму 658.800.000 ру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91%  средств направлены на нужды чиновников, 9% - медучрежден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82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Конкурсы Минздравсоцразвития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курсы проводятся в условиях отсутствия концепции развития ИКТ для здравоохра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ие конкурсы абсолютно не обоснова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 один из членов комиссии не является специалистом в вопросах мед. И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ый бизнес оттирается от участия в конкурсах административными метод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и победителей практически нет орга-низаций, известных в мире медицинских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sha</cp:lastModifiedBy>
  <dcterms:modified xsi:type="dcterms:W3CDTF">2011-03-03T05:43:39Z</dcterms:modified>
  <cp:revision>490</cp:revision>
  <dc:subject/>
  <dc:title>PowerPoint Presentation</dc:title>
</cp:coreProperties>
</file>