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</p:sldIdLst>
  <p:sldSz cx="9144000" cy="6858000"/>
  <p:notesSz cx="6710363" cy="9774238"/>
  <p:custShowLst>
    <p:custShow name="Харьков" id="0">
      <p:sldLst>
        <p:sld r:id="rId29"/>
        <p:sld r:id="rId2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B160-E705-42A7-B4B3-36C81AE5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4D8-94F8-45FC-8444-0D098457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6F2-47F6-40F3-8883-445E1AD7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8DC3-BE9E-493A-9010-F1559F02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7A0F-9DF1-4850-A95A-B31CD64B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0C6F-364A-4642-9F42-81130ABF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DBB1-F874-46D8-9EA0-A78212E5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5F51-FD0E-4580-88BA-578AAD2B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BAB3-2FA2-429E-9547-9EAF00B7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96BB-361E-4B9C-A87A-2034CA9E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0270-6742-4D65-AC94-3C862A7A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6791-450B-4D4E-B18F-025676DE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51F1-39D1-4083-8121-496BA409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8444-AD21-486E-8BF5-2516E49E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BA73-A87D-482C-997F-7260BC8B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28B2-4124-45AE-B3D0-4085867A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8B1D-D0A1-4A6B-AF90-FB5CEC71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8E741-ED3F-4334-8942-2035192F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2E327-4EB1-4679-AED8-A186084F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F3AD6-08C8-4A1D-B8BD-58B5444B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6FF7F-7414-49C9-94EC-213FC28D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AEB0D-B901-4C12-A823-A0823899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BFB-F309-496B-BE5D-5F451CA4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899DE-177C-452F-B1D5-E547FE2F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F39B0-867D-4222-8D7E-85DCE3F8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183A2-8D17-413A-8A5F-03B394E2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4CA67-6CF5-4A64-8DC1-3179576F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34D10-301B-4C4E-B173-FD840E5C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D6999-3A03-4ACB-8110-12CE5285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0CBDC-BCCF-490F-B0D2-94D8970C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487DB-7B90-482D-B5A2-363D27EF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14311-EC27-4C9C-82BA-E9A2E7ED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BD946-8104-44A3-A45B-7F961ACD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3A7-2BCE-4F32-8947-FD86A40B9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E50AF-D838-4955-B18A-D201555A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3A817-343E-4081-B1BC-43CB8989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DCB2B-F60D-434B-90DD-8FD97043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BCA6A-A104-4CA2-B04B-1417298D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707EE-9B37-4D32-84E9-9B34E9BD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52370-E5FA-4400-8DA5-CFCEB381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91F69-1F5E-488E-95C5-5D3C5F8B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D2B11-2C35-4B2F-989F-BE6871580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D0016-B687-4C0F-A5E2-55A5629F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18C-A58E-4D38-8193-2A4C2291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D230-B702-468D-8F18-B8CDDF63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D6D-CC9A-44B7-A2F6-01946BFA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748-E4AE-413A-9B08-AC93C286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BDAE-E1AE-42D5-85DC-3B1D5D73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8840-2049-407B-8B7B-1EC3A7F41D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47C1-743F-452B-BDD7-657BBB9BFA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482A-57EB-4321-B327-074CE620B02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3F7A-8DBA-4974-B98E-2C905F84F7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АРМИТ – 10 лет</a:t>
            </a:r>
            <a:br>
              <a:rPr sz="4000"/>
            </a:b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dSoft-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Форум-2011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27 июля 2011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52280" y="472392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зидент АРМИТ, к.т.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99) 200-10-6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info@armit.ru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280" y="286920"/>
            <a:ext cx="89647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Источники информации и критер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28 анкет посетителей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Soft-20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ценка 50 анкет посетителей и участников по 100-бальной системе - степени удовлетворенности результатам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Soft-20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00 баллов - 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5 баллов - скорее ДА, чем 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5 баллов - скорее НЕТ, чем 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0 баллов - 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edSoft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- самая большая специализированная выстав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38240" y="1585800"/>
          <a:ext cx="9005760" cy="52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240" y="1585800"/>
                    <a:ext cx="9005760" cy="52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Рост числа экспонентов и участников Международного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форума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edSoft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79280" y="1600200"/>
          <a:ext cx="43214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00200"/>
                    <a:ext cx="4321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4521240" y="1608120"/>
          <a:ext cx="4503600" cy="523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1240" y="1608120"/>
                    <a:ext cx="45036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785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довлетворенность посещаемостью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119240"/>
          <a:ext cx="921852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19240"/>
                    <a:ext cx="921852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640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8200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180-200 организаций-разработчиков, не участвующих в выставке в качестве экспонентов, на выставку пришли только 18 (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тальным – неинтерес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о систем, ориентированных на конкретных специалист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минируют «Медицинские информационные системы» - 49 экспонентов (47 в 2010, 43 в 2009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8000" y="277560"/>
            <a:ext cx="88567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MedSoft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: число посетителей медик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79280" y="1268280"/>
          <a:ext cx="8829720" cy="561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268280"/>
                    <a:ext cx="8829720" cy="561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286920"/>
            <a:ext cx="849600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Фирмы-экспоненты недовольны низким числом посетителей, но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3640" y="2565360"/>
            <a:ext cx="8569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и ничего по привлечению посетителей не делают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0 фирм-экспонентов привлекли на выставку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9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осетителей (1 чел. на фирму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 4 года анкетирования на лучший стенд - ни одного запроса, сколько голосов набрал их стен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80" y="287280"/>
            <a:ext cx="864072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Чиновники на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edSof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рум посетили более 40 представителей органов управления здравоохранением (табл. 3), что в 4 (!) раза больше, чем в 2010 г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ие в открытии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Sof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2011  представителей Минздравсоцразвития и Администрации Президента Р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сширенное заседание экспертно-консультативной группы Совета при Президенте РФ по развитию информационного общества в Р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о: многие из прибывших чиновников отметились и … ушли, не заглянув на выстав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амая удачная конференц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щая оценка – 94 балла. Самая высокая за все год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ольшая конкуренция за включение в программ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нтерес ко все дни конференци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пленарном заседании – 148 чел. (в конце - 18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расширенном заседание экспертно-консультативной группы Совета при Президенте – 283 чел. (в конце – 8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круглом столе по защите персональных данных – 290 чел. (в конце - 24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287280"/>
            <a:ext cx="842472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о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56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 6 лет анкетирования на лучший доклад НИКТО (!) не поинтересовался рейтингом доклада: ни докладчик, ни фирма, которую он представля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исло членов АРМИТ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(в т.ч. 31 новый член за последние 12 месяцев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71440" y="1484280"/>
          <a:ext cx="8621640" cy="537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40" y="1484280"/>
                    <a:ext cx="8621640" cy="53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ценка освещения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edSoft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 СМИ и в Интернет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95280" y="1758960"/>
          <a:ext cx="8459640" cy="49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58960"/>
                    <a:ext cx="8459640" cy="49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нтегральные показател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0" y="1341360"/>
          <a:ext cx="921852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21852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оцент ЛПУ с собственной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T-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лужбой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(IT-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пециалистом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-38160" y="1628640"/>
          <a:ext cx="918216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160" y="1628640"/>
                    <a:ext cx="918216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0560" y="286920"/>
            <a:ext cx="856908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edSoft-201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2: 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ЦВК «Экспоцентр»</a:t>
            </a: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17-19 апреля 2012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23640" y="3068640"/>
            <a:ext cx="85690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тем все ошибк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ем все возмож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 что обойдется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недрение электронной медицинской карты (ЭМК)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08000" y="3860640"/>
          <a:ext cx="8928000" cy="3791160"/>
        </p:xfrm>
        <a:graphic>
          <a:graphicData uri="http://schemas.openxmlformats.org/drawingml/2006/table">
            <a:tbl>
              <a:tblPr/>
              <a:tblGrid>
                <a:gridCol w="1216080"/>
                <a:gridCol w="7711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Из перечня поручений по итогам заседания Совета при Президенте РФ по развитию информационного общества в РФ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7854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вместно с высшими органами исполнительной власти субъектов Российской Федерации обеспечить создание и внедрение в деятельность учреждений здравоохранени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едицинских информационно-справочных систем, в том числе в целя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едения электронной истории болезн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втоматизации работы регистратур и приёмных отделений, включая использование систем записи на приём к врачу через интерне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телемедицинских технолог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истемы непрерывного дистанционного обучения врач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редняя стоимость АРМ</a:t>
            </a:r>
            <a:br>
              <a:rPr sz="44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S arm = S hard + S inf + S soft_s + S soft_p + S serv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79280" y="1700280"/>
          <a:ext cx="8507520" cy="4559400"/>
        </p:xfrm>
        <a:graphic>
          <a:graphicData uri="http://schemas.openxmlformats.org/drawingml/2006/table">
            <a:tbl>
              <a:tblPr/>
              <a:tblGrid>
                <a:gridCol w="1297080"/>
                <a:gridCol w="5400720"/>
                <a:gridCol w="1809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h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яя стоимость ПК (вкл. принтер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in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яя стоимость инфраструктуры (серверы, ЛВС, ИБП и т.д.), «приходящаяся»  на один П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soft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яя стоимость системного ПО на один П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soft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_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яя стоимость прикладного ПО на один П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 тыс. руб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ser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няя стоимость работ по установке, сопровождению и т.д. на один П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ec94"/>
                          </a:solidFill>
                          <a:latin typeface="Times New Roman"/>
                          <a:ea typeface="Arial"/>
                        </a:rPr>
                        <a:t>S ar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средняя стоимость АР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67 тыс.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507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Цена внедрения ЭМК в РФ</a:t>
            </a:r>
            <a:br>
              <a:rPr sz="4000"/>
            </a:br>
            <a:r>
              <a:rPr b="1" lang="en-US" sz="2400" spc="-1" strike="noStrike">
                <a:solidFill>
                  <a:srgbClr val="feec94"/>
                </a:solidFill>
                <a:latin typeface="Times New Roman"/>
              </a:rPr>
              <a:t>W = N * K * (1 - D) * S arm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4920" y="1413000"/>
          <a:ext cx="9001080" cy="5246640"/>
        </p:xfrm>
        <a:graphic>
          <a:graphicData uri="http://schemas.openxmlformats.org/drawingml/2006/table">
            <a:tbl>
              <a:tblPr/>
              <a:tblGrid>
                <a:gridCol w="936720"/>
                <a:gridCol w="5184720"/>
                <a:gridCol w="2879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енность населения РФ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1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лн. чел.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эффициент компьютеризации – ср. число компьютеров в системе гос. здравоохранения, необходимое для решения задач ведения ЭМК, приходящихся на 1 млн. че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000 (ПК на 1 млн. чел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я уже имеющихся (установленных) П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для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большинств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а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регионов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D=0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.2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ля Москвы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=0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 ar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С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дняя стоимость АР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.000 руб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eec94"/>
                          </a:solidFill>
                          <a:latin typeface="Times New Roman"/>
                          <a:ea typeface="Times New Roman"/>
                        </a:rPr>
                        <a:t>Стоимость оборудования и программного обеспечения (ПО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eec94"/>
                          </a:solidFill>
                          <a:latin typeface="Times New Roman"/>
                        </a:rPr>
                        <a:t>90.000.000.000 руб. (+/- 20%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29.000.000.000 на информатизацию здравоохранения РФ –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три сценария использования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08000" y="3860640"/>
          <a:ext cx="8928000" cy="3791160"/>
        </p:xfrm>
        <a:graphic>
          <a:graphicData uri="http://schemas.openxmlformats.org/drawingml/2006/table">
            <a:tbl>
              <a:tblPr/>
              <a:tblGrid>
                <a:gridCol w="1216080"/>
                <a:gridCol w="7711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ценарий №1. Разумный: средства будут потрачены с пользой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зработана нормативная ба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ределены правила иг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катаны типовые реш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ределены основные трудности, проблемы, «узкие» мес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недрены мед. компьютерные системы в значительном числе ЛП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здана инфраструктура и созданы условия для дальнейшего развит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81374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аталог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«Медицинские информационные технологии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52280" y="3789360"/>
            <a:ext cx="87631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ценарий №2. «Совковый» -шумиха и неразбериха с незначительными результатами, несоизмеримыми с затраченными средствами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79280" y="2781360"/>
            <a:ext cx="878544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доделанный сценарий №1: что-то сделано, что - 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ое-как все отчитаю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теряны время и деньг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олтовня на тему: «Разве за какие-то несчастные 30 млрд. можно сделать что-то путное? Вот, если бы ….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ценарий №3. Вредительский - больше вреда, чем пользы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еизбежный результат концу 2012 г.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диных правил 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иповой инфраструктуры н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 многих местах разрушено то, что уже работа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явление ЗООПАРКА несовместимых региональных систем информатизации, интеграция которых может потребовать больших средств, чем разработка с «нуля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се регионы благополучно отчитаются за лоскутную (местечковую) информатизаци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обходимость переделывать на следующем этапе значительную часть из сделанного со всеми вытекающими финансовыми и организационными последствиями и при мощном противодействии местных медиков, чиновников и разработчи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ейчас мы движемся именно по этому сценарию 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очему сделан именно такой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вод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4149360"/>
            <a:ext cx="9144000" cy="27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8964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Вбрасывание млрд. бюджетных рублей при отсутствии единых требований к информатизации регистратур и приемных отделений неизбежно приведет: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914400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нерациональному использованию средст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разработке кучи уникальных компьютерной регистратур ЛПУ на основе базы данных пациентов собственного форма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следствие - создание уникальных МИС и системы уникальных подключений «клинических» систем; т.е. стыковка «каждого» с «каждым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неизбежному (и практически неустранимому «мирными» средствами) «зоопарку» МИ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появлению через два года множества несовместимых региональных систем информатизации, интеграция которых может потребовать больших средств, чем разработка с «нуля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 идее создания РЕАЛЬНОЙ единой государственной информационной системы в сфере здравоохранения можно будет ставить КРЕ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71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временное состояние парка компьютерных систе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оминает конструктор ЛЕГО: огромное число разработанных модулей - компьютерных систем для всего спектра медицинских применений, имеющих сходную архитектур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 в отличие от ЛЕГО: отсутствует стандартизированная система сопряжения моду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8000" y="404640"/>
            <a:ext cx="9036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Цена ФЗ о персональных данных: стоимость информатизации увеличивается вдвое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748720" cy="38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едняя цена по приведению ЛПУ в соотв. с законом: 50-100 тыс. руб. на АР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олько для ЛПУ системы Департамента здравоохранения Москвы г. этой обойдется: 75.000 * 46.200 ПК = 3.465.000.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иповые компьютерные системы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отечественной интерпретации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место четко сформулированных требований не очень понятная система предпочт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Бесплатность» типовых систем – «бесплатность» сыра в мышеловке: основные деньги придется платить за сопровожден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сутствие у подавляющего большинства разработчиков инфраструктуры  для обслуживания своих продуктов (в т.ч. т «типовых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 все просчеты платить придется ЛП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79280" y="286920"/>
            <a:ext cx="8785440" cy="39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 многих руководителей и специалистов здравоохранения формируется стойкая ненависть или предубеждение и  к информатизации и к тем, кто ее «навязывает»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0" y="429264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ервые конкретные «результаты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ынок разваливается на глазах. Зачем платить деньги, если завтра все дадут даром и типовое (хотя нет ни того, ни другого)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 ЛПУ пропадает интерес к информатизац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ываются уже подписанные догово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286920"/>
            <a:ext cx="91440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За три года существования Департамента информатизации МЗСР не решена ни одна из ключевых </a:t>
            </a: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IT-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роблем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0" y="2349360"/>
            <a:ext cx="91440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определен статус электронных документов в здравоохранен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ктически ничего не сделано в плане стан-дартизации и информационной совместим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определены «правила игры» в сфер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поддержки медучрежде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етенция медчиновников в сфер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большинстве случаев ниже «плинтус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3040" y="188640"/>
            <a:ext cx="75106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1-й выпуск Каталог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4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70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52 организации-разработч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2 разделов, более 100 рубр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80%-90% рынка российских компьютерных сист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регионов Росс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065560" y="1484280"/>
            <a:ext cx="361476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8200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онкурсы Минздравсоцразвит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2009-2010 г.г. Минздравсоцразвития провел конкурсы по тематике «ИКТ для здравоохранения» на общую сумму 658.800.000 руб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 эти деньги многие проблемы могли быть реализованы в течение двух ле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 91%  средств направлены на нужды чиновников, 9% - медучреждений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82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онкурсы Минздравсоцразвит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курсы проводились в условиях отсутствия четкого плана работ по развитию ИКТ для здравоохра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и один из членов комиссии не является специалистом в вопросах мед. ИКТ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ый бизнес оттирается от участия в конкурсах административными метод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ие конкурсы абсолютно не обоснован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реди победителей практических нет организаций, известных в мире медицински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87280"/>
            <a:ext cx="9144000" cy="35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лавная проблема – 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заказчик (государство) не может сформулировать, что он хочет получить от информатизации здравоохранения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3640" y="4581360"/>
            <a:ext cx="856908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848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Без определения и обязательного выполнения правил игры в сфере создания электронного общества (в т.ч. в сфере здравоохранения) вместо «обычного» беспредела мы получим беспредел электронны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фессиональное сообщество должно взять на себя часть ответственности за то, что происходи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244440"/>
            <a:ext cx="8447040" cy="29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отрудничество с Советом при Президенте РФ по развитию информационного общества в РФ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трудничество с </a:t>
            </a: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оветом при Президенте РФ по развитию информационного общества в РФ 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а секции по использованию ИКТ в здравоохранении экспертно-консультативной группы (ЭКГ) Совет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ие в работе Президиума Совета: Москва, Кремль; 8.06.2010, 22.12.2010, 14.04.20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екомендации по созданию регионального фрагмента Единой информационной системы в сфере здравоохра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0920" y="-60480"/>
            <a:ext cx="8642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.к. в нынешнем виде многие исследования и рекомендации АРМИТ никакого практического веса для чиновников не имеют, то предлагается их оформлять в виде Методических рекомендаций (или просто Рекомендаций). После всестороннего обсуждения эти документы можно выпускать в свет за подписью ЭКГ и АРМИ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42160" cy="26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можно сделать и уже делается АРМИТ?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4292640"/>
            <a:ext cx="91440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Разработка типовых требований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 электронной регистратуре ЛПУ (в завершающей стади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 электронным медицинским картам (в завершающей стади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К лабораторным информационным системам (ЛИС) (в стадии разработки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системам обработки и хранения изображений (PA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системам ДЛ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административно-хозяйственным система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 медицинским информационным система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Разработка рекомендац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IT-служба ЛПУ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ec94"/>
                </a:solidFill>
                <a:latin typeface="Times New Roman"/>
              </a:rPr>
              <a:t>Облачные вычисления. Возможности. ЗА и ПРОТИВ. Границы применим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 созданию регионального фрагмента Единой информационной системы в сфере здравоохран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ндартизация и информационная совместимость - программа-миниму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окращение числа организаций, работающих на рынке медицинских ИКТ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1406520"/>
          <a:ext cx="4521240" cy="52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06520"/>
                    <a:ext cx="4521240" cy="52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4788000" y="1916280"/>
          <a:ext cx="3971880" cy="492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916280"/>
                    <a:ext cx="3971880" cy="49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4640400" y="1916280"/>
          <a:ext cx="4470120" cy="490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0400" y="1916280"/>
                    <a:ext cx="4470120" cy="49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 мы получим в результате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хой остаток исследований (опросов и т.д.), на который можно ссылатьс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нк подготовленных материалов вместо скороспелых, сделанных «на коленке» в последний момент под запросы «сверху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, полезный для медучреждений - у них появляются критерии при выборе предлагаемых (навязываемых) им сист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, полезный для чиновников – хоть будут понимать, что делаю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кумент, полезный для разработчиков - задается «план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Главные цели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работка сертификационных требова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еход к сертификации медицинских компьютерных систе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ейчас эта работа ведется на голом энтузиазме.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рофессиональное сообщество ждет от Департамента информатизации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91440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здания Экспертного сове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авления значительной части средств на решение первоочередных задач инфраструктурного характе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ия ПРОФЕССИОНАЛОВ в определении тематики конкурсов и в работе конкурсной комисс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Если это не будет сделано, третий сценарий станет основным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4365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Благодарю за внимание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Желающие принять участие в мероприятиях Ассоциации и регулярно получать информацию о мире медицинских </a:t>
            </a: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IT</a:t>
            </a: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 – обращайтесь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52280" y="4149720"/>
            <a:ext cx="87631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хаил Эльян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зидент АРМ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99) 200-10-6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info@armit.ru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ww.armit.r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Мы стоим перед альтернативой -   цели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IT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в здравоохранении:</a:t>
            </a:r>
            <a:br>
              <a:rPr sz="40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ценарий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1                     </a:t>
            </a: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Сценарий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4356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авная цель: информатизация статистики и системы взаиморасче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мпьютеры – «кассовые аппараты»,  калькуляторы и пишущие машин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чечная компьютеризация на усмотрение руководите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минирование бумажных носите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356000" y="2060280"/>
            <a:ext cx="4788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лавная цель: сокращение числа врачебных и управленческих ошиб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Анализ эффективности (в т.ч. финансовой) проводимых мероприятий (напр., диспансеризации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еход к статистике, основанной на анализе искл. первичных данны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еход к ЭДО и ведению ЭМ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труктура парка компьютерных систем ЛПУ(в %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76560" y="604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051840" y="56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264960" y="982800"/>
          <a:ext cx="8562960" cy="57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982800"/>
                    <a:ext cx="856296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179280" y="836640"/>
          <a:ext cx="896472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896472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Структура парка компьютерных систем ЛПУ(в шт.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76560" y="6041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051840" y="5681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Таким образом: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%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К используется в качестве пишущих машинок или не используется вообще (большинство их этих ПК –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tium III, I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). </a:t>
            </a:r>
            <a:r>
              <a:rPr b="0" lang="ru-RU" sz="3200" spc="-1" strike="noStrike">
                <a:solidFill>
                  <a:srgbClr val="cccc00"/>
                </a:solidFill>
                <a:latin typeface="Times New Roman"/>
              </a:rPr>
              <a:t>Это почти в 4 (!) раза больше числа медицинских АРМ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долю менее 8% персонала приходится более 80% вычислительных ресурсов ЛП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8920" y="277560"/>
            <a:ext cx="8713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офессиональное сообщество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56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ощущает себя реальной сил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имеет четкой программы действ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общено и с трудом консолидируется для решения общих зада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71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овременное состояние парка компьютерных систем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оминает конструктор ЛЕГО: огромное число разработанных модулей - компьютерных систем для всего спектра медицинских применений, имеющих сходную архитектур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 в отличие от ЛЕГО: отсутствует стандартизированная система сопряжения моду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«Зоопарк» МИС живет и побеждает: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доля МИС в общем числе систем возросла</a:t>
            </a:r>
            <a:br>
              <a:rPr sz="32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 с 5.8% до 12.2% - более, чем вдвое !!!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0" y="1600200"/>
          <a:ext cx="442764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44276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788000" y="1603440"/>
          <a:ext cx="3971880" cy="524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603440"/>
                    <a:ext cx="3971880" cy="52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4572000" y="1608120"/>
          <a:ext cx="4572000" cy="5243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1608120"/>
                    <a:ext cx="4572000" cy="52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МИС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ъективная потребность раст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тандартов не было и не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з 35 регионов, представленных в каталоге «Медицинские информационные технологии – 2011», в 25 (!)  разработаны собственные МИ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Международный форум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MedSoft-2011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52280" y="3789360"/>
            <a:ext cx="87631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лана</cp:lastModifiedBy>
  <dcterms:modified xsi:type="dcterms:W3CDTF">2011-07-27T03:57:24Z</dcterms:modified>
  <cp:revision>595</cp:revision>
  <dc:subject/>
  <dc:title>PowerPoint Presentation</dc:title>
</cp:coreProperties>
</file>