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365-BBBF-413A-81AA-B5F06CCB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F749-BA18-4EE5-BA96-B565558D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6FDC-B28C-44B7-967D-DF6FEAA6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597-7F70-4E07-B4ED-0A7DB1EA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FD6E-8F28-472D-8CB9-EFB1E395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ECA5-55FC-41F3-A88A-96FCBA21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165B-8A50-43BF-948C-E390D631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8045-DB19-4916-9D6A-CA935A40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E823-638C-4E9F-A87D-2E57C1BB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5AFA-DF0C-4342-88A5-A2EAF9AA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9A7A-D68F-40CC-8258-5AC7F797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082B-C04E-4E5E-B96D-103DCD55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2CDB-72D4-476D-AF89-DE77057F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404C-84A3-4DCD-B881-88BB01A9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F0FD-AE3B-4D19-9F4C-1946E0DC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8837-8FFB-4E2B-8E6A-D8C90518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49DF-20E6-4B3E-8593-C3A32178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91D5-5F97-4DF7-844F-4B7447F8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90E-9A55-4EE1-8226-9D705390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F8AF-DA40-44F8-887E-B24A4FB2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15E0-3EBC-4BB1-8E8A-CC9453BB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C2AC-B2A9-409E-935C-E97413C3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E30-5254-409C-ADFE-AF9E4874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191E-D1D0-4FEC-837D-A89B23BE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BE95-E10E-4AEC-9A92-10919EC70DE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B1C4-2B29-4AD3-9A9E-FCED007170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487080"/>
            <a:ext cx="864216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"/>
              </a:rPr>
              <a:t>От </a:t>
            </a: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MedSoft-20</a:t>
            </a:r>
            <a:r>
              <a:rPr b="1" lang="ru-RU" sz="4400" spc="-1" strike="noStrike">
                <a:solidFill>
                  <a:srgbClr val="feec94"/>
                </a:solidFill>
                <a:latin typeface="Arial"/>
              </a:rPr>
              <a:t>10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Arial"/>
              </a:rPr>
              <a:t>к </a:t>
            </a: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MedSoft-2011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52280" y="4149360"/>
            <a:ext cx="8763120" cy="23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хаил Эльян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идент Ассоциации Развития Медицински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формационных Технологий (АРМИТ), к.т.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9) 200-10-6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info@armit.ru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ww.armit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34920" y="404640"/>
          <a:ext cx="9109080" cy="6597720"/>
        </p:xfrm>
        <a:graphic>
          <a:graphicData uri="http://schemas.openxmlformats.org/drawingml/2006/table">
            <a:tbl>
              <a:tblPr/>
              <a:tblGrid>
                <a:gridCol w="7273800"/>
                <a:gridCol w="936720"/>
                <a:gridCol w="898560"/>
              </a:tblGrid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аздел каталога по рубрикатору в каталог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«Медицинские информационные технологии 2009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 сист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истемы комплексной компьютеризации медицинских учрежд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сследование, диагностика, профилак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рганизационно-экономическая деятельность медицинских учрежд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Управление здравоохранением, состояние здоровья населения, социально-гигиенический мониторин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армация, аптека, фармаколог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редства обучения аттестации, электронные атласы, издания и библиотеки, переводчи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истемы искусственного интеллекта (экспертные системы, системы поддержки принятия решени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истемы обработки данных и изобра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елемедицина, Интернет-медиц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сего систем в каталог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ост числа МИС,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едставленных в каталоге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99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79280" y="1557360"/>
          <a:ext cx="8964720" cy="5300640"/>
        </p:xfrm>
        <a:graphic>
          <a:graphicData uri="http://schemas.openxmlformats.org/drawingml/2006/table">
            <a:tbl>
              <a:tblPr/>
              <a:tblGrid>
                <a:gridCol w="1368360"/>
                <a:gridCol w="2087640"/>
                <a:gridCol w="2089080"/>
                <a:gridCol w="3419640"/>
              </a:tblGrid>
              <a:tr h="124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 систем в каталог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.ч.  МИ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С в %% от общего числа систе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3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.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.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.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8496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ирмы-экспоненты недовольны низким числом посетителей, но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3284640"/>
            <a:ext cx="8569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и ничего по привлечению посетителей не делаю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0 фирм-экспонентов привлекли на выставку 55 посетителя (0.7 чел. на одну фирму)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8496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зиция Президента России по созданию информационного общест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3640" y="2997360"/>
            <a:ext cx="8569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бование преодоления разрыва с развитыми стран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ие межведомственной рабочей группы по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здравоохранен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держка малого бизн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риентация на инновационную экономи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86920"/>
            <a:ext cx="8640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о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ценка участниками посещаемости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Soft-20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 чиновниками – 33 баллов (самая низкая из всех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какой официальной реакции Минздравсоцразвития Р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кого из руководства институтов, занимающихся организацией здравоохра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.е. полная и демонстративная АБСТРУК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84247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дачная конференц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856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щая оценка – 91 бал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ьшая конкуренция за включение в программ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л практически полон на всех мероприятия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круглом столе по защите персональных данных – более 200 че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842472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о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 6 лет анкетирования на лучший доклад НИКТО (!) не поинтересовался рейтингом доклада: ни докладчик, ни фирма, которую он представля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13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ценка освещения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edSoft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 СМИ и в Интернет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1639800"/>
          <a:ext cx="8459640" cy="52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39800"/>
                    <a:ext cx="845964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нтегральные показател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1628640"/>
          <a:ext cx="916776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6776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оцент ЛПУ с собственной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IT-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ужбой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(IT-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пециалистом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-38160" y="1628640"/>
          <a:ext cx="918216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160" y="1628640"/>
                    <a:ext cx="918216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286920"/>
            <a:ext cx="8964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сточники информации и критери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20 анкет посетителей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Soft-20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ценка 30 анкет посетителей и участников по 100-бальной системе - степени удовлетворенности по результатам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Soft-20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0 баллов - 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5 баллов - скорее ДА, чем Н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5 баллов - скорее НЕТ, чем 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0 баллов - Н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842472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edSoft-2011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Экспоцентр на Красной Пресн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8-20 мая 201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Благодарю за внимание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Желающие принять участие в мероприятиях Ассоциации и (или) регулярно получать информацию о событиях в мире медицинских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IT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– обращайтесь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52280" y="3789360"/>
            <a:ext cx="87631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хаил Эльян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идент Ассоциации Развития Медицински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формационных Технологий (АРМИТ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9) 200-10-6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info@armit.ru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ww.armit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286920"/>
            <a:ext cx="81360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ставка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edSoft-2009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самая большая специализированная выстав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3715920"/>
            <a:ext cx="85690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Soft-2009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брала 71 организацию экспонен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 ближайшего конкурента ( ИТМ-2008) – 33 участн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MedSoft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самая большая специализированная выставк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1638360"/>
          <a:ext cx="899316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38360"/>
                    <a:ext cx="899316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Рост числа экспонентов и участников Международного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форума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MedSof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600200"/>
          <a:ext cx="39610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00200"/>
                    <a:ext cx="39610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784760" y="1603440"/>
          <a:ext cx="3983040" cy="52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4760" y="1603440"/>
                    <a:ext cx="3983040" cy="52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40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о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220-250 организаций-разработчиков, не участвующих в выставке в качестве экспонентов, на выставку пришли только 13 (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ктически нет приборных АРМов (исключение составляют ЛИС и системы обработки изображени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тальным - неинтерес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довлетворенность посещаемостью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480" y="1641600"/>
          <a:ext cx="916776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0" y="1641600"/>
                    <a:ext cx="916776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287280"/>
            <a:ext cx="864072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нкуренция за «престижные» стенд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3640" y="2997360"/>
            <a:ext cx="8569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чередь за «престижными» стендам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: за два года анкетирования на лучший стенд - ни одного запроса, а сколько голосов набрал их стен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87280"/>
            <a:ext cx="89647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здан тематический рубрикатор выставк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Битва» за рубри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ыли представлены системы по 46 рубрика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О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гие фирмы не очень хорошо понимают, что представляю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брика «Медицинские информационные системы» - 47 экспонентов (43 в 2009 г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чень мало систем, ориентированных на конкретных специалист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sha</cp:lastModifiedBy>
  <dcterms:modified xsi:type="dcterms:W3CDTF">2010-06-29T19:15:11Z</dcterms:modified>
  <cp:revision>332</cp:revision>
  <dc:subject/>
  <dc:title>PowerPoint Presentation</dc:title>
</cp:coreProperties>
</file>