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79998-887E-4E76-B413-F90931B4C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39866-DB9A-4F26-BDCB-8A1197F6F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18286-219B-4190-91EB-077E5B4F5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9D0AE-0343-42E5-8A14-70A01FFAD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54685-35CB-45A6-912B-28275C4A7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7A3ED-C0DC-4F8F-8004-5E4C4E5B1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BE91C-7C69-49B8-8892-82BD40AE3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73647-A4DF-4165-A3DF-8AF8B4A79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865A4-55DC-44F7-BF42-6E0DF974D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69D50-5C6F-430E-B514-5276727AD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50A51-BE21-4D48-8866-AF14AA309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44A83-A5B6-4438-827F-9E1F7D38E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6F333-7FC7-40D1-9B3A-AD0120AD9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95E06-DD5B-4908-A057-B8083F6A4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6184C-1F00-4986-9177-46F5D4FC5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8127B-0DDC-492B-A324-279D052E3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5329D-BFA6-4A3B-BD9C-55A308C9B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81CE3-ED2E-4752-96EB-8C4FF282D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1E1E5-2E77-4712-AE29-23431E840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F5580-367D-4517-ABB9-C5B1261A9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A52F6-B003-43FF-AC55-02F98BA7F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599F6-A6BE-46CD-BE87-4506F635A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82D19-ECE1-406D-B2D9-99ACCEC5E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826C2-F3D8-45F4-ABE5-916740619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002F6-F333-4924-B663-FF98642C5047}" type="slidenum"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e7d"/>
              </a:gs>
              <a:gs pos="5000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F945F-2DFF-4E3F-9A40-C0FA623BA95D}" type="slidenum"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-304920" y="456840"/>
            <a:ext cx="975384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Times New Roman"/>
              </a:rPr>
              <a:t>How e-health could contribute to Health:</a:t>
            </a:r>
            <a:br>
              <a:rPr sz="4400"/>
            </a:br>
            <a:br>
              <a:rPr sz="4400"/>
            </a:br>
            <a:r>
              <a:rPr b="0" lang="fr-FR" sz="4400" spc="-1" strike="noStrike">
                <a:solidFill>
                  <a:srgbClr val="ffffff"/>
                </a:solidFill>
                <a:latin typeface="Times New Roman"/>
              </a:rPr>
              <a:t>the french experienc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-360" y="3809520"/>
            <a:ext cx="929628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cbcbcb"/>
                </a:solidFill>
                <a:latin typeface="Times New Roman"/>
              </a:rPr>
              <a:t>Michèle THONNE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bcbcb"/>
                </a:solidFill>
                <a:latin typeface="Times New Roman"/>
              </a:rPr>
              <a:t>Ministry for Health and Solidarities</a:t>
            </a:r>
            <a:r>
              <a:rPr b="0" lang="fr-FR" sz="3200" spc="-1" strike="noStrike">
                <a:solidFill>
                  <a:srgbClr val="cbcbcb"/>
                </a:solidFill>
                <a:latin typeface="Times New Roman"/>
              </a:rPr>
              <a:t>  Fra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cbcbcb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cbcbcb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cbcbcb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cbcbcb"/>
                </a:solidFill>
                <a:latin typeface="Times New Roman"/>
              </a:rPr>
              <a:t>Paris  - 8 September 2006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Times New Roman"/>
              </a:rPr>
              <a:t>Four main objectives (2)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4920" y="2209320"/>
            <a:ext cx="86104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better know the reasons for recourse and evaluate the expenditur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piloting information system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better and quicker refund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administrative simplification : SESAM-Vital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1760" y="-360"/>
            <a:ext cx="838188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bcbcb"/>
                </a:solidFill>
                <a:latin typeface="Times New Roman"/>
              </a:rPr>
              <a:t>Public policy :</a:t>
            </a:r>
            <a:br>
              <a:rPr sz="4400"/>
            </a:br>
            <a:r>
              <a:rPr b="0" lang="fr-FR" sz="4400" spc="-1" strike="noStrike">
                <a:solidFill>
                  <a:srgbClr val="cbcbcb"/>
                </a:solidFill>
                <a:latin typeface="Times New Roman"/>
              </a:rPr>
              <a:t>	</a:t>
            </a:r>
            <a:r>
              <a:rPr b="0" lang="fr-FR" sz="4400" spc="-1" strike="noStrike">
                <a:solidFill>
                  <a:srgbClr val="cbcbcb"/>
                </a:solidFill>
                <a:latin typeface="Times New Roman"/>
              </a:rPr>
              <a:t>	</a:t>
            </a:r>
            <a:r>
              <a:rPr b="0" lang="fr-FR" sz="4400" spc="-1" strike="noStrike">
                <a:solidFill>
                  <a:srgbClr val="cbcbcb"/>
                </a:solidFill>
                <a:latin typeface="Times New Roman"/>
              </a:rPr>
              <a:t>	</a:t>
            </a:r>
            <a:r>
              <a:rPr b="0" lang="fr-FR" sz="4400" spc="-1" strike="noStrike">
                <a:solidFill>
                  <a:srgbClr val="cbcbcb"/>
                </a:solidFill>
                <a:latin typeface="Times New Roman"/>
              </a:rPr>
              <a:t>    A voluntarist strategy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62120" y="2895480"/>
            <a:ext cx="815328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2000"/>
          </a:bodyPr>
          <a:p>
            <a:pPr marL="281160" indent="-281160" algn="just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important investment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116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1160" indent="-281160" algn="just">
              <a:spcBef>
                <a:spcPts val="17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an impact on the whole popula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1160" indent="0" algn="just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09120" indent="-234360" algn="just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55 million smart cards handed ove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057400"/>
            <a:ext cx="8685360" cy="32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bcbcb"/>
                </a:solidFill>
                <a:latin typeface="Times New Roman"/>
              </a:rPr>
              <a:t>Confidence requirement</a:t>
            </a:r>
            <a:r>
              <a:rPr b="0" lang="fr-FR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4400" spc="-1" strike="noStrike">
                <a:solidFill>
                  <a:srgbClr val="cbcbcb"/>
                </a:solidFill>
                <a:latin typeface="Times New Roman"/>
              </a:rPr>
              <a:t>is key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0" lang="fr-FR" sz="4400" spc="-1" strike="noStrike">
                <a:solidFill>
                  <a:srgbClr val="cbcbcb"/>
                </a:solidFill>
                <a:latin typeface="Times New Roman"/>
              </a:rPr>
              <a:t> Health is not a product like others</a:t>
            </a:r>
            <a:r>
              <a:rPr b="0" lang="fr-FR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4038480" y="380880"/>
            <a:ext cx="45720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ffffff"/>
                </a:solidFill>
                <a:latin typeface="Times New Roman"/>
              </a:rPr>
              <a:t>Public policies for e-health in Fra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bcbcb"/>
                </a:solidFill>
                <a:latin typeface="Times New Roman"/>
              </a:rPr>
              <a:t>A specific status for health</a:t>
            </a:r>
            <a:r>
              <a:rPr b="0" lang="fr-FR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4400" spc="-1" strike="noStrike">
                <a:solidFill>
                  <a:srgbClr val="cbcbcb"/>
                </a:solidFill>
                <a:latin typeface="Times New Roman"/>
              </a:rPr>
              <a:t>information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-360" y="1294920"/>
            <a:ext cx="9448920" cy="579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The European Legislation 24 October 1995 </a:t>
            </a: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(art 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prohibits any data processing without the consent of the pers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except for the data absolutely necessary to the health profession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or those related to the management of health services, required by people exercing under professional secrec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7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The french Medical Privacy Act (4 february 2002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transmission of 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personal information is authorized only between health professionals treating their mutual patients, and only with their prior consent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(article L1110-4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240" y="68580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cbcbcb"/>
                </a:solidFill>
                <a:latin typeface="Times New Roman"/>
              </a:rPr>
              <a:t>Confidentiality requirement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80520" y="19047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17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Key issues to deal with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1749"/>
              </a:spcBef>
              <a:buClr>
                <a:srgbClr val="00ffcc"/>
              </a:buClr>
              <a:buSzPct val="80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                                  </a:t>
            </a: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for the French Governmen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17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legislative :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7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the Act of  March    4th, 2002 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7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the Act of  August 13th, 2004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75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technical : smartcards, secure infrastructure, PK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17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Internet sites on e-health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8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support self-regulation between bodies involved (users, professionals, economic actors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94320" indent="-198720">
              <a:lnSpc>
                <a:spcPct val="75000"/>
              </a:lnSpc>
              <a:spcBef>
                <a:spcPts val="1500"/>
              </a:spcBef>
              <a:buClr>
                <a:srgbClr val="ffff00"/>
              </a:buClr>
              <a:buSzPct val="80000"/>
              <a:buFont typeface="Monotype Sorts" charset="2"/>
              <a:buChar char="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00"/>
                </a:solidFill>
                <a:latin typeface="Arial"/>
              </a:rPr>
              <a:t>                                 </a:t>
            </a:r>
            <a:r>
              <a:rPr b="1" lang="fr-FR" sz="2400" spc="-1" strike="noStrike">
                <a:solidFill>
                  <a:srgbClr val="ffff00"/>
                </a:solidFill>
                <a:latin typeface="Arial"/>
              </a:rPr>
              <a:t>the project « e-health quality »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480" y="76212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cbcbcb"/>
                </a:solidFill>
                <a:latin typeface="Times New Roman"/>
              </a:rPr>
              <a:t>A technical federator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28240" y="2133720"/>
            <a:ext cx="8915400" cy="396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The Health Professionals Card (CPS)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authenticate, sign, cod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The recipient insurance card </a:t>
            </a: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Vitale ca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The choice of Internet standard technologies,  but secur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2640" y="2895480"/>
            <a:ext cx="799956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bcbcb"/>
                </a:solidFill>
                <a:latin typeface="Times New Roman"/>
              </a:rPr>
              <a:t>The current situation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038480" y="380880"/>
            <a:ext cx="45720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ffffff"/>
                </a:solidFill>
                <a:latin typeface="Times New Roman"/>
              </a:rPr>
              <a:t>Public policies for e-health in Fra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94920" y="762120"/>
            <a:ext cx="62485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bcbcb"/>
                </a:solidFill>
                <a:latin typeface="Times New Roman"/>
              </a:rPr>
              <a:t>SESAM - Vital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An increasing use :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&gt;80 million electronic invoices issued every month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more than 65 % of invoic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180 000 Professionals using the syste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a smooth and steady implementa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-360" y="3123720"/>
            <a:ext cx="899172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bcbcb"/>
                </a:solidFill>
                <a:latin typeface="Times New Roman"/>
              </a:rPr>
              <a:t>A main objective</a:t>
            </a:r>
            <a:r>
              <a:rPr b="0" lang="fr-FR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4400" spc="-1" strike="noStrike">
                <a:solidFill>
                  <a:srgbClr val="cbcbcb"/>
                </a:solidFill>
                <a:latin typeface="Times New Roman"/>
              </a:rPr>
              <a:t>: DMP </a:t>
            </a:r>
            <a:br>
              <a:rPr sz="4400"/>
            </a:br>
            <a:br>
              <a:rPr sz="4400"/>
            </a:br>
            <a:r>
              <a:rPr b="0" lang="fr-FR" sz="4400" spc="-1" strike="noStrike">
                <a:solidFill>
                  <a:srgbClr val="cbcbcb"/>
                </a:solidFill>
                <a:latin typeface="Times New Roman"/>
              </a:rPr>
              <a:t> </a:t>
            </a:r>
            <a:r>
              <a:rPr b="1" i="1" lang="fr-FR" sz="4000" spc="-1" strike="noStrike">
                <a:solidFill>
                  <a:srgbClr val="cbcbcb"/>
                </a:solidFill>
                <a:latin typeface="Times New Roman"/>
              </a:rPr>
              <a:t>The Personal</a:t>
            </a:r>
            <a:r>
              <a:rPr b="0" lang="fr-FR" sz="4400" spc="-1" strike="noStrike">
                <a:solidFill>
                  <a:srgbClr val="cbcbcb"/>
                </a:solidFill>
                <a:latin typeface="Times New Roman"/>
              </a:rPr>
              <a:t> </a:t>
            </a:r>
            <a:r>
              <a:rPr b="1" i="1" lang="fr-FR" sz="4000" spc="-1" strike="noStrike">
                <a:solidFill>
                  <a:srgbClr val="cbcbcb"/>
                </a:solidFill>
                <a:latin typeface="Times New Roman"/>
              </a:rPr>
              <a:t>Electronic Health Record</a:t>
            </a:r>
            <a:r>
              <a:rPr b="1" lang="fr-FR" sz="4000" spc="-1" strike="noStrike">
                <a:solidFill>
                  <a:srgbClr val="cbcbcb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191120" y="380880"/>
            <a:ext cx="45720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ffffff"/>
                </a:solidFill>
                <a:latin typeface="Times New Roman"/>
              </a:rPr>
              <a:t>Public policies for e-health in Fra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bcbcb"/>
                </a:solidFill>
                <a:latin typeface="Times New Roman"/>
              </a:rPr>
              <a:t>New orientations </a:t>
            </a:r>
            <a:br>
              <a:rPr sz="4400"/>
            </a:br>
            <a:r>
              <a:rPr b="0" lang="fr-FR" sz="4400" spc="-1" strike="noStrike">
                <a:solidFill>
                  <a:srgbClr val="cbcbcb"/>
                </a:solidFill>
                <a:latin typeface="Times New Roman"/>
              </a:rPr>
              <a:t>	</a:t>
            </a:r>
            <a:r>
              <a:rPr b="0" lang="fr-FR" sz="4400" spc="-1" strike="noStrike">
                <a:solidFill>
                  <a:srgbClr val="cbcbcb"/>
                </a:solidFill>
                <a:latin typeface="Times New Roman"/>
              </a:rPr>
              <a:t>	</a:t>
            </a:r>
            <a:r>
              <a:rPr b="0" lang="fr-FR" sz="4400" spc="-1" strike="noStrike">
                <a:solidFill>
                  <a:srgbClr val="cbcbcb"/>
                </a:solidFill>
                <a:latin typeface="Times New Roman"/>
              </a:rPr>
              <a:t>	</a:t>
            </a:r>
            <a:r>
              <a:rPr b="0" lang="fr-FR" sz="4400" spc="-1" strike="noStrike">
                <a:solidFill>
                  <a:srgbClr val="cbcbcb"/>
                </a:solidFill>
                <a:latin typeface="Times New Roman"/>
              </a:rPr>
              <a:t>adopted by the Parlement 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28240" y="1828800"/>
            <a:ext cx="8915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13 August 2004 law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reform of the health insuranc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decision of the creation of a personal EH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coordination of car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qualit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continuit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preven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42640" y="685800"/>
            <a:ext cx="799956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bcbcb"/>
                </a:solidFill>
                <a:latin typeface="Times New Roman"/>
              </a:rPr>
              <a:t>The French Health system</a:t>
            </a:r>
            <a:r>
              <a:rPr b="0" lang="fr-FR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514240" y="4266720"/>
            <a:ext cx="609588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cbcbcb"/>
                </a:solidFill>
                <a:latin typeface="Times New Roman"/>
              </a:rPr>
              <a:t>Some characteristics</a:t>
            </a: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4560" y="456840"/>
            <a:ext cx="883908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cbcbcb"/>
                </a:solidFill>
                <a:latin typeface="Times New Roman"/>
              </a:rPr>
              <a:t>The personal</a:t>
            </a:r>
            <a:r>
              <a:rPr b="0" lang="fr-FR" sz="4400" spc="-1" strike="noStrike">
                <a:solidFill>
                  <a:srgbClr val="cbcbcb"/>
                </a:solidFill>
                <a:latin typeface="Times New Roman"/>
              </a:rPr>
              <a:t> </a:t>
            </a:r>
            <a:r>
              <a:rPr b="1" lang="fr-FR" sz="4000" spc="-1" strike="noStrike">
                <a:solidFill>
                  <a:srgbClr val="cbcbcb"/>
                </a:solidFill>
                <a:latin typeface="Times New Roman"/>
              </a:rPr>
              <a:t>electronic health record (EHR)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2819160"/>
            <a:ext cx="7772400" cy="327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An effective way to manage patient’s continuity of health care…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but which must offer all the guarantees of privacy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Times New Roman"/>
              </a:rPr>
              <a:t>To enhance their developmen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440" y="19051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The objective: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to support the development of EH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information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is </a:t>
            </a:r>
            <a:r>
              <a:rPr b="0" i="1" lang="fr-FR" sz="2400" spc="-1" strike="noStrike" u="sng">
                <a:solidFill>
                  <a:srgbClr val="ffffff"/>
                </a:solidFill>
                <a:uFillTx/>
                <a:latin typeface="Arial"/>
              </a:rPr>
              <a:t>produced </a:t>
            </a:r>
            <a:r>
              <a:rPr b="0" i="1" lang="fr-FR" sz="2400" spc="-1" strike="noStrike">
                <a:solidFill>
                  <a:srgbClr val="ffffff"/>
                </a:solidFill>
                <a:latin typeface="Arial"/>
              </a:rPr>
              <a:t>by health professiona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 u="sng">
                <a:solidFill>
                  <a:srgbClr val="ffffff"/>
                </a:solidFill>
                <a:uFillTx/>
                <a:latin typeface="Arial"/>
              </a:rPr>
              <a:t>reviewed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on line with </a:t>
            </a:r>
            <a:r>
              <a:rPr b="0" i="1" lang="fr-FR" sz="2400" spc="-1" strike="noStrike">
                <a:solidFill>
                  <a:srgbClr val="ffffff"/>
                </a:solidFill>
                <a:latin typeface="Arial"/>
              </a:rPr>
              <a:t>strict conditions on the rights of acces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f which the use (and contents?) are </a:t>
            </a:r>
            <a:r>
              <a:rPr b="0" i="1" lang="fr-FR" sz="2400" spc="-1" strike="noStrike" u="sng">
                <a:solidFill>
                  <a:srgbClr val="ffffff"/>
                </a:solidFill>
                <a:uFillTx/>
                <a:latin typeface="Arial"/>
              </a:rPr>
              <a:t>controled</a:t>
            </a:r>
            <a:r>
              <a:rPr b="0" i="1" lang="fr-FR" sz="2400" spc="-1" strike="noStrike">
                <a:solidFill>
                  <a:srgbClr val="ffffff"/>
                </a:solidFill>
                <a:latin typeface="Arial"/>
              </a:rPr>
              <a:t> by the patients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which are </a:t>
            </a:r>
            <a:r>
              <a:rPr b="0" i="1" lang="fr-FR" sz="2400" spc="-1" strike="noStrike" u="sng">
                <a:solidFill>
                  <a:srgbClr val="ffffff"/>
                </a:solidFill>
                <a:uFillTx/>
                <a:latin typeface="Arial"/>
              </a:rPr>
              <a:t>stored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in places </a:t>
            </a:r>
            <a:r>
              <a:rPr b="0" i="1" lang="fr-FR" sz="2400" spc="-1" strike="noStrike">
                <a:solidFill>
                  <a:srgbClr val="ffffff"/>
                </a:solidFill>
                <a:latin typeface="Arial"/>
              </a:rPr>
              <a:t>under very strict cond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154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cbcbcb"/>
                </a:solidFill>
                <a:latin typeface="Times New Roman"/>
              </a:rPr>
              <a:t>The role of the Governmen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To support the development of the consensu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85000"/>
              </a:lnSpc>
              <a:spcBef>
                <a:spcPts val="451"/>
              </a:spcBef>
              <a:buClr>
                <a:srgbClr val="ffffff"/>
              </a:buClr>
              <a:buSzPct val="70000"/>
              <a:buFont typeface="Monotype Sorts" charset="2"/>
              <a:buChar char="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                      </a:t>
            </a: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finalities, contents, control of the us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0">
              <a:lnSpc>
                <a:spcPct val="85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To encourage experiment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To build up the legislative framework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5000"/>
              </a:lnSpc>
              <a:spcBef>
                <a:spcPts val="876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To develop incentives, if necessar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cbcbcb"/>
                </a:solidFill>
                <a:latin typeface="Times New Roman"/>
              </a:rPr>
              <a:t>Five question marks        ????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5235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Optimal level of confidentiality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Identification of the pati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Control of the access by the patien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Respective Responsabiliti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Technical op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bcbcb"/>
                </a:solidFill>
                <a:latin typeface="Times New Roman"/>
              </a:rPr>
              <a:t>Thank you for attention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Think globall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Act locall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                                 </a:t>
            </a: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michele.thonnet@sante.gouv.f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bcbcb"/>
                </a:solidFill>
                <a:latin typeface="Times New Roman"/>
              </a:rPr>
              <a:t>France  and  health system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540 000 Km2     60 M inhabitan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life expectancy : 75,2 M   82,7 W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Global Expenditure per capita +2000 €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1,7 M jobs in Healthcar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815328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Times New Roman"/>
              </a:rPr>
              <a:t>A complex system 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0" y="182844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A multitude of actors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health insurance (compulsory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complementary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300 000 professionals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(120 000 doctors), 24 000 pharmacies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, </a:t>
            </a:r>
            <a:br>
              <a:rPr sz="2800"/>
            </a:b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4 000 laboratori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4000 hospitals, 1,1 million employees (50 000 doctors)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925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with a very large autonom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84872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bcbcb"/>
                </a:solidFill>
                <a:latin typeface="Times New Roman"/>
              </a:rPr>
              <a:t>1- A system</a:t>
            </a:r>
            <a:r>
              <a:rPr b="0" lang="fr-FR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4400" spc="-1" strike="noStrike">
                <a:solidFill>
                  <a:srgbClr val="cbcbcb"/>
                </a:solidFill>
                <a:latin typeface="Times New Roman"/>
              </a:rPr>
              <a:t>that deserves its apreciative rating ...</a:t>
            </a:r>
            <a:r>
              <a:rPr b="0" lang="fr-FR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2361960"/>
            <a:ext cx="8382240" cy="37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The first in the world according to WHO (2000)…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but with some internal inequalities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social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geographical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42640" y="1828800"/>
            <a:ext cx="79995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bcbcb"/>
                </a:solidFill>
                <a:latin typeface="Times New Roman"/>
              </a:rPr>
              <a:t>Objectives of the authorities</a:t>
            </a:r>
            <a:r>
              <a:rPr b="0" lang="fr-FR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2895120" y="380880"/>
            <a:ext cx="57150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ffffff"/>
                </a:solidFill>
                <a:latin typeface="Times New Roman"/>
              </a:rPr>
              <a:t>Public policy for e-health in France</a:t>
            </a: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bcbcb"/>
                </a:solidFill>
                <a:latin typeface="Times New Roman"/>
              </a:rPr>
              <a:t>The main goa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51920" y="2362320"/>
            <a:ext cx="8991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Make use of the Internet to rationalize the healthcare syste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2001"/>
              </a:spcBef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for a healthier popul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2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1749"/>
              </a:spcBef>
              <a:buClr>
                <a:srgbClr val="00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=&gt; </a:t>
            </a: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to improve the level and quality of care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=&gt; </a:t>
            </a: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by controlling the costs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83059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Times New Roman"/>
              </a:rPr>
              <a:t>Three types of project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-360" y="2057400"/>
            <a:ext cx="8915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a first stage : SESAM-Vital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administrative simplification for refunding health expens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a « corner stone » project to improve the doctor-patient relationship</a:t>
            </a: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 : DMP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electronic health record (EHR) 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public health issu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to manage the consequences of the availability of the information to public (education, protection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Times New Roman"/>
              </a:rPr>
              <a:t>Four main objective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1752480"/>
            <a:ext cx="91440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To facilitate the continuity and the coordination of the health care</a:t>
            </a:r>
            <a:r>
              <a:rPr b="1" lang="fr-FR" sz="3000" spc="-1" strike="noStrike">
                <a:solidFill>
                  <a:srgbClr val="ffffff"/>
                </a:solidFill>
                <a:latin typeface="Arial"/>
              </a:rPr>
              <a:t> :</a:t>
            </a: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telemedicine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electronic health records 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with protected access, transmission, storage</a:t>
            </a: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1874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To improve access to knowledge</a:t>
            </a:r>
            <a:r>
              <a:rPr b="1" lang="fr-FR" sz="3000" spc="-1" strike="noStrike">
                <a:solidFill>
                  <a:srgbClr val="ffffff"/>
                </a:solidFill>
                <a:latin typeface="Arial"/>
              </a:rPr>
              <a:t> :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nline state of the art for the professiona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80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quality of e-health sites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5T16:15:11Z</dcterms:created>
  <dc:creator>thonnet michèle</dc:creator>
  <dc:description/>
  <dc:language>en-US</dc:language>
  <cp:lastModifiedBy>MAS</cp:lastModifiedBy>
  <cp:lastPrinted>2005-12-23T16:52:30Z</cp:lastPrinted>
  <dcterms:modified xsi:type="dcterms:W3CDTF">2006-09-29T14:59:19Z</dcterms:modified>
  <cp:revision>86</cp:revision>
  <dc:subject/>
  <dc:title>e-sante-france</dc:title>
</cp:coreProperties>
</file>