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BA3-6C52-404A-8AAC-C85D8F9A7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еализации проекта проведены тренинги и семинары, на которых  проведен анализ бизнес-процессов, определены подпроцессы, в которых могут быть использованы информационно-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368-4A6C-4F90-A3E5-8291DBEEA7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04680" y="4690800"/>
            <a:ext cx="4987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 txBox="1"/>
          <p:nvPr/>
        </p:nvSpPr>
        <p:spPr>
          <a:xfrm>
            <a:off x="385128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BDB9-2F1C-4FC6-A8A6-3853BCCE6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2360" cy="369864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03240" y="4692240"/>
            <a:ext cx="499104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DBF-2955-49F2-A1A9-802E782F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A81-66D7-4421-BE2A-9BDA356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439-591C-467E-8157-6778C496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4E6-0C3B-4D7C-9D27-1E6CE6BA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453-338F-4B51-BE47-6446B09A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EC4B-3DCF-448D-81FD-CEE2680B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5678-FF25-4565-9E3A-F4F279B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998C-09E3-4F8C-AF75-A46399B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4DC9-E7BE-4118-8C18-CB1458A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D15-6F1F-4372-A4C7-E9E6F39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5A19-8FB4-4927-AA0B-CA98F5A7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1B6-C600-4B69-A1EB-D4EC44DD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D4F-E3A3-4592-879E-BBDCAED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199-FE7E-4952-A0D7-ECDA8F20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39F-2BBC-45C8-A45C-EE649BC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6CE-EC50-4DAC-8294-BBDDB8A4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3D2-08D3-46E1-9D9A-87C4BC52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AFF-0740-448A-9565-8B88FCEA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B38-BA17-4F55-9440-ECB2EA9B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EF0-921E-4944-8385-5A11E3A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C88-6BF2-43D1-A674-322E995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D66-BEAE-4CF2-BA84-D8B5DC52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613-9DCB-42C4-9AE4-7DA0689B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ABD-1BDA-4959-ACB9-F8B80F1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7BC-20CE-430C-9973-73FE32C7D7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2069-5413-4791-8DC2-89B60C5AACC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8920" y="184428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Единая информационная система в здравоохранении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149720"/>
            <a:ext cx="8497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941720"/>
            <a:ext cx="6400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Verdana"/>
              </a:rPr>
              <a:t>Мадыбаев М.Ж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Verdana"/>
              </a:rPr>
              <a:t>2006</a:t>
            </a:r>
            <a:r>
              <a:rPr b="1" lang="ru-RU" sz="1600" spc="-1" strike="noStrike">
                <a:solidFill>
                  <a:srgbClr val="ffcc66"/>
                </a:solidFill>
                <a:latin typeface="Verdana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инистерство здравоохранения Кыргызской Республ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Центр развития здравоохра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468-C96A-4357-A8F5-361844644F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" descr=""/>
          <p:cNvPicPr/>
          <p:nvPr/>
        </p:nvPicPr>
        <p:blipFill>
          <a:blip r:embed="rId1"/>
          <a:srcRect l="3458" t="17480" r="22242" b="114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1CA-12B9-4DE1-9600-14C32B03D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Моделирование бизнес-процессов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3754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дентификация процес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Картография процессо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спользование метода картографии процессов в повседневной работе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птимизация процесс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ланирование новых процессов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1" name="" descr=""/>
          <p:cNvPicPr/>
          <p:nvPr/>
        </p:nvPicPr>
        <p:blipFill>
          <a:blip r:embed="rId1"/>
          <a:srcRect l="3905" t="12736" r="34555" b="7982"/>
          <a:stretch/>
        </p:blipFill>
        <p:spPr>
          <a:xfrm>
            <a:off x="4859280" y="13366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22" name="" descr=""/>
          <p:cNvPicPr/>
          <p:nvPr/>
        </p:nvPicPr>
        <p:blipFill>
          <a:blip r:embed="rId2"/>
          <a:srcRect l="-59" t="13120" r="1827" b="9547"/>
          <a:stretch/>
        </p:blipFill>
        <p:spPr>
          <a:xfrm>
            <a:off x="4716360" y="4221000"/>
            <a:ext cx="374508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7BB-0F28-48F9-90A1-CB6B058257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Разработка и моделирование электронных услуг для населе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Определение цели электронной услуг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Какой ожидается эффект от внедрения электронной услуг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Средст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Как можно сейчас получить информацию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Как можно улучшить доступ к получению информ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Определение основного владельца процес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971640" y="5773680"/>
          <a:ext cx="799308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773680"/>
                    <a:ext cx="79930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>
            <a:off x="4284720" y="1859040"/>
            <a:ext cx="4716360" cy="33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DD5-7929-4909-9A8A-5E23FFA585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"/>
          <p:cNvSpPr/>
          <p:nvPr/>
        </p:nvSpPr>
        <p:spPr>
          <a:xfrm>
            <a:off x="1012680" y="1073160"/>
            <a:ext cx="1543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Планируем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мероприят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104640" y="1182600"/>
            <a:ext cx="16772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Существу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ситу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381400" y="255096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325760" y="262260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325760" y="247824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118120" y="1974960"/>
            <a:ext cx="1366920" cy="1079280"/>
          </a:xfrm>
          <a:prstGeom prst="flowChartMultidocument">
            <a:avLst/>
          </a:prstGeom>
          <a:solidFill>
            <a:srgbClr val="6699ff">
              <a:alpha val="2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97920" y="1327320"/>
            <a:ext cx="139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ahoma"/>
              </a:rPr>
              <a:t>Потреб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4140360" y="2911320"/>
            <a:ext cx="1584000" cy="57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95280" y="3689280"/>
            <a:ext cx="8353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ширение существующих сайтов новыми функци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ие портала по работе с населе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силение служб для работы с население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лучшение доступа населения к информационным услуг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1"/>
          <a:srcRect l="3905" t="12736" r="34555" b="7982"/>
          <a:stretch/>
        </p:blipFill>
        <p:spPr>
          <a:xfrm>
            <a:off x="2987640" y="1974960"/>
            <a:ext cx="1297080" cy="973080"/>
          </a:xfrm>
          <a:prstGeom prst="rect">
            <a:avLst/>
          </a:prstGeom>
          <a:ln w="0">
            <a:noFill/>
          </a:ln>
        </p:spPr>
      </p:pic>
      <p:grpSp>
        <p:nvGrpSpPr>
          <p:cNvPr id="1238" name=""/>
          <p:cNvGrpSpPr/>
          <p:nvPr/>
        </p:nvGrpSpPr>
        <p:grpSpPr>
          <a:xfrm>
            <a:off x="971640" y="1758960"/>
            <a:ext cx="1368360" cy="1741320"/>
            <a:chOff x="971640" y="1758960"/>
            <a:chExt cx="1368360" cy="1741320"/>
          </a:xfrm>
        </p:grpSpPr>
        <p:pic>
          <p:nvPicPr>
            <p:cNvPr id="1239" name="" descr=""/>
            <p:cNvPicPr/>
            <p:nvPr/>
          </p:nvPicPr>
          <p:blipFill>
            <a:blip r:embed="rId2"/>
            <a:srcRect l="3905" t="12736" r="34555" b="7982"/>
            <a:stretch/>
          </p:blipFill>
          <p:spPr>
            <a:xfrm>
              <a:off x="971640" y="1758960"/>
              <a:ext cx="136836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3"/>
            <a:stretch/>
          </p:blipFill>
          <p:spPr>
            <a:xfrm>
              <a:off x="971640" y="2622600"/>
              <a:ext cx="1368360" cy="87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1" name=""/>
          <p:cNvSpPr/>
          <p:nvPr/>
        </p:nvSpPr>
        <p:spPr>
          <a:xfrm>
            <a:off x="0" y="115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Условия 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159-132F-49E6-BF7A-BDE73419E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Существующие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964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лабое межведомственное взаимодейств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статочное обеспечение электронной связь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хватка средств на поддержание и обновление компьютерного обору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кучесть кадров среди компьютерных специалистов и оператор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0F6-ACA6-4A3F-96B6-7D4E352191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9280" y="2746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Формирование Единой информационной системы здравоохранения (200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6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-20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57200" y="1600200"/>
            <a:ext cx="8686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ение электронной почтой всех учреждений здравоохра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мимо общепринятых "бумажных" историй болезни, амбулаторных карт, внедрить их объединенный индивидуальный электронный эквивалент (так называемый "Электронный паспорт здоровья"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работка и внедрение медицинских информационных стандартов в управлении информационными пото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звитие и внедрение в здравоохранении телемедицинских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лучшение доступа населения к информационным 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слугам и усиление служб для работы с населени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FC9-1042-457F-8158-6233D35B03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7" name=""/>
            <p:cNvSpPr/>
            <p:nvPr/>
          </p:nvSpPr>
          <p:spPr>
            <a:xfrm>
              <a:off x="0" y="0"/>
              <a:ext cx="1219320" cy="6858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4920" y="0"/>
              <a:ext cx="9109080" cy="6858000"/>
              <a:chOff x="34920" y="0"/>
              <a:chExt cx="9109080" cy="6858000"/>
            </a:xfrm>
          </p:grpSpPr>
          <p:sp>
            <p:nvSpPr>
              <p:cNvPr id="169" name=""/>
              <p:cNvSpPr/>
              <p:nvPr/>
            </p:nvSpPr>
            <p:spPr>
              <a:xfrm>
                <a:off x="1219320" y="0"/>
                <a:ext cx="7924680" cy="6858000"/>
              </a:xfrm>
              <a:prstGeom prst="rect">
                <a:avLst/>
              </a:prstGeom>
              <a:solidFill>
                <a:srgbClr val="0066cc"/>
              </a:solidFill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71600" y="115920"/>
                <a:ext cx="101772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Уровень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ЛПУ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920" y="115920"/>
                <a:ext cx="1108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 Narrow"/>
                  </a:rPr>
                  <a:t>Областной уровень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1523880" y="476280"/>
                <a:ext cx="7368840" cy="6120720"/>
                <a:chOff x="1523880" y="476280"/>
                <a:chExt cx="7368840" cy="612072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523880" y="1219320"/>
                  <a:ext cx="3429000" cy="3001680"/>
                  <a:chOff x="1523880" y="1219320"/>
                  <a:chExt cx="3429000" cy="3001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1523880" y="1219320"/>
                    <a:ext cx="3429000" cy="380880"/>
                  </a:xfrm>
                  <a:prstGeom prst="rect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ff"/>
                        </a:solidFill>
                        <a:latin typeface="Courier New"/>
                      </a:rPr>
                      <a:t>МИО ЦСМ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1523880" y="2666880"/>
                    <a:ext cx="3429000" cy="1554120"/>
                    <a:chOff x="1523880" y="2666880"/>
                    <a:chExt cx="3429000" cy="155412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1523880" y="2666880"/>
                      <a:ext cx="3429000" cy="155412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Центр вв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4240080" y="2895480"/>
                      <a:ext cx="560160" cy="1218960"/>
                      <a:chOff x="4240080" y="2895480"/>
                      <a:chExt cx="560160" cy="1218960"/>
                    </a:xfrm>
                  </p:grpSpPr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240080" y="2895480"/>
                        <a:ext cx="560160" cy="533160"/>
                        <a:chOff x="4240080" y="2895480"/>
                        <a:chExt cx="560160" cy="5331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240080" y="2895480"/>
                          <a:ext cx="560160" cy="53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345920" y="3342960"/>
                          <a:ext cx="34776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240080" y="2895480"/>
                          <a:ext cx="560160" cy="53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4432680" y="3326400"/>
                          <a:ext cx="174600" cy="288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4432680" y="3310920"/>
                          <a:ext cx="17460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4345920" y="3295080"/>
                          <a:ext cx="34776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4284720" y="2946240"/>
                          <a:ext cx="462240" cy="47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352">
                              <a:moveTo>
                                <a:pt x="31" y="318"/>
                              </a:moveTo>
                              <a:lnTo>
                                <a:pt x="94" y="318"/>
                              </a:lnTo>
                              <a:lnTo>
                                <a:pt x="94" y="309"/>
                              </a:lnTo>
                              <a:lnTo>
                                <a:pt x="31" y="309"/>
                              </a:lnTo>
                              <a:lnTo>
                                <a:pt x="31" y="318"/>
                              </a:lnTo>
                              <a:close/>
                              <a:moveTo>
                                <a:pt x="12" y="352"/>
                              </a:moveTo>
                              <a:lnTo>
                                <a:pt x="26" y="339"/>
                              </a:lnTo>
                              <a:lnTo>
                                <a:pt x="12" y="327"/>
                              </a:lnTo>
                              <a:lnTo>
                                <a:pt x="0" y="339"/>
                              </a:lnTo>
                              <a:lnTo>
                                <a:pt x="12" y="352"/>
                              </a:lnTo>
                              <a:close/>
                              <a:moveTo>
                                <a:pt x="31" y="198"/>
                              </a:moveTo>
                              <a:lnTo>
                                <a:pt x="31" y="24"/>
                              </a:lnTo>
                              <a:lnTo>
                                <a:pt x="308" y="24"/>
                              </a:lnTo>
                              <a:lnTo>
                                <a:pt x="308" y="198"/>
                              </a:lnTo>
                              <a:lnTo>
                                <a:pt x="31" y="198"/>
                              </a:lnTo>
                              <a:close/>
                              <a:moveTo>
                                <a:pt x="19" y="216"/>
                              </a:moveTo>
                              <a:lnTo>
                                <a:pt x="327" y="216"/>
                              </a:lnTo>
                              <a:lnTo>
                                <a:pt x="327" y="12"/>
                              </a:lnTo>
                              <a:lnTo>
                                <a:pt x="334" y="12"/>
                              </a:lnTo>
                              <a:lnTo>
                                <a:pt x="334" y="0"/>
                              </a:lnTo>
                              <a:lnTo>
                                <a:pt x="7" y="0"/>
                              </a:lnTo>
                              <a:lnTo>
                                <a:pt x="7" y="222"/>
                              </a:lnTo>
                              <a:lnTo>
                                <a:pt x="19" y="222"/>
                              </a:lnTo>
                              <a:lnTo>
                                <a:pt x="19" y="216"/>
                              </a:lnTo>
                              <a:close/>
                              <a:moveTo>
                                <a:pt x="315" y="247"/>
                              </a:moveTo>
                              <a:lnTo>
                                <a:pt x="334" y="247"/>
                              </a:lnTo>
                              <a:lnTo>
                                <a:pt x="334" y="240"/>
                              </a:lnTo>
                              <a:lnTo>
                                <a:pt x="315" y="240"/>
                              </a:lnTo>
                              <a:lnTo>
                                <a:pt x="315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4334760" y="3402000"/>
                          <a:ext cx="72360" cy="13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>
                          <a:off x="4273200" y="3358800"/>
                          <a:ext cx="48996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4273200" y="3372120"/>
                          <a:ext cx="48996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4334760" y="3402000"/>
                          <a:ext cx="72360" cy="13320"/>
                        </a:xfrm>
                        <a:prstGeom prst="rect">
                          <a:avLst/>
                        </a:prstGeom>
                        <a:noFill/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4334760" y="3380760"/>
                          <a:ext cx="111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4387680" y="33807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4412880" y="3407400"/>
                          <a:ext cx="1044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4440600" y="33807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4466160" y="3407400"/>
                          <a:ext cx="1044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4493880" y="33807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4521600" y="3407400"/>
                          <a:ext cx="540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4546080" y="3380760"/>
                          <a:ext cx="864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4571640" y="34074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4599360" y="33807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4624560" y="3407400"/>
                          <a:ext cx="1116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4652280" y="33807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4677480" y="34074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4702320" y="3380760"/>
                          <a:ext cx="111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4730760" y="34074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05" name=""/>
                      <p:cNvGrpSpPr/>
                      <p:nvPr/>
                    </p:nvGrpSpPr>
                    <p:grpSpPr>
                      <a:xfrm>
                        <a:off x="4240080" y="3581280"/>
                        <a:ext cx="560160" cy="533160"/>
                        <a:chOff x="4240080" y="3581280"/>
                        <a:chExt cx="560160" cy="533160"/>
                      </a:xfrm>
                    </p:grpSpPr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4240080" y="3581280"/>
                          <a:ext cx="560160" cy="53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4345920" y="4028760"/>
                          <a:ext cx="34776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240080" y="3581280"/>
                          <a:ext cx="560160" cy="53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432680" y="4012200"/>
                          <a:ext cx="174600" cy="288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4432680" y="3996720"/>
                          <a:ext cx="17460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345920" y="3980880"/>
                          <a:ext cx="34776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4284720" y="3632040"/>
                          <a:ext cx="462240" cy="471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352">
                              <a:moveTo>
                                <a:pt x="31" y="318"/>
                              </a:moveTo>
                              <a:lnTo>
                                <a:pt x="94" y="318"/>
                              </a:lnTo>
                              <a:lnTo>
                                <a:pt x="94" y="309"/>
                              </a:lnTo>
                              <a:lnTo>
                                <a:pt x="31" y="309"/>
                              </a:lnTo>
                              <a:lnTo>
                                <a:pt x="31" y="318"/>
                              </a:lnTo>
                              <a:close/>
                              <a:moveTo>
                                <a:pt x="12" y="352"/>
                              </a:moveTo>
                              <a:lnTo>
                                <a:pt x="26" y="339"/>
                              </a:lnTo>
                              <a:lnTo>
                                <a:pt x="12" y="327"/>
                              </a:lnTo>
                              <a:lnTo>
                                <a:pt x="0" y="339"/>
                              </a:lnTo>
                              <a:lnTo>
                                <a:pt x="12" y="352"/>
                              </a:lnTo>
                              <a:close/>
                              <a:moveTo>
                                <a:pt x="31" y="198"/>
                              </a:moveTo>
                              <a:lnTo>
                                <a:pt x="31" y="24"/>
                              </a:lnTo>
                              <a:lnTo>
                                <a:pt x="308" y="24"/>
                              </a:lnTo>
                              <a:lnTo>
                                <a:pt x="308" y="198"/>
                              </a:lnTo>
                              <a:lnTo>
                                <a:pt x="31" y="198"/>
                              </a:lnTo>
                              <a:close/>
                              <a:moveTo>
                                <a:pt x="19" y="216"/>
                              </a:moveTo>
                              <a:lnTo>
                                <a:pt x="327" y="216"/>
                              </a:lnTo>
                              <a:lnTo>
                                <a:pt x="327" y="12"/>
                              </a:lnTo>
                              <a:lnTo>
                                <a:pt x="334" y="12"/>
                              </a:lnTo>
                              <a:lnTo>
                                <a:pt x="334" y="0"/>
                              </a:lnTo>
                              <a:lnTo>
                                <a:pt x="7" y="0"/>
                              </a:lnTo>
                              <a:lnTo>
                                <a:pt x="7" y="222"/>
                              </a:lnTo>
                              <a:lnTo>
                                <a:pt x="19" y="222"/>
                              </a:lnTo>
                              <a:lnTo>
                                <a:pt x="19" y="216"/>
                              </a:lnTo>
                              <a:close/>
                              <a:moveTo>
                                <a:pt x="315" y="247"/>
                              </a:moveTo>
                              <a:lnTo>
                                <a:pt x="334" y="247"/>
                              </a:lnTo>
                              <a:lnTo>
                                <a:pt x="334" y="240"/>
                              </a:lnTo>
                              <a:lnTo>
                                <a:pt x="315" y="240"/>
                              </a:lnTo>
                              <a:lnTo>
                                <a:pt x="315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4334760" y="4087800"/>
                          <a:ext cx="72360" cy="133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4273200" y="4044600"/>
                          <a:ext cx="48996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4273200" y="4057920"/>
                          <a:ext cx="489960" cy="288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"/>
                        <p:cNvSpPr/>
                        <p:nvPr/>
                      </p:nvSpPr>
                      <p:spPr>
                        <a:xfrm>
                          <a:off x="4334760" y="4087800"/>
                          <a:ext cx="72360" cy="13320"/>
                        </a:xfrm>
                        <a:prstGeom prst="rect">
                          <a:avLst/>
                        </a:prstGeom>
                        <a:noFill/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7" name=""/>
                        <p:cNvSpPr/>
                        <p:nvPr/>
                      </p:nvSpPr>
                      <p:spPr>
                        <a:xfrm>
                          <a:off x="4334760" y="4066560"/>
                          <a:ext cx="111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" name=""/>
                        <p:cNvSpPr/>
                        <p:nvPr/>
                      </p:nvSpPr>
                      <p:spPr>
                        <a:xfrm>
                          <a:off x="4387680" y="40665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>
                          <a:off x="4412880" y="4093200"/>
                          <a:ext cx="1044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>
                          <a:off x="4440600" y="40665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>
                          <a:off x="4466160" y="4093200"/>
                          <a:ext cx="1044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>
                          <a:off x="4493880" y="40665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>
                          <a:off x="4521600" y="4093200"/>
                          <a:ext cx="540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>
                          <a:off x="4546080" y="4066560"/>
                          <a:ext cx="864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>
                          <a:off x="4571640" y="40932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>
                          <a:off x="4599360" y="40665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>
                          <a:off x="4624560" y="4093200"/>
                          <a:ext cx="1116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>
                          <a:off x="4652280" y="4066560"/>
                          <a:ext cx="7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>
                          <a:off x="4677480" y="40932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>
                          <a:off x="4702320" y="4066560"/>
                          <a:ext cx="1116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>
                          <a:off x="4730760" y="4093200"/>
                          <a:ext cx="7920" cy="1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1600200" y="3505320"/>
                      <a:ext cx="579240" cy="456120"/>
                      <a:chOff x="1600200" y="3505320"/>
                      <a:chExt cx="579240" cy="456120"/>
                    </a:xfrm>
                  </p:grpSpPr>
                  <p:grpSp>
                    <p:nvGrpSpPr>
                      <p:cNvPr id="233" name=""/>
                      <p:cNvGrpSpPr/>
                      <p:nvPr/>
                    </p:nvGrpSpPr>
                    <p:grpSpPr>
                      <a:xfrm>
                        <a:off x="1680480" y="3871800"/>
                        <a:ext cx="412560" cy="89640"/>
                        <a:chOff x="1680480" y="3871800"/>
                        <a:chExt cx="412560" cy="89640"/>
                      </a:xfrm>
                    </p:grpSpPr>
                    <p:grpSp>
                      <p:nvGrpSpPr>
                        <p:cNvPr id="234" name=""/>
                        <p:cNvGrpSpPr/>
                        <p:nvPr/>
                      </p:nvGrpSpPr>
                      <p:grpSpPr>
                        <a:xfrm>
                          <a:off x="1680480" y="3871800"/>
                          <a:ext cx="412560" cy="89640"/>
                          <a:chOff x="1680480" y="3871800"/>
                          <a:chExt cx="412560" cy="89640"/>
                        </a:xfrm>
                      </p:grpSpPr>
                      <p:sp>
                        <p:nvSpPr>
                          <p:cNvPr id="235" name=""/>
                          <p:cNvSpPr/>
                          <p:nvPr/>
                        </p:nvSpPr>
                        <p:spPr>
                          <a:xfrm>
                            <a:off x="1680480" y="3871800"/>
                            <a:ext cx="412560" cy="896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79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6" name=""/>
                          <p:cNvSpPr/>
                          <p:nvPr/>
                        </p:nvSpPr>
                        <p:spPr>
                          <a:xfrm>
                            <a:off x="1702080" y="3906360"/>
                            <a:ext cx="19440" cy="2196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"/>
                          <p:cNvSpPr/>
                          <p:nvPr/>
                        </p:nvSpPr>
                        <p:spPr>
                          <a:xfrm>
                            <a:off x="1857240" y="3906360"/>
                            <a:ext cx="214200" cy="21960"/>
                          </a:xfrm>
                          <a:prstGeom prst="rect">
                            <a:avLst/>
                          </a:prstGeom>
                          <a:noFill/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1867320" y="3911400"/>
                          <a:ext cx="19440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14">
                              <a:moveTo>
                                <a:pt x="40" y="14"/>
                              </a:moveTo>
                              <a:lnTo>
                                <a:pt x="51" y="14"/>
                              </a:lnTo>
                              <a:lnTo>
                                <a:pt x="51" y="0"/>
                              </a:lnTo>
                              <a:lnTo>
                                <a:pt x="40" y="0"/>
                              </a:lnTo>
                              <a:lnTo>
                                <a:pt x="40" y="14"/>
                              </a:lnTo>
                              <a:close/>
                              <a:moveTo>
                                <a:pt x="21" y="14"/>
                              </a:moveTo>
                              <a:lnTo>
                                <a:pt x="32" y="14"/>
                              </a:lnTo>
                              <a:lnTo>
                                <a:pt x="32" y="0"/>
                              </a:lnTo>
                              <a:lnTo>
                                <a:pt x="21" y="0"/>
                              </a:lnTo>
                              <a:lnTo>
                                <a:pt x="21" y="14"/>
                              </a:lnTo>
                              <a:close/>
                              <a:moveTo>
                                <a:pt x="0" y="14"/>
                              </a:moveTo>
                              <a:lnTo>
                                <a:pt x="10" y="14"/>
                              </a:lnTo>
                              <a:lnTo>
                                <a:pt x="10" y="0"/>
                              </a:lnTo>
                              <a:lnTo>
                                <a:pt x="0" y="0"/>
                              </a:lnTo>
                              <a:lnTo>
                                <a:pt x="0" y="14"/>
                              </a:lnTo>
                              <a:close/>
                              <a:moveTo>
                                <a:pt x="72" y="14"/>
                              </a:moveTo>
                              <a:lnTo>
                                <a:pt x="83" y="14"/>
                              </a:lnTo>
                              <a:lnTo>
                                <a:pt x="83" y="0"/>
                              </a:lnTo>
                              <a:lnTo>
                                <a:pt x="72" y="0"/>
                              </a:lnTo>
                              <a:lnTo>
                                <a:pt x="72" y="14"/>
                              </a:lnTo>
                              <a:close/>
                              <a:moveTo>
                                <a:pt x="104" y="14"/>
                              </a:moveTo>
                              <a:lnTo>
                                <a:pt x="115" y="14"/>
                              </a:lnTo>
                              <a:lnTo>
                                <a:pt x="115" y="0"/>
                              </a:lnTo>
                              <a:lnTo>
                                <a:pt x="104" y="0"/>
                              </a:lnTo>
                              <a:lnTo>
                                <a:pt x="104" y="14"/>
                              </a:lnTo>
                              <a:close/>
                              <a:moveTo>
                                <a:pt x="125" y="14"/>
                              </a:moveTo>
                              <a:lnTo>
                                <a:pt x="136" y="14"/>
                              </a:lnTo>
                              <a:lnTo>
                                <a:pt x="136" y="0"/>
                              </a:lnTo>
                              <a:lnTo>
                                <a:pt x="125" y="0"/>
                              </a:lnTo>
                              <a:lnTo>
                                <a:pt x="125" y="14"/>
                              </a:lnTo>
                              <a:close/>
                              <a:moveTo>
                                <a:pt x="147" y="14"/>
                              </a:moveTo>
                              <a:lnTo>
                                <a:pt x="156" y="14"/>
                              </a:lnTo>
                              <a:lnTo>
                                <a:pt x="156" y="0"/>
                              </a:lnTo>
                              <a:lnTo>
                                <a:pt x="147" y="0"/>
                              </a:lnTo>
                              <a:lnTo>
                                <a:pt x="147" y="14"/>
                              </a:lnTo>
                              <a:close/>
                              <a:moveTo>
                                <a:pt x="166" y="14"/>
                              </a:moveTo>
                              <a:lnTo>
                                <a:pt x="177" y="14"/>
                              </a:lnTo>
                              <a:lnTo>
                                <a:pt x="177" y="0"/>
                              </a:lnTo>
                              <a:lnTo>
                                <a:pt x="166" y="0"/>
                              </a:lnTo>
                              <a:lnTo>
                                <a:pt x="166" y="14"/>
                              </a:lnTo>
                              <a:close/>
                              <a:moveTo>
                                <a:pt x="187" y="14"/>
                              </a:moveTo>
                              <a:lnTo>
                                <a:pt x="198" y="14"/>
                              </a:lnTo>
                              <a:lnTo>
                                <a:pt x="198" y="0"/>
                              </a:lnTo>
                              <a:lnTo>
                                <a:pt x="187" y="0"/>
                              </a:lnTo>
                              <a:lnTo>
                                <a:pt x="187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9" name=""/>
                      <p:cNvSpPr/>
                      <p:nvPr/>
                    </p:nvSpPr>
                    <p:spPr>
                      <a:xfrm>
                        <a:off x="1600200" y="3505320"/>
                        <a:ext cx="579240" cy="213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876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400" spc="-1" strike="noStrike">
                            <a:solidFill>
                              <a:srgbClr val="ffffff"/>
                            </a:solidFill>
                            <a:latin typeface="Arial Narrow"/>
                          </a:rPr>
                          <a:t>модем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2667960" y="3048120"/>
                      <a:ext cx="989640" cy="989280"/>
                      <a:chOff x="2667960" y="3048120"/>
                      <a:chExt cx="989640" cy="989280"/>
                    </a:xfrm>
                  </p:grpSpPr>
                  <p:sp>
                    <p:nvSpPr>
                      <p:cNvPr id="241" name=""/>
                      <p:cNvSpPr/>
                      <p:nvPr/>
                    </p:nvSpPr>
                    <p:spPr>
                      <a:xfrm flipH="1">
                        <a:off x="2667600" y="3048120"/>
                        <a:ext cx="98964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397">
                            <a:moveTo>
                              <a:pt x="0" y="298"/>
                            </a:moveTo>
                            <a:lnTo>
                              <a:pt x="75" y="298"/>
                            </a:lnTo>
                            <a:lnTo>
                              <a:pt x="138" y="310"/>
                            </a:lnTo>
                            <a:lnTo>
                              <a:pt x="138" y="322"/>
                            </a:lnTo>
                            <a:lnTo>
                              <a:pt x="75" y="322"/>
                            </a:lnTo>
                            <a:lnTo>
                              <a:pt x="75" y="335"/>
                            </a:lnTo>
                            <a:lnTo>
                              <a:pt x="24" y="335"/>
                            </a:lnTo>
                            <a:lnTo>
                              <a:pt x="24" y="397"/>
                            </a:lnTo>
                            <a:lnTo>
                              <a:pt x="377" y="397"/>
                            </a:lnTo>
                            <a:lnTo>
                              <a:pt x="377" y="335"/>
                            </a:lnTo>
                            <a:lnTo>
                              <a:pt x="326" y="335"/>
                            </a:lnTo>
                            <a:lnTo>
                              <a:pt x="326" y="322"/>
                            </a:lnTo>
                            <a:lnTo>
                              <a:pt x="264" y="322"/>
                            </a:lnTo>
                            <a:lnTo>
                              <a:pt x="264" y="310"/>
                            </a:lnTo>
                            <a:lnTo>
                              <a:pt x="326" y="298"/>
                            </a:lnTo>
                            <a:lnTo>
                              <a:pt x="402" y="298"/>
                            </a:lnTo>
                            <a:lnTo>
                              <a:pt x="402" y="0"/>
                            </a:lnTo>
                            <a:lnTo>
                              <a:pt x="0" y="0"/>
                            </a:lnTo>
                            <a:lnTo>
                              <a:pt x="0" y="29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 flipH="1">
                        <a:off x="2855520" y="3878640"/>
                        <a:ext cx="614880" cy="4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flipH="1">
                        <a:off x="2667600" y="3048120"/>
                        <a:ext cx="989640" cy="98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2" h="397">
                            <a:moveTo>
                              <a:pt x="0" y="298"/>
                            </a:moveTo>
                            <a:lnTo>
                              <a:pt x="75" y="298"/>
                            </a:lnTo>
                            <a:lnTo>
                              <a:pt x="138" y="310"/>
                            </a:lnTo>
                            <a:lnTo>
                              <a:pt x="138" y="322"/>
                            </a:lnTo>
                            <a:lnTo>
                              <a:pt x="75" y="322"/>
                            </a:lnTo>
                            <a:lnTo>
                              <a:pt x="75" y="335"/>
                            </a:lnTo>
                            <a:lnTo>
                              <a:pt x="24" y="335"/>
                            </a:lnTo>
                            <a:lnTo>
                              <a:pt x="24" y="397"/>
                            </a:lnTo>
                            <a:lnTo>
                              <a:pt x="377" y="397"/>
                            </a:lnTo>
                            <a:lnTo>
                              <a:pt x="377" y="335"/>
                            </a:lnTo>
                            <a:lnTo>
                              <a:pt x="326" y="335"/>
                            </a:lnTo>
                            <a:lnTo>
                              <a:pt x="326" y="322"/>
                            </a:lnTo>
                            <a:lnTo>
                              <a:pt x="264" y="322"/>
                            </a:lnTo>
                            <a:lnTo>
                              <a:pt x="264" y="310"/>
                            </a:lnTo>
                            <a:lnTo>
                              <a:pt x="326" y="298"/>
                            </a:lnTo>
                            <a:lnTo>
                              <a:pt x="402" y="298"/>
                            </a:lnTo>
                            <a:lnTo>
                              <a:pt x="402" y="0"/>
                            </a:lnTo>
                            <a:lnTo>
                              <a:pt x="0" y="0"/>
                            </a:lnTo>
                            <a:lnTo>
                              <a:pt x="0" y="298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flipH="1">
                        <a:off x="3008520" y="3848040"/>
                        <a:ext cx="308880" cy="540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H="1">
                        <a:off x="3008520" y="3818880"/>
                        <a:ext cx="308880" cy="4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flipH="1">
                        <a:off x="2855520" y="3789720"/>
                        <a:ext cx="614880" cy="43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flipH="1">
                        <a:off x="2761200" y="3142440"/>
                        <a:ext cx="816840" cy="87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352">
                            <a:moveTo>
                              <a:pt x="31" y="318"/>
                            </a:moveTo>
                            <a:lnTo>
                              <a:pt x="94" y="318"/>
                            </a:lnTo>
                            <a:lnTo>
                              <a:pt x="94" y="309"/>
                            </a:lnTo>
                            <a:lnTo>
                              <a:pt x="31" y="309"/>
                            </a:lnTo>
                            <a:lnTo>
                              <a:pt x="31" y="318"/>
                            </a:lnTo>
                            <a:close/>
                            <a:moveTo>
                              <a:pt x="12" y="352"/>
                            </a:moveTo>
                            <a:lnTo>
                              <a:pt x="26" y="339"/>
                            </a:lnTo>
                            <a:lnTo>
                              <a:pt x="12" y="327"/>
                            </a:lnTo>
                            <a:lnTo>
                              <a:pt x="0" y="339"/>
                            </a:lnTo>
                            <a:lnTo>
                              <a:pt x="12" y="352"/>
                            </a:lnTo>
                            <a:close/>
                            <a:moveTo>
                              <a:pt x="31" y="198"/>
                            </a:moveTo>
                            <a:lnTo>
                              <a:pt x="31" y="24"/>
                            </a:lnTo>
                            <a:lnTo>
                              <a:pt x="308" y="24"/>
                            </a:lnTo>
                            <a:lnTo>
                              <a:pt x="308" y="198"/>
                            </a:lnTo>
                            <a:lnTo>
                              <a:pt x="31" y="198"/>
                            </a:lnTo>
                            <a:close/>
                            <a:moveTo>
                              <a:pt x="19" y="216"/>
                            </a:moveTo>
                            <a:lnTo>
                              <a:pt x="327" y="216"/>
                            </a:lnTo>
                            <a:lnTo>
                              <a:pt x="327" y="12"/>
                            </a:lnTo>
                            <a:lnTo>
                              <a:pt x="334" y="12"/>
                            </a:lnTo>
                            <a:lnTo>
                              <a:pt x="334" y="0"/>
                            </a:lnTo>
                            <a:lnTo>
                              <a:pt x="7" y="0"/>
                            </a:lnTo>
                            <a:lnTo>
                              <a:pt x="7" y="222"/>
                            </a:lnTo>
                            <a:lnTo>
                              <a:pt x="19" y="222"/>
                            </a:lnTo>
                            <a:lnTo>
                              <a:pt x="19" y="216"/>
                            </a:lnTo>
                            <a:close/>
                            <a:moveTo>
                              <a:pt x="315" y="247"/>
                            </a:moveTo>
                            <a:lnTo>
                              <a:pt x="334" y="247"/>
                            </a:lnTo>
                            <a:lnTo>
                              <a:pt x="334" y="240"/>
                            </a:lnTo>
                            <a:lnTo>
                              <a:pt x="315" y="240"/>
                            </a:lnTo>
                            <a:lnTo>
                              <a:pt x="315" y="2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flipH="1">
                        <a:off x="3362040" y="3988080"/>
                        <a:ext cx="128160" cy="24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 flipH="1">
                        <a:off x="2732760" y="3907800"/>
                        <a:ext cx="865800" cy="54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 flipH="1">
                        <a:off x="2732760" y="3932640"/>
                        <a:ext cx="865800" cy="5400"/>
                      </a:xfrm>
                      <a:prstGeom prst="line">
                        <a:avLst/>
                      </a:prstGeom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flipH="1">
                        <a:off x="3362040" y="3988080"/>
                        <a:ext cx="128160" cy="24480"/>
                      </a:xfrm>
                      <a:prstGeom prst="rect">
                        <a:avLst/>
                      </a:prstGeom>
                      <a:noFill/>
                      <a:ln w="1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flipH="1">
                        <a:off x="3470040" y="3948480"/>
                        <a:ext cx="198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flipH="1">
                        <a:off x="3382200" y="3948480"/>
                        <a:ext cx="144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>
                        <a:off x="3333240" y="39981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H="1">
                        <a:off x="3288600" y="3948480"/>
                        <a:ext cx="144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flipH="1">
                        <a:off x="3239640" y="3998160"/>
                        <a:ext cx="18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 flipH="1">
                        <a:off x="3194640" y="3948480"/>
                        <a:ext cx="144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9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5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 flipH="1">
                        <a:off x="3150000" y="3998160"/>
                        <a:ext cx="972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flipH="1">
                        <a:off x="3100680" y="3948480"/>
                        <a:ext cx="154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9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5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flipH="1">
                        <a:off x="3057480" y="399816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9">
                            <a:moveTo>
                              <a:pt x="5" y="0"/>
                            </a:moveTo>
                            <a:lnTo>
                              <a:pt x="0" y="4"/>
                            </a:lnTo>
                            <a:lnTo>
                              <a:pt x="5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flipH="1">
                        <a:off x="3008160" y="3948480"/>
                        <a:ext cx="144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flipH="1">
                        <a:off x="2957760" y="3998160"/>
                        <a:ext cx="19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flipH="1">
                        <a:off x="2914560" y="3948480"/>
                        <a:ext cx="144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flipH="1">
                        <a:off x="2869920" y="399816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H="1">
                        <a:off x="2820600" y="3948480"/>
                        <a:ext cx="1980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9">
                            <a:moveTo>
                              <a:pt x="6" y="0"/>
                            </a:moveTo>
                            <a:lnTo>
                              <a:pt x="0" y="4"/>
                            </a:lnTo>
                            <a:lnTo>
                              <a:pt x="6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 flipH="1">
                        <a:off x="2776320" y="3998160"/>
                        <a:ext cx="144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9">
                            <a:moveTo>
                              <a:pt x="7" y="0"/>
                            </a:moveTo>
                            <a:lnTo>
                              <a:pt x="0" y="4"/>
                            </a:lnTo>
                            <a:lnTo>
                              <a:pt x="7" y="9"/>
                            </a:lnTo>
                          </a:path>
                        </a:pathLst>
                      </a:custGeom>
                      <a:noFill/>
                      <a:ln w="1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523880" y="1600200"/>
                    <a:ext cx="3429000" cy="1066680"/>
                    <a:chOff x="1523880" y="1600200"/>
                    <a:chExt cx="3429000" cy="106668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1523880" y="1600200"/>
                      <a:ext cx="3429000" cy="106668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абинет статистики и анали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2209680" y="1905120"/>
                      <a:ext cx="1981440" cy="609480"/>
                      <a:chOff x="2209680" y="1905120"/>
                      <a:chExt cx="1981440" cy="609480"/>
                    </a:xfrm>
                  </p:grpSpPr>
                  <p:grpSp>
                    <p:nvGrpSpPr>
                      <p:cNvPr id="270" name=""/>
                      <p:cNvGrpSpPr/>
                      <p:nvPr/>
                    </p:nvGrpSpPr>
                    <p:grpSpPr>
                      <a:xfrm>
                        <a:off x="3657600" y="2057400"/>
                        <a:ext cx="533520" cy="457200"/>
                        <a:chOff x="3657600" y="2057400"/>
                        <a:chExt cx="533520" cy="457200"/>
                      </a:xfrm>
                    </p:grpSpPr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H="1">
                          <a:off x="3657600" y="2057400"/>
                          <a:ext cx="533520" cy="45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37" h="500">
                              <a:moveTo>
                                <a:pt x="29" y="500"/>
                              </a:moveTo>
                              <a:lnTo>
                                <a:pt x="114" y="471"/>
                              </a:lnTo>
                              <a:lnTo>
                                <a:pt x="58" y="472"/>
                              </a:lnTo>
                              <a:lnTo>
                                <a:pt x="143" y="442"/>
                              </a:lnTo>
                              <a:lnTo>
                                <a:pt x="86" y="442"/>
                              </a:lnTo>
                              <a:lnTo>
                                <a:pt x="169" y="414"/>
                              </a:lnTo>
                              <a:lnTo>
                                <a:pt x="114" y="414"/>
                              </a:lnTo>
                              <a:lnTo>
                                <a:pt x="198" y="387"/>
                              </a:lnTo>
                              <a:lnTo>
                                <a:pt x="57" y="387"/>
                              </a:lnTo>
                              <a:lnTo>
                                <a:pt x="143" y="359"/>
                              </a:lnTo>
                              <a:lnTo>
                                <a:pt x="0" y="359"/>
                              </a:lnTo>
                              <a:lnTo>
                                <a:pt x="169" y="303"/>
                              </a:lnTo>
                              <a:lnTo>
                                <a:pt x="29" y="303"/>
                              </a:lnTo>
                              <a:lnTo>
                                <a:pt x="141" y="269"/>
                              </a:lnTo>
                              <a:lnTo>
                                <a:pt x="63" y="269"/>
                              </a:lnTo>
                              <a:lnTo>
                                <a:pt x="729" y="0"/>
                              </a:lnTo>
                              <a:lnTo>
                                <a:pt x="2079" y="0"/>
                              </a:lnTo>
                              <a:lnTo>
                                <a:pt x="1943" y="49"/>
                              </a:lnTo>
                              <a:lnTo>
                                <a:pt x="2137" y="49"/>
                              </a:lnTo>
                              <a:lnTo>
                                <a:pt x="1884" y="133"/>
                              </a:lnTo>
                              <a:lnTo>
                                <a:pt x="2025" y="133"/>
                              </a:lnTo>
                              <a:lnTo>
                                <a:pt x="1941" y="162"/>
                              </a:lnTo>
                              <a:lnTo>
                                <a:pt x="2081" y="162"/>
                              </a:lnTo>
                              <a:lnTo>
                                <a:pt x="1998" y="189"/>
                              </a:lnTo>
                              <a:lnTo>
                                <a:pt x="2137" y="189"/>
                              </a:lnTo>
                              <a:lnTo>
                                <a:pt x="2053" y="218"/>
                              </a:lnTo>
                              <a:lnTo>
                                <a:pt x="2110" y="218"/>
                              </a:lnTo>
                              <a:lnTo>
                                <a:pt x="2042" y="241"/>
                              </a:lnTo>
                              <a:lnTo>
                                <a:pt x="2081" y="246"/>
                              </a:lnTo>
                              <a:lnTo>
                                <a:pt x="1998" y="273"/>
                              </a:lnTo>
                              <a:lnTo>
                                <a:pt x="2053" y="273"/>
                              </a:lnTo>
                              <a:lnTo>
                                <a:pt x="1379" y="500"/>
                              </a:lnTo>
                              <a:lnTo>
                                <a:pt x="29" y="50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>
                          <a:off x="3704040" y="2104200"/>
                          <a:ext cx="428760" cy="20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02" h="220">
                              <a:moveTo>
                                <a:pt x="0" y="220"/>
                              </a:moveTo>
                              <a:lnTo>
                                <a:pt x="1125" y="220"/>
                              </a:lnTo>
                              <a:lnTo>
                                <a:pt x="1802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3717720" y="2179440"/>
                          <a:ext cx="408240" cy="156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5" h="170">
                              <a:moveTo>
                                <a:pt x="0" y="170"/>
                              </a:moveTo>
                              <a:lnTo>
                                <a:pt x="1210" y="170"/>
                              </a:lnTo>
                              <a:lnTo>
                                <a:pt x="1715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>
                          <a:off x="3704040" y="2208240"/>
                          <a:ext cx="428040" cy="17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98" h="196">
                              <a:moveTo>
                                <a:pt x="0" y="196"/>
                              </a:moveTo>
                              <a:lnTo>
                                <a:pt x="1207" y="196"/>
                              </a:lnTo>
                              <a:lnTo>
                                <a:pt x="1798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>
                          <a:off x="3690360" y="2233080"/>
                          <a:ext cx="435240" cy="18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29" h="196">
                              <a:moveTo>
                                <a:pt x="0" y="196"/>
                              </a:moveTo>
                              <a:lnTo>
                                <a:pt x="1227" y="196"/>
                              </a:lnTo>
                              <a:lnTo>
                                <a:pt x="1829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3678120" y="2259720"/>
                          <a:ext cx="447840" cy="18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82" h="196">
                              <a:moveTo>
                                <a:pt x="0" y="196"/>
                              </a:moveTo>
                              <a:lnTo>
                                <a:pt x="1294" y="196"/>
                              </a:lnTo>
                              <a:lnTo>
                                <a:pt x="1882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>
                          <a:off x="3680280" y="2279880"/>
                          <a:ext cx="452160" cy="18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99" h="201">
                              <a:moveTo>
                                <a:pt x="0" y="201"/>
                              </a:moveTo>
                              <a:lnTo>
                                <a:pt x="1293" y="201"/>
                              </a:lnTo>
                              <a:lnTo>
                                <a:pt x="1899" y="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8" name=""/>
                      <p:cNvGrpSpPr/>
                      <p:nvPr/>
                    </p:nvGrpSpPr>
                    <p:grpSpPr>
                      <a:xfrm>
                        <a:off x="2895840" y="2286000"/>
                        <a:ext cx="685080" cy="228240"/>
                        <a:chOff x="2895840" y="2286000"/>
                        <a:chExt cx="685080" cy="228240"/>
                      </a:xfrm>
                    </p:grpSpPr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>
                          <a:off x="3395880" y="2390040"/>
                          <a:ext cx="185040" cy="73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" h="71">
                              <a:moveTo>
                                <a:pt x="151" y="9"/>
                              </a:moveTo>
                              <a:lnTo>
                                <a:pt x="151" y="71"/>
                              </a:lnTo>
                              <a:lnTo>
                                <a:pt x="0" y="21"/>
                              </a:lnTo>
                              <a:lnTo>
                                <a:pt x="9" y="0"/>
                              </a:lnTo>
                              <a:lnTo>
                                <a:pt x="112" y="33"/>
                              </a:lnTo>
                              <a:lnTo>
                                <a:pt x="151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>
                          <a:off x="2895480" y="2286000"/>
                          <a:ext cx="500040" cy="22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2913120" y="2487960"/>
                          <a:ext cx="465480" cy="18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3207600" y="2312280"/>
                          <a:ext cx="12600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2895480" y="2286000"/>
                          <a:ext cx="500040" cy="22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>
                          <a:off x="2927520" y="2375640"/>
                          <a:ext cx="9432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2927520" y="2349360"/>
                          <a:ext cx="943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2896200" y="2439000"/>
                          <a:ext cx="50004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2927520" y="2385720"/>
                          <a:ext cx="9432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2927520" y="2361240"/>
                          <a:ext cx="9432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>
                          <a:off x="2927520" y="2336760"/>
                          <a:ext cx="9432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0" name=""/>
                      <p:cNvGrpSpPr/>
                      <p:nvPr/>
                    </p:nvGrpSpPr>
                    <p:grpSpPr>
                      <a:xfrm>
                        <a:off x="2209680" y="1905120"/>
                        <a:ext cx="533160" cy="609120"/>
                        <a:chOff x="2209680" y="1905120"/>
                        <a:chExt cx="533160" cy="609120"/>
                      </a:xfrm>
                    </p:grpSpPr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>
                          <a:off x="2209680" y="1905120"/>
                          <a:ext cx="533160" cy="6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>
                          <a:off x="2310480" y="2416320"/>
                          <a:ext cx="331200" cy="252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209680" y="1905120"/>
                          <a:ext cx="533160" cy="6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392920" y="2397600"/>
                          <a:ext cx="166320" cy="32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392920" y="2379600"/>
                          <a:ext cx="166320" cy="252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310480" y="2361600"/>
                          <a:ext cx="331200" cy="252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252160" y="1963080"/>
                          <a:ext cx="439920" cy="538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352">
                              <a:moveTo>
                                <a:pt x="31" y="318"/>
                              </a:moveTo>
                              <a:lnTo>
                                <a:pt x="94" y="318"/>
                              </a:lnTo>
                              <a:lnTo>
                                <a:pt x="94" y="309"/>
                              </a:lnTo>
                              <a:lnTo>
                                <a:pt x="31" y="309"/>
                              </a:lnTo>
                              <a:lnTo>
                                <a:pt x="31" y="318"/>
                              </a:lnTo>
                              <a:close/>
                              <a:moveTo>
                                <a:pt x="12" y="352"/>
                              </a:moveTo>
                              <a:lnTo>
                                <a:pt x="26" y="339"/>
                              </a:lnTo>
                              <a:lnTo>
                                <a:pt x="12" y="327"/>
                              </a:lnTo>
                              <a:lnTo>
                                <a:pt x="0" y="339"/>
                              </a:lnTo>
                              <a:lnTo>
                                <a:pt x="12" y="352"/>
                              </a:lnTo>
                              <a:close/>
                              <a:moveTo>
                                <a:pt x="31" y="198"/>
                              </a:moveTo>
                              <a:lnTo>
                                <a:pt x="31" y="24"/>
                              </a:lnTo>
                              <a:lnTo>
                                <a:pt x="308" y="24"/>
                              </a:lnTo>
                              <a:lnTo>
                                <a:pt x="308" y="198"/>
                              </a:lnTo>
                              <a:lnTo>
                                <a:pt x="31" y="198"/>
                              </a:lnTo>
                              <a:close/>
                              <a:moveTo>
                                <a:pt x="19" y="216"/>
                              </a:moveTo>
                              <a:lnTo>
                                <a:pt x="327" y="216"/>
                              </a:lnTo>
                              <a:lnTo>
                                <a:pt x="327" y="12"/>
                              </a:lnTo>
                              <a:lnTo>
                                <a:pt x="334" y="12"/>
                              </a:lnTo>
                              <a:lnTo>
                                <a:pt x="334" y="0"/>
                              </a:lnTo>
                              <a:lnTo>
                                <a:pt x="7" y="0"/>
                              </a:lnTo>
                              <a:lnTo>
                                <a:pt x="7" y="222"/>
                              </a:lnTo>
                              <a:lnTo>
                                <a:pt x="19" y="222"/>
                              </a:lnTo>
                              <a:lnTo>
                                <a:pt x="19" y="216"/>
                              </a:lnTo>
                              <a:close/>
                              <a:moveTo>
                                <a:pt x="315" y="247"/>
                              </a:moveTo>
                              <a:lnTo>
                                <a:pt x="334" y="247"/>
                              </a:lnTo>
                              <a:lnTo>
                                <a:pt x="334" y="240"/>
                              </a:lnTo>
                              <a:lnTo>
                                <a:pt x="315" y="240"/>
                              </a:lnTo>
                              <a:lnTo>
                                <a:pt x="315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299680" y="2483640"/>
                          <a:ext cx="69120" cy="1512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241360" y="2434320"/>
                          <a:ext cx="466200" cy="3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241360" y="2449440"/>
                          <a:ext cx="466200" cy="32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299680" y="2483640"/>
                          <a:ext cx="69120" cy="15120"/>
                        </a:xfrm>
                        <a:prstGeom prst="rect">
                          <a:avLst/>
                        </a:prstGeom>
                        <a:noFill/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299680" y="2459160"/>
                          <a:ext cx="1080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350080" y="2459160"/>
                          <a:ext cx="75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374200" y="2489760"/>
                          <a:ext cx="1008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400840" y="2459160"/>
                          <a:ext cx="75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424600" y="2489760"/>
                          <a:ext cx="1008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451240" y="2459160"/>
                          <a:ext cx="75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477520" y="2489760"/>
                          <a:ext cx="540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500920" y="2459160"/>
                          <a:ext cx="828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2525040" y="2489760"/>
                          <a:ext cx="756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2551680" y="2459160"/>
                          <a:ext cx="75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2575800" y="2489760"/>
                          <a:ext cx="1080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2602080" y="2459160"/>
                          <a:ext cx="756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>
                          <a:off x="2626200" y="2489760"/>
                          <a:ext cx="756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2649600" y="2459160"/>
                          <a:ext cx="10800" cy="1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680" bIns="-31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2676600" y="2489760"/>
                          <a:ext cx="7560" cy="1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280" bIns="-35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6445080" y="5229360"/>
                  <a:ext cx="2447280" cy="1367640"/>
                  <a:chOff x="6445080" y="5229360"/>
                  <a:chExt cx="2447280" cy="13676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7474680" y="5229360"/>
                    <a:ext cx="1417680" cy="1028520"/>
                    <a:chOff x="7474680" y="5229360"/>
                    <a:chExt cx="1417680" cy="10285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585200" y="5703120"/>
                      <a:ext cx="554040" cy="55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7474680" y="5229360"/>
                      <a:ext cx="1417680" cy="1028520"/>
                      <a:chOff x="7474680" y="5229360"/>
                      <a:chExt cx="1417680" cy="102852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7852320" y="5229360"/>
                        <a:ext cx="5205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ГСВ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"/>
                      <p:cNvGrpSpPr/>
                      <p:nvPr/>
                    </p:nvGrpSpPr>
                    <p:grpSpPr>
                      <a:xfrm>
                        <a:off x="7474680" y="5416200"/>
                        <a:ext cx="1417680" cy="841680"/>
                        <a:chOff x="7474680" y="5416200"/>
                        <a:chExt cx="1417680" cy="841680"/>
                      </a:xfrm>
                    </p:grpSpPr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7474680" y="5416200"/>
                          <a:ext cx="1261800" cy="286920"/>
                          <a:chOff x="7474680" y="5416200"/>
                          <a:chExt cx="1261800" cy="28692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>
                            <a:off x="7474680" y="5416200"/>
                            <a:ext cx="1261800" cy="28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0" h="195">
                                <a:moveTo>
                                  <a:pt x="0" y="195"/>
                                </a:moveTo>
                                <a:lnTo>
                                  <a:pt x="550" y="195"/>
                                </a:lnTo>
                                <a:lnTo>
                                  <a:pt x="275" y="0"/>
                                </a:lnTo>
                                <a:lnTo>
                                  <a:pt x="0" y="1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ffff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>
                            <a:off x="8025840" y="5471280"/>
                            <a:ext cx="165600" cy="16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8" h="117">
                                <a:moveTo>
                                  <a:pt x="39" y="0"/>
                                </a:moveTo>
                                <a:lnTo>
                                  <a:pt x="39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79"/>
                                </a:lnTo>
                                <a:lnTo>
                                  <a:pt x="39" y="79"/>
                                </a:lnTo>
                                <a:lnTo>
                                  <a:pt x="39" y="117"/>
                                </a:lnTo>
                                <a:lnTo>
                                  <a:pt x="78" y="117"/>
                                </a:lnTo>
                                <a:lnTo>
                                  <a:pt x="78" y="79"/>
                                </a:lnTo>
                                <a:lnTo>
                                  <a:pt x="118" y="79"/>
                                </a:lnTo>
                                <a:lnTo>
                                  <a:pt x="118" y="40"/>
                                </a:lnTo>
                                <a:lnTo>
                                  <a:pt x="78" y="40"/>
                                </a:lnTo>
                                <a:lnTo>
                                  <a:pt x="78" y="0"/>
                                </a:lnTo>
                                <a:lnTo>
                                  <a:pt x="3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8614800" y="5906520"/>
                          <a:ext cx="277560" cy="344880"/>
                          <a:chOff x="8614800" y="5906520"/>
                          <a:chExt cx="277560" cy="34488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>
                            <a:off x="8614800" y="5906520"/>
                            <a:ext cx="2775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0">
                                <a:moveTo>
                                  <a:pt x="0" y="0"/>
                                </a:moveTo>
                                <a:lnTo>
                                  <a:pt x="79" y="0"/>
                                </a:lnTo>
                                <a:lnTo>
                                  <a:pt x="195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8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>
                            <a:off x="8782920" y="5957280"/>
                            <a:ext cx="108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>
                            <a:off x="8614800" y="6154200"/>
                            <a:ext cx="27756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78">
                                <a:moveTo>
                                  <a:pt x="0" y="0"/>
                                </a:moveTo>
                                <a:lnTo>
                                  <a:pt x="118" y="0"/>
                                </a:lnTo>
                                <a:lnTo>
                                  <a:pt x="118" y="39"/>
                                </a:lnTo>
                                <a:lnTo>
                                  <a:pt x="157" y="39"/>
                                </a:lnTo>
                                <a:lnTo>
                                  <a:pt x="157" y="78"/>
                                </a:lnTo>
                                <a:lnTo>
                                  <a:pt x="195" y="78"/>
                                </a:lnTo>
                                <a:lnTo>
                                  <a:pt x="0" y="7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66666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8768160" y="5957280"/>
                            <a:ext cx="144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8773560" y="5957280"/>
                            <a:ext cx="360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8070120" y="5703120"/>
                          <a:ext cx="554040" cy="554760"/>
                          <a:chOff x="8070120" y="5703120"/>
                          <a:chExt cx="554040" cy="554760"/>
                        </a:xfrm>
                      </p:grpSpPr>
                      <p:grpSp>
                        <p:nvGrpSpPr>
                          <p:cNvPr id="333" name=""/>
                          <p:cNvGrpSpPr/>
                          <p:nvPr/>
                        </p:nvGrpSpPr>
                        <p:grpSpPr>
                          <a:xfrm>
                            <a:off x="8070120" y="5703120"/>
                            <a:ext cx="554040" cy="554760"/>
                            <a:chOff x="8070120" y="5703120"/>
                            <a:chExt cx="554040" cy="554760"/>
                          </a:xfrm>
                        </p:grpSpPr>
                        <p:sp>
                          <p:nvSpPr>
                            <p:cNvPr id="334" name=""/>
                            <p:cNvSpPr/>
                            <p:nvPr/>
                          </p:nvSpPr>
                          <p:spPr>
                            <a:xfrm>
                              <a:off x="8070120" y="5703120"/>
                              <a:ext cx="554040" cy="554760"/>
                            </a:xfrm>
                            <a:prstGeom prst="rect">
                              <a:avLst/>
                            </a:prstGeom>
                            <a:solidFill>
                              <a:srgbClr val="e6e6e6"/>
                            </a:solidFill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5" name=""/>
                            <p:cNvGrpSpPr/>
                            <p:nvPr/>
                          </p:nvGrpSpPr>
                          <p:grpSpPr>
                            <a:xfrm>
                              <a:off x="8212680" y="5786640"/>
                              <a:ext cx="280080" cy="277920"/>
                              <a:chOff x="8212680" y="5786640"/>
                              <a:chExt cx="280080" cy="277920"/>
                            </a:xfrm>
                          </p:grpSpPr>
                          <p:sp>
                            <p:nvSpPr>
                              <p:cNvPr id="336" name=""/>
                              <p:cNvSpPr/>
                              <p:nvPr/>
                            </p:nvSpPr>
                            <p:spPr>
                              <a:xfrm>
                                <a:off x="8212680" y="5786640"/>
                                <a:ext cx="280080" cy="2779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37" name=""/>
                              <p:cNvSpPr/>
                              <p:nvPr/>
                            </p:nvSpPr>
                            <p:spPr>
                              <a:xfrm>
                                <a:off x="8391240" y="5786640"/>
                                <a:ext cx="2520" cy="27792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38" name=""/>
                          <p:cNvSpPr/>
                          <p:nvPr/>
                        </p:nvSpPr>
                        <p:spPr>
                          <a:xfrm>
                            <a:off x="8391960" y="5897520"/>
                            <a:ext cx="11340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"/>
                        <p:cNvGrpSpPr/>
                        <p:nvPr/>
                      </p:nvGrpSpPr>
                      <p:grpSpPr>
                        <a:xfrm>
                          <a:off x="7708320" y="5771880"/>
                          <a:ext cx="301320" cy="338760"/>
                          <a:chOff x="7708320" y="5771880"/>
                          <a:chExt cx="301320" cy="338760"/>
                        </a:xfrm>
                      </p:grpSpPr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7708320" y="577188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7765200" y="605628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7708320" y="577188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7811640" y="6045840"/>
                            <a:ext cx="93960" cy="18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4" name=""/>
                          <p:cNvSpPr/>
                          <p:nvPr/>
                        </p:nvSpPr>
                        <p:spPr>
                          <a:xfrm>
                            <a:off x="7811640" y="6035760"/>
                            <a:ext cx="9396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>
                            <a:off x="7765200" y="602568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>
                            <a:off x="7732440" y="5804280"/>
                            <a:ext cx="248400" cy="29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4" h="352">
                                <a:moveTo>
                                  <a:pt x="31" y="318"/>
                                </a:moveTo>
                                <a:lnTo>
                                  <a:pt x="94" y="318"/>
                                </a:lnTo>
                                <a:lnTo>
                                  <a:pt x="94" y="309"/>
                                </a:lnTo>
                                <a:lnTo>
                                  <a:pt x="31" y="309"/>
                                </a:lnTo>
                                <a:lnTo>
                                  <a:pt x="31" y="318"/>
                                </a:lnTo>
                                <a:close/>
                                <a:moveTo>
                                  <a:pt x="12" y="352"/>
                                </a:moveTo>
                                <a:lnTo>
                                  <a:pt x="26" y="339"/>
                                </a:lnTo>
                                <a:lnTo>
                                  <a:pt x="12" y="327"/>
                                </a:lnTo>
                                <a:lnTo>
                                  <a:pt x="0" y="339"/>
                                </a:lnTo>
                                <a:lnTo>
                                  <a:pt x="12" y="352"/>
                                </a:lnTo>
                                <a:close/>
                                <a:moveTo>
                                  <a:pt x="31" y="198"/>
                                </a:moveTo>
                                <a:lnTo>
                                  <a:pt x="31" y="24"/>
                                </a:lnTo>
                                <a:lnTo>
                                  <a:pt x="308" y="24"/>
                                </a:lnTo>
                                <a:lnTo>
                                  <a:pt x="308" y="198"/>
                                </a:lnTo>
                                <a:lnTo>
                                  <a:pt x="31" y="198"/>
                                </a:lnTo>
                                <a:close/>
                                <a:moveTo>
                                  <a:pt x="19" y="216"/>
                                </a:moveTo>
                                <a:lnTo>
                                  <a:pt x="327" y="216"/>
                                </a:lnTo>
                                <a:lnTo>
                                  <a:pt x="327" y="12"/>
                                </a:lnTo>
                                <a:lnTo>
                                  <a:pt x="334" y="12"/>
                                </a:lnTo>
                                <a:lnTo>
                                  <a:pt x="334" y="0"/>
                                </a:lnTo>
                                <a:lnTo>
                                  <a:pt x="7" y="0"/>
                                </a:lnTo>
                                <a:lnTo>
                                  <a:pt x="7" y="222"/>
                                </a:lnTo>
                                <a:lnTo>
                                  <a:pt x="19" y="222"/>
                                </a:lnTo>
                                <a:lnTo>
                                  <a:pt x="19" y="216"/>
                                </a:lnTo>
                                <a:close/>
                                <a:moveTo>
                                  <a:pt x="315" y="247"/>
                                </a:moveTo>
                                <a:lnTo>
                                  <a:pt x="334" y="247"/>
                                </a:lnTo>
                                <a:lnTo>
                                  <a:pt x="334" y="240"/>
                                </a:lnTo>
                                <a:lnTo>
                                  <a:pt x="315" y="240"/>
                                </a:lnTo>
                                <a:lnTo>
                                  <a:pt x="315" y="24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"/>
                          <p:cNvSpPr/>
                          <p:nvPr/>
                        </p:nvSpPr>
                        <p:spPr>
                          <a:xfrm>
                            <a:off x="7759080" y="6093720"/>
                            <a:ext cx="38880" cy="82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>
                            <a:off x="7726320" y="606636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7726320" y="607500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>
                            <a:off x="7759080" y="6093720"/>
                            <a:ext cx="38880" cy="8280"/>
                          </a:xfrm>
                          <a:prstGeom prst="rect">
                            <a:avLst/>
                          </a:prstGeom>
                          <a:noFill/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>
                            <a:off x="7759080" y="608040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>
                            <a:off x="7787520" y="608040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"/>
                          <p:cNvSpPr/>
                          <p:nvPr/>
                        </p:nvSpPr>
                        <p:spPr>
                          <a:xfrm>
                            <a:off x="7801200" y="609732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"/>
                          <p:cNvSpPr/>
                          <p:nvPr/>
                        </p:nvSpPr>
                        <p:spPr>
                          <a:xfrm>
                            <a:off x="7816320" y="608040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>
                            <a:off x="7829640" y="609732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>
                            <a:off x="7844760" y="608040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7" name=""/>
                          <p:cNvSpPr/>
                          <p:nvPr/>
                        </p:nvSpPr>
                        <p:spPr>
                          <a:xfrm>
                            <a:off x="7859520" y="6097320"/>
                            <a:ext cx="288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>
                            <a:off x="7872840" y="6080400"/>
                            <a:ext cx="468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>
                            <a:off x="7886520" y="609732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"/>
                          <p:cNvSpPr/>
                          <p:nvPr/>
                        </p:nvSpPr>
                        <p:spPr>
                          <a:xfrm>
                            <a:off x="7901280" y="608040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>
                            <a:off x="7914960" y="609732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>
                            <a:off x="7930080" y="608040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3" name=""/>
                          <p:cNvSpPr/>
                          <p:nvPr/>
                        </p:nvSpPr>
                        <p:spPr>
                          <a:xfrm>
                            <a:off x="7943400" y="609732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4" name=""/>
                          <p:cNvSpPr/>
                          <p:nvPr/>
                        </p:nvSpPr>
                        <p:spPr>
                          <a:xfrm>
                            <a:off x="7956720" y="608040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"/>
                          <p:cNvSpPr/>
                          <p:nvPr/>
                        </p:nvSpPr>
                        <p:spPr>
                          <a:xfrm>
                            <a:off x="7972200" y="609732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6966000" y="5377320"/>
                    <a:ext cx="1417680" cy="1028520"/>
                    <a:chOff x="6966000" y="5377320"/>
                    <a:chExt cx="1417680" cy="10285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7076520" y="5851080"/>
                      <a:ext cx="554040" cy="55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68" name=""/>
                    <p:cNvGrpSpPr/>
                    <p:nvPr/>
                  </p:nvGrpSpPr>
                  <p:grpSpPr>
                    <a:xfrm>
                      <a:off x="6966000" y="5377320"/>
                      <a:ext cx="1417680" cy="1028520"/>
                      <a:chOff x="6966000" y="5377320"/>
                      <a:chExt cx="1417680" cy="1028520"/>
                    </a:xfrm>
                  </p:grpSpPr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7343640" y="5377320"/>
                        <a:ext cx="5205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ГСВ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70" name=""/>
                      <p:cNvGrpSpPr/>
                      <p:nvPr/>
                    </p:nvGrpSpPr>
                    <p:grpSpPr>
                      <a:xfrm>
                        <a:off x="6966000" y="5564160"/>
                        <a:ext cx="1417680" cy="841680"/>
                        <a:chOff x="6966000" y="5564160"/>
                        <a:chExt cx="1417680" cy="841680"/>
                      </a:xfrm>
                    </p:grpSpPr>
                    <p:grpSp>
                      <p:nvGrpSpPr>
                        <p:cNvPr id="371" name=""/>
                        <p:cNvGrpSpPr/>
                        <p:nvPr/>
                      </p:nvGrpSpPr>
                      <p:grpSpPr>
                        <a:xfrm>
                          <a:off x="6966000" y="5564160"/>
                          <a:ext cx="1261800" cy="286920"/>
                          <a:chOff x="6966000" y="5564160"/>
                          <a:chExt cx="1261800" cy="286920"/>
                        </a:xfrm>
                      </p:grpSpPr>
                      <p:sp>
                        <p:nvSpPr>
                          <p:cNvPr id="372" name=""/>
                          <p:cNvSpPr/>
                          <p:nvPr/>
                        </p:nvSpPr>
                        <p:spPr>
                          <a:xfrm>
                            <a:off x="6966000" y="5564160"/>
                            <a:ext cx="1261800" cy="28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0" h="195">
                                <a:moveTo>
                                  <a:pt x="0" y="195"/>
                                </a:moveTo>
                                <a:lnTo>
                                  <a:pt x="550" y="195"/>
                                </a:lnTo>
                                <a:lnTo>
                                  <a:pt x="275" y="0"/>
                                </a:lnTo>
                                <a:lnTo>
                                  <a:pt x="0" y="1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ffff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7517160" y="5619240"/>
                            <a:ext cx="165600" cy="16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8" h="117">
                                <a:moveTo>
                                  <a:pt x="39" y="0"/>
                                </a:moveTo>
                                <a:lnTo>
                                  <a:pt x="39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79"/>
                                </a:lnTo>
                                <a:lnTo>
                                  <a:pt x="39" y="79"/>
                                </a:lnTo>
                                <a:lnTo>
                                  <a:pt x="39" y="117"/>
                                </a:lnTo>
                                <a:lnTo>
                                  <a:pt x="78" y="117"/>
                                </a:lnTo>
                                <a:lnTo>
                                  <a:pt x="78" y="79"/>
                                </a:lnTo>
                                <a:lnTo>
                                  <a:pt x="118" y="79"/>
                                </a:lnTo>
                                <a:lnTo>
                                  <a:pt x="118" y="40"/>
                                </a:lnTo>
                                <a:lnTo>
                                  <a:pt x="78" y="40"/>
                                </a:lnTo>
                                <a:lnTo>
                                  <a:pt x="78" y="0"/>
                                </a:lnTo>
                                <a:lnTo>
                                  <a:pt x="3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74" name=""/>
                        <p:cNvGrpSpPr/>
                        <p:nvPr/>
                      </p:nvGrpSpPr>
                      <p:grpSpPr>
                        <a:xfrm>
                          <a:off x="8106120" y="6054480"/>
                          <a:ext cx="277560" cy="344880"/>
                          <a:chOff x="8106120" y="6054480"/>
                          <a:chExt cx="277560" cy="344880"/>
                        </a:xfrm>
                      </p:grpSpPr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8106120" y="6054480"/>
                            <a:ext cx="2775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0">
                                <a:moveTo>
                                  <a:pt x="0" y="0"/>
                                </a:moveTo>
                                <a:lnTo>
                                  <a:pt x="79" y="0"/>
                                </a:lnTo>
                                <a:lnTo>
                                  <a:pt x="195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8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8274240" y="6105240"/>
                            <a:ext cx="108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>
                            <a:off x="8106120" y="6302160"/>
                            <a:ext cx="27756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78">
                                <a:moveTo>
                                  <a:pt x="0" y="0"/>
                                </a:moveTo>
                                <a:lnTo>
                                  <a:pt x="118" y="0"/>
                                </a:lnTo>
                                <a:lnTo>
                                  <a:pt x="118" y="39"/>
                                </a:lnTo>
                                <a:lnTo>
                                  <a:pt x="157" y="39"/>
                                </a:lnTo>
                                <a:lnTo>
                                  <a:pt x="157" y="78"/>
                                </a:lnTo>
                                <a:lnTo>
                                  <a:pt x="195" y="78"/>
                                </a:lnTo>
                                <a:lnTo>
                                  <a:pt x="0" y="7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66666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>
                            <a:off x="8259480" y="6105240"/>
                            <a:ext cx="144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79" name=""/>
                          <p:cNvSpPr/>
                          <p:nvPr/>
                        </p:nvSpPr>
                        <p:spPr>
                          <a:xfrm>
                            <a:off x="8264880" y="6105240"/>
                            <a:ext cx="360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0" name=""/>
                        <p:cNvGrpSpPr/>
                        <p:nvPr/>
                      </p:nvGrpSpPr>
                      <p:grpSpPr>
                        <a:xfrm>
                          <a:off x="7561440" y="5851080"/>
                          <a:ext cx="554040" cy="554760"/>
                          <a:chOff x="7561440" y="5851080"/>
                          <a:chExt cx="554040" cy="554760"/>
                        </a:xfrm>
                      </p:grpSpPr>
                      <p:grpSp>
                        <p:nvGrpSpPr>
                          <p:cNvPr id="381" name=""/>
                          <p:cNvGrpSpPr/>
                          <p:nvPr/>
                        </p:nvGrpSpPr>
                        <p:grpSpPr>
                          <a:xfrm>
                            <a:off x="7561440" y="5851080"/>
                            <a:ext cx="554040" cy="554760"/>
                            <a:chOff x="7561440" y="5851080"/>
                            <a:chExt cx="554040" cy="554760"/>
                          </a:xfrm>
                        </p:grpSpPr>
                        <p:sp>
                          <p:nvSpPr>
                            <p:cNvPr id="382" name=""/>
                            <p:cNvSpPr/>
                            <p:nvPr/>
                          </p:nvSpPr>
                          <p:spPr>
                            <a:xfrm>
                              <a:off x="7561440" y="5851080"/>
                              <a:ext cx="554040" cy="554760"/>
                            </a:xfrm>
                            <a:prstGeom prst="rect">
                              <a:avLst/>
                            </a:prstGeom>
                            <a:solidFill>
                              <a:srgbClr val="e6e6e6"/>
                            </a:solidFill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83" name=""/>
                            <p:cNvGrpSpPr/>
                            <p:nvPr/>
                          </p:nvGrpSpPr>
                          <p:grpSpPr>
                            <a:xfrm>
                              <a:off x="7704000" y="5934600"/>
                              <a:ext cx="280080" cy="277920"/>
                              <a:chOff x="7704000" y="5934600"/>
                              <a:chExt cx="280080" cy="277920"/>
                            </a:xfrm>
                          </p:grpSpPr>
                          <p:sp>
                            <p:nvSpPr>
                              <p:cNvPr id="384" name=""/>
                              <p:cNvSpPr/>
                              <p:nvPr/>
                            </p:nvSpPr>
                            <p:spPr>
                              <a:xfrm>
                                <a:off x="7704000" y="5934600"/>
                                <a:ext cx="280080" cy="2779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85" name=""/>
                              <p:cNvSpPr/>
                              <p:nvPr/>
                            </p:nvSpPr>
                            <p:spPr>
                              <a:xfrm>
                                <a:off x="7882560" y="5934600"/>
                                <a:ext cx="2520" cy="27792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386" name=""/>
                          <p:cNvSpPr/>
                          <p:nvPr/>
                        </p:nvSpPr>
                        <p:spPr>
                          <a:xfrm>
                            <a:off x="7883280" y="6045480"/>
                            <a:ext cx="11340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87" name=""/>
                        <p:cNvGrpSpPr/>
                        <p:nvPr/>
                      </p:nvGrpSpPr>
                      <p:grpSpPr>
                        <a:xfrm>
                          <a:off x="7199640" y="5919840"/>
                          <a:ext cx="301320" cy="338760"/>
                          <a:chOff x="7199640" y="5919840"/>
                          <a:chExt cx="301320" cy="338760"/>
                        </a:xfrm>
                      </p:grpSpPr>
                      <p:sp>
                        <p:nvSpPr>
                          <p:cNvPr id="388" name=""/>
                          <p:cNvSpPr/>
                          <p:nvPr/>
                        </p:nvSpPr>
                        <p:spPr>
                          <a:xfrm>
                            <a:off x="7199640" y="591984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89" name=""/>
                          <p:cNvSpPr/>
                          <p:nvPr/>
                        </p:nvSpPr>
                        <p:spPr>
                          <a:xfrm>
                            <a:off x="7256520" y="620424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0" name=""/>
                          <p:cNvSpPr/>
                          <p:nvPr/>
                        </p:nvSpPr>
                        <p:spPr>
                          <a:xfrm>
                            <a:off x="7199640" y="591984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1" name=""/>
                          <p:cNvSpPr/>
                          <p:nvPr/>
                        </p:nvSpPr>
                        <p:spPr>
                          <a:xfrm>
                            <a:off x="7302960" y="6193800"/>
                            <a:ext cx="93960" cy="18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2" name=""/>
                          <p:cNvSpPr/>
                          <p:nvPr/>
                        </p:nvSpPr>
                        <p:spPr>
                          <a:xfrm>
                            <a:off x="7302960" y="6183720"/>
                            <a:ext cx="9396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3" name=""/>
                          <p:cNvSpPr/>
                          <p:nvPr/>
                        </p:nvSpPr>
                        <p:spPr>
                          <a:xfrm>
                            <a:off x="7256520" y="617364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4" name=""/>
                          <p:cNvSpPr/>
                          <p:nvPr/>
                        </p:nvSpPr>
                        <p:spPr>
                          <a:xfrm>
                            <a:off x="7223760" y="5952240"/>
                            <a:ext cx="248400" cy="29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4" h="352">
                                <a:moveTo>
                                  <a:pt x="31" y="318"/>
                                </a:moveTo>
                                <a:lnTo>
                                  <a:pt x="94" y="318"/>
                                </a:lnTo>
                                <a:lnTo>
                                  <a:pt x="94" y="309"/>
                                </a:lnTo>
                                <a:lnTo>
                                  <a:pt x="31" y="309"/>
                                </a:lnTo>
                                <a:lnTo>
                                  <a:pt x="31" y="318"/>
                                </a:lnTo>
                                <a:close/>
                                <a:moveTo>
                                  <a:pt x="12" y="352"/>
                                </a:moveTo>
                                <a:lnTo>
                                  <a:pt x="26" y="339"/>
                                </a:lnTo>
                                <a:lnTo>
                                  <a:pt x="12" y="327"/>
                                </a:lnTo>
                                <a:lnTo>
                                  <a:pt x="0" y="339"/>
                                </a:lnTo>
                                <a:lnTo>
                                  <a:pt x="12" y="352"/>
                                </a:lnTo>
                                <a:close/>
                                <a:moveTo>
                                  <a:pt x="31" y="198"/>
                                </a:moveTo>
                                <a:lnTo>
                                  <a:pt x="31" y="24"/>
                                </a:lnTo>
                                <a:lnTo>
                                  <a:pt x="308" y="24"/>
                                </a:lnTo>
                                <a:lnTo>
                                  <a:pt x="308" y="198"/>
                                </a:lnTo>
                                <a:lnTo>
                                  <a:pt x="31" y="198"/>
                                </a:lnTo>
                                <a:close/>
                                <a:moveTo>
                                  <a:pt x="19" y="216"/>
                                </a:moveTo>
                                <a:lnTo>
                                  <a:pt x="327" y="216"/>
                                </a:lnTo>
                                <a:lnTo>
                                  <a:pt x="327" y="12"/>
                                </a:lnTo>
                                <a:lnTo>
                                  <a:pt x="334" y="12"/>
                                </a:lnTo>
                                <a:lnTo>
                                  <a:pt x="334" y="0"/>
                                </a:lnTo>
                                <a:lnTo>
                                  <a:pt x="7" y="0"/>
                                </a:lnTo>
                                <a:lnTo>
                                  <a:pt x="7" y="222"/>
                                </a:lnTo>
                                <a:lnTo>
                                  <a:pt x="19" y="222"/>
                                </a:lnTo>
                                <a:lnTo>
                                  <a:pt x="19" y="216"/>
                                </a:lnTo>
                                <a:close/>
                                <a:moveTo>
                                  <a:pt x="315" y="247"/>
                                </a:moveTo>
                                <a:lnTo>
                                  <a:pt x="334" y="247"/>
                                </a:lnTo>
                                <a:lnTo>
                                  <a:pt x="334" y="240"/>
                                </a:lnTo>
                                <a:lnTo>
                                  <a:pt x="315" y="240"/>
                                </a:lnTo>
                                <a:lnTo>
                                  <a:pt x="315" y="24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5" name=""/>
                          <p:cNvSpPr/>
                          <p:nvPr/>
                        </p:nvSpPr>
                        <p:spPr>
                          <a:xfrm>
                            <a:off x="7250400" y="6241680"/>
                            <a:ext cx="38880" cy="82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6" name=""/>
                          <p:cNvSpPr/>
                          <p:nvPr/>
                        </p:nvSpPr>
                        <p:spPr>
                          <a:xfrm>
                            <a:off x="7217640" y="621432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7" name=""/>
                          <p:cNvSpPr/>
                          <p:nvPr/>
                        </p:nvSpPr>
                        <p:spPr>
                          <a:xfrm>
                            <a:off x="7217640" y="622296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8" name=""/>
                          <p:cNvSpPr/>
                          <p:nvPr/>
                        </p:nvSpPr>
                        <p:spPr>
                          <a:xfrm>
                            <a:off x="7250400" y="6241680"/>
                            <a:ext cx="38880" cy="8280"/>
                          </a:xfrm>
                          <a:prstGeom prst="rect">
                            <a:avLst/>
                          </a:prstGeom>
                          <a:noFill/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"/>
                          <p:cNvSpPr/>
                          <p:nvPr/>
                        </p:nvSpPr>
                        <p:spPr>
                          <a:xfrm>
                            <a:off x="7250400" y="622836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"/>
                          <p:cNvSpPr/>
                          <p:nvPr/>
                        </p:nvSpPr>
                        <p:spPr>
                          <a:xfrm>
                            <a:off x="7278840" y="622836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"/>
                          <p:cNvSpPr/>
                          <p:nvPr/>
                        </p:nvSpPr>
                        <p:spPr>
                          <a:xfrm>
                            <a:off x="7292520" y="624528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2" name=""/>
                          <p:cNvSpPr/>
                          <p:nvPr/>
                        </p:nvSpPr>
                        <p:spPr>
                          <a:xfrm>
                            <a:off x="7307640" y="622836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3" name=""/>
                          <p:cNvSpPr/>
                          <p:nvPr/>
                        </p:nvSpPr>
                        <p:spPr>
                          <a:xfrm>
                            <a:off x="7320960" y="624528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/>
                          <p:nvPr/>
                        </p:nvSpPr>
                        <p:spPr>
                          <a:xfrm>
                            <a:off x="7336080" y="622836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"/>
                          <p:cNvSpPr/>
                          <p:nvPr/>
                        </p:nvSpPr>
                        <p:spPr>
                          <a:xfrm>
                            <a:off x="7350840" y="6245280"/>
                            <a:ext cx="288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>
                            <a:off x="7364160" y="6228360"/>
                            <a:ext cx="468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7" name=""/>
                          <p:cNvSpPr/>
                          <p:nvPr/>
                        </p:nvSpPr>
                        <p:spPr>
                          <a:xfrm>
                            <a:off x="7377840" y="624528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8" name=""/>
                          <p:cNvSpPr/>
                          <p:nvPr/>
                        </p:nvSpPr>
                        <p:spPr>
                          <a:xfrm>
                            <a:off x="7392600" y="622836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9" name=""/>
                          <p:cNvSpPr/>
                          <p:nvPr/>
                        </p:nvSpPr>
                        <p:spPr>
                          <a:xfrm>
                            <a:off x="7406280" y="624528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"/>
                          <p:cNvSpPr/>
                          <p:nvPr/>
                        </p:nvSpPr>
                        <p:spPr>
                          <a:xfrm>
                            <a:off x="7421400" y="622836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"/>
                          <p:cNvSpPr/>
                          <p:nvPr/>
                        </p:nvSpPr>
                        <p:spPr>
                          <a:xfrm>
                            <a:off x="7434720" y="624528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"/>
                          <p:cNvSpPr/>
                          <p:nvPr/>
                        </p:nvSpPr>
                        <p:spPr>
                          <a:xfrm>
                            <a:off x="7448040" y="622836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3" name=""/>
                          <p:cNvSpPr/>
                          <p:nvPr/>
                        </p:nvSpPr>
                        <p:spPr>
                          <a:xfrm>
                            <a:off x="7463520" y="624528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6445080" y="5568480"/>
                    <a:ext cx="1417680" cy="1028520"/>
                    <a:chOff x="6445080" y="5568480"/>
                    <a:chExt cx="1417680" cy="102852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555600" y="6042240"/>
                      <a:ext cx="554040" cy="55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6445080" y="5568480"/>
                      <a:ext cx="1417680" cy="1028520"/>
                      <a:chOff x="6445080" y="5568480"/>
                      <a:chExt cx="1417680" cy="10285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6822720" y="5568480"/>
                        <a:ext cx="52056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ГСВ</a:t>
                        </a:r>
                        <a:endParaRPr b="0" lang="en-US" sz="12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18" name=""/>
                      <p:cNvGrpSpPr/>
                      <p:nvPr/>
                    </p:nvGrpSpPr>
                    <p:grpSpPr>
                      <a:xfrm>
                        <a:off x="6445080" y="5755320"/>
                        <a:ext cx="1417680" cy="841680"/>
                        <a:chOff x="6445080" y="5755320"/>
                        <a:chExt cx="1417680" cy="841680"/>
                      </a:xfrm>
                    </p:grpSpPr>
                    <p:grpSp>
                      <p:nvGrpSpPr>
                        <p:cNvPr id="419" name=""/>
                        <p:cNvGrpSpPr/>
                        <p:nvPr/>
                      </p:nvGrpSpPr>
                      <p:grpSpPr>
                        <a:xfrm>
                          <a:off x="6445080" y="5755320"/>
                          <a:ext cx="1261800" cy="286920"/>
                          <a:chOff x="6445080" y="5755320"/>
                          <a:chExt cx="1261800" cy="286920"/>
                        </a:xfrm>
                      </p:grpSpPr>
                      <p:sp>
                        <p:nvSpPr>
                          <p:cNvPr id="420" name=""/>
                          <p:cNvSpPr/>
                          <p:nvPr/>
                        </p:nvSpPr>
                        <p:spPr>
                          <a:xfrm>
                            <a:off x="6445080" y="5755320"/>
                            <a:ext cx="1261800" cy="28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0" h="195">
                                <a:moveTo>
                                  <a:pt x="0" y="195"/>
                                </a:moveTo>
                                <a:lnTo>
                                  <a:pt x="550" y="195"/>
                                </a:lnTo>
                                <a:lnTo>
                                  <a:pt x="275" y="0"/>
                                </a:lnTo>
                                <a:lnTo>
                                  <a:pt x="0" y="1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ffff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"/>
                          <p:cNvSpPr/>
                          <p:nvPr/>
                        </p:nvSpPr>
                        <p:spPr>
                          <a:xfrm>
                            <a:off x="6996240" y="5810400"/>
                            <a:ext cx="165600" cy="16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8" h="117">
                                <a:moveTo>
                                  <a:pt x="39" y="0"/>
                                </a:moveTo>
                                <a:lnTo>
                                  <a:pt x="39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79"/>
                                </a:lnTo>
                                <a:lnTo>
                                  <a:pt x="39" y="79"/>
                                </a:lnTo>
                                <a:lnTo>
                                  <a:pt x="39" y="117"/>
                                </a:lnTo>
                                <a:lnTo>
                                  <a:pt x="78" y="117"/>
                                </a:lnTo>
                                <a:lnTo>
                                  <a:pt x="78" y="79"/>
                                </a:lnTo>
                                <a:lnTo>
                                  <a:pt x="118" y="79"/>
                                </a:lnTo>
                                <a:lnTo>
                                  <a:pt x="118" y="40"/>
                                </a:lnTo>
                                <a:lnTo>
                                  <a:pt x="78" y="40"/>
                                </a:lnTo>
                                <a:lnTo>
                                  <a:pt x="78" y="0"/>
                                </a:lnTo>
                                <a:lnTo>
                                  <a:pt x="3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2" name=""/>
                        <p:cNvGrpSpPr/>
                        <p:nvPr/>
                      </p:nvGrpSpPr>
                      <p:grpSpPr>
                        <a:xfrm>
                          <a:off x="7585200" y="6245640"/>
                          <a:ext cx="277560" cy="344880"/>
                          <a:chOff x="7585200" y="6245640"/>
                          <a:chExt cx="277560" cy="344880"/>
                        </a:xfrm>
                      </p:grpSpPr>
                      <p:sp>
                        <p:nvSpPr>
                          <p:cNvPr id="423" name=""/>
                          <p:cNvSpPr/>
                          <p:nvPr/>
                        </p:nvSpPr>
                        <p:spPr>
                          <a:xfrm>
                            <a:off x="7585200" y="6245640"/>
                            <a:ext cx="277560" cy="50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40">
                                <a:moveTo>
                                  <a:pt x="0" y="0"/>
                                </a:moveTo>
                                <a:lnTo>
                                  <a:pt x="79" y="0"/>
                                </a:lnTo>
                                <a:lnTo>
                                  <a:pt x="195" y="40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8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" bIns="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>
                            <a:off x="7753320" y="6296400"/>
                            <a:ext cx="108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5" name=""/>
                          <p:cNvSpPr/>
                          <p:nvPr/>
                        </p:nvSpPr>
                        <p:spPr>
                          <a:xfrm>
                            <a:off x="7585200" y="6493320"/>
                            <a:ext cx="27756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5" h="78">
                                <a:moveTo>
                                  <a:pt x="0" y="0"/>
                                </a:moveTo>
                                <a:lnTo>
                                  <a:pt x="118" y="0"/>
                                </a:lnTo>
                                <a:lnTo>
                                  <a:pt x="118" y="39"/>
                                </a:lnTo>
                                <a:lnTo>
                                  <a:pt x="157" y="39"/>
                                </a:lnTo>
                                <a:lnTo>
                                  <a:pt x="157" y="78"/>
                                </a:lnTo>
                                <a:lnTo>
                                  <a:pt x="195" y="78"/>
                                </a:lnTo>
                                <a:lnTo>
                                  <a:pt x="0" y="7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66666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"/>
                          <p:cNvSpPr/>
                          <p:nvPr/>
                        </p:nvSpPr>
                        <p:spPr>
                          <a:xfrm>
                            <a:off x="7738560" y="6296400"/>
                            <a:ext cx="144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"/>
                          <p:cNvSpPr/>
                          <p:nvPr/>
                        </p:nvSpPr>
                        <p:spPr>
                          <a:xfrm>
                            <a:off x="7743960" y="6296400"/>
                            <a:ext cx="3600" cy="1969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8" name=""/>
                        <p:cNvGrpSpPr/>
                        <p:nvPr/>
                      </p:nvGrpSpPr>
                      <p:grpSpPr>
                        <a:xfrm>
                          <a:off x="7040520" y="6042240"/>
                          <a:ext cx="554040" cy="554760"/>
                          <a:chOff x="7040520" y="6042240"/>
                          <a:chExt cx="554040" cy="554760"/>
                        </a:xfrm>
                      </p:grpSpPr>
                      <p:grpSp>
                        <p:nvGrpSpPr>
                          <p:cNvPr id="429" name=""/>
                          <p:cNvGrpSpPr/>
                          <p:nvPr/>
                        </p:nvGrpSpPr>
                        <p:grpSpPr>
                          <a:xfrm>
                            <a:off x="7040520" y="6042240"/>
                            <a:ext cx="554040" cy="554760"/>
                            <a:chOff x="7040520" y="6042240"/>
                            <a:chExt cx="554040" cy="554760"/>
                          </a:xfrm>
                        </p:grpSpPr>
                        <p:sp>
                          <p:nvSpPr>
                            <p:cNvPr id="430" name=""/>
                            <p:cNvSpPr/>
                            <p:nvPr/>
                          </p:nvSpPr>
                          <p:spPr>
                            <a:xfrm>
                              <a:off x="7040520" y="6042240"/>
                              <a:ext cx="554040" cy="554760"/>
                            </a:xfrm>
                            <a:prstGeom prst="rect">
                              <a:avLst/>
                            </a:prstGeom>
                            <a:solidFill>
                              <a:srgbClr val="e6e6e6"/>
                            </a:solidFill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431" name=""/>
                            <p:cNvGrpSpPr/>
                            <p:nvPr/>
                          </p:nvGrpSpPr>
                          <p:grpSpPr>
                            <a:xfrm>
                              <a:off x="7183080" y="6125760"/>
                              <a:ext cx="280080" cy="277920"/>
                              <a:chOff x="7183080" y="6125760"/>
                              <a:chExt cx="280080" cy="277920"/>
                            </a:xfrm>
                          </p:grpSpPr>
                          <p:sp>
                            <p:nvSpPr>
                              <p:cNvPr id="432" name=""/>
                              <p:cNvSpPr/>
                              <p:nvPr/>
                            </p:nvSpPr>
                            <p:spPr>
                              <a:xfrm>
                                <a:off x="7183080" y="6125760"/>
                                <a:ext cx="280080" cy="2779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ff"/>
                              </a:solidFill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433" name=""/>
                              <p:cNvSpPr/>
                              <p:nvPr/>
                            </p:nvSpPr>
                            <p:spPr>
                              <a:xfrm>
                                <a:off x="7361640" y="6125760"/>
                                <a:ext cx="2520" cy="277920"/>
                              </a:xfrm>
                              <a:prstGeom prst="line">
                                <a:avLst/>
                              </a:prstGeom>
                              <a:ln w="64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ffffff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34" name=""/>
                          <p:cNvSpPr/>
                          <p:nvPr/>
                        </p:nvSpPr>
                        <p:spPr>
                          <a:xfrm>
                            <a:off x="7362360" y="6236640"/>
                            <a:ext cx="11340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6678720" y="6111000"/>
                          <a:ext cx="301320" cy="338760"/>
                          <a:chOff x="6678720" y="6111000"/>
                          <a:chExt cx="301320" cy="338760"/>
                        </a:xfrm>
                      </p:grpSpPr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6678720" y="611100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6735600" y="639540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6678720" y="6111000"/>
                            <a:ext cx="301320" cy="33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2" h="397">
                                <a:moveTo>
                                  <a:pt x="0" y="298"/>
                                </a:moveTo>
                                <a:lnTo>
                                  <a:pt x="75" y="298"/>
                                </a:lnTo>
                                <a:lnTo>
                                  <a:pt x="138" y="310"/>
                                </a:lnTo>
                                <a:lnTo>
                                  <a:pt x="138" y="322"/>
                                </a:lnTo>
                                <a:lnTo>
                                  <a:pt x="75" y="322"/>
                                </a:lnTo>
                                <a:lnTo>
                                  <a:pt x="75" y="335"/>
                                </a:lnTo>
                                <a:lnTo>
                                  <a:pt x="24" y="335"/>
                                </a:lnTo>
                                <a:lnTo>
                                  <a:pt x="24" y="397"/>
                                </a:lnTo>
                                <a:lnTo>
                                  <a:pt x="377" y="397"/>
                                </a:lnTo>
                                <a:lnTo>
                                  <a:pt x="377" y="335"/>
                                </a:lnTo>
                                <a:lnTo>
                                  <a:pt x="326" y="335"/>
                                </a:lnTo>
                                <a:lnTo>
                                  <a:pt x="326" y="322"/>
                                </a:lnTo>
                                <a:lnTo>
                                  <a:pt x="264" y="322"/>
                                </a:lnTo>
                                <a:lnTo>
                                  <a:pt x="264" y="310"/>
                                </a:lnTo>
                                <a:lnTo>
                                  <a:pt x="326" y="298"/>
                                </a:lnTo>
                                <a:lnTo>
                                  <a:pt x="402" y="298"/>
                                </a:lnTo>
                                <a:lnTo>
                                  <a:pt x="402" y="0"/>
                                </a:lnTo>
                                <a:lnTo>
                                  <a:pt x="0" y="0"/>
                                </a:lnTo>
                                <a:lnTo>
                                  <a:pt x="0" y="298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"/>
                          <p:cNvSpPr/>
                          <p:nvPr/>
                        </p:nvSpPr>
                        <p:spPr>
                          <a:xfrm>
                            <a:off x="6782040" y="6384960"/>
                            <a:ext cx="93960" cy="18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"/>
                          <p:cNvSpPr/>
                          <p:nvPr/>
                        </p:nvSpPr>
                        <p:spPr>
                          <a:xfrm>
                            <a:off x="6782040" y="6374880"/>
                            <a:ext cx="9396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1" name=""/>
                          <p:cNvSpPr/>
                          <p:nvPr/>
                        </p:nvSpPr>
                        <p:spPr>
                          <a:xfrm>
                            <a:off x="6735600" y="6364800"/>
                            <a:ext cx="1868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" name=""/>
                          <p:cNvSpPr/>
                          <p:nvPr/>
                        </p:nvSpPr>
                        <p:spPr>
                          <a:xfrm>
                            <a:off x="6702840" y="6143400"/>
                            <a:ext cx="248400" cy="29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4" h="352">
                                <a:moveTo>
                                  <a:pt x="31" y="318"/>
                                </a:moveTo>
                                <a:lnTo>
                                  <a:pt x="94" y="318"/>
                                </a:lnTo>
                                <a:lnTo>
                                  <a:pt x="94" y="309"/>
                                </a:lnTo>
                                <a:lnTo>
                                  <a:pt x="31" y="309"/>
                                </a:lnTo>
                                <a:lnTo>
                                  <a:pt x="31" y="318"/>
                                </a:lnTo>
                                <a:close/>
                                <a:moveTo>
                                  <a:pt x="12" y="352"/>
                                </a:moveTo>
                                <a:lnTo>
                                  <a:pt x="26" y="339"/>
                                </a:lnTo>
                                <a:lnTo>
                                  <a:pt x="12" y="327"/>
                                </a:lnTo>
                                <a:lnTo>
                                  <a:pt x="0" y="339"/>
                                </a:lnTo>
                                <a:lnTo>
                                  <a:pt x="12" y="352"/>
                                </a:lnTo>
                                <a:close/>
                                <a:moveTo>
                                  <a:pt x="31" y="198"/>
                                </a:moveTo>
                                <a:lnTo>
                                  <a:pt x="31" y="24"/>
                                </a:lnTo>
                                <a:lnTo>
                                  <a:pt x="308" y="24"/>
                                </a:lnTo>
                                <a:lnTo>
                                  <a:pt x="308" y="198"/>
                                </a:lnTo>
                                <a:lnTo>
                                  <a:pt x="31" y="198"/>
                                </a:lnTo>
                                <a:close/>
                                <a:moveTo>
                                  <a:pt x="19" y="216"/>
                                </a:moveTo>
                                <a:lnTo>
                                  <a:pt x="327" y="216"/>
                                </a:lnTo>
                                <a:lnTo>
                                  <a:pt x="327" y="12"/>
                                </a:lnTo>
                                <a:lnTo>
                                  <a:pt x="334" y="12"/>
                                </a:lnTo>
                                <a:lnTo>
                                  <a:pt x="334" y="0"/>
                                </a:lnTo>
                                <a:lnTo>
                                  <a:pt x="7" y="0"/>
                                </a:lnTo>
                                <a:lnTo>
                                  <a:pt x="7" y="222"/>
                                </a:lnTo>
                                <a:lnTo>
                                  <a:pt x="19" y="222"/>
                                </a:lnTo>
                                <a:lnTo>
                                  <a:pt x="19" y="216"/>
                                </a:lnTo>
                                <a:close/>
                                <a:moveTo>
                                  <a:pt x="315" y="247"/>
                                </a:moveTo>
                                <a:lnTo>
                                  <a:pt x="334" y="247"/>
                                </a:lnTo>
                                <a:lnTo>
                                  <a:pt x="334" y="240"/>
                                </a:lnTo>
                                <a:lnTo>
                                  <a:pt x="315" y="240"/>
                                </a:lnTo>
                                <a:lnTo>
                                  <a:pt x="315" y="24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" name=""/>
                          <p:cNvSpPr/>
                          <p:nvPr/>
                        </p:nvSpPr>
                        <p:spPr>
                          <a:xfrm>
                            <a:off x="6729480" y="6432840"/>
                            <a:ext cx="38880" cy="828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" name=""/>
                          <p:cNvSpPr/>
                          <p:nvPr/>
                        </p:nvSpPr>
                        <p:spPr>
                          <a:xfrm>
                            <a:off x="6696720" y="640548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5" name=""/>
                          <p:cNvSpPr/>
                          <p:nvPr/>
                        </p:nvSpPr>
                        <p:spPr>
                          <a:xfrm>
                            <a:off x="6696720" y="6414120"/>
                            <a:ext cx="263520" cy="1800"/>
                          </a:xfrm>
                          <a:prstGeom prst="line">
                            <a:avLst/>
                          </a:prstGeom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" name=""/>
                          <p:cNvSpPr/>
                          <p:nvPr/>
                        </p:nvSpPr>
                        <p:spPr>
                          <a:xfrm>
                            <a:off x="6729480" y="6432840"/>
                            <a:ext cx="38880" cy="8280"/>
                          </a:xfrm>
                          <a:prstGeom prst="rect">
                            <a:avLst/>
                          </a:prstGeom>
                          <a:noFill/>
                          <a:ln w="14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" name=""/>
                          <p:cNvSpPr/>
                          <p:nvPr/>
                        </p:nvSpPr>
                        <p:spPr>
                          <a:xfrm>
                            <a:off x="6729480" y="641952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" name=""/>
                          <p:cNvSpPr/>
                          <p:nvPr/>
                        </p:nvSpPr>
                        <p:spPr>
                          <a:xfrm>
                            <a:off x="6757920" y="641952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" name=""/>
                          <p:cNvSpPr/>
                          <p:nvPr/>
                        </p:nvSpPr>
                        <p:spPr>
                          <a:xfrm>
                            <a:off x="6771600" y="643644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" name=""/>
                          <p:cNvSpPr/>
                          <p:nvPr/>
                        </p:nvSpPr>
                        <p:spPr>
                          <a:xfrm>
                            <a:off x="6786720" y="641952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1" name=""/>
                          <p:cNvSpPr/>
                          <p:nvPr/>
                        </p:nvSpPr>
                        <p:spPr>
                          <a:xfrm>
                            <a:off x="6800040" y="643644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" name=""/>
                          <p:cNvSpPr/>
                          <p:nvPr/>
                        </p:nvSpPr>
                        <p:spPr>
                          <a:xfrm>
                            <a:off x="6815160" y="641952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6829920" y="6436440"/>
                            <a:ext cx="288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" name=""/>
                          <p:cNvSpPr/>
                          <p:nvPr/>
                        </p:nvSpPr>
                        <p:spPr>
                          <a:xfrm>
                            <a:off x="6843240" y="6419520"/>
                            <a:ext cx="468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" name=""/>
                          <p:cNvSpPr/>
                          <p:nvPr/>
                        </p:nvSpPr>
                        <p:spPr>
                          <a:xfrm>
                            <a:off x="6856920" y="643644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9">
                                <a:moveTo>
                                  <a:pt x="5" y="0"/>
                                </a:moveTo>
                                <a:lnTo>
                                  <a:pt x="0" y="4"/>
                                </a:lnTo>
                                <a:lnTo>
                                  <a:pt x="5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" name=""/>
                          <p:cNvSpPr/>
                          <p:nvPr/>
                        </p:nvSpPr>
                        <p:spPr>
                          <a:xfrm>
                            <a:off x="6871680" y="641952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" name=""/>
                          <p:cNvSpPr/>
                          <p:nvPr/>
                        </p:nvSpPr>
                        <p:spPr>
                          <a:xfrm>
                            <a:off x="6885360" y="6436440"/>
                            <a:ext cx="576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"/>
                          <p:cNvSpPr/>
                          <p:nvPr/>
                        </p:nvSpPr>
                        <p:spPr>
                          <a:xfrm>
                            <a:off x="6900480" y="6419520"/>
                            <a:ext cx="432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" name=""/>
                          <p:cNvSpPr/>
                          <p:nvPr/>
                        </p:nvSpPr>
                        <p:spPr>
                          <a:xfrm>
                            <a:off x="6913800" y="643644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" name=""/>
                          <p:cNvSpPr/>
                          <p:nvPr/>
                        </p:nvSpPr>
                        <p:spPr>
                          <a:xfrm>
                            <a:off x="6927120" y="6419520"/>
                            <a:ext cx="5760" cy="8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9">
                                <a:moveTo>
                                  <a:pt x="6" y="0"/>
                                </a:moveTo>
                                <a:lnTo>
                                  <a:pt x="0" y="4"/>
                                </a:lnTo>
                                <a:lnTo>
                                  <a:pt x="6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" name=""/>
                          <p:cNvSpPr/>
                          <p:nvPr/>
                        </p:nvSpPr>
                        <p:spPr>
                          <a:xfrm>
                            <a:off x="6942600" y="6436440"/>
                            <a:ext cx="432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" h="9">
                                <a:moveTo>
                                  <a:pt x="7" y="0"/>
                                </a:moveTo>
                                <a:lnTo>
                                  <a:pt x="0" y="4"/>
                                </a:lnTo>
                                <a:lnTo>
                                  <a:pt x="7" y="9"/>
                                </a:lnTo>
                              </a:path>
                            </a:pathLst>
                          </a:custGeom>
                          <a:noFill/>
                          <a:ln w="14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6659280" y="476280"/>
                  <a:ext cx="2233440" cy="1081080"/>
                  <a:chOff x="6659280" y="476280"/>
                  <a:chExt cx="2233440" cy="1081080"/>
                </a:xfrm>
              </p:grpSpPr>
              <p:grpSp>
                <p:nvGrpSpPr>
                  <p:cNvPr id="463" name=""/>
                  <p:cNvGrpSpPr/>
                  <p:nvPr/>
                </p:nvGrpSpPr>
                <p:grpSpPr>
                  <a:xfrm>
                    <a:off x="6659280" y="476280"/>
                    <a:ext cx="2233080" cy="289080"/>
                    <a:chOff x="6659280" y="476280"/>
                    <a:chExt cx="2233080" cy="289080"/>
                  </a:xfrm>
                </p:grpSpPr>
                <p:sp>
                  <p:nvSpPr>
                    <p:cNvPr id="464" name=""/>
                    <p:cNvSpPr/>
                    <p:nvPr/>
                  </p:nvSpPr>
                  <p:spPr>
                    <a:xfrm flipH="1">
                      <a:off x="6658920" y="476280"/>
                      <a:ext cx="2233080" cy="28908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СЭ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749280" y="476280"/>
                      <a:ext cx="30924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117">
                          <a:moveTo>
                            <a:pt x="39" y="0"/>
                          </a:moveTo>
                          <a:lnTo>
                            <a:pt x="39" y="40"/>
                          </a:lnTo>
                          <a:lnTo>
                            <a:pt x="0" y="40"/>
                          </a:lnTo>
                          <a:lnTo>
                            <a:pt x="0" y="79"/>
                          </a:lnTo>
                          <a:lnTo>
                            <a:pt x="39" y="79"/>
                          </a:lnTo>
                          <a:lnTo>
                            <a:pt x="39" y="117"/>
                          </a:lnTo>
                          <a:lnTo>
                            <a:pt x="78" y="117"/>
                          </a:lnTo>
                          <a:lnTo>
                            <a:pt x="78" y="79"/>
                          </a:lnTo>
                          <a:lnTo>
                            <a:pt x="118" y="79"/>
                          </a:lnTo>
                          <a:lnTo>
                            <a:pt x="118" y="40"/>
                          </a:lnTo>
                          <a:lnTo>
                            <a:pt x="78" y="40"/>
                          </a:lnTo>
                          <a:lnTo>
                            <a:pt x="78" y="0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8029440" y="765360"/>
                    <a:ext cx="863280" cy="792000"/>
                    <a:chOff x="8029440" y="765360"/>
                    <a:chExt cx="863280" cy="79200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 flipH="1">
                      <a:off x="8029440" y="765360"/>
                      <a:ext cx="863280" cy="79200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68" name=""/>
                    <p:cNvGrpSpPr/>
                    <p:nvPr/>
                  </p:nvGrpSpPr>
                  <p:grpSpPr>
                    <a:xfrm>
                      <a:off x="8172000" y="907920"/>
                      <a:ext cx="647640" cy="576000"/>
                      <a:chOff x="8172000" y="907920"/>
                      <a:chExt cx="647640" cy="576000"/>
                    </a:xfrm>
                  </p:grpSpPr>
                  <p:grpSp>
                    <p:nvGrpSpPr>
                      <p:cNvPr id="469" name=""/>
                      <p:cNvGrpSpPr/>
                      <p:nvPr/>
                    </p:nvGrpSpPr>
                    <p:grpSpPr>
                      <a:xfrm>
                        <a:off x="8172000" y="907920"/>
                        <a:ext cx="277920" cy="576000"/>
                        <a:chOff x="8172000" y="907920"/>
                        <a:chExt cx="277920" cy="576000"/>
                      </a:xfrm>
                    </p:grpSpPr>
                    <p:grpSp>
                      <p:nvGrpSpPr>
                        <p:cNvPr id="470" name=""/>
                        <p:cNvGrpSpPr/>
                        <p:nvPr/>
                      </p:nvGrpSpPr>
                      <p:grpSpPr>
                        <a:xfrm>
                          <a:off x="8172000" y="907920"/>
                          <a:ext cx="277920" cy="232200"/>
                          <a:chOff x="8172000" y="907920"/>
                          <a:chExt cx="277920" cy="232200"/>
                        </a:xfrm>
                      </p:grpSpPr>
                      <p:sp>
                        <p:nvSpPr>
                          <p:cNvPr id="471" name=""/>
                          <p:cNvSpPr/>
                          <p:nvPr/>
                        </p:nvSpPr>
                        <p:spPr>
                          <a:xfrm flipH="1">
                            <a:off x="8172000" y="907920"/>
                            <a:ext cx="277920" cy="2322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472" name=""/>
                          <p:cNvGrpSpPr/>
                          <p:nvPr/>
                        </p:nvGrpSpPr>
                        <p:grpSpPr>
                          <a:xfrm>
                            <a:off x="8172000" y="907920"/>
                            <a:ext cx="112320" cy="232200"/>
                            <a:chOff x="8172000" y="907920"/>
                            <a:chExt cx="112320" cy="232200"/>
                          </a:xfrm>
                        </p:grpSpPr>
                        <p:sp>
                          <p:nvSpPr>
                            <p:cNvPr id="473" name=""/>
                            <p:cNvSpPr/>
                            <p:nvPr/>
                          </p:nvSpPr>
                          <p:spPr>
                            <a:xfrm flipH="1">
                              <a:off x="8282160" y="907920"/>
                              <a:ext cx="2160" cy="23220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4" name=""/>
                            <p:cNvSpPr/>
                            <p:nvPr/>
                          </p:nvSpPr>
                          <p:spPr>
                            <a:xfrm flipH="1">
                              <a:off x="8172000" y="1001520"/>
                              <a:ext cx="112320" cy="7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75" name=""/>
                        <p:cNvGrpSpPr/>
                        <p:nvPr/>
                      </p:nvGrpSpPr>
                      <p:grpSpPr>
                        <a:xfrm>
                          <a:off x="8172000" y="1251720"/>
                          <a:ext cx="277920" cy="232200"/>
                          <a:chOff x="8172000" y="1251720"/>
                          <a:chExt cx="277920" cy="232200"/>
                        </a:xfrm>
                      </p:grpSpPr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 flipH="1">
                            <a:off x="8172000" y="1251720"/>
                            <a:ext cx="277920" cy="2322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477" name=""/>
                          <p:cNvGrpSpPr/>
                          <p:nvPr/>
                        </p:nvGrpSpPr>
                        <p:grpSpPr>
                          <a:xfrm>
                            <a:off x="8172000" y="1251720"/>
                            <a:ext cx="112320" cy="232200"/>
                            <a:chOff x="8172000" y="1251720"/>
                            <a:chExt cx="112320" cy="232200"/>
                          </a:xfrm>
                        </p:grpSpPr>
                        <p:sp>
                          <p:nvSpPr>
                            <p:cNvPr id="478" name=""/>
                            <p:cNvSpPr/>
                            <p:nvPr/>
                          </p:nvSpPr>
                          <p:spPr>
                            <a:xfrm flipH="1">
                              <a:off x="8282160" y="1251720"/>
                              <a:ext cx="2160" cy="23220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79" name=""/>
                            <p:cNvSpPr/>
                            <p:nvPr/>
                          </p:nvSpPr>
                          <p:spPr>
                            <a:xfrm flipH="1">
                              <a:off x="8172000" y="1345320"/>
                              <a:ext cx="112320" cy="7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8541720" y="907920"/>
                        <a:ext cx="277920" cy="576000"/>
                        <a:chOff x="8541720" y="907920"/>
                        <a:chExt cx="277920" cy="576000"/>
                      </a:xfrm>
                    </p:grpSpPr>
                    <p:grpSp>
                      <p:nvGrpSpPr>
                        <p:cNvPr id="481" name=""/>
                        <p:cNvGrpSpPr/>
                        <p:nvPr/>
                      </p:nvGrpSpPr>
                      <p:grpSpPr>
                        <a:xfrm>
                          <a:off x="8541720" y="907920"/>
                          <a:ext cx="277920" cy="232200"/>
                          <a:chOff x="8541720" y="907920"/>
                          <a:chExt cx="277920" cy="232200"/>
                        </a:xfrm>
                      </p:grpSpPr>
                      <p:sp>
                        <p:nvSpPr>
                          <p:cNvPr id="482" name=""/>
                          <p:cNvSpPr/>
                          <p:nvPr/>
                        </p:nvSpPr>
                        <p:spPr>
                          <a:xfrm flipH="1">
                            <a:off x="8541720" y="907920"/>
                            <a:ext cx="277920" cy="2322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483" name=""/>
                          <p:cNvGrpSpPr/>
                          <p:nvPr/>
                        </p:nvGrpSpPr>
                        <p:grpSpPr>
                          <a:xfrm>
                            <a:off x="8541720" y="907920"/>
                            <a:ext cx="112320" cy="232200"/>
                            <a:chOff x="8541720" y="907920"/>
                            <a:chExt cx="112320" cy="232200"/>
                          </a:xfrm>
                        </p:grpSpPr>
                        <p:sp>
                          <p:nvSpPr>
                            <p:cNvPr id="484" name=""/>
                            <p:cNvSpPr/>
                            <p:nvPr/>
                          </p:nvSpPr>
                          <p:spPr>
                            <a:xfrm flipH="1">
                              <a:off x="8651880" y="907920"/>
                              <a:ext cx="2160" cy="23220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85" name=""/>
                            <p:cNvSpPr/>
                            <p:nvPr/>
                          </p:nvSpPr>
                          <p:spPr>
                            <a:xfrm flipH="1">
                              <a:off x="8541720" y="1001520"/>
                              <a:ext cx="112320" cy="7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486" name=""/>
                        <p:cNvGrpSpPr/>
                        <p:nvPr/>
                      </p:nvGrpSpPr>
                      <p:grpSpPr>
                        <a:xfrm>
                          <a:off x="8541720" y="1251720"/>
                          <a:ext cx="277920" cy="232200"/>
                          <a:chOff x="8541720" y="1251720"/>
                          <a:chExt cx="277920" cy="232200"/>
                        </a:xfrm>
                      </p:grpSpPr>
                      <p:sp>
                        <p:nvSpPr>
                          <p:cNvPr id="487" name=""/>
                          <p:cNvSpPr/>
                          <p:nvPr/>
                        </p:nvSpPr>
                        <p:spPr>
                          <a:xfrm flipH="1">
                            <a:off x="8541720" y="1251720"/>
                            <a:ext cx="277920" cy="23220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64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488" name=""/>
                          <p:cNvGrpSpPr/>
                          <p:nvPr/>
                        </p:nvGrpSpPr>
                        <p:grpSpPr>
                          <a:xfrm>
                            <a:off x="8541720" y="1251720"/>
                            <a:ext cx="112320" cy="232200"/>
                            <a:chOff x="8541720" y="1251720"/>
                            <a:chExt cx="112320" cy="232200"/>
                          </a:xfrm>
                        </p:grpSpPr>
                        <p:sp>
                          <p:nvSpPr>
                            <p:cNvPr id="489" name=""/>
                            <p:cNvSpPr/>
                            <p:nvPr/>
                          </p:nvSpPr>
                          <p:spPr>
                            <a:xfrm flipH="1">
                              <a:off x="8651880" y="1251720"/>
                              <a:ext cx="2160" cy="23220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490" name=""/>
                            <p:cNvSpPr/>
                            <p:nvPr/>
                          </p:nvSpPr>
                          <p:spPr>
                            <a:xfrm flipH="1">
                              <a:off x="8541720" y="1345320"/>
                              <a:ext cx="112320" cy="720"/>
                            </a:xfrm>
                            <a:prstGeom prst="line">
                              <a:avLst/>
                            </a:prstGeom>
                            <a:ln w="64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ffffff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6659640" y="765360"/>
                    <a:ext cx="1369800" cy="792000"/>
                    <a:chOff x="6659640" y="765360"/>
                    <a:chExt cx="1369800" cy="79200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659640" y="765360"/>
                      <a:ext cx="1369800" cy="79200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аб. статист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93" name=""/>
                    <p:cNvGrpSpPr/>
                    <p:nvPr/>
                  </p:nvGrpSpPr>
                  <p:grpSpPr>
                    <a:xfrm>
                      <a:off x="6891120" y="1125720"/>
                      <a:ext cx="991080" cy="358560"/>
                      <a:chOff x="6891120" y="1125720"/>
                      <a:chExt cx="991080" cy="358560"/>
                    </a:xfrm>
                  </p:grpSpPr>
                  <p:grpSp>
                    <p:nvGrpSpPr>
                      <p:cNvPr id="494" name=""/>
                      <p:cNvGrpSpPr/>
                      <p:nvPr/>
                    </p:nvGrpSpPr>
                    <p:grpSpPr>
                      <a:xfrm>
                        <a:off x="6891120" y="1125720"/>
                        <a:ext cx="343800" cy="358560"/>
                        <a:chOff x="6891120" y="1125720"/>
                        <a:chExt cx="343800" cy="358560"/>
                      </a:xfrm>
                    </p:grpSpPr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6891120" y="1125720"/>
                          <a:ext cx="343800" cy="358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>
                          <a:off x="6956280" y="1426680"/>
                          <a:ext cx="2134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6891120" y="1125720"/>
                          <a:ext cx="343800" cy="358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7009200" y="1415880"/>
                          <a:ext cx="107280" cy="18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7009200" y="1405080"/>
                          <a:ext cx="1072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6956280" y="1394640"/>
                          <a:ext cx="2134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6918480" y="1159920"/>
                          <a:ext cx="283680" cy="31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352">
                              <a:moveTo>
                                <a:pt x="31" y="318"/>
                              </a:moveTo>
                              <a:lnTo>
                                <a:pt x="94" y="318"/>
                              </a:lnTo>
                              <a:lnTo>
                                <a:pt x="94" y="309"/>
                              </a:lnTo>
                              <a:lnTo>
                                <a:pt x="31" y="309"/>
                              </a:lnTo>
                              <a:lnTo>
                                <a:pt x="31" y="318"/>
                              </a:lnTo>
                              <a:close/>
                              <a:moveTo>
                                <a:pt x="12" y="352"/>
                              </a:moveTo>
                              <a:lnTo>
                                <a:pt x="26" y="339"/>
                              </a:lnTo>
                              <a:lnTo>
                                <a:pt x="12" y="327"/>
                              </a:lnTo>
                              <a:lnTo>
                                <a:pt x="0" y="339"/>
                              </a:lnTo>
                              <a:lnTo>
                                <a:pt x="12" y="352"/>
                              </a:lnTo>
                              <a:close/>
                              <a:moveTo>
                                <a:pt x="31" y="198"/>
                              </a:moveTo>
                              <a:lnTo>
                                <a:pt x="31" y="24"/>
                              </a:lnTo>
                              <a:lnTo>
                                <a:pt x="308" y="24"/>
                              </a:lnTo>
                              <a:lnTo>
                                <a:pt x="308" y="198"/>
                              </a:lnTo>
                              <a:lnTo>
                                <a:pt x="31" y="198"/>
                              </a:lnTo>
                              <a:close/>
                              <a:moveTo>
                                <a:pt x="19" y="216"/>
                              </a:moveTo>
                              <a:lnTo>
                                <a:pt x="327" y="216"/>
                              </a:lnTo>
                              <a:lnTo>
                                <a:pt x="327" y="12"/>
                              </a:lnTo>
                              <a:lnTo>
                                <a:pt x="334" y="12"/>
                              </a:lnTo>
                              <a:lnTo>
                                <a:pt x="334" y="0"/>
                              </a:lnTo>
                              <a:lnTo>
                                <a:pt x="7" y="0"/>
                              </a:lnTo>
                              <a:lnTo>
                                <a:pt x="7" y="222"/>
                              </a:lnTo>
                              <a:lnTo>
                                <a:pt x="19" y="222"/>
                              </a:lnTo>
                              <a:lnTo>
                                <a:pt x="19" y="216"/>
                              </a:lnTo>
                              <a:close/>
                              <a:moveTo>
                                <a:pt x="315" y="247"/>
                              </a:moveTo>
                              <a:lnTo>
                                <a:pt x="334" y="247"/>
                              </a:lnTo>
                              <a:lnTo>
                                <a:pt x="334" y="240"/>
                              </a:lnTo>
                              <a:lnTo>
                                <a:pt x="315" y="240"/>
                              </a:lnTo>
                              <a:lnTo>
                                <a:pt x="315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6949080" y="1466280"/>
                          <a:ext cx="44280" cy="864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6911640" y="1437480"/>
                          <a:ext cx="30096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>
                          <a:off x="6911640" y="1446480"/>
                          <a:ext cx="30096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6949080" y="1466280"/>
                          <a:ext cx="44280" cy="8640"/>
                        </a:xfrm>
                        <a:prstGeom prst="rect">
                          <a:avLst/>
                        </a:prstGeom>
                        <a:noFill/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6949080" y="1452240"/>
                          <a:ext cx="68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6981840" y="1452240"/>
                          <a:ext cx="50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6997320" y="1470240"/>
                          <a:ext cx="648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014240" y="1452240"/>
                          <a:ext cx="50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>
                          <a:off x="7029720" y="1470240"/>
                          <a:ext cx="648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>
                          <a:off x="7047000" y="1452240"/>
                          <a:ext cx="50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>
                          <a:off x="7063920" y="1470240"/>
                          <a:ext cx="32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>
                          <a:off x="7079040" y="1452240"/>
                          <a:ext cx="540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>
                          <a:off x="7094520" y="1470240"/>
                          <a:ext cx="50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>
                          <a:off x="7111800" y="1452240"/>
                          <a:ext cx="50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>
                          <a:off x="7127280" y="1470240"/>
                          <a:ext cx="68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>
                          <a:off x="7144200" y="1452240"/>
                          <a:ext cx="50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7159680" y="1470240"/>
                          <a:ext cx="50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7174800" y="1452240"/>
                          <a:ext cx="68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>
                          <a:off x="7192440" y="1470240"/>
                          <a:ext cx="50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1" name=""/>
                      <p:cNvGrpSpPr/>
                      <p:nvPr/>
                    </p:nvGrpSpPr>
                    <p:grpSpPr>
                      <a:xfrm>
                        <a:off x="7379640" y="1268640"/>
                        <a:ext cx="502560" cy="212400"/>
                        <a:chOff x="7379640" y="1268640"/>
                        <a:chExt cx="502560" cy="212400"/>
                      </a:xfrm>
                    </p:grpSpPr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 flipH="1">
                          <a:off x="7746120" y="1365480"/>
                          <a:ext cx="135720" cy="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" h="71">
                              <a:moveTo>
                                <a:pt x="151" y="9"/>
                              </a:moveTo>
                              <a:lnTo>
                                <a:pt x="151" y="71"/>
                              </a:lnTo>
                              <a:lnTo>
                                <a:pt x="0" y="21"/>
                              </a:lnTo>
                              <a:lnTo>
                                <a:pt x="9" y="0"/>
                              </a:lnTo>
                              <a:lnTo>
                                <a:pt x="112" y="33"/>
                              </a:lnTo>
                              <a:lnTo>
                                <a:pt x="151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 flipH="1">
                          <a:off x="7379280" y="1268640"/>
                          <a:ext cx="366840" cy="21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7392600" y="1456560"/>
                          <a:ext cx="3412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7608600" y="1293120"/>
                          <a:ext cx="92520" cy="18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 flipH="1">
                          <a:off x="7379280" y="1268640"/>
                          <a:ext cx="366840" cy="21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7403040" y="1352160"/>
                          <a:ext cx="691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7403040" y="1327320"/>
                          <a:ext cx="6912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7380000" y="1410840"/>
                          <a:ext cx="36684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7403040" y="1361520"/>
                          <a:ext cx="691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7403040" y="1338480"/>
                          <a:ext cx="691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7403040" y="1315800"/>
                          <a:ext cx="6912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6731280" y="2370240"/>
                  <a:ext cx="2088360" cy="2211120"/>
                  <a:chOff x="6731280" y="2370240"/>
                  <a:chExt cx="2088360" cy="2211120"/>
                </a:xfrm>
              </p:grpSpPr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6731280" y="2776320"/>
                    <a:ext cx="2088360" cy="652320"/>
                    <a:chOff x="6731280" y="2776320"/>
                    <a:chExt cx="2088360" cy="652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6730920" y="2776320"/>
                      <a:ext cx="2088360" cy="65232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аб. статист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6811920" y="2995200"/>
                      <a:ext cx="1258560" cy="360000"/>
                      <a:chOff x="6811920" y="2995200"/>
                      <a:chExt cx="1258560" cy="360000"/>
                    </a:xfrm>
                  </p:grpSpPr>
                  <p:grpSp>
                    <p:nvGrpSpPr>
                      <p:cNvPr id="537" name=""/>
                      <p:cNvGrpSpPr/>
                      <p:nvPr/>
                    </p:nvGrpSpPr>
                    <p:grpSpPr>
                      <a:xfrm>
                        <a:off x="6811920" y="2995200"/>
                        <a:ext cx="383760" cy="360000"/>
                        <a:chOff x="6811920" y="2995200"/>
                        <a:chExt cx="383760" cy="360000"/>
                      </a:xfrm>
                    </p:grpSpPr>
                    <p:sp>
                      <p:nvSpPr>
                        <p:cNvPr id="538" name=""/>
                        <p:cNvSpPr/>
                        <p:nvPr/>
                      </p:nvSpPr>
                      <p:spPr>
                        <a:xfrm flipH="1">
                          <a:off x="6811920" y="2995200"/>
                          <a:ext cx="383760" cy="36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9" name=""/>
                        <p:cNvSpPr/>
                        <p:nvPr/>
                      </p:nvSpPr>
                      <p:spPr>
                        <a:xfrm flipH="1">
                          <a:off x="6884640" y="3297600"/>
                          <a:ext cx="23832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"/>
                        <p:cNvSpPr/>
                        <p:nvPr/>
                      </p:nvSpPr>
                      <p:spPr>
                        <a:xfrm flipH="1">
                          <a:off x="6811920" y="2995200"/>
                          <a:ext cx="383760" cy="36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97">
                              <a:moveTo>
                                <a:pt x="0" y="298"/>
                              </a:moveTo>
                              <a:lnTo>
                                <a:pt x="75" y="298"/>
                              </a:lnTo>
                              <a:lnTo>
                                <a:pt x="138" y="310"/>
                              </a:lnTo>
                              <a:lnTo>
                                <a:pt x="138" y="322"/>
                              </a:lnTo>
                              <a:lnTo>
                                <a:pt x="75" y="322"/>
                              </a:lnTo>
                              <a:lnTo>
                                <a:pt x="75" y="335"/>
                              </a:lnTo>
                              <a:lnTo>
                                <a:pt x="24" y="335"/>
                              </a:lnTo>
                              <a:lnTo>
                                <a:pt x="24" y="397"/>
                              </a:lnTo>
                              <a:lnTo>
                                <a:pt x="377" y="397"/>
                              </a:lnTo>
                              <a:lnTo>
                                <a:pt x="377" y="335"/>
                              </a:lnTo>
                              <a:lnTo>
                                <a:pt x="326" y="335"/>
                              </a:lnTo>
                              <a:lnTo>
                                <a:pt x="326" y="322"/>
                              </a:lnTo>
                              <a:lnTo>
                                <a:pt x="264" y="322"/>
                              </a:lnTo>
                              <a:lnTo>
                                <a:pt x="264" y="310"/>
                              </a:lnTo>
                              <a:lnTo>
                                <a:pt x="326" y="298"/>
                              </a:lnTo>
                              <a:lnTo>
                                <a:pt x="402" y="298"/>
                              </a:lnTo>
                              <a:lnTo>
                                <a:pt x="402" y="0"/>
                              </a:lnTo>
                              <a:lnTo>
                                <a:pt x="0" y="0"/>
                              </a:lnTo>
                              <a:lnTo>
                                <a:pt x="0" y="298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"/>
                        <p:cNvSpPr/>
                        <p:nvPr/>
                      </p:nvSpPr>
                      <p:spPr>
                        <a:xfrm flipH="1">
                          <a:off x="6944040" y="3286440"/>
                          <a:ext cx="119880" cy="18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"/>
                        <p:cNvSpPr/>
                        <p:nvPr/>
                      </p:nvSpPr>
                      <p:spPr>
                        <a:xfrm flipH="1">
                          <a:off x="6944040" y="3275640"/>
                          <a:ext cx="1198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"/>
                        <p:cNvSpPr/>
                        <p:nvPr/>
                      </p:nvSpPr>
                      <p:spPr>
                        <a:xfrm flipH="1">
                          <a:off x="6884640" y="3265200"/>
                          <a:ext cx="23832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 flipH="1">
                          <a:off x="6848280" y="3029400"/>
                          <a:ext cx="316800" cy="31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4" h="352">
                              <a:moveTo>
                                <a:pt x="31" y="318"/>
                              </a:moveTo>
                              <a:lnTo>
                                <a:pt x="94" y="318"/>
                              </a:lnTo>
                              <a:lnTo>
                                <a:pt x="94" y="309"/>
                              </a:lnTo>
                              <a:lnTo>
                                <a:pt x="31" y="309"/>
                              </a:lnTo>
                              <a:lnTo>
                                <a:pt x="31" y="318"/>
                              </a:lnTo>
                              <a:close/>
                              <a:moveTo>
                                <a:pt x="12" y="352"/>
                              </a:moveTo>
                              <a:lnTo>
                                <a:pt x="26" y="339"/>
                              </a:lnTo>
                              <a:lnTo>
                                <a:pt x="12" y="327"/>
                              </a:lnTo>
                              <a:lnTo>
                                <a:pt x="0" y="339"/>
                              </a:lnTo>
                              <a:lnTo>
                                <a:pt x="12" y="352"/>
                              </a:lnTo>
                              <a:close/>
                              <a:moveTo>
                                <a:pt x="31" y="198"/>
                              </a:moveTo>
                              <a:lnTo>
                                <a:pt x="31" y="24"/>
                              </a:lnTo>
                              <a:lnTo>
                                <a:pt x="308" y="24"/>
                              </a:lnTo>
                              <a:lnTo>
                                <a:pt x="308" y="198"/>
                              </a:lnTo>
                              <a:lnTo>
                                <a:pt x="31" y="198"/>
                              </a:lnTo>
                              <a:close/>
                              <a:moveTo>
                                <a:pt x="19" y="216"/>
                              </a:moveTo>
                              <a:lnTo>
                                <a:pt x="327" y="216"/>
                              </a:lnTo>
                              <a:lnTo>
                                <a:pt x="327" y="12"/>
                              </a:lnTo>
                              <a:lnTo>
                                <a:pt x="334" y="12"/>
                              </a:lnTo>
                              <a:lnTo>
                                <a:pt x="334" y="0"/>
                              </a:lnTo>
                              <a:lnTo>
                                <a:pt x="7" y="0"/>
                              </a:lnTo>
                              <a:lnTo>
                                <a:pt x="7" y="222"/>
                              </a:lnTo>
                              <a:lnTo>
                                <a:pt x="19" y="222"/>
                              </a:lnTo>
                              <a:lnTo>
                                <a:pt x="19" y="216"/>
                              </a:lnTo>
                              <a:close/>
                              <a:moveTo>
                                <a:pt x="315" y="247"/>
                              </a:moveTo>
                              <a:lnTo>
                                <a:pt x="334" y="247"/>
                              </a:lnTo>
                              <a:lnTo>
                                <a:pt x="334" y="240"/>
                              </a:lnTo>
                              <a:lnTo>
                                <a:pt x="315" y="240"/>
                              </a:lnTo>
                              <a:lnTo>
                                <a:pt x="315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 flipH="1">
                          <a:off x="7081200" y="3337200"/>
                          <a:ext cx="49680" cy="90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"/>
                        <p:cNvSpPr/>
                        <p:nvPr/>
                      </p:nvSpPr>
                      <p:spPr>
                        <a:xfrm flipH="1">
                          <a:off x="6837120" y="3308040"/>
                          <a:ext cx="33588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"/>
                        <p:cNvSpPr/>
                        <p:nvPr/>
                      </p:nvSpPr>
                      <p:spPr>
                        <a:xfrm flipH="1">
                          <a:off x="6837120" y="3317040"/>
                          <a:ext cx="335880" cy="180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"/>
                        <p:cNvSpPr/>
                        <p:nvPr/>
                      </p:nvSpPr>
                      <p:spPr>
                        <a:xfrm flipH="1">
                          <a:off x="7081200" y="3337200"/>
                          <a:ext cx="49680" cy="9000"/>
                        </a:xfrm>
                        <a:prstGeom prst="rect">
                          <a:avLst/>
                        </a:prstGeom>
                        <a:noFill/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"/>
                        <p:cNvSpPr/>
                        <p:nvPr/>
                      </p:nvSpPr>
                      <p:spPr>
                        <a:xfrm flipH="1">
                          <a:off x="7122960" y="3322800"/>
                          <a:ext cx="756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"/>
                        <p:cNvSpPr/>
                        <p:nvPr/>
                      </p:nvSpPr>
                      <p:spPr>
                        <a:xfrm flipH="1">
                          <a:off x="7088760" y="3322800"/>
                          <a:ext cx="5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"/>
                        <p:cNvSpPr/>
                        <p:nvPr/>
                      </p:nvSpPr>
                      <p:spPr>
                        <a:xfrm flipH="1">
                          <a:off x="7070040" y="3340800"/>
                          <a:ext cx="72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"/>
                        <p:cNvSpPr/>
                        <p:nvPr/>
                      </p:nvSpPr>
                      <p:spPr>
                        <a:xfrm flipH="1">
                          <a:off x="7052400" y="3322800"/>
                          <a:ext cx="5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"/>
                        <p:cNvSpPr/>
                        <p:nvPr/>
                      </p:nvSpPr>
                      <p:spPr>
                        <a:xfrm flipH="1">
                          <a:off x="7033680" y="3340800"/>
                          <a:ext cx="72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"/>
                        <p:cNvSpPr/>
                        <p:nvPr/>
                      </p:nvSpPr>
                      <p:spPr>
                        <a:xfrm flipH="1">
                          <a:off x="7016040" y="3322800"/>
                          <a:ext cx="5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"/>
                        <p:cNvSpPr/>
                        <p:nvPr/>
                      </p:nvSpPr>
                      <p:spPr>
                        <a:xfrm flipH="1">
                          <a:off x="6999120" y="3340800"/>
                          <a:ext cx="36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 flipH="1">
                          <a:off x="6980040" y="3322800"/>
                          <a:ext cx="576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 flipH="1">
                          <a:off x="6962760" y="3340800"/>
                          <a:ext cx="54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" h="9">
                              <a:moveTo>
                                <a:pt x="5" y="0"/>
                              </a:moveTo>
                              <a:lnTo>
                                <a:pt x="0" y="4"/>
                              </a:lnTo>
                              <a:lnTo>
                                <a:pt x="5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 flipH="1">
                          <a:off x="6943680" y="3322800"/>
                          <a:ext cx="5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 flipH="1">
                          <a:off x="6924240" y="3340800"/>
                          <a:ext cx="756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 flipH="1">
                          <a:off x="6907320" y="3322800"/>
                          <a:ext cx="5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 flipH="1">
                          <a:off x="6890040" y="3340800"/>
                          <a:ext cx="54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 flipH="1">
                          <a:off x="6870960" y="3322800"/>
                          <a:ext cx="756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" h="9">
                              <a:moveTo>
                                <a:pt x="6" y="0"/>
                              </a:moveTo>
                              <a:lnTo>
                                <a:pt x="0" y="4"/>
                              </a:lnTo>
                              <a:lnTo>
                                <a:pt x="6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 flipH="1">
                          <a:off x="6853680" y="3340800"/>
                          <a:ext cx="540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" h="9">
                              <a:moveTo>
                                <a:pt x="7" y="0"/>
                              </a:moveTo>
                              <a:lnTo>
                                <a:pt x="0" y="4"/>
                              </a:lnTo>
                              <a:lnTo>
                                <a:pt x="7" y="9"/>
                              </a:lnTo>
                            </a:path>
                          </a:pathLst>
                        </a:custGeom>
                        <a:noFill/>
                        <a:ln w="14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7355880" y="3139920"/>
                        <a:ext cx="714600" cy="215280"/>
                        <a:chOff x="7355880" y="3139920"/>
                        <a:chExt cx="714600" cy="215280"/>
                      </a:xfrm>
                    </p:grpSpPr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 flipH="1">
                          <a:off x="7877520" y="3237840"/>
                          <a:ext cx="19296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" h="71">
                              <a:moveTo>
                                <a:pt x="151" y="9"/>
                              </a:moveTo>
                              <a:lnTo>
                                <a:pt x="151" y="71"/>
                              </a:lnTo>
                              <a:lnTo>
                                <a:pt x="0" y="21"/>
                              </a:lnTo>
                              <a:lnTo>
                                <a:pt x="9" y="0"/>
                              </a:lnTo>
                              <a:lnTo>
                                <a:pt x="112" y="33"/>
                              </a:lnTo>
                              <a:lnTo>
                                <a:pt x="151" y="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 flipH="1">
                          <a:off x="7355520" y="3139920"/>
                          <a:ext cx="521640" cy="21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7373880" y="3330360"/>
                          <a:ext cx="485280" cy="144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7680600" y="3164760"/>
                          <a:ext cx="13176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 flipH="1">
                          <a:off x="7355520" y="3139920"/>
                          <a:ext cx="521640" cy="21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223">
                              <a:moveTo>
                                <a:pt x="0" y="174"/>
                              </a:moveTo>
                              <a:lnTo>
                                <a:pt x="0" y="62"/>
                              </a:lnTo>
                              <a:lnTo>
                                <a:pt x="24" y="25"/>
                              </a:lnTo>
                              <a:lnTo>
                                <a:pt x="50" y="25"/>
                              </a:lnTo>
                              <a:lnTo>
                                <a:pt x="75" y="0"/>
                              </a:lnTo>
                              <a:lnTo>
                                <a:pt x="150" y="25"/>
                              </a:lnTo>
                              <a:lnTo>
                                <a:pt x="402" y="25"/>
                              </a:lnTo>
                              <a:lnTo>
                                <a:pt x="402" y="198"/>
                              </a:lnTo>
                              <a:lnTo>
                                <a:pt x="389" y="198"/>
                              </a:lnTo>
                              <a:lnTo>
                                <a:pt x="389" y="223"/>
                              </a:lnTo>
                              <a:lnTo>
                                <a:pt x="12" y="223"/>
                              </a:lnTo>
                              <a:lnTo>
                                <a:pt x="12" y="198"/>
                              </a:lnTo>
                              <a:lnTo>
                                <a:pt x="0" y="198"/>
                              </a:lnTo>
                              <a:lnTo>
                                <a:pt x="0" y="174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7389360" y="3224520"/>
                          <a:ext cx="9828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7389360" y="3199680"/>
                          <a:ext cx="9828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7356240" y="3284280"/>
                          <a:ext cx="521640" cy="144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7389360" y="3233880"/>
                          <a:ext cx="9828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7389360" y="3210840"/>
                          <a:ext cx="9828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7389360" y="3187800"/>
                          <a:ext cx="98280" cy="2160"/>
                        </a:xfrm>
                        <a:prstGeom prst="line">
                          <a:avLst/>
                        </a:prstGeom>
                        <a:ln w="1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6731280" y="2370240"/>
                    <a:ext cx="2088360" cy="411120"/>
                    <a:chOff x="6731280" y="2370240"/>
                    <a:chExt cx="2088360" cy="411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flipH="1">
                      <a:off x="6730920" y="2370240"/>
                      <a:ext cx="2088360" cy="411120"/>
                    </a:xfrm>
                    <a:prstGeom prst="rect">
                      <a:avLst/>
                    </a:prstGeom>
                    <a:solidFill>
                      <a:srgbClr val="00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Т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H="1">
                      <a:off x="6730920" y="2421000"/>
                      <a:ext cx="402120" cy="36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117">
                          <a:moveTo>
                            <a:pt x="39" y="0"/>
                          </a:moveTo>
                          <a:lnTo>
                            <a:pt x="39" y="40"/>
                          </a:lnTo>
                          <a:lnTo>
                            <a:pt x="0" y="40"/>
                          </a:lnTo>
                          <a:lnTo>
                            <a:pt x="0" y="79"/>
                          </a:lnTo>
                          <a:lnTo>
                            <a:pt x="39" y="79"/>
                          </a:lnTo>
                          <a:lnTo>
                            <a:pt x="39" y="117"/>
                          </a:lnTo>
                          <a:lnTo>
                            <a:pt x="78" y="117"/>
                          </a:lnTo>
                          <a:lnTo>
                            <a:pt x="78" y="79"/>
                          </a:lnTo>
                          <a:lnTo>
                            <a:pt x="118" y="79"/>
                          </a:lnTo>
                          <a:lnTo>
                            <a:pt x="118" y="40"/>
                          </a:lnTo>
                          <a:lnTo>
                            <a:pt x="78" y="40"/>
                          </a:lnTo>
                          <a:lnTo>
                            <a:pt x="78" y="0"/>
                          </a:lnTo>
                          <a:lnTo>
                            <a:pt x="39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6731280" y="3422520"/>
                    <a:ext cx="2088360" cy="1158840"/>
                    <a:chOff x="6731280" y="3422520"/>
                    <a:chExt cx="2088360" cy="115884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flipH="1">
                      <a:off x="6730920" y="3422520"/>
                      <a:ext cx="2088360" cy="115884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1" name=""/>
                    <p:cNvGrpSpPr/>
                    <p:nvPr/>
                  </p:nvGrpSpPr>
                  <p:grpSpPr>
                    <a:xfrm>
                      <a:off x="6892920" y="3632040"/>
                      <a:ext cx="1815480" cy="733680"/>
                      <a:chOff x="6892920" y="3632040"/>
                      <a:chExt cx="1815480" cy="733680"/>
                    </a:xfrm>
                  </p:grpSpPr>
                  <p:grpSp>
                    <p:nvGrpSpPr>
                      <p:cNvPr id="582" name=""/>
                      <p:cNvGrpSpPr/>
                      <p:nvPr/>
                    </p:nvGrpSpPr>
                    <p:grpSpPr>
                      <a:xfrm>
                        <a:off x="7374600" y="3632040"/>
                        <a:ext cx="371880" cy="295200"/>
                        <a:chOff x="7374600" y="3632040"/>
                        <a:chExt cx="371880" cy="295200"/>
                      </a:xfrm>
                    </p:grpSpPr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 flipH="1">
                          <a:off x="7374240" y="3632040"/>
                          <a:ext cx="371880" cy="295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 flipH="1">
                          <a:off x="7522560" y="3632040"/>
                          <a:ext cx="2520" cy="2952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 flipH="1">
                          <a:off x="7374960" y="375012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86" name=""/>
                      <p:cNvGrpSpPr/>
                      <p:nvPr/>
                    </p:nvGrpSpPr>
                    <p:grpSpPr>
                      <a:xfrm>
                        <a:off x="7374600" y="4070160"/>
                        <a:ext cx="371880" cy="295560"/>
                        <a:chOff x="7374600" y="4070160"/>
                        <a:chExt cx="371880" cy="295560"/>
                      </a:xfrm>
                    </p:grpSpPr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 flipH="1">
                          <a:off x="7374240" y="4070160"/>
                          <a:ext cx="371880" cy="295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 flipH="1">
                          <a:off x="7522560" y="4070160"/>
                          <a:ext cx="2520" cy="2955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 flipH="1">
                          <a:off x="7374960" y="418824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7856640" y="3632040"/>
                        <a:ext cx="369720" cy="295200"/>
                        <a:chOff x="7856640" y="3632040"/>
                        <a:chExt cx="369720" cy="29520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flipH="1">
                          <a:off x="7856280" y="3632040"/>
                          <a:ext cx="369720" cy="295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H="1">
                          <a:off x="8003880" y="3632040"/>
                          <a:ext cx="2520" cy="2952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H="1">
                          <a:off x="7857000" y="3750120"/>
                          <a:ext cx="14940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4" name=""/>
                      <p:cNvGrpSpPr/>
                      <p:nvPr/>
                    </p:nvGrpSpPr>
                    <p:grpSpPr>
                      <a:xfrm>
                        <a:off x="7856640" y="4070160"/>
                        <a:ext cx="369720" cy="295560"/>
                        <a:chOff x="7856640" y="4070160"/>
                        <a:chExt cx="369720" cy="295560"/>
                      </a:xfrm>
                    </p:grpSpPr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 flipH="1">
                          <a:off x="7856280" y="4070160"/>
                          <a:ext cx="369720" cy="295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 flipH="1">
                          <a:off x="8003880" y="4070160"/>
                          <a:ext cx="2520" cy="2955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 flipH="1">
                          <a:off x="7857000" y="4188240"/>
                          <a:ext cx="14940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98" name=""/>
                      <p:cNvGrpSpPr/>
                      <p:nvPr/>
                    </p:nvGrpSpPr>
                    <p:grpSpPr>
                      <a:xfrm>
                        <a:off x="8336520" y="3632040"/>
                        <a:ext cx="371880" cy="295200"/>
                        <a:chOff x="8336520" y="3632040"/>
                        <a:chExt cx="371880" cy="295200"/>
                      </a:xfrm>
                    </p:grpSpPr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 flipH="1">
                          <a:off x="8336160" y="3632040"/>
                          <a:ext cx="371880" cy="295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 flipH="1">
                          <a:off x="8484480" y="3632040"/>
                          <a:ext cx="2520" cy="2952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 flipH="1">
                          <a:off x="8336880" y="375012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2" name=""/>
                      <p:cNvGrpSpPr/>
                      <p:nvPr/>
                    </p:nvGrpSpPr>
                    <p:grpSpPr>
                      <a:xfrm>
                        <a:off x="8334720" y="4070160"/>
                        <a:ext cx="371880" cy="295560"/>
                        <a:chOff x="8334720" y="4070160"/>
                        <a:chExt cx="371880" cy="295560"/>
                      </a:xfrm>
                    </p:grpSpPr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 flipH="1">
                          <a:off x="8334360" y="4070160"/>
                          <a:ext cx="371880" cy="295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 flipH="1">
                          <a:off x="8482680" y="4070160"/>
                          <a:ext cx="2520" cy="2955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 flipH="1">
                          <a:off x="8335080" y="418824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6892920" y="3632040"/>
                        <a:ext cx="371880" cy="295200"/>
                        <a:chOff x="6892920" y="3632040"/>
                        <a:chExt cx="371880" cy="29520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 flipH="1">
                          <a:off x="6892560" y="3632040"/>
                          <a:ext cx="371880" cy="2952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 flipH="1">
                          <a:off x="7040880" y="3632040"/>
                          <a:ext cx="2520" cy="29520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 flipH="1">
                          <a:off x="6893280" y="375012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10" name=""/>
                      <p:cNvGrpSpPr/>
                      <p:nvPr/>
                    </p:nvGrpSpPr>
                    <p:grpSpPr>
                      <a:xfrm>
                        <a:off x="6892920" y="4070160"/>
                        <a:ext cx="371880" cy="295560"/>
                        <a:chOff x="6892920" y="4070160"/>
                        <a:chExt cx="371880" cy="295560"/>
                      </a:xfrm>
                    </p:grpSpPr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 flipH="1">
                          <a:off x="6892560" y="4070160"/>
                          <a:ext cx="371880" cy="2955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 flipH="1">
                          <a:off x="7040880" y="4070160"/>
                          <a:ext cx="2520" cy="2955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 flipH="1">
                          <a:off x="6893280" y="4188240"/>
                          <a:ext cx="150120" cy="2160"/>
                        </a:xfrm>
                        <a:prstGeom prst="line">
                          <a:avLst/>
                        </a:prstGeom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614" name=""/>
          <p:cNvSpPr/>
          <p:nvPr/>
        </p:nvSpPr>
        <p:spPr>
          <a:xfrm>
            <a:off x="5145120" y="1295280"/>
            <a:ext cx="1484280" cy="17528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960" y="0"/>
                </a:moveTo>
                <a:cubicBezTo>
                  <a:pt x="768" y="64"/>
                  <a:pt x="576" y="128"/>
                  <a:pt x="480" y="288"/>
                </a:cubicBezTo>
                <a:cubicBezTo>
                  <a:pt x="384" y="448"/>
                  <a:pt x="464" y="824"/>
                  <a:pt x="384" y="960"/>
                </a:cubicBezTo>
                <a:cubicBezTo>
                  <a:pt x="304" y="1096"/>
                  <a:pt x="152" y="1100"/>
                  <a:pt x="0" y="1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145120" y="3125880"/>
            <a:ext cx="1409760" cy="74520"/>
          </a:xfrm>
          <a:custGeom>
            <a:avLst/>
            <a:gdLst/>
            <a:ahLst/>
            <a:rect l="l" t="t" r="r" b="b"/>
            <a:pathLst>
              <a:path w="912" h="1">
                <a:moveTo>
                  <a:pt x="912" y="0"/>
                </a:moveTo>
                <a:cubicBezTo>
                  <a:pt x="912" y="0"/>
                  <a:pt x="456" y="0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08440" y="4343400"/>
            <a:ext cx="3043440" cy="914400"/>
          </a:xfrm>
          <a:custGeom>
            <a:avLst/>
            <a:gdLst/>
            <a:ahLst/>
            <a:rect l="l" t="t" r="r" b="b"/>
            <a:pathLst>
              <a:path w="1968" h="576">
                <a:moveTo>
                  <a:pt x="1968" y="576"/>
                </a:moveTo>
                <a:cubicBezTo>
                  <a:pt x="1316" y="552"/>
                  <a:pt x="664" y="528"/>
                  <a:pt x="336" y="432"/>
                </a:cubicBezTo>
                <a:cubicBezTo>
                  <a:pt x="8" y="336"/>
                  <a:pt x="4" y="16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43400" y="4343400"/>
            <a:ext cx="2152800" cy="1905120"/>
          </a:xfrm>
          <a:custGeom>
            <a:avLst/>
            <a:gdLst/>
            <a:ahLst/>
            <a:rect l="l" t="t" r="r" b="b"/>
            <a:pathLst>
              <a:path w="1392" h="1200">
                <a:moveTo>
                  <a:pt x="1392" y="1152"/>
                </a:moveTo>
                <a:cubicBezTo>
                  <a:pt x="932" y="1176"/>
                  <a:pt x="472" y="1200"/>
                  <a:pt x="240" y="1008"/>
                </a:cubicBezTo>
                <a:cubicBezTo>
                  <a:pt x="8" y="816"/>
                  <a:pt x="4" y="408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476600" y="4343400"/>
            <a:ext cx="2314800" cy="1295280"/>
          </a:xfrm>
          <a:custGeom>
            <a:avLst/>
            <a:gdLst/>
            <a:ahLst/>
            <a:rect l="l" t="t" r="r" b="b"/>
            <a:pathLst>
              <a:path w="1496" h="816">
                <a:moveTo>
                  <a:pt x="1496" y="816"/>
                </a:moveTo>
                <a:cubicBezTo>
                  <a:pt x="996" y="788"/>
                  <a:pt x="496" y="760"/>
                  <a:pt x="248" y="624"/>
                </a:cubicBezTo>
                <a:cubicBezTo>
                  <a:pt x="0" y="488"/>
                  <a:pt x="4" y="244"/>
                  <a:pt x="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362560" y="2687760"/>
            <a:ext cx="7560" cy="3468240"/>
            <a:chOff x="5362560" y="2687760"/>
            <a:chExt cx="7560" cy="3468240"/>
          </a:xfrm>
        </p:grpSpPr>
        <p:grpSp>
          <p:nvGrpSpPr>
            <p:cNvPr id="620" name=""/>
            <p:cNvGrpSpPr/>
            <p:nvPr/>
          </p:nvGrpSpPr>
          <p:grpSpPr>
            <a:xfrm>
              <a:off x="5362560" y="2687760"/>
              <a:ext cx="7560" cy="1031400"/>
              <a:chOff x="5362560" y="2687760"/>
              <a:chExt cx="7560" cy="1031400"/>
            </a:xfrm>
          </p:grpSpPr>
          <p:pic>
            <p:nvPicPr>
              <p:cNvPr id="62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2560" y="2687760"/>
                <a:ext cx="4680" cy="1031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2" name=""/>
              <p:cNvGrpSpPr/>
              <p:nvPr/>
            </p:nvGrpSpPr>
            <p:grpSpPr>
              <a:xfrm>
                <a:off x="5368680" y="2921760"/>
                <a:ext cx="1440" cy="338040"/>
                <a:chOff x="5368680" y="2921760"/>
                <a:chExt cx="1440" cy="338040"/>
              </a:xfrm>
            </p:grpSpPr>
            <p:sp>
              <p:nvSpPr>
                <p:cNvPr id="623" name=""/>
                <p:cNvSpPr/>
                <p:nvPr/>
              </p:nvSpPr>
              <p:spPr>
                <a:xfrm rot="10800000">
                  <a:off x="5369040" y="2921760"/>
                  <a:ext cx="1080" cy="338040"/>
                </a:xfrm>
                <a:custGeom>
                  <a:avLst/>
                  <a:gdLst/>
                  <a:ahLst/>
                  <a:rect l="l" t="t" r="r" b="b"/>
                  <a:pathLst>
                    <a:path w="919" h="917">
                      <a:moveTo>
                        <a:pt x="2" y="859"/>
                      </a:moveTo>
                      <a:lnTo>
                        <a:pt x="61" y="917"/>
                      </a:lnTo>
                      <a:lnTo>
                        <a:pt x="129" y="917"/>
                      </a:lnTo>
                      <a:lnTo>
                        <a:pt x="129" y="911"/>
                      </a:lnTo>
                      <a:lnTo>
                        <a:pt x="225" y="911"/>
                      </a:lnTo>
                      <a:lnTo>
                        <a:pt x="233" y="904"/>
                      </a:lnTo>
                      <a:lnTo>
                        <a:pt x="265" y="904"/>
                      </a:lnTo>
                      <a:lnTo>
                        <a:pt x="265" y="917"/>
                      </a:lnTo>
                      <a:lnTo>
                        <a:pt x="639" y="917"/>
                      </a:lnTo>
                      <a:lnTo>
                        <a:pt x="639" y="914"/>
                      </a:lnTo>
                      <a:lnTo>
                        <a:pt x="913" y="914"/>
                      </a:lnTo>
                      <a:lnTo>
                        <a:pt x="916" y="914"/>
                      </a:lnTo>
                      <a:lnTo>
                        <a:pt x="918" y="911"/>
                      </a:lnTo>
                      <a:lnTo>
                        <a:pt x="919" y="905"/>
                      </a:lnTo>
                      <a:lnTo>
                        <a:pt x="919" y="12"/>
                      </a:lnTo>
                      <a:lnTo>
                        <a:pt x="918" y="8"/>
                      </a:lnTo>
                      <a:lnTo>
                        <a:pt x="916" y="5"/>
                      </a:lnTo>
                      <a:lnTo>
                        <a:pt x="913" y="3"/>
                      </a:lnTo>
                      <a:lnTo>
                        <a:pt x="908" y="3"/>
                      </a:lnTo>
                      <a:lnTo>
                        <a:pt x="907" y="3"/>
                      </a:lnTo>
                      <a:lnTo>
                        <a:pt x="902" y="0"/>
                      </a:lnTo>
                      <a:lnTo>
                        <a:pt x="26" y="0"/>
                      </a:lnTo>
                      <a:lnTo>
                        <a:pt x="18" y="2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2" y="8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0800000">
                  <a:off x="5368680" y="3223800"/>
                  <a:ext cx="360" cy="154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rot="10800000">
                  <a:off x="5369040" y="2922480"/>
                  <a:ext cx="720" cy="105480"/>
                </a:xfrm>
                <a:custGeom>
                  <a:avLst/>
                  <a:gdLst/>
                  <a:ahLst/>
                  <a:rect l="l" t="t" r="r" b="b"/>
                  <a:pathLst>
                    <a:path w="549" h="284">
                      <a:moveTo>
                        <a:pt x="549" y="284"/>
                      </a:moveTo>
                      <a:lnTo>
                        <a:pt x="8" y="284"/>
                      </a:lnTo>
                      <a:lnTo>
                        <a:pt x="8" y="274"/>
                      </a:lnTo>
                      <a:lnTo>
                        <a:pt x="0" y="274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6" y="3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536" y="0"/>
                      </a:lnTo>
                      <a:lnTo>
                        <a:pt x="543" y="1"/>
                      </a:lnTo>
                      <a:lnTo>
                        <a:pt x="547" y="4"/>
                      </a:lnTo>
                      <a:lnTo>
                        <a:pt x="549" y="9"/>
                      </a:lnTo>
                      <a:lnTo>
                        <a:pt x="549" y="12"/>
                      </a:lnTo>
                      <a:lnTo>
                        <a:pt x="549" y="2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10800000">
                  <a:off x="5369400" y="2921760"/>
                  <a:ext cx="360" cy="102600"/>
                </a:xfrm>
                <a:custGeom>
                  <a:avLst/>
                  <a:gdLst/>
                  <a:ahLst/>
                  <a:rect l="l" t="t" r="r" b="b"/>
                  <a:pathLst>
                    <a:path w="443" h="278">
                      <a:moveTo>
                        <a:pt x="443" y="275"/>
                      </a:moveTo>
                      <a:lnTo>
                        <a:pt x="443" y="278"/>
                      </a:lnTo>
                      <a:lnTo>
                        <a:pt x="0" y="278"/>
                      </a:lnTo>
                      <a:lnTo>
                        <a:pt x="0" y="14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421" y="0"/>
                      </a:lnTo>
                      <a:lnTo>
                        <a:pt x="426" y="0"/>
                      </a:lnTo>
                      <a:lnTo>
                        <a:pt x="430" y="2"/>
                      </a:lnTo>
                      <a:lnTo>
                        <a:pt x="435" y="3"/>
                      </a:lnTo>
                      <a:lnTo>
                        <a:pt x="438" y="5"/>
                      </a:lnTo>
                      <a:lnTo>
                        <a:pt x="440" y="8"/>
                      </a:lnTo>
                      <a:lnTo>
                        <a:pt x="441" y="11"/>
                      </a:lnTo>
                      <a:lnTo>
                        <a:pt x="443" y="14"/>
                      </a:lnTo>
                      <a:lnTo>
                        <a:pt x="443" y="17"/>
                      </a:lnTo>
                      <a:lnTo>
                        <a:pt x="443" y="275"/>
                      </a:lnTo>
                      <a:close/>
                    </a:path>
                  </a:pathLst>
                </a:custGeom>
                <a:solidFill>
                  <a:srgbClr val="cdcdc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10800000">
                  <a:off x="5369400" y="2934720"/>
                  <a:ext cx="360" cy="83880"/>
                </a:xfrm>
                <a:prstGeom prst="rect">
                  <a:avLst/>
                </a:prstGeom>
                <a:solidFill>
                  <a:srgbClr val="8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rot="10800000">
                  <a:off x="5368680" y="3224520"/>
                  <a:ext cx="360" cy="1404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0800000">
                  <a:off x="5369400" y="3066480"/>
                  <a:ext cx="720" cy="193320"/>
                </a:xfrm>
                <a:custGeom>
                  <a:avLst/>
                  <a:gdLst/>
                  <a:ahLst/>
                  <a:rect l="l" t="t" r="r" b="b"/>
                  <a:pathLst>
                    <a:path w="683" h="526">
                      <a:moveTo>
                        <a:pt x="683" y="0"/>
                      </a:moveTo>
                      <a:lnTo>
                        <a:pt x="0" y="0"/>
                      </a:lnTo>
                      <a:lnTo>
                        <a:pt x="2" y="508"/>
                      </a:lnTo>
                      <a:lnTo>
                        <a:pt x="2" y="511"/>
                      </a:lnTo>
                      <a:lnTo>
                        <a:pt x="3" y="517"/>
                      </a:lnTo>
                      <a:lnTo>
                        <a:pt x="6" y="520"/>
                      </a:lnTo>
                      <a:lnTo>
                        <a:pt x="8" y="521"/>
                      </a:lnTo>
                      <a:lnTo>
                        <a:pt x="12" y="524"/>
                      </a:lnTo>
                      <a:lnTo>
                        <a:pt x="15" y="526"/>
                      </a:lnTo>
                      <a:lnTo>
                        <a:pt x="20" y="526"/>
                      </a:lnTo>
                      <a:lnTo>
                        <a:pt x="31" y="526"/>
                      </a:lnTo>
                      <a:lnTo>
                        <a:pt x="653" y="526"/>
                      </a:lnTo>
                      <a:lnTo>
                        <a:pt x="662" y="526"/>
                      </a:lnTo>
                      <a:lnTo>
                        <a:pt x="666" y="524"/>
                      </a:lnTo>
                      <a:lnTo>
                        <a:pt x="669" y="524"/>
                      </a:lnTo>
                      <a:lnTo>
                        <a:pt x="674" y="521"/>
                      </a:lnTo>
                      <a:lnTo>
                        <a:pt x="679" y="517"/>
                      </a:lnTo>
                      <a:lnTo>
                        <a:pt x="682" y="514"/>
                      </a:lnTo>
                      <a:lnTo>
                        <a:pt x="682" y="509"/>
                      </a:lnTo>
                      <a:lnTo>
                        <a:pt x="683" y="506"/>
                      </a:lnTo>
                      <a:lnTo>
                        <a:pt x="6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5362560" y="5486400"/>
              <a:ext cx="7560" cy="669600"/>
              <a:chOff x="5362560" y="5486400"/>
              <a:chExt cx="7560" cy="669600"/>
            </a:xfrm>
          </p:grpSpPr>
          <p:pic>
            <p:nvPicPr>
              <p:cNvPr id="6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62560" y="5486400"/>
                <a:ext cx="4680" cy="1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2" name=""/>
              <p:cNvGrpSpPr/>
              <p:nvPr/>
            </p:nvGrpSpPr>
            <p:grpSpPr>
              <a:xfrm>
                <a:off x="5368680" y="5817600"/>
                <a:ext cx="1440" cy="338400"/>
                <a:chOff x="5368680" y="5817600"/>
                <a:chExt cx="1440" cy="338400"/>
              </a:xfrm>
            </p:grpSpPr>
            <p:sp>
              <p:nvSpPr>
                <p:cNvPr id="633" name=""/>
                <p:cNvSpPr/>
                <p:nvPr/>
              </p:nvSpPr>
              <p:spPr>
                <a:xfrm rot="10800000">
                  <a:off x="5369040" y="5817600"/>
                  <a:ext cx="1080" cy="338400"/>
                </a:xfrm>
                <a:custGeom>
                  <a:avLst/>
                  <a:gdLst/>
                  <a:ahLst/>
                  <a:rect l="l" t="t" r="r" b="b"/>
                  <a:pathLst>
                    <a:path w="919" h="917">
                      <a:moveTo>
                        <a:pt x="2" y="859"/>
                      </a:moveTo>
                      <a:lnTo>
                        <a:pt x="61" y="917"/>
                      </a:lnTo>
                      <a:lnTo>
                        <a:pt x="129" y="917"/>
                      </a:lnTo>
                      <a:lnTo>
                        <a:pt x="129" y="911"/>
                      </a:lnTo>
                      <a:lnTo>
                        <a:pt x="225" y="911"/>
                      </a:lnTo>
                      <a:lnTo>
                        <a:pt x="233" y="904"/>
                      </a:lnTo>
                      <a:lnTo>
                        <a:pt x="265" y="904"/>
                      </a:lnTo>
                      <a:lnTo>
                        <a:pt x="265" y="917"/>
                      </a:lnTo>
                      <a:lnTo>
                        <a:pt x="639" y="917"/>
                      </a:lnTo>
                      <a:lnTo>
                        <a:pt x="639" y="914"/>
                      </a:lnTo>
                      <a:lnTo>
                        <a:pt x="913" y="914"/>
                      </a:lnTo>
                      <a:lnTo>
                        <a:pt x="916" y="914"/>
                      </a:lnTo>
                      <a:lnTo>
                        <a:pt x="918" y="911"/>
                      </a:lnTo>
                      <a:lnTo>
                        <a:pt x="919" y="905"/>
                      </a:lnTo>
                      <a:lnTo>
                        <a:pt x="919" y="12"/>
                      </a:lnTo>
                      <a:lnTo>
                        <a:pt x="918" y="8"/>
                      </a:lnTo>
                      <a:lnTo>
                        <a:pt x="916" y="5"/>
                      </a:lnTo>
                      <a:lnTo>
                        <a:pt x="913" y="3"/>
                      </a:lnTo>
                      <a:lnTo>
                        <a:pt x="908" y="3"/>
                      </a:lnTo>
                      <a:lnTo>
                        <a:pt x="907" y="3"/>
                      </a:lnTo>
                      <a:lnTo>
                        <a:pt x="902" y="0"/>
                      </a:lnTo>
                      <a:lnTo>
                        <a:pt x="26" y="0"/>
                      </a:lnTo>
                      <a:lnTo>
                        <a:pt x="18" y="2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2"/>
                      </a:lnTo>
                      <a:lnTo>
                        <a:pt x="2" y="85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0800000">
                  <a:off x="5368680" y="6120000"/>
                  <a:ext cx="360" cy="154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0800000">
                  <a:off x="5369040" y="5818680"/>
                  <a:ext cx="720" cy="105480"/>
                </a:xfrm>
                <a:custGeom>
                  <a:avLst/>
                  <a:gdLst/>
                  <a:ahLst/>
                  <a:rect l="l" t="t" r="r" b="b"/>
                  <a:pathLst>
                    <a:path w="549" h="284">
                      <a:moveTo>
                        <a:pt x="549" y="284"/>
                      </a:moveTo>
                      <a:lnTo>
                        <a:pt x="8" y="284"/>
                      </a:lnTo>
                      <a:lnTo>
                        <a:pt x="8" y="274"/>
                      </a:lnTo>
                      <a:lnTo>
                        <a:pt x="0" y="274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6" y="3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536" y="0"/>
                      </a:lnTo>
                      <a:lnTo>
                        <a:pt x="543" y="1"/>
                      </a:lnTo>
                      <a:lnTo>
                        <a:pt x="547" y="4"/>
                      </a:lnTo>
                      <a:lnTo>
                        <a:pt x="549" y="9"/>
                      </a:lnTo>
                      <a:lnTo>
                        <a:pt x="549" y="12"/>
                      </a:lnTo>
                      <a:lnTo>
                        <a:pt x="549" y="28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0800000">
                  <a:off x="5369400" y="5817600"/>
                  <a:ext cx="360" cy="102600"/>
                </a:xfrm>
                <a:custGeom>
                  <a:avLst/>
                  <a:gdLst/>
                  <a:ahLst/>
                  <a:rect l="l" t="t" r="r" b="b"/>
                  <a:pathLst>
                    <a:path w="443" h="278">
                      <a:moveTo>
                        <a:pt x="443" y="275"/>
                      </a:moveTo>
                      <a:lnTo>
                        <a:pt x="443" y="278"/>
                      </a:lnTo>
                      <a:lnTo>
                        <a:pt x="0" y="278"/>
                      </a:lnTo>
                      <a:lnTo>
                        <a:pt x="0" y="14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9" y="2"/>
                      </a:lnTo>
                      <a:lnTo>
                        <a:pt x="14" y="0"/>
                      </a:lnTo>
                      <a:lnTo>
                        <a:pt x="20" y="0"/>
                      </a:lnTo>
                      <a:lnTo>
                        <a:pt x="421" y="0"/>
                      </a:lnTo>
                      <a:lnTo>
                        <a:pt x="426" y="0"/>
                      </a:lnTo>
                      <a:lnTo>
                        <a:pt x="430" y="2"/>
                      </a:lnTo>
                      <a:lnTo>
                        <a:pt x="435" y="3"/>
                      </a:lnTo>
                      <a:lnTo>
                        <a:pt x="438" y="5"/>
                      </a:lnTo>
                      <a:lnTo>
                        <a:pt x="440" y="8"/>
                      </a:lnTo>
                      <a:lnTo>
                        <a:pt x="441" y="11"/>
                      </a:lnTo>
                      <a:lnTo>
                        <a:pt x="443" y="14"/>
                      </a:lnTo>
                      <a:lnTo>
                        <a:pt x="443" y="17"/>
                      </a:lnTo>
                      <a:lnTo>
                        <a:pt x="443" y="275"/>
                      </a:lnTo>
                      <a:close/>
                    </a:path>
                  </a:pathLst>
                </a:custGeom>
                <a:solidFill>
                  <a:srgbClr val="cdcdc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0800000">
                  <a:off x="5369400" y="5830200"/>
                  <a:ext cx="360" cy="84240"/>
                </a:xfrm>
                <a:prstGeom prst="rect">
                  <a:avLst/>
                </a:prstGeom>
                <a:solidFill>
                  <a:srgbClr val="8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rot="10800000">
                  <a:off x="5368680" y="6120720"/>
                  <a:ext cx="360" cy="14040"/>
                </a:xfrm>
                <a:custGeom>
                  <a:avLst/>
                  <a:gdLst/>
                  <a:ahLst/>
                  <a:rect l="l" t="t" r="r" b="b"/>
                  <a:pathLst>
                    <a:path w="61" h="38">
                      <a:moveTo>
                        <a:pt x="0" y="38"/>
                      </a:moveTo>
                      <a:lnTo>
                        <a:pt x="0" y="0"/>
                      </a:lnTo>
                      <a:lnTo>
                        <a:pt x="61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0800000">
                  <a:off x="5369400" y="5962680"/>
                  <a:ext cx="720" cy="193320"/>
                </a:xfrm>
                <a:custGeom>
                  <a:avLst/>
                  <a:gdLst/>
                  <a:ahLst/>
                  <a:rect l="l" t="t" r="r" b="b"/>
                  <a:pathLst>
                    <a:path w="683" h="526">
                      <a:moveTo>
                        <a:pt x="683" y="0"/>
                      </a:moveTo>
                      <a:lnTo>
                        <a:pt x="0" y="0"/>
                      </a:lnTo>
                      <a:lnTo>
                        <a:pt x="2" y="508"/>
                      </a:lnTo>
                      <a:lnTo>
                        <a:pt x="2" y="511"/>
                      </a:lnTo>
                      <a:lnTo>
                        <a:pt x="3" y="517"/>
                      </a:lnTo>
                      <a:lnTo>
                        <a:pt x="6" y="520"/>
                      </a:lnTo>
                      <a:lnTo>
                        <a:pt x="8" y="521"/>
                      </a:lnTo>
                      <a:lnTo>
                        <a:pt x="12" y="524"/>
                      </a:lnTo>
                      <a:lnTo>
                        <a:pt x="15" y="526"/>
                      </a:lnTo>
                      <a:lnTo>
                        <a:pt x="20" y="526"/>
                      </a:lnTo>
                      <a:lnTo>
                        <a:pt x="31" y="526"/>
                      </a:lnTo>
                      <a:lnTo>
                        <a:pt x="653" y="526"/>
                      </a:lnTo>
                      <a:lnTo>
                        <a:pt x="662" y="526"/>
                      </a:lnTo>
                      <a:lnTo>
                        <a:pt x="666" y="524"/>
                      </a:lnTo>
                      <a:lnTo>
                        <a:pt x="669" y="524"/>
                      </a:lnTo>
                      <a:lnTo>
                        <a:pt x="674" y="521"/>
                      </a:lnTo>
                      <a:lnTo>
                        <a:pt x="679" y="517"/>
                      </a:lnTo>
                      <a:lnTo>
                        <a:pt x="682" y="514"/>
                      </a:lnTo>
                      <a:lnTo>
                        <a:pt x="682" y="509"/>
                      </a:lnTo>
                      <a:lnTo>
                        <a:pt x="683" y="506"/>
                      </a:lnTo>
                      <a:lnTo>
                        <a:pt x="68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0" name=""/>
          <p:cNvGrpSpPr/>
          <p:nvPr/>
        </p:nvGrpSpPr>
        <p:grpSpPr>
          <a:xfrm>
            <a:off x="2895480" y="3048120"/>
            <a:ext cx="1752840" cy="801720"/>
            <a:chOff x="2895480" y="3048120"/>
            <a:chExt cx="1752840" cy="801720"/>
          </a:xfrm>
        </p:grpSpPr>
        <p:sp>
          <p:nvSpPr>
            <p:cNvPr id="641" name=""/>
            <p:cNvSpPr/>
            <p:nvPr/>
          </p:nvSpPr>
          <p:spPr>
            <a:xfrm flipH="1">
              <a:off x="3733920" y="3124080"/>
              <a:ext cx="4572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3733920" y="3580920"/>
              <a:ext cx="457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2895480" y="3276720"/>
              <a:ext cx="533520" cy="304560"/>
              <a:chOff x="2895480" y="3276720"/>
              <a:chExt cx="533520" cy="3045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2895480" y="3276720"/>
                <a:ext cx="266760" cy="304560"/>
                <a:chOff x="2895480" y="3276720"/>
                <a:chExt cx="266760" cy="3045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2895480" y="3429000"/>
                  <a:ext cx="266760" cy="152280"/>
                </a:xfrm>
                <a:prstGeom prst="cube">
                  <a:avLst>
                    <a:gd name="adj" fmla="val 18490"/>
                  </a:avLst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95480" y="3276720"/>
                  <a:ext cx="266760" cy="152280"/>
                </a:xfrm>
                <a:prstGeom prst="cube">
                  <a:avLst>
                    <a:gd name="adj" fmla="val 18490"/>
                  </a:avLst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3162240" y="3276720"/>
                <a:ext cx="266760" cy="304560"/>
                <a:chOff x="3162240" y="3276720"/>
                <a:chExt cx="266760" cy="3045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162240" y="3429000"/>
                  <a:ext cx="266760" cy="152280"/>
                </a:xfrm>
                <a:prstGeom prst="cube">
                  <a:avLst>
                    <a:gd name="adj" fmla="val 18490"/>
                  </a:avLst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162240" y="3276720"/>
                  <a:ext cx="266760" cy="152280"/>
                </a:xfrm>
                <a:prstGeom prst="cube">
                  <a:avLst>
                    <a:gd name="adj" fmla="val 18490"/>
                  </a:avLst>
                </a:prstGeom>
                <a:solidFill>
                  <a:srgbClr val="33cc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0" name=""/>
            <p:cNvSpPr/>
            <p:nvPr/>
          </p:nvSpPr>
          <p:spPr>
            <a:xfrm>
              <a:off x="4381560" y="3048120"/>
              <a:ext cx="266760" cy="115920"/>
            </a:xfrm>
            <a:prstGeom prst="cube">
              <a:avLst>
                <a:gd name="adj" fmla="val 1849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81560" y="3733920"/>
              <a:ext cx="266760" cy="115920"/>
            </a:xfrm>
            <a:prstGeom prst="cube">
              <a:avLst>
                <a:gd name="adj" fmla="val 18490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295280" y="3504960"/>
            <a:ext cx="2971080" cy="3123720"/>
            <a:chOff x="1295280" y="3504960"/>
            <a:chExt cx="2971080" cy="3123720"/>
          </a:xfrm>
        </p:grpSpPr>
        <p:grpSp>
          <p:nvGrpSpPr>
            <p:cNvPr id="653" name=""/>
            <p:cNvGrpSpPr/>
            <p:nvPr/>
          </p:nvGrpSpPr>
          <p:grpSpPr>
            <a:xfrm>
              <a:off x="1295280" y="4706640"/>
              <a:ext cx="2971080" cy="1922040"/>
              <a:chOff x="1295280" y="4706640"/>
              <a:chExt cx="2971080" cy="1922040"/>
            </a:xfrm>
          </p:grpSpPr>
          <p:sp>
            <p:nvSpPr>
              <p:cNvPr id="654" name=""/>
              <p:cNvSpPr/>
              <p:nvPr/>
            </p:nvSpPr>
            <p:spPr>
              <a:xfrm>
                <a:off x="1295280" y="4706640"/>
                <a:ext cx="2971080" cy="1922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t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Базы данных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486800" y="5107320"/>
                <a:ext cx="2586240" cy="1437120"/>
                <a:chOff x="1486800" y="5107320"/>
                <a:chExt cx="2586240" cy="1437120"/>
              </a:xfrm>
            </p:grpSpPr>
            <p:grpSp>
              <p:nvGrpSpPr>
                <p:cNvPr id="656" name=""/>
                <p:cNvGrpSpPr/>
                <p:nvPr/>
              </p:nvGrpSpPr>
              <p:grpSpPr>
                <a:xfrm>
                  <a:off x="1486800" y="5107320"/>
                  <a:ext cx="2586240" cy="1360800"/>
                  <a:chOff x="1486800" y="5107320"/>
                  <a:chExt cx="2586240" cy="136080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1486800" y="5787720"/>
                    <a:ext cx="1293120" cy="680400"/>
                  </a:xfrm>
                  <a:prstGeom prst="cube">
                    <a:avLst>
                      <a:gd name="adj" fmla="val 18490"/>
                    </a:avLst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486800" y="5107320"/>
                    <a:ext cx="1293120" cy="680400"/>
                  </a:xfrm>
                  <a:prstGeom prst="cube">
                    <a:avLst>
                      <a:gd name="adj" fmla="val 18490"/>
                    </a:avLst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779920" y="5787720"/>
                    <a:ext cx="1293120" cy="680400"/>
                  </a:xfrm>
                  <a:prstGeom prst="cube">
                    <a:avLst>
                      <a:gd name="adj" fmla="val 18490"/>
                    </a:avLst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779920" y="5107320"/>
                    <a:ext cx="1293120" cy="680400"/>
                  </a:xfrm>
                  <a:prstGeom prst="cube">
                    <a:avLst>
                      <a:gd name="adj" fmla="val 18490"/>
                    </a:avLst>
                  </a:prstGeom>
                  <a:solidFill>
                    <a:srgbClr val="33cc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1582560" y="5213880"/>
                  <a:ext cx="2301480" cy="1330560"/>
                  <a:chOff x="1582560" y="5213880"/>
                  <a:chExt cx="2301480" cy="133056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1582560" y="5213880"/>
                    <a:ext cx="1053720" cy="48708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ffffff"/>
                        </a:solidFill>
                        <a:latin typeface="Arial Narrow"/>
                      </a:rPr>
                      <a:t>Приписанн.,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ffffff"/>
                        </a:solidFill>
                        <a:latin typeface="Arial Narrow"/>
                      </a:rPr>
                      <a:t>застрах.нас.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830320" y="5229720"/>
                    <a:ext cx="1053720" cy="48708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 Narrow"/>
                      </a:rPr>
                      <a:t>Здоровье    населения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582560" y="6059160"/>
                    <a:ext cx="1053720" cy="24372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 Narrow"/>
                      </a:rPr>
                      <a:t>Доп. пакет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830320" y="5814000"/>
                    <a:ext cx="1053720" cy="73044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Arial Narrow"/>
                      </a:rPr>
                      <a:t>Справочник УЗ, КИФ, кадры 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"/>
            <p:cNvSpPr/>
            <p:nvPr/>
          </p:nvSpPr>
          <p:spPr>
            <a:xfrm flipV="1">
              <a:off x="2637360" y="3504960"/>
              <a:ext cx="478800" cy="120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1790640" y="2006640"/>
            <a:ext cx="800280" cy="1346040"/>
            <a:chOff x="1790640" y="2006640"/>
            <a:chExt cx="800280" cy="1346040"/>
          </a:xfrm>
        </p:grpSpPr>
        <p:grpSp>
          <p:nvGrpSpPr>
            <p:cNvPr id="668" name=""/>
            <p:cNvGrpSpPr/>
            <p:nvPr/>
          </p:nvGrpSpPr>
          <p:grpSpPr>
            <a:xfrm>
              <a:off x="2347920" y="2006640"/>
              <a:ext cx="196560" cy="204480"/>
              <a:chOff x="2347920" y="2006640"/>
              <a:chExt cx="196560" cy="204480"/>
            </a:xfrm>
          </p:grpSpPr>
          <p:sp>
            <p:nvSpPr>
              <p:cNvPr id="669" name=""/>
              <p:cNvSpPr/>
              <p:nvPr/>
            </p:nvSpPr>
            <p:spPr>
              <a:xfrm>
                <a:off x="2347920" y="2109240"/>
                <a:ext cx="0" cy="101880"/>
              </a:xfrm>
              <a:prstGeom prst="line">
                <a:avLst/>
              </a:prstGeom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544480" y="2006640"/>
                <a:ext cx="0" cy="202320"/>
              </a:xfrm>
              <a:prstGeom prst="line">
                <a:avLst/>
              </a:prstGeom>
              <a:ln w="2844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446560" y="2109240"/>
                <a:ext cx="0" cy="101880"/>
              </a:xfrm>
              <a:prstGeom prst="line">
                <a:avLst/>
              </a:prstGeom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1790640" y="2133720"/>
              <a:ext cx="800280" cy="1218960"/>
            </a:xfrm>
            <a:custGeom>
              <a:avLst/>
              <a:gdLst/>
              <a:ahLst/>
              <a:rect l="l" t="t" r="r" b="b"/>
              <a:pathLst>
                <a:path w="504" h="768">
                  <a:moveTo>
                    <a:pt x="216" y="0"/>
                  </a:moveTo>
                  <a:cubicBezTo>
                    <a:pt x="156" y="72"/>
                    <a:pt x="96" y="144"/>
                    <a:pt x="72" y="240"/>
                  </a:cubicBezTo>
                  <a:cubicBezTo>
                    <a:pt x="48" y="336"/>
                    <a:pt x="0" y="488"/>
                    <a:pt x="72" y="576"/>
                  </a:cubicBezTo>
                  <a:cubicBezTo>
                    <a:pt x="144" y="664"/>
                    <a:pt x="324" y="716"/>
                    <a:pt x="504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85200" y="3673800"/>
            <a:ext cx="2205360" cy="348840"/>
            <a:chOff x="385200" y="3673800"/>
            <a:chExt cx="2205360" cy="348840"/>
          </a:xfrm>
        </p:grpSpPr>
        <p:sp>
          <p:nvSpPr>
            <p:cNvPr id="674" name=""/>
            <p:cNvSpPr/>
            <p:nvPr/>
          </p:nvSpPr>
          <p:spPr>
            <a:xfrm rot="346800">
              <a:off x="393480" y="3733920"/>
              <a:ext cx="1206360" cy="228600"/>
            </a:xfrm>
            <a:custGeom>
              <a:avLst/>
              <a:gdLst/>
              <a:ahLst/>
              <a:rect l="l" t="t" r="r" b="b"/>
              <a:pathLst>
                <a:path w="1692" h="135">
                  <a:moveTo>
                    <a:pt x="1692" y="53"/>
                  </a:moveTo>
                  <a:lnTo>
                    <a:pt x="752" y="135"/>
                  </a:lnTo>
                  <a:lnTo>
                    <a:pt x="844" y="34"/>
                  </a:lnTo>
                  <a:lnTo>
                    <a:pt x="0" y="80"/>
                  </a:lnTo>
                  <a:lnTo>
                    <a:pt x="938" y="0"/>
                  </a:lnTo>
                  <a:lnTo>
                    <a:pt x="846" y="101"/>
                  </a:lnTo>
                  <a:lnTo>
                    <a:pt x="1692" y="5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209320" y="3733920"/>
              <a:ext cx="3812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80640" y="2896200"/>
            <a:ext cx="375480" cy="1692000"/>
            <a:chOff x="80640" y="2896200"/>
            <a:chExt cx="375480" cy="1692000"/>
          </a:xfrm>
        </p:grpSpPr>
        <p:sp>
          <p:nvSpPr>
            <p:cNvPr id="677" name=""/>
            <p:cNvSpPr/>
            <p:nvPr/>
          </p:nvSpPr>
          <p:spPr>
            <a:xfrm flipH="1" rot="5409600">
              <a:off x="23760" y="3625200"/>
              <a:ext cx="517320" cy="2764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409600">
              <a:off x="72000" y="3677040"/>
              <a:ext cx="452520" cy="171720"/>
            </a:xfrm>
            <a:custGeom>
              <a:avLst/>
              <a:gdLst/>
              <a:ahLst/>
              <a:rect l="l" t="t" r="r" b="b"/>
              <a:pathLst>
                <a:path w="655" h="116">
                  <a:moveTo>
                    <a:pt x="0" y="47"/>
                  </a:moveTo>
                  <a:lnTo>
                    <a:pt x="655" y="47"/>
                  </a:lnTo>
                  <a:lnTo>
                    <a:pt x="655" y="0"/>
                  </a:lnTo>
                  <a:lnTo>
                    <a:pt x="0" y="0"/>
                  </a:lnTo>
                  <a:lnTo>
                    <a:pt x="0" y="47"/>
                  </a:lnTo>
                  <a:close/>
                  <a:moveTo>
                    <a:pt x="0" y="116"/>
                  </a:moveTo>
                  <a:lnTo>
                    <a:pt x="655" y="116"/>
                  </a:lnTo>
                  <a:lnTo>
                    <a:pt x="655" y="70"/>
                  </a:lnTo>
                  <a:lnTo>
                    <a:pt x="0" y="7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409600">
              <a:off x="79560" y="3696120"/>
              <a:ext cx="435240" cy="135360"/>
            </a:xfrm>
            <a:custGeom>
              <a:avLst/>
              <a:gdLst/>
              <a:ahLst/>
              <a:rect l="l" t="t" r="r" b="b"/>
              <a:pathLst>
                <a:path w="632" h="92">
                  <a:moveTo>
                    <a:pt x="607" y="81"/>
                  </a:moveTo>
                  <a:lnTo>
                    <a:pt x="611" y="74"/>
                  </a:lnTo>
                  <a:lnTo>
                    <a:pt x="616" y="71"/>
                  </a:lnTo>
                  <a:lnTo>
                    <a:pt x="623" y="71"/>
                  </a:lnTo>
                  <a:lnTo>
                    <a:pt x="628" y="74"/>
                  </a:lnTo>
                  <a:lnTo>
                    <a:pt x="632" y="81"/>
                  </a:lnTo>
                  <a:lnTo>
                    <a:pt x="628" y="88"/>
                  </a:lnTo>
                  <a:lnTo>
                    <a:pt x="623" y="92"/>
                  </a:lnTo>
                  <a:lnTo>
                    <a:pt x="616" y="92"/>
                  </a:lnTo>
                  <a:lnTo>
                    <a:pt x="611" y="88"/>
                  </a:lnTo>
                  <a:lnTo>
                    <a:pt x="607" y="81"/>
                  </a:lnTo>
                  <a:close/>
                  <a:moveTo>
                    <a:pt x="561" y="81"/>
                  </a:moveTo>
                  <a:lnTo>
                    <a:pt x="563" y="74"/>
                  </a:lnTo>
                  <a:lnTo>
                    <a:pt x="570" y="71"/>
                  </a:lnTo>
                  <a:lnTo>
                    <a:pt x="577" y="71"/>
                  </a:lnTo>
                  <a:lnTo>
                    <a:pt x="582" y="74"/>
                  </a:lnTo>
                  <a:lnTo>
                    <a:pt x="584" y="81"/>
                  </a:lnTo>
                  <a:lnTo>
                    <a:pt x="582" y="88"/>
                  </a:lnTo>
                  <a:lnTo>
                    <a:pt x="577" y="92"/>
                  </a:lnTo>
                  <a:lnTo>
                    <a:pt x="570" y="92"/>
                  </a:lnTo>
                  <a:lnTo>
                    <a:pt x="563" y="88"/>
                  </a:lnTo>
                  <a:lnTo>
                    <a:pt x="561" y="81"/>
                  </a:lnTo>
                  <a:close/>
                  <a:moveTo>
                    <a:pt x="515" y="81"/>
                  </a:moveTo>
                  <a:lnTo>
                    <a:pt x="517" y="74"/>
                  </a:lnTo>
                  <a:lnTo>
                    <a:pt x="522" y="71"/>
                  </a:lnTo>
                  <a:lnTo>
                    <a:pt x="529" y="71"/>
                  </a:lnTo>
                  <a:lnTo>
                    <a:pt x="535" y="74"/>
                  </a:lnTo>
                  <a:lnTo>
                    <a:pt x="538" y="81"/>
                  </a:lnTo>
                  <a:lnTo>
                    <a:pt x="535" y="88"/>
                  </a:lnTo>
                  <a:lnTo>
                    <a:pt x="529" y="92"/>
                  </a:lnTo>
                  <a:lnTo>
                    <a:pt x="522" y="92"/>
                  </a:lnTo>
                  <a:lnTo>
                    <a:pt x="517" y="88"/>
                  </a:lnTo>
                  <a:lnTo>
                    <a:pt x="515" y="81"/>
                  </a:lnTo>
                  <a:close/>
                  <a:moveTo>
                    <a:pt x="467" y="81"/>
                  </a:moveTo>
                  <a:lnTo>
                    <a:pt x="469" y="74"/>
                  </a:lnTo>
                  <a:lnTo>
                    <a:pt x="476" y="71"/>
                  </a:lnTo>
                  <a:lnTo>
                    <a:pt x="483" y="71"/>
                  </a:lnTo>
                  <a:lnTo>
                    <a:pt x="489" y="74"/>
                  </a:lnTo>
                  <a:lnTo>
                    <a:pt x="490" y="81"/>
                  </a:lnTo>
                  <a:lnTo>
                    <a:pt x="489" y="88"/>
                  </a:lnTo>
                  <a:lnTo>
                    <a:pt x="483" y="92"/>
                  </a:lnTo>
                  <a:lnTo>
                    <a:pt x="476" y="92"/>
                  </a:lnTo>
                  <a:lnTo>
                    <a:pt x="469" y="88"/>
                  </a:lnTo>
                  <a:lnTo>
                    <a:pt x="467" y="81"/>
                  </a:lnTo>
                  <a:close/>
                  <a:moveTo>
                    <a:pt x="421" y="81"/>
                  </a:moveTo>
                  <a:lnTo>
                    <a:pt x="423" y="74"/>
                  </a:lnTo>
                  <a:lnTo>
                    <a:pt x="428" y="71"/>
                  </a:lnTo>
                  <a:lnTo>
                    <a:pt x="435" y="71"/>
                  </a:lnTo>
                  <a:lnTo>
                    <a:pt x="443" y="74"/>
                  </a:lnTo>
                  <a:lnTo>
                    <a:pt x="444" y="81"/>
                  </a:lnTo>
                  <a:lnTo>
                    <a:pt x="443" y="88"/>
                  </a:lnTo>
                  <a:lnTo>
                    <a:pt x="435" y="92"/>
                  </a:lnTo>
                  <a:lnTo>
                    <a:pt x="428" y="92"/>
                  </a:lnTo>
                  <a:lnTo>
                    <a:pt x="423" y="88"/>
                  </a:lnTo>
                  <a:lnTo>
                    <a:pt x="421" y="81"/>
                  </a:lnTo>
                  <a:close/>
                  <a:moveTo>
                    <a:pt x="374" y="81"/>
                  </a:moveTo>
                  <a:lnTo>
                    <a:pt x="375" y="74"/>
                  </a:lnTo>
                  <a:lnTo>
                    <a:pt x="382" y="71"/>
                  </a:lnTo>
                  <a:lnTo>
                    <a:pt x="389" y="71"/>
                  </a:lnTo>
                  <a:lnTo>
                    <a:pt x="395" y="74"/>
                  </a:lnTo>
                  <a:lnTo>
                    <a:pt x="397" y="81"/>
                  </a:lnTo>
                  <a:lnTo>
                    <a:pt x="395" y="88"/>
                  </a:lnTo>
                  <a:lnTo>
                    <a:pt x="389" y="92"/>
                  </a:lnTo>
                  <a:lnTo>
                    <a:pt x="382" y="92"/>
                  </a:lnTo>
                  <a:lnTo>
                    <a:pt x="375" y="88"/>
                  </a:lnTo>
                  <a:lnTo>
                    <a:pt x="374" y="81"/>
                  </a:lnTo>
                  <a:close/>
                  <a:moveTo>
                    <a:pt x="327" y="81"/>
                  </a:moveTo>
                  <a:lnTo>
                    <a:pt x="329" y="74"/>
                  </a:lnTo>
                  <a:lnTo>
                    <a:pt x="335" y="71"/>
                  </a:lnTo>
                  <a:lnTo>
                    <a:pt x="342" y="71"/>
                  </a:lnTo>
                  <a:lnTo>
                    <a:pt x="349" y="74"/>
                  </a:lnTo>
                  <a:lnTo>
                    <a:pt x="350" y="81"/>
                  </a:lnTo>
                  <a:lnTo>
                    <a:pt x="349" y="88"/>
                  </a:lnTo>
                  <a:lnTo>
                    <a:pt x="342" y="92"/>
                  </a:lnTo>
                  <a:lnTo>
                    <a:pt x="335" y="92"/>
                  </a:lnTo>
                  <a:lnTo>
                    <a:pt x="329" y="88"/>
                  </a:lnTo>
                  <a:lnTo>
                    <a:pt x="327" y="81"/>
                  </a:lnTo>
                  <a:close/>
                  <a:moveTo>
                    <a:pt x="280" y="81"/>
                  </a:moveTo>
                  <a:lnTo>
                    <a:pt x="283" y="74"/>
                  </a:lnTo>
                  <a:lnTo>
                    <a:pt x="289" y="71"/>
                  </a:lnTo>
                  <a:lnTo>
                    <a:pt x="296" y="71"/>
                  </a:lnTo>
                  <a:lnTo>
                    <a:pt x="301" y="74"/>
                  </a:lnTo>
                  <a:lnTo>
                    <a:pt x="303" y="81"/>
                  </a:lnTo>
                  <a:lnTo>
                    <a:pt x="301" y="88"/>
                  </a:lnTo>
                  <a:lnTo>
                    <a:pt x="296" y="92"/>
                  </a:lnTo>
                  <a:lnTo>
                    <a:pt x="289" y="92"/>
                  </a:lnTo>
                  <a:lnTo>
                    <a:pt x="283" y="88"/>
                  </a:lnTo>
                  <a:lnTo>
                    <a:pt x="280" y="81"/>
                  </a:lnTo>
                  <a:close/>
                  <a:moveTo>
                    <a:pt x="234" y="81"/>
                  </a:moveTo>
                  <a:lnTo>
                    <a:pt x="235" y="74"/>
                  </a:lnTo>
                  <a:lnTo>
                    <a:pt x="241" y="71"/>
                  </a:lnTo>
                  <a:lnTo>
                    <a:pt x="248" y="71"/>
                  </a:lnTo>
                  <a:lnTo>
                    <a:pt x="255" y="74"/>
                  </a:lnTo>
                  <a:lnTo>
                    <a:pt x="257" y="81"/>
                  </a:lnTo>
                  <a:lnTo>
                    <a:pt x="255" y="88"/>
                  </a:lnTo>
                  <a:lnTo>
                    <a:pt x="248" y="92"/>
                  </a:lnTo>
                  <a:lnTo>
                    <a:pt x="241" y="92"/>
                  </a:lnTo>
                  <a:lnTo>
                    <a:pt x="235" y="88"/>
                  </a:lnTo>
                  <a:lnTo>
                    <a:pt x="234" y="81"/>
                  </a:lnTo>
                  <a:close/>
                  <a:moveTo>
                    <a:pt x="186" y="81"/>
                  </a:moveTo>
                  <a:lnTo>
                    <a:pt x="189" y="74"/>
                  </a:lnTo>
                  <a:lnTo>
                    <a:pt x="195" y="71"/>
                  </a:lnTo>
                  <a:lnTo>
                    <a:pt x="202" y="71"/>
                  </a:lnTo>
                  <a:lnTo>
                    <a:pt x="207" y="74"/>
                  </a:lnTo>
                  <a:lnTo>
                    <a:pt x="211" y="81"/>
                  </a:lnTo>
                  <a:lnTo>
                    <a:pt x="207" y="88"/>
                  </a:lnTo>
                  <a:lnTo>
                    <a:pt x="202" y="92"/>
                  </a:lnTo>
                  <a:lnTo>
                    <a:pt x="195" y="92"/>
                  </a:lnTo>
                  <a:lnTo>
                    <a:pt x="189" y="88"/>
                  </a:lnTo>
                  <a:lnTo>
                    <a:pt x="186" y="81"/>
                  </a:lnTo>
                  <a:close/>
                  <a:moveTo>
                    <a:pt x="140" y="81"/>
                  </a:moveTo>
                  <a:lnTo>
                    <a:pt x="142" y="74"/>
                  </a:lnTo>
                  <a:lnTo>
                    <a:pt x="147" y="71"/>
                  </a:lnTo>
                  <a:lnTo>
                    <a:pt x="156" y="71"/>
                  </a:lnTo>
                  <a:lnTo>
                    <a:pt x="161" y="74"/>
                  </a:lnTo>
                  <a:lnTo>
                    <a:pt x="163" y="81"/>
                  </a:lnTo>
                  <a:lnTo>
                    <a:pt x="161" y="88"/>
                  </a:lnTo>
                  <a:lnTo>
                    <a:pt x="156" y="92"/>
                  </a:lnTo>
                  <a:lnTo>
                    <a:pt x="147" y="92"/>
                  </a:lnTo>
                  <a:lnTo>
                    <a:pt x="142" y="88"/>
                  </a:lnTo>
                  <a:lnTo>
                    <a:pt x="140" y="81"/>
                  </a:lnTo>
                  <a:close/>
                  <a:moveTo>
                    <a:pt x="92" y="81"/>
                  </a:moveTo>
                  <a:lnTo>
                    <a:pt x="96" y="74"/>
                  </a:lnTo>
                  <a:lnTo>
                    <a:pt x="101" y="71"/>
                  </a:lnTo>
                  <a:lnTo>
                    <a:pt x="108" y="71"/>
                  </a:lnTo>
                  <a:lnTo>
                    <a:pt x="113" y="74"/>
                  </a:lnTo>
                  <a:lnTo>
                    <a:pt x="117" y="81"/>
                  </a:lnTo>
                  <a:lnTo>
                    <a:pt x="113" y="88"/>
                  </a:lnTo>
                  <a:lnTo>
                    <a:pt x="108" y="92"/>
                  </a:lnTo>
                  <a:lnTo>
                    <a:pt x="101" y="92"/>
                  </a:lnTo>
                  <a:lnTo>
                    <a:pt x="96" y="88"/>
                  </a:lnTo>
                  <a:lnTo>
                    <a:pt x="92" y="81"/>
                  </a:lnTo>
                  <a:close/>
                  <a:moveTo>
                    <a:pt x="46" y="81"/>
                  </a:moveTo>
                  <a:lnTo>
                    <a:pt x="48" y="74"/>
                  </a:lnTo>
                  <a:lnTo>
                    <a:pt x="55" y="71"/>
                  </a:lnTo>
                  <a:lnTo>
                    <a:pt x="62" y="71"/>
                  </a:lnTo>
                  <a:lnTo>
                    <a:pt x="67" y="74"/>
                  </a:lnTo>
                  <a:lnTo>
                    <a:pt x="69" y="81"/>
                  </a:lnTo>
                  <a:lnTo>
                    <a:pt x="67" y="88"/>
                  </a:lnTo>
                  <a:lnTo>
                    <a:pt x="62" y="92"/>
                  </a:lnTo>
                  <a:lnTo>
                    <a:pt x="55" y="92"/>
                  </a:lnTo>
                  <a:lnTo>
                    <a:pt x="48" y="88"/>
                  </a:lnTo>
                  <a:lnTo>
                    <a:pt x="46" y="81"/>
                  </a:lnTo>
                  <a:close/>
                  <a:moveTo>
                    <a:pt x="0" y="81"/>
                  </a:moveTo>
                  <a:lnTo>
                    <a:pt x="2" y="74"/>
                  </a:lnTo>
                  <a:lnTo>
                    <a:pt x="7" y="71"/>
                  </a:lnTo>
                  <a:lnTo>
                    <a:pt x="14" y="71"/>
                  </a:lnTo>
                  <a:lnTo>
                    <a:pt x="19" y="74"/>
                  </a:lnTo>
                  <a:lnTo>
                    <a:pt x="23" y="81"/>
                  </a:lnTo>
                  <a:lnTo>
                    <a:pt x="19" y="88"/>
                  </a:lnTo>
                  <a:lnTo>
                    <a:pt x="14" y="92"/>
                  </a:lnTo>
                  <a:lnTo>
                    <a:pt x="7" y="92"/>
                  </a:lnTo>
                  <a:lnTo>
                    <a:pt x="2" y="88"/>
                  </a:lnTo>
                  <a:lnTo>
                    <a:pt x="0" y="81"/>
                  </a:lnTo>
                  <a:close/>
                  <a:moveTo>
                    <a:pt x="607" y="12"/>
                  </a:moveTo>
                  <a:lnTo>
                    <a:pt x="611" y="5"/>
                  </a:lnTo>
                  <a:lnTo>
                    <a:pt x="616" y="0"/>
                  </a:lnTo>
                  <a:lnTo>
                    <a:pt x="623" y="0"/>
                  </a:lnTo>
                  <a:lnTo>
                    <a:pt x="628" y="5"/>
                  </a:lnTo>
                  <a:lnTo>
                    <a:pt x="632" y="12"/>
                  </a:lnTo>
                  <a:lnTo>
                    <a:pt x="628" y="18"/>
                  </a:lnTo>
                  <a:lnTo>
                    <a:pt x="623" y="23"/>
                  </a:lnTo>
                  <a:lnTo>
                    <a:pt x="616" y="23"/>
                  </a:lnTo>
                  <a:lnTo>
                    <a:pt x="611" y="18"/>
                  </a:lnTo>
                  <a:lnTo>
                    <a:pt x="607" y="12"/>
                  </a:lnTo>
                  <a:close/>
                  <a:moveTo>
                    <a:pt x="561" y="12"/>
                  </a:moveTo>
                  <a:lnTo>
                    <a:pt x="563" y="5"/>
                  </a:lnTo>
                  <a:lnTo>
                    <a:pt x="570" y="0"/>
                  </a:lnTo>
                  <a:lnTo>
                    <a:pt x="577" y="0"/>
                  </a:lnTo>
                  <a:lnTo>
                    <a:pt x="582" y="5"/>
                  </a:lnTo>
                  <a:lnTo>
                    <a:pt x="584" y="12"/>
                  </a:lnTo>
                  <a:lnTo>
                    <a:pt x="582" y="18"/>
                  </a:lnTo>
                  <a:lnTo>
                    <a:pt x="577" y="23"/>
                  </a:lnTo>
                  <a:lnTo>
                    <a:pt x="570" y="23"/>
                  </a:lnTo>
                  <a:lnTo>
                    <a:pt x="563" y="18"/>
                  </a:lnTo>
                  <a:lnTo>
                    <a:pt x="561" y="12"/>
                  </a:lnTo>
                  <a:close/>
                  <a:moveTo>
                    <a:pt x="515" y="12"/>
                  </a:moveTo>
                  <a:lnTo>
                    <a:pt x="517" y="5"/>
                  </a:lnTo>
                  <a:lnTo>
                    <a:pt x="522" y="0"/>
                  </a:lnTo>
                  <a:lnTo>
                    <a:pt x="529" y="0"/>
                  </a:lnTo>
                  <a:lnTo>
                    <a:pt x="535" y="5"/>
                  </a:lnTo>
                  <a:lnTo>
                    <a:pt x="538" y="12"/>
                  </a:lnTo>
                  <a:lnTo>
                    <a:pt x="535" y="18"/>
                  </a:lnTo>
                  <a:lnTo>
                    <a:pt x="529" y="23"/>
                  </a:lnTo>
                  <a:lnTo>
                    <a:pt x="522" y="23"/>
                  </a:lnTo>
                  <a:lnTo>
                    <a:pt x="517" y="18"/>
                  </a:lnTo>
                  <a:lnTo>
                    <a:pt x="515" y="12"/>
                  </a:lnTo>
                  <a:close/>
                  <a:moveTo>
                    <a:pt x="467" y="12"/>
                  </a:moveTo>
                  <a:lnTo>
                    <a:pt x="469" y="5"/>
                  </a:lnTo>
                  <a:lnTo>
                    <a:pt x="476" y="0"/>
                  </a:lnTo>
                  <a:lnTo>
                    <a:pt x="483" y="0"/>
                  </a:lnTo>
                  <a:lnTo>
                    <a:pt x="489" y="5"/>
                  </a:lnTo>
                  <a:lnTo>
                    <a:pt x="490" y="12"/>
                  </a:lnTo>
                  <a:lnTo>
                    <a:pt x="489" y="18"/>
                  </a:lnTo>
                  <a:lnTo>
                    <a:pt x="483" y="23"/>
                  </a:lnTo>
                  <a:lnTo>
                    <a:pt x="476" y="23"/>
                  </a:lnTo>
                  <a:lnTo>
                    <a:pt x="469" y="18"/>
                  </a:lnTo>
                  <a:lnTo>
                    <a:pt x="467" y="12"/>
                  </a:lnTo>
                  <a:close/>
                  <a:moveTo>
                    <a:pt x="421" y="12"/>
                  </a:moveTo>
                  <a:lnTo>
                    <a:pt x="423" y="5"/>
                  </a:lnTo>
                  <a:lnTo>
                    <a:pt x="428" y="0"/>
                  </a:lnTo>
                  <a:lnTo>
                    <a:pt x="435" y="0"/>
                  </a:lnTo>
                  <a:lnTo>
                    <a:pt x="443" y="5"/>
                  </a:lnTo>
                  <a:lnTo>
                    <a:pt x="444" y="12"/>
                  </a:lnTo>
                  <a:lnTo>
                    <a:pt x="443" y="18"/>
                  </a:lnTo>
                  <a:lnTo>
                    <a:pt x="435" y="23"/>
                  </a:lnTo>
                  <a:lnTo>
                    <a:pt x="428" y="23"/>
                  </a:lnTo>
                  <a:lnTo>
                    <a:pt x="423" y="18"/>
                  </a:lnTo>
                  <a:lnTo>
                    <a:pt x="421" y="12"/>
                  </a:lnTo>
                  <a:close/>
                  <a:moveTo>
                    <a:pt x="374" y="12"/>
                  </a:moveTo>
                  <a:lnTo>
                    <a:pt x="375" y="5"/>
                  </a:lnTo>
                  <a:lnTo>
                    <a:pt x="382" y="0"/>
                  </a:lnTo>
                  <a:lnTo>
                    <a:pt x="389" y="0"/>
                  </a:lnTo>
                  <a:lnTo>
                    <a:pt x="395" y="5"/>
                  </a:lnTo>
                  <a:lnTo>
                    <a:pt x="397" y="12"/>
                  </a:lnTo>
                  <a:lnTo>
                    <a:pt x="395" y="18"/>
                  </a:lnTo>
                  <a:lnTo>
                    <a:pt x="389" y="23"/>
                  </a:lnTo>
                  <a:lnTo>
                    <a:pt x="382" y="23"/>
                  </a:lnTo>
                  <a:lnTo>
                    <a:pt x="375" y="18"/>
                  </a:lnTo>
                  <a:lnTo>
                    <a:pt x="374" y="12"/>
                  </a:lnTo>
                  <a:close/>
                  <a:moveTo>
                    <a:pt x="327" y="12"/>
                  </a:moveTo>
                  <a:lnTo>
                    <a:pt x="329" y="5"/>
                  </a:lnTo>
                  <a:lnTo>
                    <a:pt x="335" y="0"/>
                  </a:lnTo>
                  <a:lnTo>
                    <a:pt x="342" y="0"/>
                  </a:lnTo>
                  <a:lnTo>
                    <a:pt x="349" y="5"/>
                  </a:lnTo>
                  <a:lnTo>
                    <a:pt x="350" y="12"/>
                  </a:lnTo>
                  <a:lnTo>
                    <a:pt x="349" y="18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9" y="18"/>
                  </a:lnTo>
                  <a:lnTo>
                    <a:pt x="327" y="12"/>
                  </a:lnTo>
                  <a:close/>
                  <a:moveTo>
                    <a:pt x="280" y="12"/>
                  </a:moveTo>
                  <a:lnTo>
                    <a:pt x="283" y="5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1" y="5"/>
                  </a:lnTo>
                  <a:lnTo>
                    <a:pt x="303" y="12"/>
                  </a:lnTo>
                  <a:lnTo>
                    <a:pt x="301" y="18"/>
                  </a:lnTo>
                  <a:lnTo>
                    <a:pt x="296" y="23"/>
                  </a:lnTo>
                  <a:lnTo>
                    <a:pt x="289" y="23"/>
                  </a:lnTo>
                  <a:lnTo>
                    <a:pt x="283" y="18"/>
                  </a:lnTo>
                  <a:lnTo>
                    <a:pt x="280" y="12"/>
                  </a:lnTo>
                  <a:close/>
                  <a:moveTo>
                    <a:pt x="234" y="12"/>
                  </a:moveTo>
                  <a:lnTo>
                    <a:pt x="235" y="5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5"/>
                  </a:lnTo>
                  <a:lnTo>
                    <a:pt x="257" y="12"/>
                  </a:lnTo>
                  <a:lnTo>
                    <a:pt x="255" y="18"/>
                  </a:lnTo>
                  <a:lnTo>
                    <a:pt x="248" y="23"/>
                  </a:lnTo>
                  <a:lnTo>
                    <a:pt x="241" y="23"/>
                  </a:lnTo>
                  <a:lnTo>
                    <a:pt x="235" y="18"/>
                  </a:lnTo>
                  <a:lnTo>
                    <a:pt x="234" y="12"/>
                  </a:lnTo>
                  <a:close/>
                  <a:moveTo>
                    <a:pt x="186" y="12"/>
                  </a:moveTo>
                  <a:lnTo>
                    <a:pt x="189" y="5"/>
                  </a:lnTo>
                  <a:lnTo>
                    <a:pt x="195" y="0"/>
                  </a:lnTo>
                  <a:lnTo>
                    <a:pt x="202" y="0"/>
                  </a:lnTo>
                  <a:lnTo>
                    <a:pt x="207" y="5"/>
                  </a:lnTo>
                  <a:lnTo>
                    <a:pt x="211" y="12"/>
                  </a:lnTo>
                  <a:lnTo>
                    <a:pt x="207" y="18"/>
                  </a:lnTo>
                  <a:lnTo>
                    <a:pt x="202" y="23"/>
                  </a:lnTo>
                  <a:lnTo>
                    <a:pt x="195" y="23"/>
                  </a:lnTo>
                  <a:lnTo>
                    <a:pt x="189" y="18"/>
                  </a:lnTo>
                  <a:lnTo>
                    <a:pt x="186" y="12"/>
                  </a:lnTo>
                  <a:close/>
                  <a:moveTo>
                    <a:pt x="140" y="12"/>
                  </a:moveTo>
                  <a:lnTo>
                    <a:pt x="142" y="5"/>
                  </a:lnTo>
                  <a:lnTo>
                    <a:pt x="147" y="0"/>
                  </a:lnTo>
                  <a:lnTo>
                    <a:pt x="156" y="0"/>
                  </a:lnTo>
                  <a:lnTo>
                    <a:pt x="161" y="5"/>
                  </a:lnTo>
                  <a:lnTo>
                    <a:pt x="163" y="12"/>
                  </a:lnTo>
                  <a:lnTo>
                    <a:pt x="161" y="18"/>
                  </a:lnTo>
                  <a:lnTo>
                    <a:pt x="156" y="23"/>
                  </a:lnTo>
                  <a:lnTo>
                    <a:pt x="147" y="23"/>
                  </a:lnTo>
                  <a:lnTo>
                    <a:pt x="142" y="18"/>
                  </a:lnTo>
                  <a:lnTo>
                    <a:pt x="140" y="12"/>
                  </a:lnTo>
                  <a:close/>
                  <a:moveTo>
                    <a:pt x="92" y="12"/>
                  </a:moveTo>
                  <a:lnTo>
                    <a:pt x="96" y="5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7" y="12"/>
                  </a:lnTo>
                  <a:lnTo>
                    <a:pt x="113" y="18"/>
                  </a:lnTo>
                  <a:lnTo>
                    <a:pt x="108" y="23"/>
                  </a:lnTo>
                  <a:lnTo>
                    <a:pt x="101" y="23"/>
                  </a:lnTo>
                  <a:lnTo>
                    <a:pt x="96" y="18"/>
                  </a:lnTo>
                  <a:lnTo>
                    <a:pt x="92" y="12"/>
                  </a:lnTo>
                  <a:close/>
                  <a:moveTo>
                    <a:pt x="46" y="12"/>
                  </a:moveTo>
                  <a:lnTo>
                    <a:pt x="48" y="5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7" y="5"/>
                  </a:lnTo>
                  <a:lnTo>
                    <a:pt x="69" y="12"/>
                  </a:lnTo>
                  <a:lnTo>
                    <a:pt x="67" y="18"/>
                  </a:lnTo>
                  <a:lnTo>
                    <a:pt x="62" y="23"/>
                  </a:lnTo>
                  <a:lnTo>
                    <a:pt x="55" y="23"/>
                  </a:lnTo>
                  <a:lnTo>
                    <a:pt x="48" y="18"/>
                  </a:lnTo>
                  <a:lnTo>
                    <a:pt x="46" y="12"/>
                  </a:lnTo>
                  <a:close/>
                  <a:moveTo>
                    <a:pt x="0" y="12"/>
                  </a:moveTo>
                  <a:lnTo>
                    <a:pt x="2" y="5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23" y="12"/>
                  </a:lnTo>
                  <a:lnTo>
                    <a:pt x="19" y="18"/>
                  </a:lnTo>
                  <a:lnTo>
                    <a:pt x="14" y="23"/>
                  </a:lnTo>
                  <a:lnTo>
                    <a:pt x="7" y="23"/>
                  </a:lnTo>
                  <a:lnTo>
                    <a:pt x="2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409600">
              <a:off x="123120" y="3570840"/>
              <a:ext cx="104760" cy="35640"/>
            </a:xfrm>
            <a:custGeom>
              <a:avLst/>
              <a:gdLst/>
              <a:ahLst/>
              <a:rect l="l" t="t" r="r" b="b"/>
              <a:pathLst>
                <a:path w="153" h="23">
                  <a:moveTo>
                    <a:pt x="0" y="23"/>
                  </a:moveTo>
                  <a:lnTo>
                    <a:pt x="25" y="23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3"/>
                  </a:lnTo>
                  <a:close/>
                  <a:moveTo>
                    <a:pt x="36" y="23"/>
                  </a:moveTo>
                  <a:lnTo>
                    <a:pt x="59" y="23"/>
                  </a:lnTo>
                  <a:lnTo>
                    <a:pt x="59" y="0"/>
                  </a:lnTo>
                  <a:lnTo>
                    <a:pt x="36" y="0"/>
                  </a:lnTo>
                  <a:lnTo>
                    <a:pt x="36" y="23"/>
                  </a:lnTo>
                  <a:close/>
                  <a:moveTo>
                    <a:pt x="71" y="23"/>
                  </a:moveTo>
                  <a:lnTo>
                    <a:pt x="94" y="23"/>
                  </a:lnTo>
                  <a:lnTo>
                    <a:pt x="94" y="0"/>
                  </a:lnTo>
                  <a:lnTo>
                    <a:pt x="71" y="0"/>
                  </a:lnTo>
                  <a:lnTo>
                    <a:pt x="71" y="23"/>
                  </a:lnTo>
                  <a:close/>
                  <a:moveTo>
                    <a:pt x="107" y="23"/>
                  </a:moveTo>
                  <a:lnTo>
                    <a:pt x="153" y="23"/>
                  </a:lnTo>
                  <a:lnTo>
                    <a:pt x="153" y="0"/>
                  </a:lnTo>
                  <a:lnTo>
                    <a:pt x="107" y="0"/>
                  </a:lnTo>
                  <a:lnTo>
                    <a:pt x="10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76760" y="3522600"/>
              <a:ext cx="207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74240" y="4005720"/>
              <a:ext cx="20700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80640" y="4027320"/>
              <a:ext cx="375120" cy="560880"/>
              <a:chOff x="80640" y="4027320"/>
              <a:chExt cx="375120" cy="560880"/>
            </a:xfrm>
          </p:grpSpPr>
          <p:sp>
            <p:nvSpPr>
              <p:cNvPr id="684" name=""/>
              <p:cNvSpPr/>
              <p:nvPr/>
            </p:nvSpPr>
            <p:spPr>
              <a:xfrm flipH="1" flipV="1">
                <a:off x="274680" y="4027320"/>
                <a:ext cx="1440" cy="54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80640" y="4264200"/>
                <a:ext cx="375120" cy="324000"/>
                <a:chOff x="80640" y="4264200"/>
                <a:chExt cx="375120" cy="324000"/>
              </a:xfrm>
            </p:grpSpPr>
            <p:sp>
              <p:nvSpPr>
                <p:cNvPr id="686" name=""/>
                <p:cNvSpPr/>
                <p:nvPr/>
              </p:nvSpPr>
              <p:spPr>
                <a:xfrm flipH="1" rot="5409600">
                  <a:off x="84600" y="4259880"/>
                  <a:ext cx="187200" cy="195840"/>
                </a:xfrm>
                <a:custGeom>
                  <a:avLst/>
                  <a:gdLst/>
                  <a:ahLst/>
                  <a:rect l="l" t="t" r="r" b="b"/>
                  <a:pathLst>
                    <a:path w="272" h="133">
                      <a:moveTo>
                        <a:pt x="272" y="133"/>
                      </a:moveTo>
                      <a:lnTo>
                        <a:pt x="27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 rot="5409600">
                  <a:off x="263520" y="4396320"/>
                  <a:ext cx="187200" cy="195840"/>
                </a:xfrm>
                <a:custGeom>
                  <a:avLst/>
                  <a:gdLst/>
                  <a:ahLst/>
                  <a:rect l="l" t="t" r="r" b="b"/>
                  <a:pathLst>
                    <a:path w="272" h="133">
                      <a:moveTo>
                        <a:pt x="272" y="133"/>
                      </a:moveTo>
                      <a:lnTo>
                        <a:pt x="27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8" name=""/>
            <p:cNvGrpSpPr/>
            <p:nvPr/>
          </p:nvGrpSpPr>
          <p:grpSpPr>
            <a:xfrm>
              <a:off x="80640" y="2896200"/>
              <a:ext cx="375480" cy="609480"/>
              <a:chOff x="80640" y="2896200"/>
              <a:chExt cx="375480" cy="60948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274680" y="2909880"/>
                <a:ext cx="1440" cy="59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80640" y="2896200"/>
                <a:ext cx="375480" cy="352440"/>
                <a:chOff x="80640" y="2896200"/>
                <a:chExt cx="375480" cy="352440"/>
              </a:xfrm>
            </p:grpSpPr>
            <p:sp>
              <p:nvSpPr>
                <p:cNvPr id="691" name=""/>
                <p:cNvSpPr/>
                <p:nvPr/>
              </p:nvSpPr>
              <p:spPr>
                <a:xfrm flipH="1" flipV="1" rot="16190400">
                  <a:off x="77040" y="3048120"/>
                  <a:ext cx="203400" cy="195840"/>
                </a:xfrm>
                <a:custGeom>
                  <a:avLst/>
                  <a:gdLst/>
                  <a:ahLst/>
                  <a:rect l="l" t="t" r="r" b="b"/>
                  <a:pathLst>
                    <a:path w="272" h="133">
                      <a:moveTo>
                        <a:pt x="272" y="133"/>
                      </a:moveTo>
                      <a:lnTo>
                        <a:pt x="27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 rot="16190400">
                  <a:off x="255960" y="2899800"/>
                  <a:ext cx="203400" cy="195840"/>
                </a:xfrm>
                <a:custGeom>
                  <a:avLst/>
                  <a:gdLst/>
                  <a:ahLst/>
                  <a:rect l="l" t="t" r="r" b="b"/>
                  <a:pathLst>
                    <a:path w="272" h="133">
                      <a:moveTo>
                        <a:pt x="272" y="133"/>
                      </a:moveTo>
                      <a:lnTo>
                        <a:pt x="27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C7D-68C6-4151-93D8-4DAF2C28BF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"/>
          <p:cNvGrpSpPr/>
          <p:nvPr/>
        </p:nvGrpSpPr>
        <p:grpSpPr>
          <a:xfrm>
            <a:off x="0" y="0"/>
            <a:ext cx="2459160" cy="1752480"/>
            <a:chOff x="0" y="0"/>
            <a:chExt cx="2459160" cy="1752480"/>
          </a:xfrm>
        </p:grpSpPr>
        <p:grpSp>
          <p:nvGrpSpPr>
            <p:cNvPr id="694" name=""/>
            <p:cNvGrpSpPr/>
            <p:nvPr/>
          </p:nvGrpSpPr>
          <p:grpSpPr>
            <a:xfrm>
              <a:off x="0" y="0"/>
              <a:ext cx="2459160" cy="1752480"/>
              <a:chOff x="0" y="0"/>
              <a:chExt cx="2459160" cy="1752480"/>
            </a:xfrm>
          </p:grpSpPr>
          <p:sp>
            <p:nvSpPr>
              <p:cNvPr id="695" name=""/>
              <p:cNvSpPr/>
              <p:nvPr/>
            </p:nvSpPr>
            <p:spPr>
              <a:xfrm>
                <a:off x="0" y="0"/>
                <a:ext cx="2455920" cy="1747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0" y="0"/>
                <a:ext cx="2455920" cy="1747440"/>
              </a:xfrm>
              <a:prstGeom prst="rect">
                <a:avLst/>
              </a:pr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0"/>
                <a:ext cx="2459160" cy="17524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0"/>
                <a:ext cx="2455920" cy="17474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17360" y="55440"/>
              <a:ext cx="229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Narrow"/>
                </a:rPr>
                <a:t>Центральный портал МЗ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144360" y="450720"/>
              <a:ext cx="2170080" cy="844560"/>
              <a:chOff x="144360" y="450720"/>
              <a:chExt cx="2170080" cy="844560"/>
            </a:xfrm>
          </p:grpSpPr>
          <p:sp>
            <p:nvSpPr>
              <p:cNvPr id="701" name=""/>
              <p:cNvSpPr/>
              <p:nvPr/>
            </p:nvSpPr>
            <p:spPr>
              <a:xfrm>
                <a:off x="655560" y="450720"/>
                <a:ext cx="1281240" cy="844560"/>
              </a:xfrm>
              <a:prstGeom prst="rect">
                <a:avLst/>
              </a:prstGeom>
              <a:solidFill>
                <a:srgbClr val="a3b2c1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2" name=""/>
              <p:cNvGrpSpPr/>
              <p:nvPr/>
            </p:nvGrpSpPr>
            <p:grpSpPr>
              <a:xfrm>
                <a:off x="144360" y="568080"/>
                <a:ext cx="666720" cy="530280"/>
                <a:chOff x="144360" y="568080"/>
                <a:chExt cx="666720" cy="5302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144360" y="731520"/>
                  <a:ext cx="666720" cy="366840"/>
                </a:xfrm>
                <a:prstGeom prst="rect">
                  <a:avLst/>
                </a:prstGeom>
                <a:solidFill>
                  <a:srgbClr val="e6e6e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4" name=""/>
                <p:cNvGrpSpPr/>
                <p:nvPr/>
              </p:nvGrpSpPr>
              <p:grpSpPr>
                <a:xfrm>
                  <a:off x="144360" y="568080"/>
                  <a:ext cx="666720" cy="182880"/>
                  <a:chOff x="144360" y="568080"/>
                  <a:chExt cx="666720" cy="18288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144360" y="568080"/>
                    <a:ext cx="666720" cy="166680"/>
                  </a:xfrm>
                  <a:prstGeom prst="rect">
                    <a:avLst/>
                  </a:prstGeom>
                  <a:solidFill>
                    <a:srgbClr val="00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322200" y="568080"/>
                    <a:ext cx="314280" cy="12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51640" y="568080"/>
                    <a:ext cx="46872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ФОМС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"/>
                <p:cNvGrpSpPr/>
                <p:nvPr/>
              </p:nvGrpSpPr>
              <p:grpSpPr>
                <a:xfrm>
                  <a:off x="233280" y="772920"/>
                  <a:ext cx="200160" cy="128520"/>
                  <a:chOff x="233280" y="772920"/>
                  <a:chExt cx="200160" cy="12852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233280" y="772920"/>
                    <a:ext cx="200160" cy="12852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336600" y="772920"/>
                    <a:ext cx="1440" cy="122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336240" y="806040"/>
                    <a:ext cx="7452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500040" y="772920"/>
                  <a:ext cx="196920" cy="128520"/>
                  <a:chOff x="500040" y="772920"/>
                  <a:chExt cx="196920" cy="128520"/>
                </a:xfrm>
              </p:grpSpPr>
              <p:sp>
                <p:nvSpPr>
                  <p:cNvPr id="713" name=""/>
                  <p:cNvSpPr/>
                  <p:nvPr/>
                </p:nvSpPr>
                <p:spPr>
                  <a:xfrm>
                    <a:off x="500040" y="772920"/>
                    <a:ext cx="196920" cy="12852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3360" y="772920"/>
                    <a:ext cx="1440" cy="122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>
                    <a:off x="603000" y="806040"/>
                    <a:ext cx="7452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" name=""/>
                <p:cNvGrpSpPr/>
                <p:nvPr/>
              </p:nvGrpSpPr>
              <p:grpSpPr>
                <a:xfrm>
                  <a:off x="500040" y="939600"/>
                  <a:ext cx="196920" cy="125280"/>
                  <a:chOff x="500040" y="939600"/>
                  <a:chExt cx="196920" cy="125280"/>
                </a:xfrm>
              </p:grpSpPr>
              <p:sp>
                <p:nvSpPr>
                  <p:cNvPr id="717" name=""/>
                  <p:cNvSpPr/>
                  <p:nvPr/>
                </p:nvSpPr>
                <p:spPr>
                  <a:xfrm>
                    <a:off x="500040" y="939600"/>
                    <a:ext cx="196920" cy="12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03360" y="939600"/>
                    <a:ext cx="1440" cy="117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>
                    <a:off x="603000" y="972720"/>
                    <a:ext cx="7452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233280" y="939600"/>
                  <a:ext cx="200160" cy="125280"/>
                  <a:chOff x="233280" y="939600"/>
                  <a:chExt cx="200160" cy="12528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233280" y="939600"/>
                    <a:ext cx="200160" cy="12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336600" y="939600"/>
                    <a:ext cx="1440" cy="117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336240" y="972720"/>
                    <a:ext cx="7452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4" name=""/>
              <p:cNvGrpSpPr/>
              <p:nvPr/>
            </p:nvGrpSpPr>
            <p:grpSpPr>
              <a:xfrm>
                <a:off x="1633680" y="568080"/>
                <a:ext cx="680760" cy="522360"/>
                <a:chOff x="1633680" y="568080"/>
                <a:chExt cx="680760" cy="5223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633680" y="731520"/>
                  <a:ext cx="680760" cy="358920"/>
                </a:xfrm>
                <a:prstGeom prst="rect">
                  <a:avLst/>
                </a:prstGeom>
                <a:solidFill>
                  <a:srgbClr val="e6e6e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1633680" y="568080"/>
                  <a:ext cx="680760" cy="182880"/>
                  <a:chOff x="1633680" y="568080"/>
                  <a:chExt cx="680760" cy="18288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1633680" y="568080"/>
                    <a:ext cx="680760" cy="166680"/>
                  </a:xfrm>
                  <a:prstGeom prst="rect">
                    <a:avLst/>
                  </a:prstGeom>
                  <a:solidFill>
                    <a:srgbClr val="00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814400" y="568080"/>
                    <a:ext cx="319320" cy="12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757520" y="568080"/>
                    <a:ext cx="44100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МИЦ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1725480" y="772920"/>
                  <a:ext cx="200160" cy="122040"/>
                  <a:chOff x="1725480" y="772920"/>
                  <a:chExt cx="200160" cy="12204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1725480" y="772920"/>
                    <a:ext cx="20016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30240" y="772920"/>
                    <a:ext cx="1800" cy="117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>
                    <a:off x="1829880" y="801360"/>
                    <a:ext cx="7308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" name=""/>
                <p:cNvGrpSpPr/>
                <p:nvPr/>
              </p:nvGrpSpPr>
              <p:grpSpPr>
                <a:xfrm>
                  <a:off x="1996920" y="772920"/>
                  <a:ext cx="200160" cy="122040"/>
                  <a:chOff x="1996920" y="772920"/>
                  <a:chExt cx="200160" cy="122040"/>
                </a:xfrm>
              </p:grpSpPr>
              <p:sp>
                <p:nvSpPr>
                  <p:cNvPr id="735" name=""/>
                  <p:cNvSpPr/>
                  <p:nvPr/>
                </p:nvSpPr>
                <p:spPr>
                  <a:xfrm>
                    <a:off x="1996920" y="772920"/>
                    <a:ext cx="20016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100240" y="772920"/>
                    <a:ext cx="1440" cy="117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2099880" y="801360"/>
                    <a:ext cx="7452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996920" y="931680"/>
                  <a:ext cx="200160" cy="122040"/>
                  <a:chOff x="1996920" y="931680"/>
                  <a:chExt cx="200160" cy="12204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1996920" y="931680"/>
                    <a:ext cx="20016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2100240" y="931680"/>
                    <a:ext cx="1440" cy="119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2099880" y="961920"/>
                    <a:ext cx="7452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1725480" y="931680"/>
                  <a:ext cx="200160" cy="122040"/>
                  <a:chOff x="1725480" y="931680"/>
                  <a:chExt cx="200160" cy="12204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1725480" y="931680"/>
                    <a:ext cx="200160" cy="122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830240" y="931680"/>
                    <a:ext cx="1800" cy="119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 flipH="1">
                    <a:off x="1829880" y="961920"/>
                    <a:ext cx="73080" cy="144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" name=""/>
              <p:cNvGrpSpPr/>
              <p:nvPr/>
            </p:nvGrpSpPr>
            <p:grpSpPr>
              <a:xfrm>
                <a:off x="958680" y="568080"/>
                <a:ext cx="522360" cy="419040"/>
                <a:chOff x="958680" y="568080"/>
                <a:chExt cx="522360" cy="4190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958680" y="568080"/>
                  <a:ext cx="522360" cy="419040"/>
                </a:xfrm>
                <a:custGeom>
                  <a:avLst/>
                  <a:gdLst/>
                  <a:ahLst/>
                  <a:rect l="l" t="t" r="r" b="b"/>
                  <a:pathLst>
                    <a:path w="329" h="264">
                      <a:moveTo>
                        <a:pt x="0" y="264"/>
                      </a:moveTo>
                      <a:lnTo>
                        <a:pt x="0" y="259"/>
                      </a:lnTo>
                      <a:lnTo>
                        <a:pt x="31" y="243"/>
                      </a:lnTo>
                      <a:lnTo>
                        <a:pt x="31" y="0"/>
                      </a:lnTo>
                      <a:lnTo>
                        <a:pt x="119" y="0"/>
                      </a:lnTo>
                      <a:lnTo>
                        <a:pt x="119" y="243"/>
                      </a:lnTo>
                      <a:lnTo>
                        <a:pt x="157" y="259"/>
                      </a:lnTo>
                      <a:lnTo>
                        <a:pt x="157" y="264"/>
                      </a:lnTo>
                      <a:lnTo>
                        <a:pt x="0" y="264"/>
                      </a:lnTo>
                      <a:close/>
                      <a:moveTo>
                        <a:pt x="131" y="229"/>
                      </a:moveTo>
                      <a:lnTo>
                        <a:pt x="161" y="229"/>
                      </a:lnTo>
                      <a:lnTo>
                        <a:pt x="196" y="236"/>
                      </a:lnTo>
                      <a:lnTo>
                        <a:pt x="196" y="257"/>
                      </a:lnTo>
                      <a:lnTo>
                        <a:pt x="161" y="257"/>
                      </a:lnTo>
                      <a:lnTo>
                        <a:pt x="161" y="264"/>
                      </a:lnTo>
                      <a:lnTo>
                        <a:pt x="299" y="264"/>
                      </a:lnTo>
                      <a:lnTo>
                        <a:pt x="299" y="257"/>
                      </a:lnTo>
                      <a:lnTo>
                        <a:pt x="264" y="257"/>
                      </a:lnTo>
                      <a:lnTo>
                        <a:pt x="264" y="236"/>
                      </a:lnTo>
                      <a:lnTo>
                        <a:pt x="299" y="229"/>
                      </a:lnTo>
                      <a:lnTo>
                        <a:pt x="329" y="229"/>
                      </a:lnTo>
                      <a:lnTo>
                        <a:pt x="329" y="66"/>
                      </a:lnTo>
                      <a:lnTo>
                        <a:pt x="131" y="66"/>
                      </a:lnTo>
                      <a:lnTo>
                        <a:pt x="131" y="2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011240" y="954000"/>
                  <a:ext cx="1440" cy="331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152360" y="954000"/>
                  <a:ext cx="1800" cy="331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55520" y="701280"/>
                  <a:ext cx="4788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044720" y="657000"/>
                  <a:ext cx="698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030320" y="587160"/>
                  <a:ext cx="106200" cy="247680"/>
                </a:xfrm>
                <a:prstGeom prst="rect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958680" y="568080"/>
                  <a:ext cx="244800" cy="419040"/>
                </a:xfrm>
                <a:custGeom>
                  <a:avLst/>
                  <a:gdLst/>
                  <a:ahLst/>
                  <a:rect l="l" t="t" r="r" b="b"/>
                  <a:pathLst>
                    <a:path w="154" h="264">
                      <a:moveTo>
                        <a:pt x="0" y="264"/>
                      </a:moveTo>
                      <a:lnTo>
                        <a:pt x="0" y="259"/>
                      </a:lnTo>
                      <a:lnTo>
                        <a:pt x="31" y="243"/>
                      </a:lnTo>
                      <a:lnTo>
                        <a:pt x="31" y="0"/>
                      </a:lnTo>
                      <a:lnTo>
                        <a:pt x="119" y="0"/>
                      </a:lnTo>
                      <a:lnTo>
                        <a:pt x="119" y="243"/>
                      </a:lnTo>
                      <a:lnTo>
                        <a:pt x="154" y="259"/>
                      </a:lnTo>
                      <a:lnTo>
                        <a:pt x="154" y="264"/>
                      </a:lnTo>
                      <a:lnTo>
                        <a:pt x="0" y="264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166760" y="676080"/>
                  <a:ext cx="314280" cy="311040"/>
                </a:xfrm>
                <a:custGeom>
                  <a:avLst/>
                  <a:gdLst/>
                  <a:ahLst/>
                  <a:rect l="l" t="t" r="r" b="b"/>
                  <a:pathLst>
                    <a:path w="198" h="196">
                      <a:moveTo>
                        <a:pt x="0" y="161"/>
                      </a:moveTo>
                      <a:lnTo>
                        <a:pt x="30" y="161"/>
                      </a:lnTo>
                      <a:lnTo>
                        <a:pt x="65" y="168"/>
                      </a:lnTo>
                      <a:lnTo>
                        <a:pt x="65" y="189"/>
                      </a:lnTo>
                      <a:lnTo>
                        <a:pt x="30" y="189"/>
                      </a:lnTo>
                      <a:lnTo>
                        <a:pt x="30" y="196"/>
                      </a:lnTo>
                      <a:lnTo>
                        <a:pt x="168" y="196"/>
                      </a:lnTo>
                      <a:lnTo>
                        <a:pt x="168" y="189"/>
                      </a:lnTo>
                      <a:lnTo>
                        <a:pt x="133" y="189"/>
                      </a:lnTo>
                      <a:lnTo>
                        <a:pt x="133" y="168"/>
                      </a:lnTo>
                      <a:lnTo>
                        <a:pt x="168" y="161"/>
                      </a:lnTo>
                      <a:lnTo>
                        <a:pt x="198" y="161"/>
                      </a:lnTo>
                      <a:lnTo>
                        <a:pt x="198" y="0"/>
                      </a:lnTo>
                      <a:lnTo>
                        <a:pt x="0" y="0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270080" y="975960"/>
                  <a:ext cx="10800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270080" y="945720"/>
                  <a:ext cx="10800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219320" y="931680"/>
                  <a:ext cx="21096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022400" y="850680"/>
                  <a:ext cx="114120" cy="111240"/>
                </a:xfrm>
                <a:custGeom>
                  <a:avLst/>
                  <a:gdLst/>
                  <a:ahLst/>
                  <a:rect l="l" t="t" r="r" b="b"/>
                  <a:pathLst>
                    <a:path w="72" h="70">
                      <a:moveTo>
                        <a:pt x="0" y="44"/>
                      </a:moveTo>
                      <a:lnTo>
                        <a:pt x="5" y="44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close/>
                      <a:moveTo>
                        <a:pt x="12" y="44"/>
                      </a:moveTo>
                      <a:lnTo>
                        <a:pt x="16" y="44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12" y="44"/>
                      </a:lnTo>
                      <a:close/>
                      <a:moveTo>
                        <a:pt x="23" y="44"/>
                      </a:moveTo>
                      <a:lnTo>
                        <a:pt x="28" y="44"/>
                      </a:lnTo>
                      <a:lnTo>
                        <a:pt x="28" y="0"/>
                      </a:lnTo>
                      <a:lnTo>
                        <a:pt x="23" y="0"/>
                      </a:lnTo>
                      <a:lnTo>
                        <a:pt x="23" y="44"/>
                      </a:lnTo>
                      <a:close/>
                      <a:moveTo>
                        <a:pt x="33" y="44"/>
                      </a:moveTo>
                      <a:lnTo>
                        <a:pt x="37" y="44"/>
                      </a:lnTo>
                      <a:lnTo>
                        <a:pt x="37" y="0"/>
                      </a:lnTo>
                      <a:lnTo>
                        <a:pt x="33" y="0"/>
                      </a:lnTo>
                      <a:lnTo>
                        <a:pt x="33" y="44"/>
                      </a:lnTo>
                      <a:close/>
                      <a:moveTo>
                        <a:pt x="44" y="44"/>
                      </a:moveTo>
                      <a:lnTo>
                        <a:pt x="49" y="44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44" y="44"/>
                      </a:lnTo>
                      <a:close/>
                      <a:moveTo>
                        <a:pt x="56" y="44"/>
                      </a:moveTo>
                      <a:lnTo>
                        <a:pt x="61" y="44"/>
                      </a:lnTo>
                      <a:lnTo>
                        <a:pt x="61" y="0"/>
                      </a:lnTo>
                      <a:lnTo>
                        <a:pt x="56" y="0"/>
                      </a:lnTo>
                      <a:lnTo>
                        <a:pt x="56" y="44"/>
                      </a:lnTo>
                      <a:close/>
                      <a:moveTo>
                        <a:pt x="68" y="44"/>
                      </a:moveTo>
                      <a:lnTo>
                        <a:pt x="72" y="44"/>
                      </a:lnTo>
                      <a:lnTo>
                        <a:pt x="72" y="0"/>
                      </a:lnTo>
                      <a:lnTo>
                        <a:pt x="68" y="0"/>
                      </a:lnTo>
                      <a:lnTo>
                        <a:pt x="68" y="44"/>
                      </a:lnTo>
                      <a:close/>
                      <a:moveTo>
                        <a:pt x="68" y="70"/>
                      </a:moveTo>
                      <a:lnTo>
                        <a:pt x="72" y="70"/>
                      </a:lnTo>
                      <a:lnTo>
                        <a:pt x="72" y="49"/>
                      </a:lnTo>
                      <a:lnTo>
                        <a:pt x="68" y="49"/>
                      </a:lnTo>
                      <a:lnTo>
                        <a:pt x="68" y="70"/>
                      </a:lnTo>
                      <a:close/>
                      <a:moveTo>
                        <a:pt x="56" y="70"/>
                      </a:moveTo>
                      <a:lnTo>
                        <a:pt x="61" y="70"/>
                      </a:lnTo>
                      <a:lnTo>
                        <a:pt x="61" y="49"/>
                      </a:lnTo>
                      <a:lnTo>
                        <a:pt x="56" y="49"/>
                      </a:lnTo>
                      <a:lnTo>
                        <a:pt x="56" y="70"/>
                      </a:lnTo>
                      <a:close/>
                      <a:moveTo>
                        <a:pt x="44" y="70"/>
                      </a:moveTo>
                      <a:lnTo>
                        <a:pt x="49" y="70"/>
                      </a:lnTo>
                      <a:lnTo>
                        <a:pt x="49" y="49"/>
                      </a:lnTo>
                      <a:lnTo>
                        <a:pt x="44" y="49"/>
                      </a:lnTo>
                      <a:lnTo>
                        <a:pt x="44" y="70"/>
                      </a:lnTo>
                      <a:close/>
                      <a:moveTo>
                        <a:pt x="33" y="70"/>
                      </a:moveTo>
                      <a:lnTo>
                        <a:pt x="37" y="70"/>
                      </a:lnTo>
                      <a:lnTo>
                        <a:pt x="37" y="49"/>
                      </a:lnTo>
                      <a:lnTo>
                        <a:pt x="33" y="49"/>
                      </a:lnTo>
                      <a:lnTo>
                        <a:pt x="33" y="70"/>
                      </a:lnTo>
                      <a:close/>
                      <a:moveTo>
                        <a:pt x="23" y="70"/>
                      </a:moveTo>
                      <a:lnTo>
                        <a:pt x="28" y="70"/>
                      </a:lnTo>
                      <a:lnTo>
                        <a:pt x="28" y="49"/>
                      </a:lnTo>
                      <a:lnTo>
                        <a:pt x="23" y="49"/>
                      </a:lnTo>
                      <a:lnTo>
                        <a:pt x="23" y="70"/>
                      </a:lnTo>
                      <a:close/>
                      <a:moveTo>
                        <a:pt x="12" y="70"/>
                      </a:moveTo>
                      <a:lnTo>
                        <a:pt x="16" y="70"/>
                      </a:lnTo>
                      <a:lnTo>
                        <a:pt x="16" y="49"/>
                      </a:lnTo>
                      <a:lnTo>
                        <a:pt x="12" y="49"/>
                      </a:lnTo>
                      <a:lnTo>
                        <a:pt x="12" y="70"/>
                      </a:lnTo>
                      <a:close/>
                      <a:moveTo>
                        <a:pt x="0" y="70"/>
                      </a:moveTo>
                      <a:lnTo>
                        <a:pt x="5" y="70"/>
                      </a:lnTo>
                      <a:lnTo>
                        <a:pt x="5" y="49"/>
                      </a:lnTo>
                      <a:lnTo>
                        <a:pt x="0" y="49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1036800" y="598320"/>
                  <a:ext cx="93600" cy="363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36800" y="598320"/>
                  <a:ext cx="85680" cy="3240"/>
                </a:xfrm>
                <a:custGeom>
                  <a:avLst/>
                  <a:gdLst/>
                  <a:ahLst/>
                  <a:rect l="l" t="t" r="r" b="b"/>
                  <a:pathLst>
                    <a:path w="54" h="2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49" y="2"/>
                      </a:lnTo>
                      <a:lnTo>
                        <a:pt x="54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36800" y="639360"/>
                  <a:ext cx="93600" cy="3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036800" y="684000"/>
                  <a:ext cx="93600" cy="363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036800" y="728280"/>
                  <a:ext cx="93600" cy="399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036800" y="772920"/>
                  <a:ext cx="93600" cy="363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022400" y="850680"/>
                  <a:ext cx="1440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041480" y="850680"/>
                  <a:ext cx="1404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058760" y="850680"/>
                  <a:ext cx="1116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077840" y="850680"/>
                  <a:ext cx="1116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92240" y="850680"/>
                  <a:ext cx="1584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11320" y="850680"/>
                  <a:ext cx="1116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130400" y="850680"/>
                  <a:ext cx="11160" cy="730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130400" y="928440"/>
                  <a:ext cx="1116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111320" y="928440"/>
                  <a:ext cx="1116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092240" y="928440"/>
                  <a:ext cx="1584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077840" y="928440"/>
                  <a:ext cx="1116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058760" y="928440"/>
                  <a:ext cx="1116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41480" y="928440"/>
                  <a:ext cx="1404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022400" y="928440"/>
                  <a:ext cx="14400" cy="396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V="1">
                  <a:off x="1036800" y="601200"/>
                  <a:ext cx="7920" cy="2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114560" y="606240"/>
                  <a:ext cx="7920" cy="25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041480" y="757080"/>
                  <a:ext cx="554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041480" y="753840"/>
                  <a:ext cx="554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041480" y="745920"/>
                  <a:ext cx="5544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041480" y="739440"/>
                  <a:ext cx="554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041480" y="731520"/>
                  <a:ext cx="55440" cy="1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081080" y="650520"/>
                  <a:ext cx="30240" cy="1764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103400" y="706320"/>
                  <a:ext cx="19080" cy="108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103400" y="731520"/>
                  <a:ext cx="19080" cy="7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103400" y="739440"/>
                  <a:ext cx="19080" cy="111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066680" y="698400"/>
                  <a:ext cx="403200" cy="222120"/>
                </a:xfrm>
                <a:custGeom>
                  <a:avLst/>
                  <a:gdLst/>
                  <a:ahLst/>
                  <a:rect l="l" t="t" r="r" b="b"/>
                  <a:pathLst>
                    <a:path w="254" h="140">
                      <a:moveTo>
                        <a:pt x="0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  <a:moveTo>
                        <a:pt x="245" y="140"/>
                      </a:moveTo>
                      <a:lnTo>
                        <a:pt x="254" y="140"/>
                      </a:lnTo>
                      <a:lnTo>
                        <a:pt x="254" y="135"/>
                      </a:lnTo>
                      <a:lnTo>
                        <a:pt x="245" y="135"/>
                      </a:lnTo>
                      <a:lnTo>
                        <a:pt x="245" y="140"/>
                      </a:lnTo>
                      <a:close/>
                      <a:moveTo>
                        <a:pt x="93" y="110"/>
                      </a:moveTo>
                      <a:lnTo>
                        <a:pt x="93" y="16"/>
                      </a:lnTo>
                      <a:lnTo>
                        <a:pt x="229" y="16"/>
                      </a:lnTo>
                      <a:lnTo>
                        <a:pt x="229" y="110"/>
                      </a:lnTo>
                      <a:lnTo>
                        <a:pt x="93" y="110"/>
                      </a:lnTo>
                      <a:close/>
                      <a:moveTo>
                        <a:pt x="89" y="114"/>
                      </a:moveTo>
                      <a:lnTo>
                        <a:pt x="236" y="114"/>
                      </a:lnTo>
                      <a:lnTo>
                        <a:pt x="236" y="9"/>
                      </a:lnTo>
                      <a:lnTo>
                        <a:pt x="243" y="9"/>
                      </a:lnTo>
                      <a:lnTo>
                        <a:pt x="243" y="2"/>
                      </a:lnTo>
                      <a:lnTo>
                        <a:pt x="82" y="2"/>
                      </a:lnTo>
                      <a:lnTo>
                        <a:pt x="82" y="121"/>
                      </a:lnTo>
                      <a:lnTo>
                        <a:pt x="89" y="121"/>
                      </a:lnTo>
                      <a:lnTo>
                        <a:pt x="89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066680" y="698400"/>
                  <a:ext cx="30240" cy="108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459080" y="917280"/>
                  <a:ext cx="15840" cy="64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219320" y="723600"/>
                  <a:ext cx="217440" cy="15228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197000" y="706320"/>
                  <a:ext cx="255600" cy="183960"/>
                </a:xfrm>
                <a:custGeom>
                  <a:avLst/>
                  <a:gdLst/>
                  <a:ahLst/>
                  <a:rect l="l" t="t" r="r" b="b"/>
                  <a:pathLst>
                    <a:path w="161" h="116">
                      <a:moveTo>
                        <a:pt x="7" y="109"/>
                      </a:moveTo>
                      <a:lnTo>
                        <a:pt x="154" y="109"/>
                      </a:lnTo>
                      <a:lnTo>
                        <a:pt x="154" y="4"/>
                      </a:lnTo>
                      <a:lnTo>
                        <a:pt x="161" y="4"/>
                      </a:lnTo>
                      <a:lnTo>
                        <a:pt x="161" y="0"/>
                      </a:lnTo>
                      <a:lnTo>
                        <a:pt x="0" y="0"/>
                      </a:lnTo>
                      <a:lnTo>
                        <a:pt x="0" y="116"/>
                      </a:lnTo>
                      <a:lnTo>
                        <a:pt x="7" y="116"/>
                      </a:lnTo>
                      <a:lnTo>
                        <a:pt x="7" y="109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166760" y="917280"/>
                  <a:ext cx="155520" cy="11160"/>
                </a:xfrm>
                <a:custGeom>
                  <a:avLst/>
                  <a:gdLst/>
                  <a:ahLst/>
                  <a:rect l="l" t="t" r="r" b="b"/>
                  <a:pathLst>
                    <a:path w="98" h="7">
                      <a:moveTo>
                        <a:pt x="0" y="0"/>
                      </a:moveTo>
                      <a:lnTo>
                        <a:pt x="98" y="0"/>
                      </a:lnTo>
                      <a:lnTo>
                        <a:pt x="98" y="7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>
                  <a:off x="1247760" y="912600"/>
                  <a:ext cx="1440" cy="158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892080" y="1068120"/>
                <a:ext cx="666720" cy="160200"/>
                <a:chOff x="892080" y="1068120"/>
                <a:chExt cx="666720" cy="1602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892080" y="1068120"/>
                  <a:ext cx="666720" cy="160200"/>
                </a:xfrm>
                <a:custGeom>
                  <a:avLst/>
                  <a:gdLst/>
                  <a:ahLst/>
                  <a:rect l="l" t="t" r="r" b="b"/>
                  <a:pathLst>
                    <a:path w="420" h="101">
                      <a:moveTo>
                        <a:pt x="0" y="101"/>
                      </a:moveTo>
                      <a:lnTo>
                        <a:pt x="0" y="0"/>
                      </a:lnTo>
                      <a:lnTo>
                        <a:pt x="420" y="3"/>
                      </a:lnTo>
                      <a:lnTo>
                        <a:pt x="420" y="101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958680" y="1106280"/>
                  <a:ext cx="563760" cy="88920"/>
                </a:xfrm>
                <a:custGeom>
                  <a:avLst/>
                  <a:gdLst/>
                  <a:ahLst/>
                  <a:rect l="l" t="t" r="r" b="b"/>
                  <a:pathLst>
                    <a:path w="355" h="56">
                      <a:moveTo>
                        <a:pt x="341" y="7"/>
                      </a:moveTo>
                      <a:lnTo>
                        <a:pt x="341" y="11"/>
                      </a:lnTo>
                      <a:lnTo>
                        <a:pt x="346" y="14"/>
                      </a:lnTo>
                      <a:lnTo>
                        <a:pt x="348" y="14"/>
                      </a:lnTo>
                      <a:lnTo>
                        <a:pt x="353" y="11"/>
                      </a:lnTo>
                      <a:lnTo>
                        <a:pt x="355" y="7"/>
                      </a:lnTo>
                      <a:lnTo>
                        <a:pt x="353" y="4"/>
                      </a:lnTo>
                      <a:lnTo>
                        <a:pt x="348" y="2"/>
                      </a:lnTo>
                      <a:lnTo>
                        <a:pt x="346" y="2"/>
                      </a:lnTo>
                      <a:lnTo>
                        <a:pt x="341" y="4"/>
                      </a:lnTo>
                      <a:lnTo>
                        <a:pt x="341" y="7"/>
                      </a:lnTo>
                      <a:close/>
                      <a:moveTo>
                        <a:pt x="315" y="7"/>
                      </a:moveTo>
                      <a:lnTo>
                        <a:pt x="315" y="11"/>
                      </a:lnTo>
                      <a:lnTo>
                        <a:pt x="320" y="14"/>
                      </a:lnTo>
                      <a:lnTo>
                        <a:pt x="322" y="14"/>
                      </a:lnTo>
                      <a:lnTo>
                        <a:pt x="327" y="11"/>
                      </a:lnTo>
                      <a:lnTo>
                        <a:pt x="327" y="7"/>
                      </a:lnTo>
                      <a:lnTo>
                        <a:pt x="327" y="4"/>
                      </a:lnTo>
                      <a:lnTo>
                        <a:pt x="322" y="2"/>
                      </a:lnTo>
                      <a:lnTo>
                        <a:pt x="320" y="2"/>
                      </a:lnTo>
                      <a:lnTo>
                        <a:pt x="315" y="4"/>
                      </a:lnTo>
                      <a:lnTo>
                        <a:pt x="315" y="7"/>
                      </a:lnTo>
                      <a:close/>
                      <a:moveTo>
                        <a:pt x="287" y="7"/>
                      </a:moveTo>
                      <a:lnTo>
                        <a:pt x="290" y="11"/>
                      </a:lnTo>
                      <a:lnTo>
                        <a:pt x="292" y="14"/>
                      </a:lnTo>
                      <a:lnTo>
                        <a:pt x="297" y="14"/>
                      </a:lnTo>
                      <a:lnTo>
                        <a:pt x="299" y="11"/>
                      </a:lnTo>
                      <a:lnTo>
                        <a:pt x="301" y="7"/>
                      </a:lnTo>
                      <a:lnTo>
                        <a:pt x="299" y="4"/>
                      </a:lnTo>
                      <a:lnTo>
                        <a:pt x="297" y="2"/>
                      </a:lnTo>
                      <a:lnTo>
                        <a:pt x="292" y="2"/>
                      </a:lnTo>
                      <a:lnTo>
                        <a:pt x="290" y="4"/>
                      </a:lnTo>
                      <a:lnTo>
                        <a:pt x="287" y="7"/>
                      </a:lnTo>
                      <a:close/>
                      <a:moveTo>
                        <a:pt x="262" y="7"/>
                      </a:moveTo>
                      <a:lnTo>
                        <a:pt x="262" y="11"/>
                      </a:lnTo>
                      <a:lnTo>
                        <a:pt x="266" y="14"/>
                      </a:lnTo>
                      <a:lnTo>
                        <a:pt x="271" y="14"/>
                      </a:lnTo>
                      <a:lnTo>
                        <a:pt x="273" y="11"/>
                      </a:lnTo>
                      <a:lnTo>
                        <a:pt x="273" y="7"/>
                      </a:lnTo>
                      <a:lnTo>
                        <a:pt x="273" y="4"/>
                      </a:lnTo>
                      <a:lnTo>
                        <a:pt x="271" y="2"/>
                      </a:lnTo>
                      <a:lnTo>
                        <a:pt x="266" y="2"/>
                      </a:lnTo>
                      <a:lnTo>
                        <a:pt x="262" y="4"/>
                      </a:lnTo>
                      <a:lnTo>
                        <a:pt x="262" y="7"/>
                      </a:lnTo>
                      <a:close/>
                      <a:moveTo>
                        <a:pt x="236" y="7"/>
                      </a:moveTo>
                      <a:lnTo>
                        <a:pt x="236" y="11"/>
                      </a:lnTo>
                      <a:lnTo>
                        <a:pt x="241" y="14"/>
                      </a:lnTo>
                      <a:lnTo>
                        <a:pt x="243" y="14"/>
                      </a:lnTo>
                      <a:lnTo>
                        <a:pt x="248" y="11"/>
                      </a:lnTo>
                      <a:lnTo>
                        <a:pt x="248" y="7"/>
                      </a:lnTo>
                      <a:lnTo>
                        <a:pt x="248" y="4"/>
                      </a:lnTo>
                      <a:lnTo>
                        <a:pt x="243" y="2"/>
                      </a:lnTo>
                      <a:lnTo>
                        <a:pt x="241" y="2"/>
                      </a:lnTo>
                      <a:lnTo>
                        <a:pt x="236" y="4"/>
                      </a:lnTo>
                      <a:lnTo>
                        <a:pt x="236" y="7"/>
                      </a:lnTo>
                      <a:close/>
                      <a:moveTo>
                        <a:pt x="210" y="7"/>
                      </a:moveTo>
                      <a:lnTo>
                        <a:pt x="210" y="11"/>
                      </a:lnTo>
                      <a:lnTo>
                        <a:pt x="215" y="14"/>
                      </a:lnTo>
                      <a:lnTo>
                        <a:pt x="217" y="14"/>
                      </a:lnTo>
                      <a:lnTo>
                        <a:pt x="222" y="11"/>
                      </a:lnTo>
                      <a:lnTo>
                        <a:pt x="222" y="7"/>
                      </a:lnTo>
                      <a:lnTo>
                        <a:pt x="222" y="4"/>
                      </a:lnTo>
                      <a:lnTo>
                        <a:pt x="217" y="2"/>
                      </a:lnTo>
                      <a:lnTo>
                        <a:pt x="215" y="2"/>
                      </a:lnTo>
                      <a:lnTo>
                        <a:pt x="210" y="4"/>
                      </a:lnTo>
                      <a:lnTo>
                        <a:pt x="210" y="7"/>
                      </a:lnTo>
                      <a:close/>
                      <a:moveTo>
                        <a:pt x="182" y="7"/>
                      </a:moveTo>
                      <a:lnTo>
                        <a:pt x="185" y="11"/>
                      </a:lnTo>
                      <a:lnTo>
                        <a:pt x="187" y="14"/>
                      </a:lnTo>
                      <a:lnTo>
                        <a:pt x="192" y="14"/>
                      </a:lnTo>
                      <a:lnTo>
                        <a:pt x="196" y="11"/>
                      </a:lnTo>
                      <a:lnTo>
                        <a:pt x="196" y="7"/>
                      </a:lnTo>
                      <a:lnTo>
                        <a:pt x="196" y="4"/>
                      </a:lnTo>
                      <a:lnTo>
                        <a:pt x="192" y="2"/>
                      </a:lnTo>
                      <a:lnTo>
                        <a:pt x="187" y="2"/>
                      </a:lnTo>
                      <a:lnTo>
                        <a:pt x="185" y="4"/>
                      </a:lnTo>
                      <a:lnTo>
                        <a:pt x="182" y="7"/>
                      </a:lnTo>
                      <a:close/>
                      <a:moveTo>
                        <a:pt x="157" y="7"/>
                      </a:moveTo>
                      <a:lnTo>
                        <a:pt x="159" y="11"/>
                      </a:lnTo>
                      <a:lnTo>
                        <a:pt x="161" y="14"/>
                      </a:lnTo>
                      <a:lnTo>
                        <a:pt x="166" y="14"/>
                      </a:lnTo>
                      <a:lnTo>
                        <a:pt x="168" y="11"/>
                      </a:lnTo>
                      <a:lnTo>
                        <a:pt x="171" y="7"/>
                      </a:lnTo>
                      <a:lnTo>
                        <a:pt x="168" y="2"/>
                      </a:lnTo>
                      <a:lnTo>
                        <a:pt x="166" y="0"/>
                      </a:lnTo>
                      <a:lnTo>
                        <a:pt x="161" y="0"/>
                      </a:lnTo>
                      <a:lnTo>
                        <a:pt x="159" y="2"/>
                      </a:lnTo>
                      <a:lnTo>
                        <a:pt x="157" y="7"/>
                      </a:lnTo>
                      <a:close/>
                      <a:moveTo>
                        <a:pt x="131" y="7"/>
                      </a:moveTo>
                      <a:lnTo>
                        <a:pt x="131" y="11"/>
                      </a:lnTo>
                      <a:lnTo>
                        <a:pt x="136" y="14"/>
                      </a:lnTo>
                      <a:lnTo>
                        <a:pt x="138" y="14"/>
                      </a:lnTo>
                      <a:lnTo>
                        <a:pt x="143" y="11"/>
                      </a:lnTo>
                      <a:lnTo>
                        <a:pt x="145" y="7"/>
                      </a:lnTo>
                      <a:lnTo>
                        <a:pt x="143" y="2"/>
                      </a:lnTo>
                      <a:lnTo>
                        <a:pt x="138" y="0"/>
                      </a:lnTo>
                      <a:lnTo>
                        <a:pt x="136" y="0"/>
                      </a:lnTo>
                      <a:lnTo>
                        <a:pt x="131" y="2"/>
                      </a:lnTo>
                      <a:lnTo>
                        <a:pt x="131" y="7"/>
                      </a:lnTo>
                      <a:close/>
                      <a:moveTo>
                        <a:pt x="105" y="7"/>
                      </a:moveTo>
                      <a:lnTo>
                        <a:pt x="105" y="11"/>
                      </a:lnTo>
                      <a:lnTo>
                        <a:pt x="110" y="14"/>
                      </a:lnTo>
                      <a:lnTo>
                        <a:pt x="112" y="14"/>
                      </a:lnTo>
                      <a:lnTo>
                        <a:pt x="117" y="11"/>
                      </a:lnTo>
                      <a:lnTo>
                        <a:pt x="119" y="7"/>
                      </a:lnTo>
                      <a:lnTo>
                        <a:pt x="117" y="2"/>
                      </a:lnTo>
                      <a:lnTo>
                        <a:pt x="112" y="0"/>
                      </a:lnTo>
                      <a:lnTo>
                        <a:pt x="110" y="0"/>
                      </a:lnTo>
                      <a:lnTo>
                        <a:pt x="105" y="2"/>
                      </a:lnTo>
                      <a:lnTo>
                        <a:pt x="105" y="7"/>
                      </a:lnTo>
                      <a:close/>
                      <a:moveTo>
                        <a:pt x="80" y="7"/>
                      </a:moveTo>
                      <a:lnTo>
                        <a:pt x="80" y="11"/>
                      </a:lnTo>
                      <a:lnTo>
                        <a:pt x="82" y="14"/>
                      </a:lnTo>
                      <a:lnTo>
                        <a:pt x="87" y="14"/>
                      </a:lnTo>
                      <a:lnTo>
                        <a:pt x="91" y="11"/>
                      </a:lnTo>
                      <a:lnTo>
                        <a:pt x="91" y="7"/>
                      </a:lnTo>
                      <a:lnTo>
                        <a:pt x="91" y="2"/>
                      </a:lnTo>
                      <a:lnTo>
                        <a:pt x="87" y="0"/>
                      </a:lnTo>
                      <a:lnTo>
                        <a:pt x="82" y="0"/>
                      </a:lnTo>
                      <a:lnTo>
                        <a:pt x="80" y="2"/>
                      </a:lnTo>
                      <a:lnTo>
                        <a:pt x="80" y="7"/>
                      </a:lnTo>
                      <a:close/>
                      <a:moveTo>
                        <a:pt x="52" y="7"/>
                      </a:moveTo>
                      <a:lnTo>
                        <a:pt x="54" y="11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3" y="11"/>
                      </a:lnTo>
                      <a:lnTo>
                        <a:pt x="66" y="7"/>
                      </a:lnTo>
                      <a:lnTo>
                        <a:pt x="63" y="2"/>
                      </a:lnTo>
                      <a:lnTo>
                        <a:pt x="61" y="0"/>
                      </a:lnTo>
                      <a:lnTo>
                        <a:pt x="56" y="0"/>
                      </a:lnTo>
                      <a:lnTo>
                        <a:pt x="54" y="2"/>
                      </a:lnTo>
                      <a:lnTo>
                        <a:pt x="52" y="7"/>
                      </a:lnTo>
                      <a:close/>
                      <a:moveTo>
                        <a:pt x="26" y="7"/>
                      </a:moveTo>
                      <a:lnTo>
                        <a:pt x="28" y="11"/>
                      </a:lnTo>
                      <a:lnTo>
                        <a:pt x="31" y="14"/>
                      </a:lnTo>
                      <a:lnTo>
                        <a:pt x="35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8" y="2"/>
                      </a:lnTo>
                      <a:lnTo>
                        <a:pt x="35" y="0"/>
                      </a:lnTo>
                      <a:lnTo>
                        <a:pt x="31" y="0"/>
                      </a:lnTo>
                      <a:lnTo>
                        <a:pt x="28" y="2"/>
                      </a:lnTo>
                      <a:lnTo>
                        <a:pt x="26" y="7"/>
                      </a:lnTo>
                      <a:close/>
                      <a:moveTo>
                        <a:pt x="0" y="7"/>
                      </a:moveTo>
                      <a:lnTo>
                        <a:pt x="0" y="11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12" y="11"/>
                      </a:lnTo>
                      <a:lnTo>
                        <a:pt x="14" y="7"/>
                      </a:lnTo>
                      <a:lnTo>
                        <a:pt x="12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close/>
                      <a:moveTo>
                        <a:pt x="339" y="49"/>
                      </a:moveTo>
                      <a:lnTo>
                        <a:pt x="341" y="51"/>
                      </a:lnTo>
                      <a:lnTo>
                        <a:pt x="346" y="56"/>
                      </a:lnTo>
                      <a:lnTo>
                        <a:pt x="348" y="56"/>
                      </a:lnTo>
                      <a:lnTo>
                        <a:pt x="353" y="51"/>
                      </a:lnTo>
                      <a:lnTo>
                        <a:pt x="353" y="49"/>
                      </a:lnTo>
                      <a:lnTo>
                        <a:pt x="353" y="44"/>
                      </a:lnTo>
                      <a:lnTo>
                        <a:pt x="348" y="42"/>
                      </a:lnTo>
                      <a:lnTo>
                        <a:pt x="346" y="42"/>
                      </a:lnTo>
                      <a:lnTo>
                        <a:pt x="341" y="44"/>
                      </a:lnTo>
                      <a:lnTo>
                        <a:pt x="339" y="49"/>
                      </a:lnTo>
                      <a:close/>
                      <a:moveTo>
                        <a:pt x="313" y="49"/>
                      </a:moveTo>
                      <a:lnTo>
                        <a:pt x="315" y="51"/>
                      </a:lnTo>
                      <a:lnTo>
                        <a:pt x="320" y="56"/>
                      </a:lnTo>
                      <a:lnTo>
                        <a:pt x="322" y="56"/>
                      </a:lnTo>
                      <a:lnTo>
                        <a:pt x="325" y="51"/>
                      </a:lnTo>
                      <a:lnTo>
                        <a:pt x="327" y="49"/>
                      </a:lnTo>
                      <a:lnTo>
                        <a:pt x="325" y="44"/>
                      </a:lnTo>
                      <a:lnTo>
                        <a:pt x="322" y="42"/>
                      </a:lnTo>
                      <a:lnTo>
                        <a:pt x="320" y="42"/>
                      </a:lnTo>
                      <a:lnTo>
                        <a:pt x="315" y="44"/>
                      </a:lnTo>
                      <a:lnTo>
                        <a:pt x="313" y="49"/>
                      </a:lnTo>
                      <a:close/>
                      <a:moveTo>
                        <a:pt x="287" y="49"/>
                      </a:moveTo>
                      <a:lnTo>
                        <a:pt x="290" y="51"/>
                      </a:lnTo>
                      <a:lnTo>
                        <a:pt x="292" y="56"/>
                      </a:lnTo>
                      <a:lnTo>
                        <a:pt x="297" y="56"/>
                      </a:lnTo>
                      <a:lnTo>
                        <a:pt x="299" y="51"/>
                      </a:lnTo>
                      <a:lnTo>
                        <a:pt x="301" y="49"/>
                      </a:lnTo>
                      <a:lnTo>
                        <a:pt x="299" y="44"/>
                      </a:lnTo>
                      <a:lnTo>
                        <a:pt x="297" y="42"/>
                      </a:lnTo>
                      <a:lnTo>
                        <a:pt x="292" y="42"/>
                      </a:lnTo>
                      <a:lnTo>
                        <a:pt x="290" y="44"/>
                      </a:lnTo>
                      <a:lnTo>
                        <a:pt x="287" y="49"/>
                      </a:lnTo>
                      <a:close/>
                      <a:moveTo>
                        <a:pt x="262" y="49"/>
                      </a:moveTo>
                      <a:lnTo>
                        <a:pt x="262" y="51"/>
                      </a:lnTo>
                      <a:lnTo>
                        <a:pt x="266" y="56"/>
                      </a:lnTo>
                      <a:lnTo>
                        <a:pt x="271" y="56"/>
                      </a:lnTo>
                      <a:lnTo>
                        <a:pt x="273" y="51"/>
                      </a:lnTo>
                      <a:lnTo>
                        <a:pt x="273" y="49"/>
                      </a:lnTo>
                      <a:lnTo>
                        <a:pt x="273" y="44"/>
                      </a:lnTo>
                      <a:lnTo>
                        <a:pt x="271" y="42"/>
                      </a:lnTo>
                      <a:lnTo>
                        <a:pt x="266" y="42"/>
                      </a:lnTo>
                      <a:lnTo>
                        <a:pt x="262" y="44"/>
                      </a:lnTo>
                      <a:lnTo>
                        <a:pt x="262" y="49"/>
                      </a:lnTo>
                      <a:close/>
                      <a:moveTo>
                        <a:pt x="236" y="49"/>
                      </a:moveTo>
                      <a:lnTo>
                        <a:pt x="236" y="51"/>
                      </a:lnTo>
                      <a:lnTo>
                        <a:pt x="241" y="56"/>
                      </a:lnTo>
                      <a:lnTo>
                        <a:pt x="243" y="56"/>
                      </a:lnTo>
                      <a:lnTo>
                        <a:pt x="248" y="51"/>
                      </a:lnTo>
                      <a:lnTo>
                        <a:pt x="248" y="49"/>
                      </a:lnTo>
                      <a:lnTo>
                        <a:pt x="248" y="44"/>
                      </a:lnTo>
                      <a:lnTo>
                        <a:pt x="243" y="42"/>
                      </a:lnTo>
                      <a:lnTo>
                        <a:pt x="241" y="42"/>
                      </a:lnTo>
                      <a:lnTo>
                        <a:pt x="236" y="44"/>
                      </a:lnTo>
                      <a:lnTo>
                        <a:pt x="236" y="49"/>
                      </a:lnTo>
                      <a:close/>
                      <a:moveTo>
                        <a:pt x="210" y="49"/>
                      </a:moveTo>
                      <a:lnTo>
                        <a:pt x="210" y="51"/>
                      </a:lnTo>
                      <a:lnTo>
                        <a:pt x="215" y="56"/>
                      </a:lnTo>
                      <a:lnTo>
                        <a:pt x="217" y="56"/>
                      </a:lnTo>
                      <a:lnTo>
                        <a:pt x="222" y="51"/>
                      </a:lnTo>
                      <a:lnTo>
                        <a:pt x="222" y="49"/>
                      </a:lnTo>
                      <a:lnTo>
                        <a:pt x="222" y="44"/>
                      </a:lnTo>
                      <a:lnTo>
                        <a:pt x="217" y="42"/>
                      </a:lnTo>
                      <a:lnTo>
                        <a:pt x="215" y="42"/>
                      </a:lnTo>
                      <a:lnTo>
                        <a:pt x="210" y="44"/>
                      </a:lnTo>
                      <a:lnTo>
                        <a:pt x="210" y="49"/>
                      </a:lnTo>
                      <a:close/>
                      <a:moveTo>
                        <a:pt x="182" y="49"/>
                      </a:moveTo>
                      <a:lnTo>
                        <a:pt x="185" y="51"/>
                      </a:lnTo>
                      <a:lnTo>
                        <a:pt x="187" y="56"/>
                      </a:lnTo>
                      <a:lnTo>
                        <a:pt x="192" y="56"/>
                      </a:lnTo>
                      <a:lnTo>
                        <a:pt x="196" y="51"/>
                      </a:lnTo>
                      <a:lnTo>
                        <a:pt x="196" y="49"/>
                      </a:lnTo>
                      <a:lnTo>
                        <a:pt x="196" y="44"/>
                      </a:lnTo>
                      <a:lnTo>
                        <a:pt x="192" y="42"/>
                      </a:lnTo>
                      <a:lnTo>
                        <a:pt x="187" y="42"/>
                      </a:lnTo>
                      <a:lnTo>
                        <a:pt x="185" y="44"/>
                      </a:lnTo>
                      <a:lnTo>
                        <a:pt x="182" y="49"/>
                      </a:lnTo>
                      <a:close/>
                      <a:moveTo>
                        <a:pt x="157" y="46"/>
                      </a:moveTo>
                      <a:lnTo>
                        <a:pt x="159" y="51"/>
                      </a:lnTo>
                      <a:lnTo>
                        <a:pt x="161" y="53"/>
                      </a:lnTo>
                      <a:lnTo>
                        <a:pt x="166" y="53"/>
                      </a:lnTo>
                      <a:lnTo>
                        <a:pt x="168" y="51"/>
                      </a:lnTo>
                      <a:lnTo>
                        <a:pt x="171" y="46"/>
                      </a:lnTo>
                      <a:lnTo>
                        <a:pt x="168" y="44"/>
                      </a:lnTo>
                      <a:lnTo>
                        <a:pt x="166" y="42"/>
                      </a:lnTo>
                      <a:lnTo>
                        <a:pt x="161" y="42"/>
                      </a:lnTo>
                      <a:lnTo>
                        <a:pt x="159" y="44"/>
                      </a:lnTo>
                      <a:lnTo>
                        <a:pt x="157" y="46"/>
                      </a:lnTo>
                      <a:close/>
                      <a:moveTo>
                        <a:pt x="131" y="46"/>
                      </a:moveTo>
                      <a:lnTo>
                        <a:pt x="131" y="51"/>
                      </a:lnTo>
                      <a:lnTo>
                        <a:pt x="136" y="53"/>
                      </a:lnTo>
                      <a:lnTo>
                        <a:pt x="138" y="53"/>
                      </a:lnTo>
                      <a:lnTo>
                        <a:pt x="143" y="51"/>
                      </a:lnTo>
                      <a:lnTo>
                        <a:pt x="145" y="46"/>
                      </a:lnTo>
                      <a:lnTo>
                        <a:pt x="143" y="44"/>
                      </a:lnTo>
                      <a:lnTo>
                        <a:pt x="138" y="42"/>
                      </a:lnTo>
                      <a:lnTo>
                        <a:pt x="136" y="42"/>
                      </a:lnTo>
                      <a:lnTo>
                        <a:pt x="131" y="44"/>
                      </a:lnTo>
                      <a:lnTo>
                        <a:pt x="131" y="46"/>
                      </a:lnTo>
                      <a:close/>
                      <a:moveTo>
                        <a:pt x="105" y="46"/>
                      </a:moveTo>
                      <a:lnTo>
                        <a:pt x="105" y="51"/>
                      </a:lnTo>
                      <a:lnTo>
                        <a:pt x="110" y="53"/>
                      </a:lnTo>
                      <a:lnTo>
                        <a:pt x="112" y="53"/>
                      </a:lnTo>
                      <a:lnTo>
                        <a:pt x="117" y="51"/>
                      </a:lnTo>
                      <a:lnTo>
                        <a:pt x="119" y="46"/>
                      </a:lnTo>
                      <a:lnTo>
                        <a:pt x="117" y="44"/>
                      </a:lnTo>
                      <a:lnTo>
                        <a:pt x="112" y="42"/>
                      </a:lnTo>
                      <a:lnTo>
                        <a:pt x="110" y="42"/>
                      </a:lnTo>
                      <a:lnTo>
                        <a:pt x="105" y="44"/>
                      </a:lnTo>
                      <a:lnTo>
                        <a:pt x="105" y="46"/>
                      </a:lnTo>
                      <a:close/>
                      <a:moveTo>
                        <a:pt x="80" y="46"/>
                      </a:moveTo>
                      <a:lnTo>
                        <a:pt x="80" y="51"/>
                      </a:lnTo>
                      <a:lnTo>
                        <a:pt x="82" y="53"/>
                      </a:lnTo>
                      <a:lnTo>
                        <a:pt x="87" y="53"/>
                      </a:lnTo>
                      <a:lnTo>
                        <a:pt x="91" y="51"/>
                      </a:lnTo>
                      <a:lnTo>
                        <a:pt x="91" y="46"/>
                      </a:lnTo>
                      <a:lnTo>
                        <a:pt x="91" y="44"/>
                      </a:lnTo>
                      <a:lnTo>
                        <a:pt x="87" y="42"/>
                      </a:lnTo>
                      <a:lnTo>
                        <a:pt x="82" y="42"/>
                      </a:lnTo>
                      <a:lnTo>
                        <a:pt x="80" y="44"/>
                      </a:lnTo>
                      <a:lnTo>
                        <a:pt x="80" y="46"/>
                      </a:lnTo>
                      <a:close/>
                      <a:moveTo>
                        <a:pt x="52" y="46"/>
                      </a:moveTo>
                      <a:lnTo>
                        <a:pt x="54" y="51"/>
                      </a:lnTo>
                      <a:lnTo>
                        <a:pt x="56" y="53"/>
                      </a:lnTo>
                      <a:lnTo>
                        <a:pt x="61" y="53"/>
                      </a:lnTo>
                      <a:lnTo>
                        <a:pt x="63" y="51"/>
                      </a:lnTo>
                      <a:lnTo>
                        <a:pt x="66" y="46"/>
                      </a:lnTo>
                      <a:lnTo>
                        <a:pt x="63" y="44"/>
                      </a:lnTo>
                      <a:lnTo>
                        <a:pt x="61" y="42"/>
                      </a:lnTo>
                      <a:lnTo>
                        <a:pt x="56" y="42"/>
                      </a:lnTo>
                      <a:lnTo>
                        <a:pt x="54" y="44"/>
                      </a:lnTo>
                      <a:lnTo>
                        <a:pt x="52" y="46"/>
                      </a:lnTo>
                      <a:close/>
                      <a:moveTo>
                        <a:pt x="26" y="46"/>
                      </a:moveTo>
                      <a:lnTo>
                        <a:pt x="26" y="51"/>
                      </a:lnTo>
                      <a:lnTo>
                        <a:pt x="31" y="53"/>
                      </a:lnTo>
                      <a:lnTo>
                        <a:pt x="35" y="53"/>
                      </a:lnTo>
                      <a:lnTo>
                        <a:pt x="38" y="51"/>
                      </a:lnTo>
                      <a:lnTo>
                        <a:pt x="40" y="46"/>
                      </a:lnTo>
                      <a:lnTo>
                        <a:pt x="38" y="44"/>
                      </a:lnTo>
                      <a:lnTo>
                        <a:pt x="35" y="42"/>
                      </a:lnTo>
                      <a:lnTo>
                        <a:pt x="31" y="42"/>
                      </a:lnTo>
                      <a:lnTo>
                        <a:pt x="26" y="44"/>
                      </a:lnTo>
                      <a:lnTo>
                        <a:pt x="26" y="46"/>
                      </a:lnTo>
                      <a:close/>
                      <a:moveTo>
                        <a:pt x="0" y="46"/>
                      </a:moveTo>
                      <a:lnTo>
                        <a:pt x="0" y="51"/>
                      </a:lnTo>
                      <a:lnTo>
                        <a:pt x="5" y="53"/>
                      </a:lnTo>
                      <a:lnTo>
                        <a:pt x="7" y="53"/>
                      </a:ln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2" y="44"/>
                      </a:lnTo>
                      <a:lnTo>
                        <a:pt x="7" y="42"/>
                      </a:lnTo>
                      <a:lnTo>
                        <a:pt x="5" y="42"/>
                      </a:lnTo>
                      <a:lnTo>
                        <a:pt x="0" y="44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0" name=""/>
          <p:cNvGrpSpPr/>
          <p:nvPr/>
        </p:nvGrpSpPr>
        <p:grpSpPr>
          <a:xfrm>
            <a:off x="5907240" y="4788000"/>
            <a:ext cx="3236760" cy="2070000"/>
            <a:chOff x="5907240" y="4788000"/>
            <a:chExt cx="3236760" cy="2070000"/>
          </a:xfrm>
        </p:grpSpPr>
        <p:grpSp>
          <p:nvGrpSpPr>
            <p:cNvPr id="801" name=""/>
            <p:cNvGrpSpPr/>
            <p:nvPr/>
          </p:nvGrpSpPr>
          <p:grpSpPr>
            <a:xfrm>
              <a:off x="5907240" y="4788000"/>
              <a:ext cx="3236760" cy="2070000"/>
              <a:chOff x="5907240" y="4788000"/>
              <a:chExt cx="3236760" cy="2070000"/>
            </a:xfrm>
          </p:grpSpPr>
          <p:sp>
            <p:nvSpPr>
              <p:cNvPr id="802" name=""/>
              <p:cNvSpPr/>
              <p:nvPr/>
            </p:nvSpPr>
            <p:spPr>
              <a:xfrm>
                <a:off x="5907240" y="4788000"/>
                <a:ext cx="3233520" cy="206676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907240" y="4788000"/>
                <a:ext cx="3233520" cy="2066760"/>
              </a:xfrm>
              <a:prstGeom prst="rect">
                <a:avLst/>
              </a:prstGeom>
              <a:solidFill>
                <a:srgbClr val="ff99cc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907240" y="4788000"/>
                <a:ext cx="3236760" cy="2070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907240" y="4788000"/>
                <a:ext cx="3233520" cy="206676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6410520" y="5614920"/>
              <a:ext cx="2404800" cy="981000"/>
              <a:chOff x="6410520" y="5614920"/>
              <a:chExt cx="2404800" cy="98100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6410520" y="5614920"/>
                <a:ext cx="2404800" cy="981000"/>
                <a:chOff x="6410520" y="5614920"/>
                <a:chExt cx="2404800" cy="981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6410520" y="5991120"/>
                  <a:ext cx="1726920" cy="604800"/>
                </a:xfrm>
                <a:prstGeom prst="rect">
                  <a:avLst/>
                </a:prstGeom>
                <a:solidFill>
                  <a:srgbClr val="a3b2c1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7888320" y="5614920"/>
                  <a:ext cx="927000" cy="981000"/>
                  <a:chOff x="7888320" y="5614920"/>
                  <a:chExt cx="927000" cy="98100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7888320" y="5614920"/>
                    <a:ext cx="927000" cy="981000"/>
                    <a:chOff x="7888320" y="5614920"/>
                    <a:chExt cx="927000" cy="98100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7888320" y="5929200"/>
                      <a:ext cx="927000" cy="66672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2" name=""/>
                    <p:cNvGrpSpPr/>
                    <p:nvPr/>
                  </p:nvGrpSpPr>
                  <p:grpSpPr>
                    <a:xfrm>
                      <a:off x="7888320" y="5614920"/>
                      <a:ext cx="927000" cy="317520"/>
                      <a:chOff x="7888320" y="5614920"/>
                      <a:chExt cx="927000" cy="317520"/>
                    </a:xfrm>
                  </p:grpSpPr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7888320" y="5629320"/>
                        <a:ext cx="927000" cy="303120"/>
                      </a:xfrm>
                      <a:prstGeom prst="rect">
                        <a:avLst/>
                      </a:prstGeom>
                      <a:solidFill>
                        <a:srgbClr val="00ffff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7951680" y="5629320"/>
                        <a:ext cx="43344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5" name=""/>
                      <p:cNvSpPr/>
                      <p:nvPr/>
                    </p:nvSpPr>
                    <p:spPr>
                      <a:xfrm>
                        <a:off x="7896960" y="5614920"/>
                        <a:ext cx="547920" cy="289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ЦСМ</a:t>
                        </a:r>
                        <a:endParaRPr b="0" lang="en-US" sz="19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6" name=""/>
                      <p:cNvSpPr/>
                      <p:nvPr/>
                    </p:nvSpPr>
                    <p:spPr>
                      <a:xfrm>
                        <a:off x="8548920" y="5629320"/>
                        <a:ext cx="261720" cy="29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86">
                            <a:moveTo>
                              <a:pt x="53" y="0"/>
                            </a:moveTo>
                            <a:lnTo>
                              <a:pt x="53" y="63"/>
                            </a:lnTo>
                            <a:lnTo>
                              <a:pt x="0" y="63"/>
                            </a:lnTo>
                            <a:lnTo>
                              <a:pt x="0" y="126"/>
                            </a:lnTo>
                            <a:lnTo>
                              <a:pt x="53" y="126"/>
                            </a:lnTo>
                            <a:lnTo>
                              <a:pt x="53" y="186"/>
                            </a:lnTo>
                            <a:lnTo>
                              <a:pt x="109" y="186"/>
                            </a:lnTo>
                            <a:lnTo>
                              <a:pt x="109" y="126"/>
                            </a:lnTo>
                            <a:lnTo>
                              <a:pt x="165" y="126"/>
                            </a:lnTo>
                            <a:lnTo>
                              <a:pt x="165" y="63"/>
                            </a:lnTo>
                            <a:lnTo>
                              <a:pt x="109" y="63"/>
                            </a:lnTo>
                            <a:lnTo>
                              <a:pt x="109" y="0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8010720" y="6002280"/>
                    <a:ext cx="274320" cy="230040"/>
                    <a:chOff x="8010720" y="6002280"/>
                    <a:chExt cx="274320" cy="2300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8010720" y="6002280"/>
                      <a:ext cx="274320" cy="23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8155080" y="6002280"/>
                      <a:ext cx="4680" cy="2221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 flipH="1">
                      <a:off x="8159760" y="6062760"/>
                      <a:ext cx="100080" cy="14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8381880" y="6002280"/>
                    <a:ext cx="273240" cy="230040"/>
                    <a:chOff x="8381880" y="6002280"/>
                    <a:chExt cx="273240" cy="23004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8381880" y="6002280"/>
                      <a:ext cx="273240" cy="23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8526600" y="6002280"/>
                      <a:ext cx="3240" cy="2221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H="1">
                      <a:off x="8529480" y="6062760"/>
                      <a:ext cx="99720" cy="14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"/>
                  <p:cNvGrpSpPr/>
                  <p:nvPr/>
                </p:nvGrpSpPr>
                <p:grpSpPr>
                  <a:xfrm>
                    <a:off x="8381880" y="6302520"/>
                    <a:ext cx="273240" cy="230040"/>
                    <a:chOff x="8381880" y="6302520"/>
                    <a:chExt cx="273240" cy="230040"/>
                  </a:xfrm>
                </p:grpSpPr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8381880" y="6302520"/>
                      <a:ext cx="273240" cy="23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8526600" y="6302520"/>
                      <a:ext cx="3240" cy="2221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flipH="1">
                      <a:off x="8529480" y="6362640"/>
                      <a:ext cx="99720" cy="14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8010720" y="6302520"/>
                    <a:ext cx="274320" cy="230040"/>
                    <a:chOff x="8010720" y="6302520"/>
                    <a:chExt cx="274320" cy="23004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8010720" y="6302520"/>
                      <a:ext cx="274320" cy="230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8155080" y="6302520"/>
                      <a:ext cx="4680" cy="2221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 flipH="1">
                      <a:off x="8159760" y="6362640"/>
                      <a:ext cx="100080" cy="1440"/>
                    </a:xfrm>
                    <a:prstGeom prst="line">
                      <a:avLst/>
                    </a:prstGeom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6488280" y="6143760"/>
                  <a:ext cx="1285920" cy="322200"/>
                  <a:chOff x="6488280" y="6143760"/>
                  <a:chExt cx="1285920" cy="322200"/>
                </a:xfrm>
              </p:grpSpPr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6488280" y="6291360"/>
                    <a:ext cx="352440" cy="174600"/>
                    <a:chOff x="6488280" y="6291360"/>
                    <a:chExt cx="352440" cy="1746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6488280" y="6373800"/>
                      <a:ext cx="93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32">
                          <a:moveTo>
                            <a:pt x="59" y="2"/>
                          </a:moveTo>
                          <a:lnTo>
                            <a:pt x="59" y="32"/>
                          </a:lnTo>
                          <a:lnTo>
                            <a:pt x="0" y="9"/>
                          </a:lnTo>
                          <a:lnTo>
                            <a:pt x="3" y="0"/>
                          </a:lnTo>
                          <a:lnTo>
                            <a:pt x="45" y="14"/>
                          </a:lnTo>
                          <a:lnTo>
                            <a:pt x="59" y="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6585120" y="6291360"/>
                      <a:ext cx="25560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10">
                          <a:moveTo>
                            <a:pt x="0" y="87"/>
                          </a:moveTo>
                          <a:lnTo>
                            <a:pt x="0" y="31"/>
                          </a:lnTo>
                          <a:lnTo>
                            <a:pt x="9" y="12"/>
                          </a:lnTo>
                          <a:lnTo>
                            <a:pt x="19" y="12"/>
                          </a:lnTo>
                          <a:lnTo>
                            <a:pt x="30" y="0"/>
                          </a:lnTo>
                          <a:lnTo>
                            <a:pt x="61" y="12"/>
                          </a:lnTo>
                          <a:lnTo>
                            <a:pt x="161" y="12"/>
                          </a:lnTo>
                          <a:lnTo>
                            <a:pt x="161" y="98"/>
                          </a:lnTo>
                          <a:lnTo>
                            <a:pt x="156" y="98"/>
                          </a:lnTo>
                          <a:lnTo>
                            <a:pt x="156" y="110"/>
                          </a:lnTo>
                          <a:lnTo>
                            <a:pt x="5" y="110"/>
                          </a:lnTo>
                          <a:lnTo>
                            <a:pt x="5" y="98"/>
                          </a:lnTo>
                          <a:lnTo>
                            <a:pt x="0" y="98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flipH="1">
                      <a:off x="6593040" y="6446880"/>
                      <a:ext cx="239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H="1">
                      <a:off x="6615000" y="6313320"/>
                      <a:ext cx="669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6585120" y="6291360"/>
                      <a:ext cx="25560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10">
                          <a:moveTo>
                            <a:pt x="0" y="87"/>
                          </a:moveTo>
                          <a:lnTo>
                            <a:pt x="0" y="31"/>
                          </a:lnTo>
                          <a:lnTo>
                            <a:pt x="9" y="12"/>
                          </a:lnTo>
                          <a:lnTo>
                            <a:pt x="19" y="12"/>
                          </a:lnTo>
                          <a:lnTo>
                            <a:pt x="30" y="0"/>
                          </a:lnTo>
                          <a:lnTo>
                            <a:pt x="61" y="12"/>
                          </a:lnTo>
                          <a:lnTo>
                            <a:pt x="161" y="12"/>
                          </a:lnTo>
                          <a:lnTo>
                            <a:pt x="161" y="98"/>
                          </a:lnTo>
                          <a:lnTo>
                            <a:pt x="156" y="98"/>
                          </a:lnTo>
                          <a:lnTo>
                            <a:pt x="156" y="110"/>
                          </a:lnTo>
                          <a:lnTo>
                            <a:pt x="5" y="110"/>
                          </a:lnTo>
                          <a:lnTo>
                            <a:pt x="5" y="98"/>
                          </a:lnTo>
                          <a:lnTo>
                            <a:pt x="0" y="98"/>
                          </a:lnTo>
                          <a:lnTo>
                            <a:pt x="0" y="87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>
                      <a:off x="6776640" y="6362640"/>
                      <a:ext cx="4932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>
                      <a:off x="6776640" y="6340320"/>
                      <a:ext cx="4932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flipH="1">
                      <a:off x="6581520" y="6410160"/>
                      <a:ext cx="25884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>
                      <a:off x="6776640" y="6369120"/>
                      <a:ext cx="4932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>
                      <a:off x="6776640" y="6351480"/>
                      <a:ext cx="4932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 flipH="1">
                      <a:off x="6776640" y="6332400"/>
                      <a:ext cx="4932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7210440" y="6143760"/>
                    <a:ext cx="255600" cy="307800"/>
                    <a:chOff x="7210440" y="6143760"/>
                    <a:chExt cx="255600" cy="3078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21044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1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1" y="156"/>
                          </a:lnTo>
                          <a:lnTo>
                            <a:pt x="31" y="163"/>
                          </a:lnTo>
                          <a:lnTo>
                            <a:pt x="10" y="163"/>
                          </a:lnTo>
                          <a:lnTo>
                            <a:pt x="10" y="194"/>
                          </a:lnTo>
                          <a:lnTo>
                            <a:pt x="152" y="194"/>
                          </a:lnTo>
                          <a:lnTo>
                            <a:pt x="152" y="163"/>
                          </a:lnTo>
                          <a:lnTo>
                            <a:pt x="131" y="163"/>
                          </a:lnTo>
                          <a:lnTo>
                            <a:pt x="131" y="156"/>
                          </a:lnTo>
                          <a:lnTo>
                            <a:pt x="108" y="156"/>
                          </a:lnTo>
                          <a:lnTo>
                            <a:pt x="108" y="152"/>
                          </a:lnTo>
                          <a:lnTo>
                            <a:pt x="131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7259760" y="6402240"/>
                      <a:ext cx="1587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721044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1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1" y="156"/>
                          </a:lnTo>
                          <a:lnTo>
                            <a:pt x="31" y="163"/>
                          </a:lnTo>
                          <a:lnTo>
                            <a:pt x="10" y="163"/>
                          </a:lnTo>
                          <a:lnTo>
                            <a:pt x="10" y="194"/>
                          </a:lnTo>
                          <a:lnTo>
                            <a:pt x="152" y="194"/>
                          </a:lnTo>
                          <a:lnTo>
                            <a:pt x="152" y="163"/>
                          </a:lnTo>
                          <a:lnTo>
                            <a:pt x="131" y="163"/>
                          </a:lnTo>
                          <a:lnTo>
                            <a:pt x="131" y="156"/>
                          </a:lnTo>
                          <a:lnTo>
                            <a:pt x="108" y="156"/>
                          </a:lnTo>
                          <a:lnTo>
                            <a:pt x="108" y="152"/>
                          </a:lnTo>
                          <a:lnTo>
                            <a:pt x="131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7299360" y="6391080"/>
                      <a:ext cx="777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7299360" y="6384960"/>
                      <a:ext cx="77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7259760" y="6373800"/>
                      <a:ext cx="158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7232760" y="6173640"/>
                      <a:ext cx="210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70">
                          <a:moveTo>
                            <a:pt x="12" y="154"/>
                          </a:moveTo>
                          <a:lnTo>
                            <a:pt x="38" y="154"/>
                          </a:lnTo>
                          <a:lnTo>
                            <a:pt x="38" y="149"/>
                          </a:lnTo>
                          <a:lnTo>
                            <a:pt x="12" y="149"/>
                          </a:lnTo>
                          <a:lnTo>
                            <a:pt x="12" y="154"/>
                          </a:lnTo>
                          <a:close/>
                          <a:moveTo>
                            <a:pt x="5" y="170"/>
                          </a:moveTo>
                          <a:lnTo>
                            <a:pt x="10" y="165"/>
                          </a:lnTo>
                          <a:lnTo>
                            <a:pt x="5" y="158"/>
                          </a:lnTo>
                          <a:lnTo>
                            <a:pt x="0" y="165"/>
                          </a:lnTo>
                          <a:lnTo>
                            <a:pt x="5" y="170"/>
                          </a:lnTo>
                          <a:close/>
                          <a:moveTo>
                            <a:pt x="12" y="95"/>
                          </a:moveTo>
                          <a:lnTo>
                            <a:pt x="12" y="11"/>
                          </a:lnTo>
                          <a:lnTo>
                            <a:pt x="124" y="11"/>
                          </a:lnTo>
                          <a:lnTo>
                            <a:pt x="124" y="95"/>
                          </a:lnTo>
                          <a:lnTo>
                            <a:pt x="12" y="95"/>
                          </a:lnTo>
                          <a:close/>
                          <a:moveTo>
                            <a:pt x="7" y="105"/>
                          </a:moveTo>
                          <a:lnTo>
                            <a:pt x="131" y="105"/>
                          </a:lnTo>
                          <a:lnTo>
                            <a:pt x="131" y="4"/>
                          </a:lnTo>
                          <a:lnTo>
                            <a:pt x="133" y="4"/>
                          </a:lnTo>
                          <a:lnTo>
                            <a:pt x="133" y="0"/>
                          </a:lnTo>
                          <a:lnTo>
                            <a:pt x="3" y="0"/>
                          </a:lnTo>
                          <a:lnTo>
                            <a:pt x="3" y="107"/>
                          </a:lnTo>
                          <a:lnTo>
                            <a:pt x="7" y="107"/>
                          </a:lnTo>
                          <a:lnTo>
                            <a:pt x="7" y="105"/>
                          </a:lnTo>
                          <a:close/>
                          <a:moveTo>
                            <a:pt x="126" y="119"/>
                          </a:moveTo>
                          <a:lnTo>
                            <a:pt x="133" y="119"/>
                          </a:lnTo>
                          <a:lnTo>
                            <a:pt x="133" y="116"/>
                          </a:lnTo>
                          <a:lnTo>
                            <a:pt x="126" y="116"/>
                          </a:lnTo>
                          <a:lnTo>
                            <a:pt x="126" y="1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255080" y="6435720"/>
                      <a:ext cx="331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226280" y="6410160"/>
                      <a:ext cx="2253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7226280" y="6418080"/>
                      <a:ext cx="2253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7255080" y="6435720"/>
                      <a:ext cx="37800" cy="111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255080" y="642456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7282080" y="642456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729288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730404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731520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7329600" y="642456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7340760" y="6440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7351920" y="642456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736272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7377120" y="6424560"/>
                      <a:ext cx="1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7388280" y="64404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399440" y="642456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7415280" y="6440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742644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43760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"/>
                  <p:cNvGrpSpPr/>
                  <p:nvPr/>
                </p:nvGrpSpPr>
                <p:grpSpPr>
                  <a:xfrm>
                    <a:off x="6892920" y="6143760"/>
                    <a:ext cx="255600" cy="307800"/>
                    <a:chOff x="6892920" y="6143760"/>
                    <a:chExt cx="255600" cy="307800"/>
                  </a:xfrm>
                </p:grpSpPr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689292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0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0" y="156"/>
                          </a:lnTo>
                          <a:lnTo>
                            <a:pt x="30" y="163"/>
                          </a:lnTo>
                          <a:lnTo>
                            <a:pt x="9" y="163"/>
                          </a:lnTo>
                          <a:lnTo>
                            <a:pt x="9" y="194"/>
                          </a:lnTo>
                          <a:lnTo>
                            <a:pt x="151" y="194"/>
                          </a:lnTo>
                          <a:lnTo>
                            <a:pt x="151" y="163"/>
                          </a:lnTo>
                          <a:lnTo>
                            <a:pt x="130" y="163"/>
                          </a:lnTo>
                          <a:lnTo>
                            <a:pt x="130" y="156"/>
                          </a:lnTo>
                          <a:lnTo>
                            <a:pt x="107" y="156"/>
                          </a:lnTo>
                          <a:lnTo>
                            <a:pt x="107" y="152"/>
                          </a:lnTo>
                          <a:lnTo>
                            <a:pt x="130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6940440" y="6402240"/>
                      <a:ext cx="1587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689292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0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0" y="156"/>
                          </a:lnTo>
                          <a:lnTo>
                            <a:pt x="30" y="163"/>
                          </a:lnTo>
                          <a:lnTo>
                            <a:pt x="9" y="163"/>
                          </a:lnTo>
                          <a:lnTo>
                            <a:pt x="9" y="194"/>
                          </a:lnTo>
                          <a:lnTo>
                            <a:pt x="151" y="194"/>
                          </a:lnTo>
                          <a:lnTo>
                            <a:pt x="151" y="163"/>
                          </a:lnTo>
                          <a:lnTo>
                            <a:pt x="130" y="163"/>
                          </a:lnTo>
                          <a:lnTo>
                            <a:pt x="130" y="156"/>
                          </a:lnTo>
                          <a:lnTo>
                            <a:pt x="107" y="156"/>
                          </a:lnTo>
                          <a:lnTo>
                            <a:pt x="107" y="152"/>
                          </a:lnTo>
                          <a:lnTo>
                            <a:pt x="130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6981840" y="6391080"/>
                      <a:ext cx="777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6981840" y="6384960"/>
                      <a:ext cx="77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6940440" y="6373800"/>
                      <a:ext cx="158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6915240" y="6173640"/>
                      <a:ext cx="210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70">
                          <a:moveTo>
                            <a:pt x="11" y="154"/>
                          </a:moveTo>
                          <a:lnTo>
                            <a:pt x="37" y="154"/>
                          </a:lnTo>
                          <a:lnTo>
                            <a:pt x="37" y="149"/>
                          </a:lnTo>
                          <a:lnTo>
                            <a:pt x="11" y="149"/>
                          </a:lnTo>
                          <a:lnTo>
                            <a:pt x="11" y="154"/>
                          </a:lnTo>
                          <a:close/>
                          <a:moveTo>
                            <a:pt x="4" y="170"/>
                          </a:moveTo>
                          <a:lnTo>
                            <a:pt x="9" y="165"/>
                          </a:lnTo>
                          <a:lnTo>
                            <a:pt x="4" y="158"/>
                          </a:lnTo>
                          <a:lnTo>
                            <a:pt x="0" y="165"/>
                          </a:lnTo>
                          <a:lnTo>
                            <a:pt x="4" y="170"/>
                          </a:lnTo>
                          <a:close/>
                          <a:moveTo>
                            <a:pt x="11" y="95"/>
                          </a:moveTo>
                          <a:lnTo>
                            <a:pt x="11" y="11"/>
                          </a:lnTo>
                          <a:lnTo>
                            <a:pt x="123" y="11"/>
                          </a:lnTo>
                          <a:lnTo>
                            <a:pt x="123" y="95"/>
                          </a:lnTo>
                          <a:lnTo>
                            <a:pt x="11" y="95"/>
                          </a:lnTo>
                          <a:close/>
                          <a:moveTo>
                            <a:pt x="7" y="105"/>
                          </a:moveTo>
                          <a:lnTo>
                            <a:pt x="130" y="105"/>
                          </a:lnTo>
                          <a:lnTo>
                            <a:pt x="130" y="4"/>
                          </a:lnTo>
                          <a:lnTo>
                            <a:pt x="133" y="4"/>
                          </a:lnTo>
                          <a:lnTo>
                            <a:pt x="133" y="0"/>
                          </a:lnTo>
                          <a:lnTo>
                            <a:pt x="2" y="0"/>
                          </a:lnTo>
                          <a:lnTo>
                            <a:pt x="2" y="107"/>
                          </a:lnTo>
                          <a:lnTo>
                            <a:pt x="7" y="107"/>
                          </a:lnTo>
                          <a:lnTo>
                            <a:pt x="7" y="105"/>
                          </a:lnTo>
                          <a:close/>
                          <a:moveTo>
                            <a:pt x="126" y="119"/>
                          </a:moveTo>
                          <a:lnTo>
                            <a:pt x="133" y="119"/>
                          </a:lnTo>
                          <a:lnTo>
                            <a:pt x="133" y="116"/>
                          </a:lnTo>
                          <a:lnTo>
                            <a:pt x="126" y="116"/>
                          </a:lnTo>
                          <a:lnTo>
                            <a:pt x="126" y="1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6937560" y="6435720"/>
                      <a:ext cx="3312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6907320" y="6410160"/>
                      <a:ext cx="2253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6907320" y="6418080"/>
                      <a:ext cx="2253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937560" y="6435720"/>
                      <a:ext cx="36360" cy="111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6937560" y="6424560"/>
                      <a:ext cx="28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6962760" y="6424560"/>
                      <a:ext cx="1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697392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698508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699624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7010280" y="6424560"/>
                      <a:ext cx="1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7021440" y="644040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7032600" y="642456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7043760" y="64404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7059600" y="6424560"/>
                      <a:ext cx="1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707076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708192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7096320" y="6440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10712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711828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7518600" y="6143760"/>
                    <a:ext cx="255600" cy="307800"/>
                    <a:chOff x="7518600" y="6143760"/>
                    <a:chExt cx="255600" cy="307800"/>
                  </a:xfrm>
                </p:grpSpPr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751860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0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0" y="156"/>
                          </a:lnTo>
                          <a:lnTo>
                            <a:pt x="30" y="163"/>
                          </a:lnTo>
                          <a:lnTo>
                            <a:pt x="9" y="163"/>
                          </a:lnTo>
                          <a:lnTo>
                            <a:pt x="9" y="194"/>
                          </a:lnTo>
                          <a:lnTo>
                            <a:pt x="152" y="194"/>
                          </a:lnTo>
                          <a:lnTo>
                            <a:pt x="152" y="163"/>
                          </a:lnTo>
                          <a:lnTo>
                            <a:pt x="131" y="163"/>
                          </a:lnTo>
                          <a:lnTo>
                            <a:pt x="131" y="156"/>
                          </a:lnTo>
                          <a:lnTo>
                            <a:pt x="107" y="156"/>
                          </a:lnTo>
                          <a:lnTo>
                            <a:pt x="107" y="152"/>
                          </a:lnTo>
                          <a:lnTo>
                            <a:pt x="131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7566120" y="6402240"/>
                      <a:ext cx="16020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7518600" y="6143760"/>
                      <a:ext cx="25560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94">
                          <a:moveTo>
                            <a:pt x="0" y="145"/>
                          </a:moveTo>
                          <a:lnTo>
                            <a:pt x="30" y="145"/>
                          </a:lnTo>
                          <a:lnTo>
                            <a:pt x="56" y="152"/>
                          </a:lnTo>
                          <a:lnTo>
                            <a:pt x="56" y="156"/>
                          </a:lnTo>
                          <a:lnTo>
                            <a:pt x="30" y="156"/>
                          </a:lnTo>
                          <a:lnTo>
                            <a:pt x="30" y="163"/>
                          </a:lnTo>
                          <a:lnTo>
                            <a:pt x="9" y="163"/>
                          </a:lnTo>
                          <a:lnTo>
                            <a:pt x="9" y="194"/>
                          </a:lnTo>
                          <a:lnTo>
                            <a:pt x="152" y="194"/>
                          </a:lnTo>
                          <a:lnTo>
                            <a:pt x="152" y="163"/>
                          </a:lnTo>
                          <a:lnTo>
                            <a:pt x="131" y="163"/>
                          </a:lnTo>
                          <a:lnTo>
                            <a:pt x="131" y="156"/>
                          </a:lnTo>
                          <a:lnTo>
                            <a:pt x="107" y="156"/>
                          </a:lnTo>
                          <a:lnTo>
                            <a:pt x="107" y="152"/>
                          </a:lnTo>
                          <a:lnTo>
                            <a:pt x="131" y="145"/>
                          </a:lnTo>
                          <a:lnTo>
                            <a:pt x="161" y="145"/>
                          </a:lnTo>
                          <a:lnTo>
                            <a:pt x="161" y="0"/>
                          </a:lnTo>
                          <a:lnTo>
                            <a:pt x="0" y="0"/>
                          </a:lnTo>
                          <a:lnTo>
                            <a:pt x="0" y="14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7607520" y="6391080"/>
                      <a:ext cx="77760" cy="18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7607520" y="6384960"/>
                      <a:ext cx="7776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7566120" y="6373800"/>
                      <a:ext cx="160200" cy="1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7540560" y="6173640"/>
                      <a:ext cx="2113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70">
                          <a:moveTo>
                            <a:pt x="12" y="154"/>
                          </a:moveTo>
                          <a:lnTo>
                            <a:pt x="37" y="154"/>
                          </a:lnTo>
                          <a:lnTo>
                            <a:pt x="37" y="149"/>
                          </a:lnTo>
                          <a:lnTo>
                            <a:pt x="12" y="149"/>
                          </a:lnTo>
                          <a:lnTo>
                            <a:pt x="12" y="154"/>
                          </a:lnTo>
                          <a:close/>
                          <a:moveTo>
                            <a:pt x="5" y="170"/>
                          </a:moveTo>
                          <a:lnTo>
                            <a:pt x="9" y="165"/>
                          </a:lnTo>
                          <a:lnTo>
                            <a:pt x="5" y="158"/>
                          </a:lnTo>
                          <a:lnTo>
                            <a:pt x="0" y="165"/>
                          </a:lnTo>
                          <a:lnTo>
                            <a:pt x="5" y="170"/>
                          </a:lnTo>
                          <a:close/>
                          <a:moveTo>
                            <a:pt x="12" y="95"/>
                          </a:moveTo>
                          <a:lnTo>
                            <a:pt x="12" y="11"/>
                          </a:lnTo>
                          <a:lnTo>
                            <a:pt x="124" y="11"/>
                          </a:lnTo>
                          <a:lnTo>
                            <a:pt x="124" y="95"/>
                          </a:lnTo>
                          <a:lnTo>
                            <a:pt x="12" y="95"/>
                          </a:lnTo>
                          <a:close/>
                          <a:moveTo>
                            <a:pt x="7" y="105"/>
                          </a:moveTo>
                          <a:lnTo>
                            <a:pt x="131" y="105"/>
                          </a:lnTo>
                          <a:lnTo>
                            <a:pt x="131" y="4"/>
                          </a:lnTo>
                          <a:lnTo>
                            <a:pt x="133" y="4"/>
                          </a:lnTo>
                          <a:lnTo>
                            <a:pt x="133" y="0"/>
                          </a:lnTo>
                          <a:lnTo>
                            <a:pt x="2" y="0"/>
                          </a:lnTo>
                          <a:lnTo>
                            <a:pt x="2" y="107"/>
                          </a:lnTo>
                          <a:lnTo>
                            <a:pt x="7" y="107"/>
                          </a:lnTo>
                          <a:lnTo>
                            <a:pt x="7" y="105"/>
                          </a:lnTo>
                          <a:close/>
                          <a:moveTo>
                            <a:pt x="126" y="119"/>
                          </a:moveTo>
                          <a:lnTo>
                            <a:pt x="133" y="119"/>
                          </a:lnTo>
                          <a:lnTo>
                            <a:pt x="133" y="116"/>
                          </a:lnTo>
                          <a:lnTo>
                            <a:pt x="126" y="116"/>
                          </a:lnTo>
                          <a:lnTo>
                            <a:pt x="126" y="1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7562880" y="6435720"/>
                      <a:ext cx="33480" cy="7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7532640" y="6410160"/>
                      <a:ext cx="2271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7532640" y="6418080"/>
                      <a:ext cx="227160" cy="18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7562880" y="6435720"/>
                      <a:ext cx="36360" cy="1116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756288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7588440" y="642456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7599240" y="64404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7610400" y="6424560"/>
                      <a:ext cx="50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7621560" y="64404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7637400" y="6424560"/>
                      <a:ext cx="180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7648560" y="6440400"/>
                      <a:ext cx="18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765972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767088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7685280" y="6424560"/>
                      <a:ext cx="14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7696080" y="644040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7707240" y="6424560"/>
                      <a:ext cx="324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7721640" y="6440400"/>
                      <a:ext cx="1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7732800" y="6424560"/>
                      <a:ext cx="46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7743960" y="6440400"/>
                      <a:ext cx="46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2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27" name=""/>
              <p:cNvSpPr/>
              <p:nvPr/>
            </p:nvSpPr>
            <p:spPr>
              <a:xfrm>
                <a:off x="6410520" y="5765760"/>
                <a:ext cx="1482480" cy="230040"/>
              </a:xfrm>
              <a:prstGeom prst="rect">
                <a:avLst/>
              </a:prstGeom>
              <a:solidFill>
                <a:srgbClr val="00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91760" y="574668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Courier New"/>
                  </a:rPr>
                  <a:t>М И О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>
              <a:off x="8125920" y="4851360"/>
              <a:ext cx="77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Narrow"/>
                </a:rPr>
                <a:t>Уровень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310600" y="5132520"/>
              <a:ext cx="398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 Narrow"/>
                </a:rPr>
                <a:t>ЛПУ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1392120" y="1484280"/>
            <a:ext cx="5257800" cy="3889440"/>
          </a:xfrm>
          <a:prstGeom prst="rect">
            <a:avLst/>
          </a:prstGeom>
          <a:solidFill>
            <a:srgbClr val="a3b2c1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271520" y="2171880"/>
            <a:ext cx="7588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371600" y="4422600"/>
            <a:ext cx="2068560" cy="889200"/>
            <a:chOff x="1371600" y="4422600"/>
            <a:chExt cx="2068560" cy="889200"/>
          </a:xfrm>
        </p:grpSpPr>
        <p:grpSp>
          <p:nvGrpSpPr>
            <p:cNvPr id="934" name=""/>
            <p:cNvGrpSpPr/>
            <p:nvPr/>
          </p:nvGrpSpPr>
          <p:grpSpPr>
            <a:xfrm>
              <a:off x="1371600" y="4803840"/>
              <a:ext cx="1011240" cy="507960"/>
              <a:chOff x="1371600" y="4803840"/>
              <a:chExt cx="1011240" cy="50796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1535400" y="4803840"/>
                <a:ext cx="758520" cy="252360"/>
                <a:chOff x="1535400" y="4803840"/>
                <a:chExt cx="758520" cy="25236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1535400" y="4803840"/>
                  <a:ext cx="758520" cy="252360"/>
                </a:xfrm>
                <a:custGeom>
                  <a:avLst/>
                  <a:gdLst/>
                  <a:ahLst/>
                  <a:rect l="l" t="t" r="r" b="b"/>
                  <a:pathLst>
                    <a:path w="478" h="159">
                      <a:moveTo>
                        <a:pt x="0" y="159"/>
                      </a:moveTo>
                      <a:lnTo>
                        <a:pt x="0" y="0"/>
                      </a:lnTo>
                      <a:lnTo>
                        <a:pt x="478" y="0"/>
                      </a:lnTo>
                      <a:lnTo>
                        <a:pt x="476" y="159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609920" y="4862520"/>
                  <a:ext cx="639720" cy="137880"/>
                </a:xfrm>
                <a:custGeom>
                  <a:avLst/>
                  <a:gdLst/>
                  <a:ahLst/>
                  <a:rect l="l" t="t" r="r" b="b"/>
                  <a:pathLst>
                    <a:path w="403" h="87">
                      <a:moveTo>
                        <a:pt x="387" y="12"/>
                      </a:moveTo>
                      <a:lnTo>
                        <a:pt x="389" y="17"/>
                      </a:lnTo>
                      <a:lnTo>
                        <a:pt x="392" y="21"/>
                      </a:lnTo>
                      <a:lnTo>
                        <a:pt x="396" y="21"/>
                      </a:lnTo>
                      <a:lnTo>
                        <a:pt x="399" y="17"/>
                      </a:lnTo>
                      <a:lnTo>
                        <a:pt x="403" y="12"/>
                      </a:lnTo>
                      <a:lnTo>
                        <a:pt x="399" y="5"/>
                      </a:lnTo>
                      <a:lnTo>
                        <a:pt x="396" y="0"/>
                      </a:lnTo>
                      <a:lnTo>
                        <a:pt x="392" y="0"/>
                      </a:lnTo>
                      <a:lnTo>
                        <a:pt x="389" y="5"/>
                      </a:lnTo>
                      <a:lnTo>
                        <a:pt x="387" y="12"/>
                      </a:lnTo>
                      <a:close/>
                      <a:moveTo>
                        <a:pt x="357" y="12"/>
                      </a:moveTo>
                      <a:lnTo>
                        <a:pt x="359" y="17"/>
                      </a:lnTo>
                      <a:lnTo>
                        <a:pt x="364" y="21"/>
                      </a:lnTo>
                      <a:lnTo>
                        <a:pt x="368" y="21"/>
                      </a:lnTo>
                      <a:lnTo>
                        <a:pt x="371" y="17"/>
                      </a:lnTo>
                      <a:lnTo>
                        <a:pt x="371" y="12"/>
                      </a:lnTo>
                      <a:lnTo>
                        <a:pt x="371" y="5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59" y="5"/>
                      </a:lnTo>
                      <a:lnTo>
                        <a:pt x="357" y="12"/>
                      </a:lnTo>
                      <a:close/>
                      <a:moveTo>
                        <a:pt x="329" y="12"/>
                      </a:moveTo>
                      <a:lnTo>
                        <a:pt x="329" y="17"/>
                      </a:lnTo>
                      <a:lnTo>
                        <a:pt x="333" y="21"/>
                      </a:lnTo>
                      <a:lnTo>
                        <a:pt x="336" y="21"/>
                      </a:lnTo>
                      <a:lnTo>
                        <a:pt x="340" y="17"/>
                      </a:lnTo>
                      <a:lnTo>
                        <a:pt x="343" y="12"/>
                      </a:lnTo>
                      <a:lnTo>
                        <a:pt x="340" y="5"/>
                      </a:lnTo>
                      <a:lnTo>
                        <a:pt x="338" y="0"/>
                      </a:lnTo>
                      <a:lnTo>
                        <a:pt x="333" y="0"/>
                      </a:lnTo>
                      <a:lnTo>
                        <a:pt x="329" y="5"/>
                      </a:lnTo>
                      <a:lnTo>
                        <a:pt x="329" y="12"/>
                      </a:lnTo>
                      <a:close/>
                      <a:moveTo>
                        <a:pt x="298" y="12"/>
                      </a:moveTo>
                      <a:lnTo>
                        <a:pt x="298" y="17"/>
                      </a:lnTo>
                      <a:lnTo>
                        <a:pt x="303" y="21"/>
                      </a:lnTo>
                      <a:lnTo>
                        <a:pt x="308" y="21"/>
                      </a:lnTo>
                      <a:lnTo>
                        <a:pt x="312" y="17"/>
                      </a:lnTo>
                      <a:lnTo>
                        <a:pt x="312" y="12"/>
                      </a:lnTo>
                      <a:lnTo>
                        <a:pt x="312" y="5"/>
                      </a:lnTo>
                      <a:lnTo>
                        <a:pt x="308" y="0"/>
                      </a:lnTo>
                      <a:lnTo>
                        <a:pt x="303" y="0"/>
                      </a:lnTo>
                      <a:lnTo>
                        <a:pt x="298" y="5"/>
                      </a:lnTo>
                      <a:lnTo>
                        <a:pt x="298" y="12"/>
                      </a:lnTo>
                      <a:close/>
                      <a:moveTo>
                        <a:pt x="268" y="12"/>
                      </a:moveTo>
                      <a:lnTo>
                        <a:pt x="270" y="17"/>
                      </a:lnTo>
                      <a:lnTo>
                        <a:pt x="273" y="21"/>
                      </a:lnTo>
                      <a:lnTo>
                        <a:pt x="277" y="21"/>
                      </a:lnTo>
                      <a:lnTo>
                        <a:pt x="282" y="17"/>
                      </a:lnTo>
                      <a:lnTo>
                        <a:pt x="282" y="12"/>
                      </a:lnTo>
                      <a:lnTo>
                        <a:pt x="282" y="5"/>
                      </a:lnTo>
                      <a:lnTo>
                        <a:pt x="277" y="0"/>
                      </a:lnTo>
                      <a:lnTo>
                        <a:pt x="273" y="0"/>
                      </a:lnTo>
                      <a:lnTo>
                        <a:pt x="270" y="5"/>
                      </a:lnTo>
                      <a:lnTo>
                        <a:pt x="268" y="12"/>
                      </a:lnTo>
                      <a:close/>
                      <a:moveTo>
                        <a:pt x="238" y="10"/>
                      </a:moveTo>
                      <a:lnTo>
                        <a:pt x="240" y="17"/>
                      </a:lnTo>
                      <a:lnTo>
                        <a:pt x="242" y="19"/>
                      </a:lnTo>
                      <a:lnTo>
                        <a:pt x="247" y="19"/>
                      </a:lnTo>
                      <a:lnTo>
                        <a:pt x="252" y="17"/>
                      </a:lnTo>
                      <a:lnTo>
                        <a:pt x="254" y="10"/>
                      </a:lnTo>
                      <a:lnTo>
                        <a:pt x="252" y="5"/>
                      </a:lnTo>
                      <a:lnTo>
                        <a:pt x="247" y="0"/>
                      </a:lnTo>
                      <a:lnTo>
                        <a:pt x="245" y="0"/>
                      </a:lnTo>
                      <a:lnTo>
                        <a:pt x="240" y="5"/>
                      </a:lnTo>
                      <a:lnTo>
                        <a:pt x="238" y="10"/>
                      </a:lnTo>
                      <a:close/>
                      <a:moveTo>
                        <a:pt x="210" y="10"/>
                      </a:moveTo>
                      <a:lnTo>
                        <a:pt x="210" y="17"/>
                      </a:lnTo>
                      <a:lnTo>
                        <a:pt x="214" y="19"/>
                      </a:lnTo>
                      <a:lnTo>
                        <a:pt x="219" y="19"/>
                      </a:lnTo>
                      <a:lnTo>
                        <a:pt x="224" y="17"/>
                      </a:lnTo>
                      <a:lnTo>
                        <a:pt x="224" y="10"/>
                      </a:lnTo>
                      <a:lnTo>
                        <a:pt x="224" y="5"/>
                      </a:lnTo>
                      <a:lnTo>
                        <a:pt x="219" y="0"/>
                      </a:lnTo>
                      <a:lnTo>
                        <a:pt x="214" y="0"/>
                      </a:lnTo>
                      <a:lnTo>
                        <a:pt x="210" y="5"/>
                      </a:lnTo>
                      <a:lnTo>
                        <a:pt x="210" y="10"/>
                      </a:lnTo>
                      <a:close/>
                      <a:moveTo>
                        <a:pt x="179" y="10"/>
                      </a:moveTo>
                      <a:lnTo>
                        <a:pt x="182" y="17"/>
                      </a:lnTo>
                      <a:lnTo>
                        <a:pt x="184" y="19"/>
                      </a:lnTo>
                      <a:lnTo>
                        <a:pt x="189" y="19"/>
                      </a:lnTo>
                      <a:lnTo>
                        <a:pt x="191" y="17"/>
                      </a:lnTo>
                      <a:lnTo>
                        <a:pt x="193" y="10"/>
                      </a:lnTo>
                      <a:lnTo>
                        <a:pt x="191" y="5"/>
                      </a:lnTo>
                      <a:lnTo>
                        <a:pt x="189" y="0"/>
                      </a:lnTo>
                      <a:lnTo>
                        <a:pt x="184" y="0"/>
                      </a:lnTo>
                      <a:lnTo>
                        <a:pt x="182" y="5"/>
                      </a:lnTo>
                      <a:lnTo>
                        <a:pt x="179" y="10"/>
                      </a:lnTo>
                      <a:close/>
                      <a:moveTo>
                        <a:pt x="149" y="10"/>
                      </a:moveTo>
                      <a:lnTo>
                        <a:pt x="149" y="17"/>
                      </a:lnTo>
                      <a:lnTo>
                        <a:pt x="154" y="19"/>
                      </a:lnTo>
                      <a:lnTo>
                        <a:pt x="158" y="19"/>
                      </a:lnTo>
                      <a:lnTo>
                        <a:pt x="163" y="17"/>
                      </a:lnTo>
                      <a:lnTo>
                        <a:pt x="163" y="10"/>
                      </a:lnTo>
                      <a:lnTo>
                        <a:pt x="163" y="5"/>
                      </a:lnTo>
                      <a:lnTo>
                        <a:pt x="158" y="0"/>
                      </a:lnTo>
                      <a:lnTo>
                        <a:pt x="154" y="0"/>
                      </a:lnTo>
                      <a:lnTo>
                        <a:pt x="151" y="5"/>
                      </a:lnTo>
                      <a:lnTo>
                        <a:pt x="149" y="10"/>
                      </a:lnTo>
                      <a:close/>
                      <a:moveTo>
                        <a:pt x="119" y="10"/>
                      </a:moveTo>
                      <a:lnTo>
                        <a:pt x="121" y="17"/>
                      </a:lnTo>
                      <a:lnTo>
                        <a:pt x="126" y="19"/>
                      </a:lnTo>
                      <a:lnTo>
                        <a:pt x="130" y="19"/>
                      </a:lnTo>
                      <a:lnTo>
                        <a:pt x="133" y="17"/>
                      </a:lnTo>
                      <a:lnTo>
                        <a:pt x="135" y="10"/>
                      </a:lnTo>
                      <a:lnTo>
                        <a:pt x="133" y="5"/>
                      </a:lnTo>
                      <a:lnTo>
                        <a:pt x="130" y="0"/>
                      </a:lnTo>
                      <a:lnTo>
                        <a:pt x="126" y="0"/>
                      </a:lnTo>
                      <a:lnTo>
                        <a:pt x="121" y="5"/>
                      </a:lnTo>
                      <a:lnTo>
                        <a:pt x="119" y="10"/>
                      </a:lnTo>
                      <a:close/>
                      <a:moveTo>
                        <a:pt x="91" y="10"/>
                      </a:moveTo>
                      <a:lnTo>
                        <a:pt x="91" y="17"/>
                      </a:lnTo>
                      <a:lnTo>
                        <a:pt x="95" y="19"/>
                      </a:lnTo>
                      <a:lnTo>
                        <a:pt x="100" y="19"/>
                      </a:lnTo>
                      <a:lnTo>
                        <a:pt x="102" y="17"/>
                      </a:lnTo>
                      <a:lnTo>
                        <a:pt x="105" y="10"/>
                      </a:lnTo>
                      <a:lnTo>
                        <a:pt x="102" y="3"/>
                      </a:lnTo>
                      <a:lnTo>
                        <a:pt x="100" y="0"/>
                      </a:lnTo>
                      <a:lnTo>
                        <a:pt x="95" y="0"/>
                      </a:lnTo>
                      <a:lnTo>
                        <a:pt x="91" y="3"/>
                      </a:lnTo>
                      <a:lnTo>
                        <a:pt x="91" y="10"/>
                      </a:lnTo>
                      <a:close/>
                      <a:moveTo>
                        <a:pt x="60" y="10"/>
                      </a:moveTo>
                      <a:lnTo>
                        <a:pt x="63" y="17"/>
                      </a:lnTo>
                      <a:lnTo>
                        <a:pt x="65" y="19"/>
                      </a:lnTo>
                      <a:lnTo>
                        <a:pt x="70" y="19"/>
                      </a:lnTo>
                      <a:lnTo>
                        <a:pt x="72" y="17"/>
                      </a:lnTo>
                      <a:lnTo>
                        <a:pt x="74" y="10"/>
                      </a:lnTo>
                      <a:lnTo>
                        <a:pt x="72" y="3"/>
                      </a:lnTo>
                      <a:lnTo>
                        <a:pt x="70" y="0"/>
                      </a:lnTo>
                      <a:lnTo>
                        <a:pt x="65" y="0"/>
                      </a:lnTo>
                      <a:lnTo>
                        <a:pt x="63" y="3"/>
                      </a:lnTo>
                      <a:lnTo>
                        <a:pt x="60" y="10"/>
                      </a:lnTo>
                      <a:close/>
                      <a:moveTo>
                        <a:pt x="30" y="10"/>
                      </a:moveTo>
                      <a:lnTo>
                        <a:pt x="32" y="17"/>
                      </a:lnTo>
                      <a:lnTo>
                        <a:pt x="35" y="19"/>
                      </a:lnTo>
                      <a:lnTo>
                        <a:pt x="39" y="19"/>
                      </a:lnTo>
                      <a:lnTo>
                        <a:pt x="44" y="17"/>
                      </a:lnTo>
                      <a:lnTo>
                        <a:pt x="44" y="10"/>
                      </a:lnTo>
                      <a:lnTo>
                        <a:pt x="44" y="3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2" y="3"/>
                      </a:lnTo>
                      <a:lnTo>
                        <a:pt x="30" y="10"/>
                      </a:lnTo>
                      <a:close/>
                      <a:moveTo>
                        <a:pt x="2" y="10"/>
                      </a:moveTo>
                      <a:lnTo>
                        <a:pt x="2" y="17"/>
                      </a:lnTo>
                      <a:lnTo>
                        <a:pt x="4" y="19"/>
                      </a:lnTo>
                      <a:lnTo>
                        <a:pt x="9" y="19"/>
                      </a:lnTo>
                      <a:lnTo>
                        <a:pt x="14" y="17"/>
                      </a:lnTo>
                      <a:lnTo>
                        <a:pt x="16" y="10"/>
                      </a:lnTo>
                      <a:lnTo>
                        <a:pt x="14" y="3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10"/>
                      </a:lnTo>
                      <a:close/>
                      <a:moveTo>
                        <a:pt x="387" y="75"/>
                      </a:moveTo>
                      <a:lnTo>
                        <a:pt x="389" y="82"/>
                      </a:lnTo>
                      <a:lnTo>
                        <a:pt x="392" y="87"/>
                      </a:lnTo>
                      <a:lnTo>
                        <a:pt x="396" y="87"/>
                      </a:lnTo>
                      <a:lnTo>
                        <a:pt x="399" y="82"/>
                      </a:lnTo>
                      <a:lnTo>
                        <a:pt x="401" y="75"/>
                      </a:lnTo>
                      <a:lnTo>
                        <a:pt x="399" y="70"/>
                      </a:lnTo>
                      <a:lnTo>
                        <a:pt x="396" y="66"/>
                      </a:lnTo>
                      <a:lnTo>
                        <a:pt x="392" y="66"/>
                      </a:lnTo>
                      <a:lnTo>
                        <a:pt x="389" y="70"/>
                      </a:lnTo>
                      <a:lnTo>
                        <a:pt x="387" y="75"/>
                      </a:lnTo>
                      <a:close/>
                      <a:moveTo>
                        <a:pt x="357" y="75"/>
                      </a:moveTo>
                      <a:lnTo>
                        <a:pt x="359" y="82"/>
                      </a:lnTo>
                      <a:lnTo>
                        <a:pt x="364" y="87"/>
                      </a:lnTo>
                      <a:lnTo>
                        <a:pt x="366" y="87"/>
                      </a:lnTo>
                      <a:lnTo>
                        <a:pt x="371" y="82"/>
                      </a:lnTo>
                      <a:lnTo>
                        <a:pt x="371" y="75"/>
                      </a:lnTo>
                      <a:lnTo>
                        <a:pt x="371" y="70"/>
                      </a:lnTo>
                      <a:lnTo>
                        <a:pt x="368" y="66"/>
                      </a:lnTo>
                      <a:lnTo>
                        <a:pt x="364" y="66"/>
                      </a:lnTo>
                      <a:lnTo>
                        <a:pt x="359" y="70"/>
                      </a:lnTo>
                      <a:lnTo>
                        <a:pt x="357" y="75"/>
                      </a:lnTo>
                      <a:close/>
                      <a:moveTo>
                        <a:pt x="329" y="75"/>
                      </a:moveTo>
                      <a:lnTo>
                        <a:pt x="329" y="82"/>
                      </a:lnTo>
                      <a:lnTo>
                        <a:pt x="333" y="87"/>
                      </a:lnTo>
                      <a:lnTo>
                        <a:pt x="336" y="87"/>
                      </a:lnTo>
                      <a:lnTo>
                        <a:pt x="340" y="82"/>
                      </a:lnTo>
                      <a:lnTo>
                        <a:pt x="343" y="75"/>
                      </a:lnTo>
                      <a:lnTo>
                        <a:pt x="340" y="70"/>
                      </a:lnTo>
                      <a:lnTo>
                        <a:pt x="336" y="66"/>
                      </a:lnTo>
                      <a:lnTo>
                        <a:pt x="333" y="66"/>
                      </a:lnTo>
                      <a:lnTo>
                        <a:pt x="329" y="70"/>
                      </a:lnTo>
                      <a:lnTo>
                        <a:pt x="329" y="75"/>
                      </a:lnTo>
                      <a:close/>
                      <a:moveTo>
                        <a:pt x="298" y="75"/>
                      </a:moveTo>
                      <a:lnTo>
                        <a:pt x="298" y="82"/>
                      </a:lnTo>
                      <a:lnTo>
                        <a:pt x="303" y="87"/>
                      </a:lnTo>
                      <a:lnTo>
                        <a:pt x="308" y="87"/>
                      </a:lnTo>
                      <a:lnTo>
                        <a:pt x="312" y="82"/>
                      </a:lnTo>
                      <a:lnTo>
                        <a:pt x="312" y="75"/>
                      </a:lnTo>
                      <a:lnTo>
                        <a:pt x="312" y="70"/>
                      </a:lnTo>
                      <a:lnTo>
                        <a:pt x="308" y="66"/>
                      </a:lnTo>
                      <a:lnTo>
                        <a:pt x="303" y="66"/>
                      </a:lnTo>
                      <a:lnTo>
                        <a:pt x="298" y="70"/>
                      </a:lnTo>
                      <a:lnTo>
                        <a:pt x="298" y="75"/>
                      </a:lnTo>
                      <a:close/>
                      <a:moveTo>
                        <a:pt x="268" y="75"/>
                      </a:moveTo>
                      <a:lnTo>
                        <a:pt x="270" y="82"/>
                      </a:lnTo>
                      <a:lnTo>
                        <a:pt x="273" y="87"/>
                      </a:lnTo>
                      <a:lnTo>
                        <a:pt x="277" y="87"/>
                      </a:lnTo>
                      <a:lnTo>
                        <a:pt x="282" y="82"/>
                      </a:lnTo>
                      <a:lnTo>
                        <a:pt x="282" y="75"/>
                      </a:lnTo>
                      <a:lnTo>
                        <a:pt x="282" y="70"/>
                      </a:lnTo>
                      <a:lnTo>
                        <a:pt x="277" y="66"/>
                      </a:lnTo>
                      <a:lnTo>
                        <a:pt x="273" y="66"/>
                      </a:lnTo>
                      <a:lnTo>
                        <a:pt x="270" y="70"/>
                      </a:lnTo>
                      <a:lnTo>
                        <a:pt x="268" y="75"/>
                      </a:lnTo>
                      <a:close/>
                      <a:moveTo>
                        <a:pt x="238" y="75"/>
                      </a:moveTo>
                      <a:lnTo>
                        <a:pt x="240" y="82"/>
                      </a:lnTo>
                      <a:lnTo>
                        <a:pt x="242" y="87"/>
                      </a:lnTo>
                      <a:lnTo>
                        <a:pt x="247" y="87"/>
                      </a:lnTo>
                      <a:lnTo>
                        <a:pt x="252" y="82"/>
                      </a:lnTo>
                      <a:lnTo>
                        <a:pt x="254" y="75"/>
                      </a:lnTo>
                      <a:lnTo>
                        <a:pt x="252" y="70"/>
                      </a:lnTo>
                      <a:lnTo>
                        <a:pt x="247" y="66"/>
                      </a:lnTo>
                      <a:lnTo>
                        <a:pt x="242" y="66"/>
                      </a:lnTo>
                      <a:lnTo>
                        <a:pt x="240" y="70"/>
                      </a:lnTo>
                      <a:lnTo>
                        <a:pt x="238" y="75"/>
                      </a:lnTo>
                      <a:close/>
                      <a:moveTo>
                        <a:pt x="207" y="75"/>
                      </a:moveTo>
                      <a:lnTo>
                        <a:pt x="210" y="82"/>
                      </a:lnTo>
                      <a:lnTo>
                        <a:pt x="214" y="87"/>
                      </a:lnTo>
                      <a:lnTo>
                        <a:pt x="219" y="87"/>
                      </a:lnTo>
                      <a:lnTo>
                        <a:pt x="221" y="82"/>
                      </a:lnTo>
                      <a:lnTo>
                        <a:pt x="224" y="75"/>
                      </a:lnTo>
                      <a:lnTo>
                        <a:pt x="221" y="70"/>
                      </a:lnTo>
                      <a:lnTo>
                        <a:pt x="219" y="66"/>
                      </a:lnTo>
                      <a:lnTo>
                        <a:pt x="214" y="66"/>
                      </a:lnTo>
                      <a:lnTo>
                        <a:pt x="210" y="70"/>
                      </a:lnTo>
                      <a:lnTo>
                        <a:pt x="207" y="75"/>
                      </a:lnTo>
                      <a:close/>
                      <a:moveTo>
                        <a:pt x="179" y="75"/>
                      </a:moveTo>
                      <a:lnTo>
                        <a:pt x="179" y="82"/>
                      </a:lnTo>
                      <a:lnTo>
                        <a:pt x="184" y="87"/>
                      </a:lnTo>
                      <a:lnTo>
                        <a:pt x="189" y="87"/>
                      </a:lnTo>
                      <a:lnTo>
                        <a:pt x="191" y="82"/>
                      </a:lnTo>
                      <a:lnTo>
                        <a:pt x="193" y="75"/>
                      </a:lnTo>
                      <a:lnTo>
                        <a:pt x="191" y="70"/>
                      </a:lnTo>
                      <a:lnTo>
                        <a:pt x="189" y="66"/>
                      </a:lnTo>
                      <a:lnTo>
                        <a:pt x="184" y="66"/>
                      </a:lnTo>
                      <a:lnTo>
                        <a:pt x="179" y="70"/>
                      </a:lnTo>
                      <a:lnTo>
                        <a:pt x="179" y="75"/>
                      </a:lnTo>
                      <a:close/>
                      <a:moveTo>
                        <a:pt x="149" y="75"/>
                      </a:moveTo>
                      <a:lnTo>
                        <a:pt x="149" y="82"/>
                      </a:lnTo>
                      <a:lnTo>
                        <a:pt x="154" y="87"/>
                      </a:lnTo>
                      <a:lnTo>
                        <a:pt x="158" y="87"/>
                      </a:lnTo>
                      <a:lnTo>
                        <a:pt x="163" y="82"/>
                      </a:lnTo>
                      <a:lnTo>
                        <a:pt x="163" y="75"/>
                      </a:lnTo>
                      <a:lnTo>
                        <a:pt x="163" y="70"/>
                      </a:lnTo>
                      <a:lnTo>
                        <a:pt x="158" y="66"/>
                      </a:lnTo>
                      <a:lnTo>
                        <a:pt x="154" y="66"/>
                      </a:lnTo>
                      <a:lnTo>
                        <a:pt x="149" y="70"/>
                      </a:lnTo>
                      <a:lnTo>
                        <a:pt x="149" y="75"/>
                      </a:lnTo>
                      <a:close/>
                      <a:moveTo>
                        <a:pt x="119" y="75"/>
                      </a:moveTo>
                      <a:lnTo>
                        <a:pt x="121" y="82"/>
                      </a:lnTo>
                      <a:lnTo>
                        <a:pt x="126" y="87"/>
                      </a:lnTo>
                      <a:lnTo>
                        <a:pt x="128" y="87"/>
                      </a:lnTo>
                      <a:lnTo>
                        <a:pt x="133" y="82"/>
                      </a:lnTo>
                      <a:lnTo>
                        <a:pt x="135" y="75"/>
                      </a:lnTo>
                      <a:lnTo>
                        <a:pt x="133" y="70"/>
                      </a:lnTo>
                      <a:lnTo>
                        <a:pt x="128" y="66"/>
                      </a:lnTo>
                      <a:lnTo>
                        <a:pt x="126" y="66"/>
                      </a:lnTo>
                      <a:lnTo>
                        <a:pt x="121" y="70"/>
                      </a:lnTo>
                      <a:lnTo>
                        <a:pt x="119" y="75"/>
                      </a:lnTo>
                      <a:close/>
                      <a:moveTo>
                        <a:pt x="91" y="75"/>
                      </a:moveTo>
                      <a:lnTo>
                        <a:pt x="91" y="82"/>
                      </a:lnTo>
                      <a:lnTo>
                        <a:pt x="93" y="87"/>
                      </a:lnTo>
                      <a:lnTo>
                        <a:pt x="100" y="87"/>
                      </a:lnTo>
                      <a:lnTo>
                        <a:pt x="102" y="82"/>
                      </a:lnTo>
                      <a:lnTo>
                        <a:pt x="105" y="75"/>
                      </a:lnTo>
                      <a:lnTo>
                        <a:pt x="102" y="70"/>
                      </a:lnTo>
                      <a:lnTo>
                        <a:pt x="100" y="66"/>
                      </a:lnTo>
                      <a:lnTo>
                        <a:pt x="93" y="66"/>
                      </a:lnTo>
                      <a:lnTo>
                        <a:pt x="91" y="70"/>
                      </a:lnTo>
                      <a:lnTo>
                        <a:pt x="91" y="75"/>
                      </a:lnTo>
                      <a:close/>
                      <a:moveTo>
                        <a:pt x="60" y="75"/>
                      </a:moveTo>
                      <a:lnTo>
                        <a:pt x="63" y="82"/>
                      </a:lnTo>
                      <a:lnTo>
                        <a:pt x="65" y="87"/>
                      </a:lnTo>
                      <a:lnTo>
                        <a:pt x="70" y="87"/>
                      </a:lnTo>
                      <a:lnTo>
                        <a:pt x="72" y="82"/>
                      </a:lnTo>
                      <a:lnTo>
                        <a:pt x="74" y="75"/>
                      </a:lnTo>
                      <a:lnTo>
                        <a:pt x="72" y="70"/>
                      </a:lnTo>
                      <a:lnTo>
                        <a:pt x="70" y="66"/>
                      </a:lnTo>
                      <a:lnTo>
                        <a:pt x="65" y="66"/>
                      </a:lnTo>
                      <a:lnTo>
                        <a:pt x="63" y="70"/>
                      </a:lnTo>
                      <a:lnTo>
                        <a:pt x="60" y="75"/>
                      </a:lnTo>
                      <a:close/>
                      <a:moveTo>
                        <a:pt x="30" y="75"/>
                      </a:moveTo>
                      <a:lnTo>
                        <a:pt x="32" y="82"/>
                      </a:lnTo>
                      <a:lnTo>
                        <a:pt x="35" y="87"/>
                      </a:lnTo>
                      <a:lnTo>
                        <a:pt x="39" y="87"/>
                      </a:lnTo>
                      <a:lnTo>
                        <a:pt x="44" y="82"/>
                      </a:lnTo>
                      <a:lnTo>
                        <a:pt x="44" y="75"/>
                      </a:lnTo>
                      <a:lnTo>
                        <a:pt x="44" y="70"/>
                      </a:lnTo>
                      <a:lnTo>
                        <a:pt x="39" y="66"/>
                      </a:lnTo>
                      <a:lnTo>
                        <a:pt x="35" y="66"/>
                      </a:lnTo>
                      <a:lnTo>
                        <a:pt x="32" y="70"/>
                      </a:lnTo>
                      <a:lnTo>
                        <a:pt x="30" y="75"/>
                      </a:lnTo>
                      <a:close/>
                      <a:moveTo>
                        <a:pt x="0" y="75"/>
                      </a:moveTo>
                      <a:lnTo>
                        <a:pt x="2" y="82"/>
                      </a:lnTo>
                      <a:lnTo>
                        <a:pt x="4" y="87"/>
                      </a:lnTo>
                      <a:lnTo>
                        <a:pt x="9" y="87"/>
                      </a:lnTo>
                      <a:lnTo>
                        <a:pt x="14" y="82"/>
                      </a:lnTo>
                      <a:lnTo>
                        <a:pt x="16" y="75"/>
                      </a:lnTo>
                      <a:lnTo>
                        <a:pt x="14" y="70"/>
                      </a:lnTo>
                      <a:lnTo>
                        <a:pt x="9" y="66"/>
                      </a:lnTo>
                      <a:lnTo>
                        <a:pt x="4" y="66"/>
                      </a:lnTo>
                      <a:lnTo>
                        <a:pt x="2" y="7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8" name=""/>
              <p:cNvSpPr/>
              <p:nvPr/>
            </p:nvSpPr>
            <p:spPr>
              <a:xfrm>
                <a:off x="1371600" y="4951440"/>
                <a:ext cx="101124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632960" y="5014800"/>
                <a:ext cx="622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модем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V="1">
              <a:off x="2306520" y="4928760"/>
              <a:ext cx="208080" cy="27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2509920" y="4422600"/>
              <a:ext cx="930240" cy="752760"/>
              <a:chOff x="2509920" y="4422600"/>
              <a:chExt cx="930240" cy="75276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2509920" y="4422600"/>
                <a:ext cx="930240" cy="752760"/>
                <a:chOff x="2509920" y="4422600"/>
                <a:chExt cx="930240" cy="75276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3054240" y="4422600"/>
                  <a:ext cx="385920" cy="741600"/>
                  <a:chOff x="3054240" y="4422600"/>
                  <a:chExt cx="385920" cy="7416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3054240" y="4422600"/>
                    <a:ext cx="7164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7">
                        <a:moveTo>
                          <a:pt x="45" y="437"/>
                        </a:moveTo>
                        <a:lnTo>
                          <a:pt x="0" y="374"/>
                        </a:lnTo>
                        <a:lnTo>
                          <a:pt x="0" y="14"/>
                        </a:lnTo>
                        <a:lnTo>
                          <a:pt x="45" y="0"/>
                        </a:lnTo>
                        <a:lnTo>
                          <a:pt x="45" y="4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3073320" y="4449600"/>
                    <a:ext cx="69840" cy="69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6">
                        <a:moveTo>
                          <a:pt x="44" y="436"/>
                        </a:moveTo>
                        <a:lnTo>
                          <a:pt x="0" y="373"/>
                        </a:lnTo>
                        <a:lnTo>
                          <a:pt x="0" y="0"/>
                        </a:lnTo>
                        <a:lnTo>
                          <a:pt x="44" y="60"/>
                        </a:lnTo>
                        <a:lnTo>
                          <a:pt x="44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147840" y="4549680"/>
                    <a:ext cx="273240" cy="592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147840" y="4522680"/>
                    <a:ext cx="292320" cy="594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073320" y="4422600"/>
                    <a:ext cx="363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61">
                        <a:moveTo>
                          <a:pt x="229" y="61"/>
                        </a:moveTo>
                        <a:lnTo>
                          <a:pt x="47" y="61"/>
                        </a:lnTo>
                        <a:lnTo>
                          <a:pt x="0" y="0"/>
                        </a:lnTo>
                        <a:lnTo>
                          <a:pt x="184" y="0"/>
                        </a:lnTo>
                        <a:lnTo>
                          <a:pt x="229" y="6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3073320" y="4422600"/>
                    <a:ext cx="6984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37">
                        <a:moveTo>
                          <a:pt x="44" y="437"/>
                        </a:moveTo>
                        <a:lnTo>
                          <a:pt x="0" y="374"/>
                        </a:lnTo>
                        <a:lnTo>
                          <a:pt x="0" y="0"/>
                        </a:lnTo>
                        <a:lnTo>
                          <a:pt x="44" y="61"/>
                        </a:lnTo>
                        <a:lnTo>
                          <a:pt x="44" y="43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3143160" y="4522680"/>
                    <a:ext cx="293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">
                        <a:moveTo>
                          <a:pt x="185" y="0"/>
                        </a:moveTo>
                        <a:lnTo>
                          <a:pt x="0" y="0"/>
                        </a:lnTo>
                        <a:lnTo>
                          <a:pt x="7" y="5"/>
                        </a:lnTo>
                        <a:lnTo>
                          <a:pt x="185" y="5"/>
                        </a:lnTo>
                        <a:lnTo>
                          <a:pt x="18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3429000" y="4522680"/>
                    <a:ext cx="7920" cy="59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74">
                        <a:moveTo>
                          <a:pt x="5" y="0"/>
                        </a:moveTo>
                        <a:lnTo>
                          <a:pt x="5" y="374"/>
                        </a:lnTo>
                        <a:lnTo>
                          <a:pt x="0" y="367"/>
                        </a:lnTo>
                        <a:lnTo>
                          <a:pt x="0" y="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3147840" y="4694400"/>
                    <a:ext cx="281160" cy="140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3147840" y="4856040"/>
                    <a:ext cx="292320" cy="158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184560" y="5016600"/>
                    <a:ext cx="55440" cy="507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073320" y="4422600"/>
                    <a:ext cx="363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61">
                        <a:moveTo>
                          <a:pt x="0" y="0"/>
                        </a:moveTo>
                        <a:lnTo>
                          <a:pt x="7" y="7"/>
                        </a:lnTo>
                        <a:lnTo>
                          <a:pt x="184" y="7"/>
                        </a:lnTo>
                        <a:lnTo>
                          <a:pt x="224" y="61"/>
                        </a:lnTo>
                        <a:lnTo>
                          <a:pt x="229" y="61"/>
                        </a:lnTo>
                        <a:lnTo>
                          <a:pt x="18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3206520" y="5122800"/>
                    <a:ext cx="92160" cy="4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3208680" y="5119560"/>
                    <a:ext cx="77040" cy="30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" spc="-1" strike="noStrike">
                        <a:solidFill>
                          <a:srgbClr val="000000"/>
                        </a:solidFill>
                        <a:latin typeface="Arial"/>
                      </a:rPr>
                      <a:t>Server</a:t>
                    </a:r>
                    <a:endParaRPr b="0" lang="en-US" sz="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2509920" y="4511520"/>
                  <a:ext cx="529920" cy="663840"/>
                  <a:chOff x="2509920" y="4511520"/>
                  <a:chExt cx="529920" cy="66384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2509920" y="4511520"/>
                    <a:ext cx="52992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418">
                        <a:moveTo>
                          <a:pt x="334" y="315"/>
                        </a:moveTo>
                        <a:lnTo>
                          <a:pt x="271" y="315"/>
                        </a:lnTo>
                        <a:lnTo>
                          <a:pt x="220" y="327"/>
                        </a:lnTo>
                        <a:lnTo>
                          <a:pt x="220" y="339"/>
                        </a:lnTo>
                        <a:lnTo>
                          <a:pt x="271" y="339"/>
                        </a:lnTo>
                        <a:lnTo>
                          <a:pt x="271" y="353"/>
                        </a:lnTo>
                        <a:lnTo>
                          <a:pt x="313" y="353"/>
                        </a:lnTo>
                        <a:lnTo>
                          <a:pt x="313" y="418"/>
                        </a:lnTo>
                        <a:lnTo>
                          <a:pt x="21" y="418"/>
                        </a:lnTo>
                        <a:lnTo>
                          <a:pt x="21" y="353"/>
                        </a:lnTo>
                        <a:lnTo>
                          <a:pt x="63" y="353"/>
                        </a:lnTo>
                        <a:lnTo>
                          <a:pt x="63" y="339"/>
                        </a:lnTo>
                        <a:lnTo>
                          <a:pt x="115" y="339"/>
                        </a:lnTo>
                        <a:lnTo>
                          <a:pt x="115" y="327"/>
                        </a:lnTo>
                        <a:lnTo>
                          <a:pt x="63" y="315"/>
                        </a:lnTo>
                        <a:lnTo>
                          <a:pt x="0" y="315"/>
                        </a:lnTo>
                        <a:lnTo>
                          <a:pt x="0" y="0"/>
                        </a:lnTo>
                        <a:lnTo>
                          <a:pt x="334" y="0"/>
                        </a:lnTo>
                        <a:lnTo>
                          <a:pt x="334" y="31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2609640" y="5072040"/>
                    <a:ext cx="330480" cy="1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509920" y="4511520"/>
                    <a:ext cx="52992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418">
                        <a:moveTo>
                          <a:pt x="334" y="315"/>
                        </a:moveTo>
                        <a:lnTo>
                          <a:pt x="271" y="315"/>
                        </a:lnTo>
                        <a:lnTo>
                          <a:pt x="220" y="327"/>
                        </a:lnTo>
                        <a:lnTo>
                          <a:pt x="220" y="339"/>
                        </a:lnTo>
                        <a:lnTo>
                          <a:pt x="271" y="339"/>
                        </a:lnTo>
                        <a:lnTo>
                          <a:pt x="271" y="353"/>
                        </a:lnTo>
                        <a:lnTo>
                          <a:pt x="313" y="353"/>
                        </a:lnTo>
                        <a:lnTo>
                          <a:pt x="313" y="418"/>
                        </a:lnTo>
                        <a:lnTo>
                          <a:pt x="21" y="418"/>
                        </a:lnTo>
                        <a:lnTo>
                          <a:pt x="21" y="353"/>
                        </a:lnTo>
                        <a:lnTo>
                          <a:pt x="63" y="353"/>
                        </a:lnTo>
                        <a:lnTo>
                          <a:pt x="63" y="339"/>
                        </a:lnTo>
                        <a:lnTo>
                          <a:pt x="115" y="339"/>
                        </a:lnTo>
                        <a:lnTo>
                          <a:pt x="115" y="327"/>
                        </a:lnTo>
                        <a:lnTo>
                          <a:pt x="63" y="315"/>
                        </a:lnTo>
                        <a:lnTo>
                          <a:pt x="0" y="315"/>
                        </a:lnTo>
                        <a:lnTo>
                          <a:pt x="0" y="0"/>
                        </a:lnTo>
                        <a:lnTo>
                          <a:pt x="334" y="0"/>
                        </a:lnTo>
                        <a:lnTo>
                          <a:pt x="334" y="31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H="1">
                    <a:off x="2692080" y="5049720"/>
                    <a:ext cx="166680" cy="3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>
                    <a:off x="2692080" y="5030640"/>
                    <a:ext cx="16668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>
                    <a:off x="2609640" y="5011560"/>
                    <a:ext cx="330480" cy="1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2562120" y="4575240"/>
                    <a:ext cx="433440" cy="58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71">
                        <a:moveTo>
                          <a:pt x="250" y="336"/>
                        </a:moveTo>
                        <a:lnTo>
                          <a:pt x="196" y="336"/>
                        </a:lnTo>
                        <a:lnTo>
                          <a:pt x="196" y="327"/>
                        </a:lnTo>
                        <a:lnTo>
                          <a:pt x="250" y="327"/>
                        </a:lnTo>
                        <a:lnTo>
                          <a:pt x="250" y="336"/>
                        </a:lnTo>
                        <a:close/>
                        <a:moveTo>
                          <a:pt x="264" y="371"/>
                        </a:moveTo>
                        <a:lnTo>
                          <a:pt x="252" y="357"/>
                        </a:lnTo>
                        <a:lnTo>
                          <a:pt x="264" y="345"/>
                        </a:lnTo>
                        <a:lnTo>
                          <a:pt x="273" y="357"/>
                        </a:lnTo>
                        <a:lnTo>
                          <a:pt x="264" y="371"/>
                        </a:lnTo>
                        <a:close/>
                        <a:moveTo>
                          <a:pt x="250" y="208"/>
                        </a:moveTo>
                        <a:lnTo>
                          <a:pt x="250" y="23"/>
                        </a:lnTo>
                        <a:lnTo>
                          <a:pt x="21" y="23"/>
                        </a:lnTo>
                        <a:lnTo>
                          <a:pt x="21" y="208"/>
                        </a:lnTo>
                        <a:lnTo>
                          <a:pt x="250" y="208"/>
                        </a:lnTo>
                        <a:close/>
                        <a:moveTo>
                          <a:pt x="259" y="226"/>
                        </a:moveTo>
                        <a:lnTo>
                          <a:pt x="5" y="226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268" y="0"/>
                        </a:lnTo>
                        <a:lnTo>
                          <a:pt x="268" y="233"/>
                        </a:lnTo>
                        <a:lnTo>
                          <a:pt x="259" y="233"/>
                        </a:lnTo>
                        <a:lnTo>
                          <a:pt x="259" y="226"/>
                        </a:lnTo>
                        <a:close/>
                        <a:moveTo>
                          <a:pt x="16" y="259"/>
                        </a:moveTo>
                        <a:lnTo>
                          <a:pt x="0" y="259"/>
                        </a:lnTo>
                        <a:lnTo>
                          <a:pt x="0" y="252"/>
                        </a:lnTo>
                        <a:lnTo>
                          <a:pt x="16" y="252"/>
                        </a:lnTo>
                        <a:lnTo>
                          <a:pt x="16" y="25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2884320" y="5145120"/>
                    <a:ext cx="66600" cy="15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>
                    <a:off x="2543040" y="5089680"/>
                    <a:ext cx="463680" cy="4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H="1">
                    <a:off x="2543040" y="5108400"/>
                    <a:ext cx="46368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884320" y="5145120"/>
                    <a:ext cx="69840" cy="19080"/>
                  </a:xfrm>
                  <a:prstGeom prst="rect">
                    <a:avLst/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940120" y="5116680"/>
                    <a:ext cx="108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892240" y="511668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2865240" y="515304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2843280" y="511668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2814480" y="515304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2792160" y="511668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770200" y="5153040"/>
                    <a:ext cx="3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7">
                        <a:moveTo>
                          <a:pt x="0" y="0"/>
                        </a:moveTo>
                        <a:lnTo>
                          <a:pt x="2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2743200" y="511668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2717640" y="515304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2692440" y="5116680"/>
                    <a:ext cx="61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665440" y="515304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7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2643120" y="511668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2617560" y="515304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2592360" y="51166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9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2570040" y="515304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5" name=""/>
              <p:cNvSpPr/>
              <p:nvPr/>
            </p:nvSpPr>
            <p:spPr>
              <a:xfrm>
                <a:off x="2687760" y="4735440"/>
                <a:ext cx="166680" cy="889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6" name=""/>
          <p:cNvGrpSpPr/>
          <p:nvPr/>
        </p:nvGrpSpPr>
        <p:grpSpPr>
          <a:xfrm>
            <a:off x="1600200" y="1600200"/>
            <a:ext cx="4819680" cy="3276360"/>
            <a:chOff x="1600200" y="1600200"/>
            <a:chExt cx="4819680" cy="3276360"/>
          </a:xfrm>
        </p:grpSpPr>
        <p:grpSp>
          <p:nvGrpSpPr>
            <p:cNvPr id="987" name=""/>
            <p:cNvGrpSpPr/>
            <p:nvPr/>
          </p:nvGrpSpPr>
          <p:grpSpPr>
            <a:xfrm>
              <a:off x="3981600" y="1600200"/>
              <a:ext cx="2438280" cy="3276360"/>
              <a:chOff x="3981600" y="1600200"/>
              <a:chExt cx="2438280" cy="3276360"/>
            </a:xfrm>
          </p:grpSpPr>
          <p:sp>
            <p:nvSpPr>
              <p:cNvPr id="988" name=""/>
              <p:cNvSpPr/>
              <p:nvPr/>
            </p:nvSpPr>
            <p:spPr>
              <a:xfrm>
                <a:off x="3981600" y="1897920"/>
                <a:ext cx="2438280" cy="2978640"/>
              </a:xfrm>
              <a:prstGeom prst="rect">
                <a:avLst/>
              </a:prstGeom>
              <a:solidFill>
                <a:srgbClr val="e6e6e6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981600" y="1600200"/>
                <a:ext cx="2438280" cy="297720"/>
              </a:xfrm>
              <a:prstGeom prst="rect">
                <a:avLst/>
              </a:prstGeom>
              <a:solidFill>
                <a:srgbClr val="00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896000" y="1659240"/>
                <a:ext cx="61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МИЦ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1600200" y="1600200"/>
              <a:ext cx="1924200" cy="2742480"/>
              <a:chOff x="1600200" y="1600200"/>
              <a:chExt cx="1924200" cy="2742480"/>
            </a:xfrm>
          </p:grpSpPr>
          <p:grpSp>
            <p:nvGrpSpPr>
              <p:cNvPr id="992" name=""/>
              <p:cNvGrpSpPr/>
              <p:nvPr/>
            </p:nvGrpSpPr>
            <p:grpSpPr>
              <a:xfrm>
                <a:off x="1600200" y="1600200"/>
                <a:ext cx="1924200" cy="2742480"/>
                <a:chOff x="1600200" y="1600200"/>
                <a:chExt cx="1924200" cy="27424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1600200" y="1922760"/>
                  <a:ext cx="1924200" cy="2419920"/>
                </a:xfrm>
                <a:prstGeom prst="rect">
                  <a:avLst/>
                </a:prstGeom>
                <a:solidFill>
                  <a:srgbClr val="e6e6e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600200" y="1600200"/>
                  <a:ext cx="1924200" cy="322560"/>
                </a:xfrm>
                <a:prstGeom prst="rect">
                  <a:avLst/>
                </a:prstGeom>
                <a:solidFill>
                  <a:srgbClr val="00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5" name=""/>
              <p:cNvSpPr/>
              <p:nvPr/>
            </p:nvSpPr>
            <p:spPr>
              <a:xfrm>
                <a:off x="2107440" y="1663920"/>
                <a:ext cx="939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ТУ ФОМС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96" name=""/>
          <p:cNvGrpSpPr/>
          <p:nvPr/>
        </p:nvGrpSpPr>
        <p:grpSpPr>
          <a:xfrm>
            <a:off x="3449520" y="2517480"/>
            <a:ext cx="304920" cy="2362320"/>
            <a:chOff x="3449520" y="2517480"/>
            <a:chExt cx="304920" cy="2362320"/>
          </a:xfrm>
        </p:grpSpPr>
        <p:sp>
          <p:nvSpPr>
            <p:cNvPr id="997" name=""/>
            <p:cNvSpPr/>
            <p:nvPr/>
          </p:nvSpPr>
          <p:spPr>
            <a:xfrm>
              <a:off x="3449520" y="487980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3754440" y="2517480"/>
              <a:ext cx="0" cy="236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754440" y="2057400"/>
            <a:ext cx="2514600" cy="2590560"/>
            <a:chOff x="3754440" y="2057400"/>
            <a:chExt cx="2514600" cy="2590560"/>
          </a:xfrm>
        </p:grpSpPr>
        <p:grpSp>
          <p:nvGrpSpPr>
            <p:cNvPr id="1000" name=""/>
            <p:cNvGrpSpPr/>
            <p:nvPr/>
          </p:nvGrpSpPr>
          <p:grpSpPr>
            <a:xfrm>
              <a:off x="4059360" y="2057400"/>
              <a:ext cx="2209680" cy="2590560"/>
              <a:chOff x="4059360" y="2057400"/>
              <a:chExt cx="2209680" cy="259056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4059360" y="3352680"/>
                <a:ext cx="2209680" cy="1295280"/>
                <a:chOff x="4059360" y="3352680"/>
                <a:chExt cx="2209680" cy="12952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135320" y="3352680"/>
                  <a:ext cx="2133720" cy="1295280"/>
                </a:xfrm>
                <a:prstGeom prst="cube">
                  <a:avLst>
                    <a:gd name="adj" fmla="val 9523"/>
                  </a:avLst>
                </a:prstGeom>
                <a:solidFill>
                  <a:srgbClr val="cc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3581280"/>
                  <a:ext cx="213336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Ресурсы здравоохранения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кадры, койк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справочник ЛПУ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использование ресурсо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4" name=""/>
              <p:cNvGrpSpPr/>
              <p:nvPr/>
            </p:nvGrpSpPr>
            <p:grpSpPr>
              <a:xfrm>
                <a:off x="4135320" y="2057400"/>
                <a:ext cx="2133720" cy="1295280"/>
                <a:chOff x="4135320" y="2057400"/>
                <a:chExt cx="2133720" cy="1295280"/>
              </a:xfrm>
            </p:grpSpPr>
            <p:sp>
              <p:nvSpPr>
                <p:cNvPr id="1005" name=""/>
                <p:cNvSpPr/>
                <p:nvPr/>
              </p:nvSpPr>
              <p:spPr>
                <a:xfrm>
                  <a:off x="4135320" y="2057400"/>
                  <a:ext cx="2133720" cy="1295280"/>
                </a:xfrm>
                <a:prstGeom prst="cube">
                  <a:avLst>
                    <a:gd name="adj" fmla="val 9523"/>
                  </a:avLst>
                </a:prstGeom>
                <a:solidFill>
                  <a:srgbClr val="cc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87960" y="2286000"/>
                  <a:ext cx="1828800" cy="88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Здоровье населения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демография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 Narrow"/>
                    </a:rPr>
                    <a:t>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заболеваемость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 Narrow"/>
                    </a:rPr>
                    <a:t>-  инвалидность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 Narrow"/>
                    </a:rPr>
                    <a:t>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7" name=""/>
            <p:cNvSpPr/>
            <p:nvPr/>
          </p:nvSpPr>
          <p:spPr>
            <a:xfrm>
              <a:off x="3754440" y="28958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54440" y="4191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9" name=""/>
          <p:cNvSpPr/>
          <p:nvPr/>
        </p:nvSpPr>
        <p:spPr>
          <a:xfrm rot="23400">
            <a:off x="2284200" y="5030280"/>
            <a:ext cx="4321080" cy="1370160"/>
          </a:xfrm>
          <a:custGeom>
            <a:avLst/>
            <a:gdLst/>
            <a:ahLst/>
            <a:rect l="l" t="t" r="r" b="b"/>
            <a:pathLst>
              <a:path w="2867" h="1235">
                <a:moveTo>
                  <a:pt x="2867" y="1235"/>
                </a:moveTo>
                <a:lnTo>
                  <a:pt x="1306" y="476"/>
                </a:lnTo>
                <a:lnTo>
                  <a:pt x="1416" y="651"/>
                </a:lnTo>
                <a:lnTo>
                  <a:pt x="0" y="0"/>
                </a:lnTo>
                <a:lnTo>
                  <a:pt x="1561" y="756"/>
                </a:lnTo>
                <a:lnTo>
                  <a:pt x="1451" y="581"/>
                </a:lnTo>
                <a:lnTo>
                  <a:pt x="2867" y="1235"/>
                </a:lnTo>
                <a:close/>
              </a:path>
            </a:pathLst>
          </a:cu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rot="1083000">
            <a:off x="576000" y="1436400"/>
            <a:ext cx="1562040" cy="3165480"/>
          </a:xfrm>
          <a:custGeom>
            <a:avLst/>
            <a:gdLst/>
            <a:ahLst/>
            <a:rect l="l" t="t" r="r" b="b"/>
            <a:pathLst>
              <a:path w="1106" h="2310">
                <a:moveTo>
                  <a:pt x="0" y="0"/>
                </a:moveTo>
                <a:lnTo>
                  <a:pt x="560" y="1309"/>
                </a:lnTo>
                <a:lnTo>
                  <a:pt x="583" y="1143"/>
                </a:lnTo>
                <a:lnTo>
                  <a:pt x="1106" y="2310"/>
                </a:lnTo>
                <a:lnTo>
                  <a:pt x="548" y="1001"/>
                </a:lnTo>
                <a:lnTo>
                  <a:pt x="525" y="1169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093080" y="549360"/>
            <a:ext cx="2050920" cy="181296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7184880" y="655560"/>
            <a:ext cx="1851120" cy="338040"/>
            <a:chOff x="7184880" y="655560"/>
            <a:chExt cx="1851120" cy="338040"/>
          </a:xfrm>
        </p:grpSpPr>
        <p:sp>
          <p:nvSpPr>
            <p:cNvPr id="1013" name=""/>
            <p:cNvSpPr/>
            <p:nvPr/>
          </p:nvSpPr>
          <p:spPr>
            <a:xfrm>
              <a:off x="7184880" y="655560"/>
              <a:ext cx="1851120" cy="338040"/>
            </a:xfrm>
            <a:prstGeom prst="rect">
              <a:avLst/>
            </a:prstGeom>
            <a:solidFill>
              <a:srgbClr val="00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80240" y="655560"/>
              <a:ext cx="86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211520" y="691920"/>
              <a:ext cx="176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бл. госучрежде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184880" y="1074600"/>
            <a:ext cx="1851120" cy="341280"/>
            <a:chOff x="7184880" y="1074600"/>
            <a:chExt cx="1851120" cy="341280"/>
          </a:xfrm>
        </p:grpSpPr>
        <p:sp>
          <p:nvSpPr>
            <p:cNvPr id="1017" name=""/>
            <p:cNvSpPr/>
            <p:nvPr/>
          </p:nvSpPr>
          <p:spPr>
            <a:xfrm>
              <a:off x="7184880" y="1074600"/>
              <a:ext cx="1851120" cy="341280"/>
            </a:xfrm>
            <a:prstGeom prst="rect">
              <a:avLst/>
            </a:prstGeom>
            <a:solidFill>
              <a:srgbClr val="00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680240" y="1074600"/>
              <a:ext cx="866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51440" y="1114200"/>
              <a:ext cx="89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АГСВ, А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7184880" y="1494000"/>
            <a:ext cx="1851120" cy="339480"/>
            <a:chOff x="7184880" y="1494000"/>
            <a:chExt cx="1851120" cy="339480"/>
          </a:xfrm>
        </p:grpSpPr>
        <p:sp>
          <p:nvSpPr>
            <p:cNvPr id="1021" name=""/>
            <p:cNvSpPr/>
            <p:nvPr/>
          </p:nvSpPr>
          <p:spPr>
            <a:xfrm>
              <a:off x="7184880" y="1494000"/>
              <a:ext cx="1851120" cy="339480"/>
            </a:xfrm>
            <a:prstGeom prst="rect">
              <a:avLst/>
            </a:prstGeom>
            <a:solidFill>
              <a:srgbClr val="00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80240" y="1494000"/>
              <a:ext cx="866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28920" y="1533600"/>
              <a:ext cx="8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ОЦГСЭН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7182000" y="1936800"/>
            <a:ext cx="1850760" cy="339840"/>
          </a:xfrm>
          <a:prstGeom prst="rect">
            <a:avLst/>
          </a:prstGeom>
          <a:solidFill>
            <a:srgbClr val="00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677000" y="1936800"/>
            <a:ext cx="8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236000" y="198900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ЦСМ, ООБ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781680" y="2437920"/>
            <a:ext cx="1371600" cy="3276720"/>
            <a:chOff x="6781680" y="2437920"/>
            <a:chExt cx="1371600" cy="3276720"/>
          </a:xfrm>
        </p:grpSpPr>
        <p:sp>
          <p:nvSpPr>
            <p:cNvPr id="1028" name=""/>
            <p:cNvSpPr/>
            <p:nvPr/>
          </p:nvSpPr>
          <p:spPr>
            <a:xfrm flipV="1">
              <a:off x="7467480" y="2437920"/>
              <a:ext cx="0" cy="16765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81680" y="403848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оперативные данны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7467480" y="4495320"/>
              <a:ext cx="0" cy="1219320"/>
            </a:xfrm>
            <a:prstGeom prst="line">
              <a:avLst/>
            </a:prstGeom>
            <a:ln w="381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6248520" y="30481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754280" y="1981080"/>
            <a:ext cx="2000160" cy="2212920"/>
            <a:chOff x="1754280" y="1981080"/>
            <a:chExt cx="2000160" cy="2212920"/>
          </a:xfrm>
        </p:grpSpPr>
        <p:grpSp>
          <p:nvGrpSpPr>
            <p:cNvPr id="1033" name=""/>
            <p:cNvGrpSpPr/>
            <p:nvPr/>
          </p:nvGrpSpPr>
          <p:grpSpPr>
            <a:xfrm>
              <a:off x="1754280" y="1981080"/>
              <a:ext cx="2000160" cy="2212920"/>
              <a:chOff x="1754280" y="1981080"/>
              <a:chExt cx="2000160" cy="2212920"/>
            </a:xfrm>
          </p:grpSpPr>
          <p:grpSp>
            <p:nvGrpSpPr>
              <p:cNvPr id="1034" name=""/>
              <p:cNvGrpSpPr/>
              <p:nvPr/>
            </p:nvGrpSpPr>
            <p:grpSpPr>
              <a:xfrm>
                <a:off x="1754280" y="1981080"/>
                <a:ext cx="2000160" cy="2212920"/>
                <a:chOff x="1754280" y="1981080"/>
                <a:chExt cx="2000160" cy="2212920"/>
              </a:xfrm>
            </p:grpSpPr>
            <p:grpSp>
              <p:nvGrpSpPr>
                <p:cNvPr id="1035" name=""/>
                <p:cNvGrpSpPr/>
                <p:nvPr/>
              </p:nvGrpSpPr>
              <p:grpSpPr>
                <a:xfrm>
                  <a:off x="1754280" y="1981080"/>
                  <a:ext cx="2000160" cy="2212920"/>
                  <a:chOff x="1754280" y="1981080"/>
                  <a:chExt cx="2000160" cy="221292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1754280" y="1981080"/>
                    <a:ext cx="1599840" cy="2212920"/>
                    <a:chOff x="1754280" y="1981080"/>
                    <a:chExt cx="1599840" cy="2212920"/>
                  </a:xfrm>
                </p:grpSpPr>
                <p:grpSp>
                  <p:nvGrpSpPr>
                    <p:cNvPr id="1037" name=""/>
                    <p:cNvGrpSpPr/>
                    <p:nvPr/>
                  </p:nvGrpSpPr>
                  <p:grpSpPr>
                    <a:xfrm>
                      <a:off x="1758960" y="3522600"/>
                      <a:ext cx="1595160" cy="671400"/>
                      <a:chOff x="1758960" y="3522600"/>
                      <a:chExt cx="1595160" cy="671400"/>
                    </a:xfrm>
                  </p:grpSpPr>
                  <p:sp>
                    <p:nvSpPr>
                      <p:cNvPr id="1038" name=""/>
                      <p:cNvSpPr/>
                      <p:nvPr/>
                    </p:nvSpPr>
                    <p:spPr>
                      <a:xfrm>
                        <a:off x="1758960" y="3522600"/>
                        <a:ext cx="1595160" cy="67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423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3"/>
                            </a:lnTo>
                            <a:lnTo>
                              <a:pt x="900" y="423"/>
                            </a:lnTo>
                            <a:lnTo>
                              <a:pt x="1005" y="318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1758960" y="3522600"/>
                        <a:ext cx="1595160" cy="16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105">
                            <a:moveTo>
                              <a:pt x="0" y="105"/>
                            </a:moveTo>
                            <a:lnTo>
                              <a:pt x="900" y="105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d6ffd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>
                        <a:off x="3187440" y="3522600"/>
                        <a:ext cx="166680" cy="67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423">
                            <a:moveTo>
                              <a:pt x="0" y="105"/>
                            </a:moveTo>
                            <a:lnTo>
                              <a:pt x="105" y="0"/>
                            </a:lnTo>
                            <a:lnTo>
                              <a:pt x="105" y="318"/>
                            </a:lnTo>
                            <a:lnTo>
                              <a:pt x="0" y="423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a4cda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1758960" y="3522600"/>
                        <a:ext cx="1595160" cy="67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423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3"/>
                            </a:lnTo>
                            <a:lnTo>
                              <a:pt x="900" y="423"/>
                            </a:lnTo>
                            <a:lnTo>
                              <a:pt x="1005" y="318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2" name=""/>
                      <p:cNvSpPr/>
                      <p:nvPr/>
                    </p:nvSpPr>
                    <p:spPr>
                      <a:xfrm>
                        <a:off x="1758960" y="3522600"/>
                        <a:ext cx="1595160" cy="16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105">
                            <a:moveTo>
                              <a:pt x="0" y="105"/>
                            </a:moveTo>
                            <a:lnTo>
                              <a:pt x="900" y="105"/>
                            </a:lnTo>
                            <a:lnTo>
                              <a:pt x="1005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3" name=""/>
                      <p:cNvSpPr/>
                      <p:nvPr/>
                    </p:nvSpPr>
                    <p:spPr>
                      <a:xfrm>
                        <a:off x="3187440" y="3688920"/>
                        <a:ext cx="1800" cy="50472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2069640" y="3808440"/>
                      <a:ext cx="7138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Доп. пак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45" name=""/>
                    <p:cNvGrpSpPr/>
                    <p:nvPr/>
                  </p:nvGrpSpPr>
                  <p:grpSpPr>
                    <a:xfrm>
                      <a:off x="1754280" y="2849400"/>
                      <a:ext cx="1596960" cy="669960"/>
                      <a:chOff x="1754280" y="2849400"/>
                      <a:chExt cx="1596960" cy="669960"/>
                    </a:xfrm>
                  </p:grpSpPr>
                  <p:sp>
                    <p:nvSpPr>
                      <p:cNvPr id="1046" name=""/>
                      <p:cNvSpPr/>
                      <p:nvPr/>
                    </p:nvSpPr>
                    <p:spPr>
                      <a:xfrm>
                        <a:off x="1754280" y="2849400"/>
                        <a:ext cx="1596960" cy="66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6" h="422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2"/>
                            </a:lnTo>
                            <a:lnTo>
                              <a:pt x="901" y="422"/>
                            </a:lnTo>
                            <a:lnTo>
                              <a:pt x="1006" y="317"/>
                            </a:lnTo>
                            <a:lnTo>
                              <a:pt x="1006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7" name=""/>
                      <p:cNvSpPr/>
                      <p:nvPr/>
                    </p:nvSpPr>
                    <p:spPr>
                      <a:xfrm>
                        <a:off x="1754280" y="2849400"/>
                        <a:ext cx="159696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6" h="105">
                            <a:moveTo>
                              <a:pt x="0" y="105"/>
                            </a:moveTo>
                            <a:lnTo>
                              <a:pt x="901" y="105"/>
                            </a:lnTo>
                            <a:lnTo>
                              <a:pt x="1006" y="0"/>
                            </a:lnTo>
                            <a:lnTo>
                              <a:pt x="105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d6ffd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8" name=""/>
                      <p:cNvSpPr/>
                      <p:nvPr/>
                    </p:nvSpPr>
                    <p:spPr>
                      <a:xfrm>
                        <a:off x="3184560" y="2849400"/>
                        <a:ext cx="166320" cy="66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422">
                            <a:moveTo>
                              <a:pt x="0" y="105"/>
                            </a:moveTo>
                            <a:lnTo>
                              <a:pt x="105" y="0"/>
                            </a:lnTo>
                            <a:lnTo>
                              <a:pt x="105" y="317"/>
                            </a:lnTo>
                            <a:lnTo>
                              <a:pt x="0" y="422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a4cda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9" name=""/>
                      <p:cNvSpPr/>
                      <p:nvPr/>
                    </p:nvSpPr>
                    <p:spPr>
                      <a:xfrm>
                        <a:off x="1754280" y="2849400"/>
                        <a:ext cx="1596960" cy="66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6" h="422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2"/>
                            </a:lnTo>
                            <a:lnTo>
                              <a:pt x="901" y="422"/>
                            </a:lnTo>
                            <a:lnTo>
                              <a:pt x="1006" y="317"/>
                            </a:lnTo>
                            <a:lnTo>
                              <a:pt x="1006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1754280" y="2849400"/>
                        <a:ext cx="1596960" cy="16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6" h="105">
                            <a:moveTo>
                              <a:pt x="0" y="105"/>
                            </a:moveTo>
                            <a:lnTo>
                              <a:pt x="901" y="105"/>
                            </a:lnTo>
                            <a:lnTo>
                              <a:pt x="1006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3184560" y="3016080"/>
                        <a:ext cx="1080" cy="50328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1932120" y="3011400"/>
                      <a:ext cx="98208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леченн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2206080" y="3259080"/>
                      <a:ext cx="471600" cy="213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луча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54" name=""/>
                    <p:cNvGrpSpPr/>
                    <p:nvPr/>
                  </p:nvGrpSpPr>
                  <p:grpSpPr>
                    <a:xfrm>
                      <a:off x="1758960" y="1981080"/>
                      <a:ext cx="1595160" cy="867960"/>
                      <a:chOff x="1758960" y="1981080"/>
                      <a:chExt cx="1595160" cy="867960"/>
                    </a:xfrm>
                  </p:grpSpPr>
                  <p:sp>
                    <p:nvSpPr>
                      <p:cNvPr id="1055" name=""/>
                      <p:cNvSpPr/>
                      <p:nvPr/>
                    </p:nvSpPr>
                    <p:spPr>
                      <a:xfrm>
                        <a:off x="1758960" y="1981080"/>
                        <a:ext cx="1595160" cy="86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423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3"/>
                            </a:lnTo>
                            <a:lnTo>
                              <a:pt x="900" y="423"/>
                            </a:lnTo>
                            <a:lnTo>
                              <a:pt x="1005" y="318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6" name=""/>
                      <p:cNvSpPr/>
                      <p:nvPr/>
                    </p:nvSpPr>
                    <p:spPr>
                      <a:xfrm>
                        <a:off x="1758960" y="1981080"/>
                        <a:ext cx="159516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105">
                            <a:moveTo>
                              <a:pt x="0" y="105"/>
                            </a:moveTo>
                            <a:lnTo>
                              <a:pt x="900" y="105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d6ffd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"/>
                      <p:cNvSpPr/>
                      <p:nvPr/>
                    </p:nvSpPr>
                    <p:spPr>
                      <a:xfrm>
                        <a:off x="3187440" y="1981080"/>
                        <a:ext cx="166680" cy="86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423">
                            <a:moveTo>
                              <a:pt x="0" y="105"/>
                            </a:moveTo>
                            <a:lnTo>
                              <a:pt x="105" y="0"/>
                            </a:lnTo>
                            <a:lnTo>
                              <a:pt x="105" y="318"/>
                            </a:lnTo>
                            <a:lnTo>
                              <a:pt x="0" y="423"/>
                            </a:lnTo>
                            <a:lnTo>
                              <a:pt x="0" y="105"/>
                            </a:lnTo>
                            <a:close/>
                          </a:path>
                        </a:pathLst>
                      </a:custGeom>
                      <a:solidFill>
                        <a:srgbClr val="a4cda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"/>
                      <p:cNvSpPr/>
                      <p:nvPr/>
                    </p:nvSpPr>
                    <p:spPr>
                      <a:xfrm>
                        <a:off x="1758960" y="1981080"/>
                        <a:ext cx="1595160" cy="86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423">
                            <a:moveTo>
                              <a:pt x="105" y="0"/>
                            </a:moveTo>
                            <a:lnTo>
                              <a:pt x="0" y="105"/>
                            </a:lnTo>
                            <a:lnTo>
                              <a:pt x="0" y="423"/>
                            </a:lnTo>
                            <a:lnTo>
                              <a:pt x="900" y="423"/>
                            </a:lnTo>
                            <a:lnTo>
                              <a:pt x="1005" y="318"/>
                            </a:lnTo>
                            <a:lnTo>
                              <a:pt x="1005" y="0"/>
                            </a:lnTo>
                            <a:lnTo>
                              <a:pt x="105" y="0"/>
                            </a:lnTo>
                            <a:close/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"/>
                      <p:cNvSpPr/>
                      <p:nvPr/>
                    </p:nvSpPr>
                    <p:spPr>
                      <a:xfrm>
                        <a:off x="1758960" y="1981080"/>
                        <a:ext cx="1595160" cy="21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105">
                            <a:moveTo>
                              <a:pt x="0" y="105"/>
                            </a:moveTo>
                            <a:lnTo>
                              <a:pt x="900" y="105"/>
                            </a:lnTo>
                            <a:lnTo>
                              <a:pt x="1005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"/>
                      <p:cNvSpPr/>
                      <p:nvPr/>
                    </p:nvSpPr>
                    <p:spPr>
                      <a:xfrm>
                        <a:off x="3187440" y="2196360"/>
                        <a:ext cx="1800" cy="65268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61" name=""/>
                  <p:cNvSpPr/>
                  <p:nvPr/>
                </p:nvSpPr>
                <p:spPr>
                  <a:xfrm>
                    <a:off x="3297240" y="25178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>
                    <a:off x="3297240" y="32036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 flipH="1">
                    <a:off x="3297240" y="388944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4" name=""/>
                <p:cNvSpPr/>
                <p:nvPr/>
              </p:nvSpPr>
              <p:spPr>
                <a:xfrm>
                  <a:off x="1839960" y="2209680"/>
                  <a:ext cx="137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Narrow"/>
                    </a:rPr>
                    <a:t>   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2062080" y="2666880"/>
                <a:ext cx="18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1981080" y="245412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Насе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248520" y="2438280"/>
            <a:ext cx="990360" cy="1218960"/>
            <a:chOff x="6248520" y="2438280"/>
            <a:chExt cx="990360" cy="1218960"/>
          </a:xfrm>
        </p:grpSpPr>
        <p:sp>
          <p:nvSpPr>
            <p:cNvPr id="1068" name=""/>
            <p:cNvSpPr/>
            <p:nvPr/>
          </p:nvSpPr>
          <p:spPr>
            <a:xfrm>
              <a:off x="6248520" y="365724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7238880" y="243828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"/>
          <p:cNvSpPr/>
          <p:nvPr/>
        </p:nvSpPr>
        <p:spPr>
          <a:xfrm flipV="1" rot="24000">
            <a:off x="1544400" y="613800"/>
            <a:ext cx="2160360" cy="577800"/>
          </a:xfrm>
          <a:custGeom>
            <a:avLst/>
            <a:gdLst/>
            <a:ahLst/>
            <a:rect l="l" t="t" r="r" b="b"/>
            <a:pathLst>
              <a:path w="2867" h="1235">
                <a:moveTo>
                  <a:pt x="2867" y="1235"/>
                </a:moveTo>
                <a:lnTo>
                  <a:pt x="1306" y="476"/>
                </a:lnTo>
                <a:lnTo>
                  <a:pt x="1416" y="651"/>
                </a:lnTo>
                <a:lnTo>
                  <a:pt x="0" y="0"/>
                </a:lnTo>
                <a:lnTo>
                  <a:pt x="1561" y="756"/>
                </a:lnTo>
                <a:lnTo>
                  <a:pt x="1451" y="581"/>
                </a:lnTo>
                <a:lnTo>
                  <a:pt x="2867" y="1235"/>
                </a:lnTo>
                <a:close/>
              </a:path>
            </a:pathLst>
          </a:custGeom>
          <a:solidFill>
            <a:srgbClr val="ff66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708360" y="0"/>
            <a:ext cx="2448000" cy="1341360"/>
          </a:xfrm>
          <a:prstGeom prst="rect">
            <a:avLst/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780000" y="66600"/>
            <a:ext cx="2304720" cy="338040"/>
          </a:xfrm>
          <a:prstGeom prst="rect">
            <a:avLst/>
          </a:prstGeom>
          <a:solidFill>
            <a:srgbClr val="00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397400" y="66600"/>
            <a:ext cx="10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635280" y="103320"/>
            <a:ext cx="2632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здрав, Департам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780000" y="476280"/>
            <a:ext cx="2304720" cy="338040"/>
          </a:xfrm>
          <a:prstGeom prst="rect">
            <a:avLst/>
          </a:prstGeom>
          <a:solidFill>
            <a:srgbClr val="00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397400" y="476280"/>
            <a:ext cx="1077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811680" y="512640"/>
            <a:ext cx="22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ИУ, РУ, КГМА, КГ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780000" y="907920"/>
            <a:ext cx="2304720" cy="338400"/>
          </a:xfrm>
          <a:prstGeom prst="rect">
            <a:avLst/>
          </a:prstGeom>
          <a:solidFill>
            <a:srgbClr val="00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275000" y="836640"/>
            <a:ext cx="866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56680" y="907920"/>
            <a:ext cx="210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щ. Организации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632-A42D-4D7F-97D1-5E00FF341D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00"/>
                </a:solidFill>
                <a:latin typeface="Arial"/>
              </a:rPr>
              <a:t>Уровни организации информационных потоков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3124080"/>
            <a:ext cx="769644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066680" y="4876920"/>
            <a:ext cx="7696440" cy="0"/>
          </a:xfrm>
          <a:prstGeom prst="line">
            <a:avLst/>
          </a:prstGeom>
          <a:ln w="22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5320" y="167652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ациональны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15320" y="34290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бластн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32600" y="5105520"/>
            <a:ext cx="24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йонны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уровень организ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здравоохран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2332080" y="2054160"/>
          <a:ext cx="401616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2054160"/>
                    <a:ext cx="401616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9" name=""/>
          <p:cNvGraphicFramePr/>
          <p:nvPr/>
        </p:nvGraphicFramePr>
        <p:xfrm>
          <a:off x="3116160" y="3828960"/>
          <a:ext cx="28162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6160" y="3828960"/>
                    <a:ext cx="2816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2550960" y="5342040"/>
            <a:ext cx="6593040" cy="1136520"/>
            <a:chOff x="2550960" y="5342040"/>
            <a:chExt cx="6593040" cy="1136520"/>
          </a:xfrm>
        </p:grpSpPr>
        <p:grpSp>
          <p:nvGrpSpPr>
            <p:cNvPr id="1092" name=""/>
            <p:cNvGrpSpPr/>
            <p:nvPr/>
          </p:nvGrpSpPr>
          <p:grpSpPr>
            <a:xfrm>
              <a:off x="3048120" y="5342040"/>
              <a:ext cx="6095880" cy="1136520"/>
              <a:chOff x="3048120" y="5342040"/>
              <a:chExt cx="6095880" cy="113652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3048120" y="5342040"/>
                <a:ext cx="6095880" cy="1136520"/>
                <a:chOff x="3048120" y="5342040"/>
                <a:chExt cx="6095880" cy="1136520"/>
              </a:xfrm>
            </p:grpSpPr>
            <p:graphicFrame>
              <p:nvGraphicFramePr>
                <p:cNvPr id="1094" name=""/>
                <p:cNvGraphicFramePr/>
                <p:nvPr/>
              </p:nvGraphicFramePr>
              <p:xfrm>
                <a:off x="3048120" y="5859360"/>
                <a:ext cx="6095880" cy="6192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95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3048120" y="5859360"/>
                          <a:ext cx="6095880" cy="619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96" name=""/>
                <p:cNvGraphicFramePr/>
                <p:nvPr/>
              </p:nvGraphicFramePr>
              <p:xfrm>
                <a:off x="6732720" y="5342040"/>
                <a:ext cx="1769760" cy="52524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9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6732720" y="5342040"/>
                          <a:ext cx="1769760" cy="525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1098" name=""/>
              <p:cNvGraphicFramePr/>
              <p:nvPr/>
            </p:nvGraphicFramePr>
            <p:xfrm>
              <a:off x="4054320" y="5994360"/>
              <a:ext cx="1113120" cy="459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9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054320" y="5994360"/>
                        <a:ext cx="1113120" cy="45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100" name=""/>
            <p:cNvGraphicFramePr/>
            <p:nvPr/>
          </p:nvGraphicFramePr>
          <p:xfrm>
            <a:off x="2550960" y="6000840"/>
            <a:ext cx="1113120" cy="458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0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550960" y="6000840"/>
                      <a:ext cx="1113120" cy="45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02" name=""/>
          <p:cNvGrpSpPr/>
          <p:nvPr/>
        </p:nvGrpSpPr>
        <p:grpSpPr>
          <a:xfrm>
            <a:off x="2619360" y="4157280"/>
            <a:ext cx="5090040" cy="1690920"/>
            <a:chOff x="2619360" y="4157280"/>
            <a:chExt cx="5090040" cy="1690920"/>
          </a:xfrm>
        </p:grpSpPr>
        <p:grpSp>
          <p:nvGrpSpPr>
            <p:cNvPr id="1103" name=""/>
            <p:cNvGrpSpPr/>
            <p:nvPr/>
          </p:nvGrpSpPr>
          <p:grpSpPr>
            <a:xfrm>
              <a:off x="6415920" y="4157280"/>
              <a:ext cx="1293480" cy="1145160"/>
              <a:chOff x="6415920" y="4157280"/>
              <a:chExt cx="1293480" cy="1145160"/>
            </a:xfrm>
          </p:grpSpPr>
          <p:sp>
            <p:nvSpPr>
              <p:cNvPr id="1104" name=""/>
              <p:cNvSpPr/>
              <p:nvPr/>
            </p:nvSpPr>
            <p:spPr>
              <a:xfrm rot="2320800">
                <a:off x="6391080" y="4533840"/>
                <a:ext cx="1342800" cy="392040"/>
              </a:xfrm>
              <a:prstGeom prst="leftRightArrow">
                <a:avLst>
                  <a:gd name="adj1" fmla="val 50000"/>
                  <a:gd name="adj2" fmla="val 68186"/>
                </a:avLst>
              </a:prstGeom>
              <a:solidFill>
                <a:srgbClr val="00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105" name=""/>
              <p:cNvGraphicFramePr/>
              <p:nvPr/>
            </p:nvGraphicFramePr>
            <p:xfrm>
              <a:off x="6418440" y="4695480"/>
              <a:ext cx="1042920" cy="4399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0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418440" y="4695480"/>
                        <a:ext cx="1042920" cy="43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07" name=""/>
            <p:cNvGrpSpPr/>
            <p:nvPr/>
          </p:nvGrpSpPr>
          <p:grpSpPr>
            <a:xfrm>
              <a:off x="4048200" y="4505040"/>
              <a:ext cx="1042920" cy="1343160"/>
              <a:chOff x="4048200" y="4505040"/>
              <a:chExt cx="1042920" cy="1343160"/>
            </a:xfrm>
          </p:grpSpPr>
          <p:sp>
            <p:nvSpPr>
              <p:cNvPr id="1108" name=""/>
              <p:cNvSpPr/>
              <p:nvPr/>
            </p:nvSpPr>
            <p:spPr>
              <a:xfrm rot="5400000">
                <a:off x="4062960" y="4980240"/>
                <a:ext cx="1343160" cy="392400"/>
              </a:xfrm>
              <a:prstGeom prst="leftRightArrow">
                <a:avLst>
                  <a:gd name="adj1" fmla="val 50000"/>
                  <a:gd name="adj2" fmla="val 68141"/>
                </a:avLst>
              </a:prstGeom>
              <a:solidFill>
                <a:srgbClr val="00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109" name=""/>
              <p:cNvGraphicFramePr/>
              <p:nvPr/>
            </p:nvGraphicFramePr>
            <p:xfrm>
              <a:off x="4048200" y="5051160"/>
              <a:ext cx="1042920" cy="4399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110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4048200" y="5051160"/>
                        <a:ext cx="1042920" cy="439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11" name=""/>
            <p:cNvGrpSpPr/>
            <p:nvPr/>
          </p:nvGrpSpPr>
          <p:grpSpPr>
            <a:xfrm>
              <a:off x="2619360" y="4495680"/>
              <a:ext cx="1042920" cy="1342800"/>
              <a:chOff x="2619360" y="4495680"/>
              <a:chExt cx="1042920" cy="1342800"/>
            </a:xfrm>
          </p:grpSpPr>
          <p:sp>
            <p:nvSpPr>
              <p:cNvPr id="1112" name=""/>
              <p:cNvSpPr/>
              <p:nvPr/>
            </p:nvSpPr>
            <p:spPr>
              <a:xfrm rot="5400000">
                <a:off x="2634120" y="4970880"/>
                <a:ext cx="1342800" cy="392040"/>
              </a:xfrm>
              <a:prstGeom prst="leftRightArrow">
                <a:avLst>
                  <a:gd name="adj1" fmla="val 50000"/>
                  <a:gd name="adj2" fmla="val 68186"/>
                </a:avLst>
              </a:prstGeom>
              <a:solidFill>
                <a:srgbClr val="00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113" name=""/>
              <p:cNvGraphicFramePr/>
              <p:nvPr/>
            </p:nvGraphicFramePr>
            <p:xfrm>
              <a:off x="2619360" y="5041800"/>
              <a:ext cx="1042920" cy="4395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11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619360" y="5041800"/>
                        <a:ext cx="104292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15" name=""/>
          <p:cNvSpPr/>
          <p:nvPr/>
        </p:nvSpPr>
        <p:spPr>
          <a:xfrm rot="5400000">
            <a:off x="3682440" y="2971800"/>
            <a:ext cx="1087560" cy="392040"/>
          </a:xfrm>
          <a:prstGeom prst="leftRightArrow">
            <a:avLst>
              <a:gd name="adj1" fmla="val 50000"/>
              <a:gd name="adj2" fmla="val 55225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778360" y="3108240"/>
            <a:ext cx="21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бор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онтрол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53200" y="1584360"/>
            <a:ext cx="281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b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нализ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b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чет параметров систем опл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b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троль платеж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3592440" y="4478400"/>
            <a:ext cx="1936800" cy="1357200"/>
            <a:chOff x="3592440" y="4478400"/>
            <a:chExt cx="1936800" cy="1357200"/>
          </a:xfrm>
        </p:grpSpPr>
        <p:sp>
          <p:nvSpPr>
            <p:cNvPr id="1119" name=""/>
            <p:cNvSpPr/>
            <p:nvPr/>
          </p:nvSpPr>
          <p:spPr>
            <a:xfrm>
              <a:off x="3592440" y="4478400"/>
              <a:ext cx="434880" cy="1357200"/>
            </a:xfrm>
            <a:prstGeom prst="downArrow">
              <a:avLst>
                <a:gd name="adj1" fmla="val 58194"/>
                <a:gd name="adj2" fmla="val 45296"/>
              </a:avLst>
            </a:prstGeom>
            <a:solidFill>
              <a:srgbClr val="ffff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94360" y="4478400"/>
              <a:ext cx="434880" cy="1357200"/>
            </a:xfrm>
            <a:prstGeom prst="downArrow">
              <a:avLst>
                <a:gd name="adj1" fmla="val 58194"/>
                <a:gd name="adj2" fmla="val 45296"/>
              </a:avLst>
            </a:prstGeom>
            <a:solidFill>
              <a:srgbClr val="ffff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1" name=""/>
          <p:cNvSpPr/>
          <p:nvPr/>
        </p:nvSpPr>
        <p:spPr>
          <a:xfrm>
            <a:off x="4836960" y="2624040"/>
            <a:ext cx="435240" cy="1109880"/>
          </a:xfrm>
          <a:prstGeom prst="downArrow">
            <a:avLst>
              <a:gd name="adj1" fmla="val 58194"/>
              <a:gd name="adj2" fmla="val 37011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759640" y="3718080"/>
            <a:ext cx="23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b7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лата услуг ЛП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0AB-E3D4-4AEF-A225-B5CAF943E9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Arial"/>
              </a:rPr>
              <a:t>Базы данных в Единой Информационной Системе </a:t>
            </a:r>
            <a:endParaRPr b="0" lang="en-US" sz="3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403280" y="1268280"/>
            <a:ext cx="1150920" cy="246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Arial"/>
              </a:rPr>
              <a:t>НСК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64000" y="1268280"/>
            <a:ext cx="1441440" cy="337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Соц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523280" y="1268280"/>
            <a:ext cx="1512720" cy="307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Миноборо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6588000" y="313992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588000" y="1411200"/>
            <a:ext cx="936720" cy="576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588000" y="1844640"/>
            <a:ext cx="93672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587640" y="2131920"/>
            <a:ext cx="1078200" cy="144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 flipV="1">
            <a:off x="6588000" y="2276280"/>
            <a:ext cx="936720" cy="71892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4716360" y="2276640"/>
            <a:ext cx="790560" cy="502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557360" y="1700280"/>
            <a:ext cx="1063440" cy="64764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5"/>
                  <a:pt x="516" y="0"/>
                  <a:pt x="1152" y="0"/>
                </a:cubicBezTo>
                <a:cubicBezTo>
                  <a:pt x="1788" y="0"/>
                  <a:pt x="2304" y="85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12240" y="1928880"/>
            <a:ext cx="63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правочник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817640" y="2066760"/>
            <a:ext cx="616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территори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81320" y="2754360"/>
            <a:ext cx="1949400" cy="1177920"/>
          </a:xfrm>
          <a:custGeom>
            <a:avLst/>
            <a:gdLst/>
            <a:ahLst/>
            <a:rect l="l" t="t" r="r" b="b"/>
            <a:pathLst>
              <a:path w="4224" h="2304">
                <a:moveTo>
                  <a:pt x="0" y="192"/>
                </a:moveTo>
                <a:cubicBezTo>
                  <a:pt x="0" y="85"/>
                  <a:pt x="945" y="0"/>
                  <a:pt x="2112" y="0"/>
                </a:cubicBezTo>
                <a:cubicBezTo>
                  <a:pt x="3278" y="0"/>
                  <a:pt x="4224" y="85"/>
                  <a:pt x="4224" y="192"/>
                </a:cubicBezTo>
                <a:cubicBezTo>
                  <a:pt x="4224" y="192"/>
                  <a:pt x="4224" y="192"/>
                  <a:pt x="4224" y="192"/>
                </a:cubicBezTo>
                <a:cubicBezTo>
                  <a:pt x="4224" y="298"/>
                  <a:pt x="3278" y="384"/>
                  <a:pt x="2112" y="384"/>
                </a:cubicBezTo>
                <a:cubicBezTo>
                  <a:pt x="945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2112"/>
                </a:lnTo>
                <a:cubicBezTo>
                  <a:pt x="0" y="2218"/>
                  <a:pt x="945" y="2304"/>
                  <a:pt x="2112" y="2304"/>
                </a:cubicBezTo>
                <a:cubicBezTo>
                  <a:pt x="3278" y="2304"/>
                  <a:pt x="4224" y="2218"/>
                  <a:pt x="4224" y="2112"/>
                </a:cubicBezTo>
                <a:cubicBezTo>
                  <a:pt x="4224" y="2112"/>
                  <a:pt x="4224" y="2112"/>
                  <a:pt x="4224" y="2112"/>
                </a:cubicBezTo>
                <a:lnTo>
                  <a:pt x="4224" y="2112"/>
                </a:lnTo>
                <a:lnTo>
                  <a:pt x="4224" y="192"/>
                </a:lnTo>
                <a:cubicBezTo>
                  <a:pt x="4224" y="298"/>
                  <a:pt x="3278" y="384"/>
                  <a:pt x="2112" y="384"/>
                </a:cubicBezTo>
                <a:cubicBezTo>
                  <a:pt x="945" y="384"/>
                  <a:pt x="0" y="298"/>
                  <a:pt x="0" y="192"/>
                </a:cubicBezTo>
                <a:close/>
              </a:path>
            </a:pathLst>
          </a:custGeom>
          <a:solidFill>
            <a:srgbClr val="ff505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343680" y="3259080"/>
            <a:ext cx="163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База данных по приписанному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04480" y="3389400"/>
            <a:ext cx="59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населению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557360" y="2436840"/>
            <a:ext cx="1063440" cy="70308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6"/>
                  <a:pt x="516" y="0"/>
                  <a:pt x="1152" y="0"/>
                </a:cubicBezTo>
                <a:cubicBezTo>
                  <a:pt x="1788" y="0"/>
                  <a:pt x="2304" y="86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1620360" y="2668680"/>
            <a:ext cx="938160" cy="408960"/>
            <a:chOff x="1620360" y="2668680"/>
            <a:chExt cx="938160" cy="408960"/>
          </a:xfrm>
        </p:grpSpPr>
        <p:sp>
          <p:nvSpPr>
            <p:cNvPr id="1141" name=""/>
            <p:cNvSpPr/>
            <p:nvPr/>
          </p:nvSpPr>
          <p:spPr>
            <a:xfrm>
              <a:off x="1753560" y="266868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Справочник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753200" y="2808360"/>
              <a:ext cx="64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учреждений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20360" y="294012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здравоохранения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508720" y="2643120"/>
            <a:ext cx="1079280" cy="78444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5"/>
                  <a:pt x="516" y="0"/>
                  <a:pt x="1152" y="0"/>
                </a:cubicBezTo>
                <a:cubicBezTo>
                  <a:pt x="1788" y="0"/>
                  <a:pt x="2304" y="85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5578560" y="2852640"/>
            <a:ext cx="939600" cy="397800"/>
            <a:chOff x="5578560" y="2852640"/>
            <a:chExt cx="939600" cy="397800"/>
          </a:xfrm>
        </p:grpSpPr>
        <p:sp>
          <p:nvSpPr>
            <p:cNvPr id="1146" name=""/>
            <p:cNvSpPr/>
            <p:nvPr/>
          </p:nvSpPr>
          <p:spPr>
            <a:xfrm>
              <a:off x="5712840" y="285264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Справочник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712120" y="2982960"/>
              <a:ext cx="64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социальных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578560" y="3112920"/>
              <a:ext cx="93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категорий и льго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1330200" y="5451480"/>
            <a:ext cx="1584360" cy="785880"/>
            <a:chOff x="1330200" y="5451480"/>
            <a:chExt cx="1584360" cy="785880"/>
          </a:xfrm>
        </p:grpSpPr>
        <p:sp>
          <p:nvSpPr>
            <p:cNvPr id="1150" name=""/>
            <p:cNvSpPr/>
            <p:nvPr/>
          </p:nvSpPr>
          <p:spPr>
            <a:xfrm>
              <a:off x="1330200" y="5451480"/>
              <a:ext cx="1584360" cy="78588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5"/>
                    <a:pt x="516" y="0"/>
                    <a:pt x="1152" y="0"/>
                  </a:cubicBezTo>
                  <a:cubicBezTo>
                    <a:pt x="1789" y="0"/>
                    <a:pt x="2304" y="85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9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9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9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01480" y="5667480"/>
              <a:ext cx="1440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База данных по амбулаторно- поликлиническим услуга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3635280" y="4149720"/>
            <a:ext cx="1065240" cy="649440"/>
            <a:chOff x="3635280" y="4149720"/>
            <a:chExt cx="1065240" cy="649440"/>
          </a:xfrm>
        </p:grpSpPr>
        <p:sp>
          <p:nvSpPr>
            <p:cNvPr id="1153" name=""/>
            <p:cNvSpPr/>
            <p:nvPr/>
          </p:nvSpPr>
          <p:spPr>
            <a:xfrm>
              <a:off x="3635280" y="4149720"/>
              <a:ext cx="1065240" cy="64944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6"/>
                    <a:pt x="516" y="0"/>
                    <a:pt x="1152" y="0"/>
                  </a:cubicBezTo>
                  <a:cubicBezTo>
                    <a:pt x="1788" y="0"/>
                    <a:pt x="2304" y="86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8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ff6600"/>
            </a:solidFill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43360" y="4379040"/>
              <a:ext cx="809640" cy="274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База данных по ДП ОМС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5518080" y="1712880"/>
            <a:ext cx="1063800" cy="78588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6"/>
                  <a:pt x="516" y="0"/>
                  <a:pt x="1152" y="0"/>
                </a:cubicBezTo>
                <a:cubicBezTo>
                  <a:pt x="1788" y="0"/>
                  <a:pt x="2304" y="86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518080" y="1712880"/>
            <a:ext cx="1063800" cy="78588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6"/>
                  <a:pt x="516" y="0"/>
                  <a:pt x="1152" y="0"/>
                </a:cubicBezTo>
                <a:cubicBezTo>
                  <a:pt x="1788" y="0"/>
                  <a:pt x="2304" y="86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5577480" y="1962000"/>
            <a:ext cx="887760" cy="407520"/>
            <a:chOff x="5577480" y="1962000"/>
            <a:chExt cx="887760" cy="407520"/>
          </a:xfrm>
        </p:grpSpPr>
        <p:sp>
          <p:nvSpPr>
            <p:cNvPr id="1158" name=""/>
            <p:cNvSpPr/>
            <p:nvPr/>
          </p:nvSpPr>
          <p:spPr>
            <a:xfrm>
              <a:off x="5599440" y="1962000"/>
              <a:ext cx="84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База данных по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577480" y="2100240"/>
              <a:ext cx="887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застрахованны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10680" y="2232000"/>
              <a:ext cx="58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граждана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5578560" y="5373720"/>
            <a:ext cx="1063440" cy="785880"/>
            <a:chOff x="5578560" y="5373720"/>
            <a:chExt cx="1063440" cy="785880"/>
          </a:xfrm>
        </p:grpSpPr>
        <p:sp>
          <p:nvSpPr>
            <p:cNvPr id="1162" name=""/>
            <p:cNvSpPr/>
            <p:nvPr/>
          </p:nvSpPr>
          <p:spPr>
            <a:xfrm>
              <a:off x="5578560" y="5373720"/>
              <a:ext cx="1063440" cy="78588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5"/>
                    <a:pt x="516" y="0"/>
                    <a:pt x="1152" y="0"/>
                  </a:cubicBezTo>
                  <a:cubicBezTo>
                    <a:pt x="1788" y="0"/>
                    <a:pt x="2304" y="85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8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ff9900"/>
            </a:solidFill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711760" y="5597640"/>
              <a:ext cx="863640" cy="54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База данных по пролеченному случаю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546200" y="3211560"/>
            <a:ext cx="1065240" cy="784080"/>
            <a:chOff x="1546200" y="3211560"/>
            <a:chExt cx="1065240" cy="784080"/>
          </a:xfrm>
        </p:grpSpPr>
        <p:sp>
          <p:nvSpPr>
            <p:cNvPr id="1165" name=""/>
            <p:cNvSpPr/>
            <p:nvPr/>
          </p:nvSpPr>
          <p:spPr>
            <a:xfrm>
              <a:off x="1546200" y="3211560"/>
              <a:ext cx="1065240" cy="78408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5"/>
                    <a:pt x="516" y="0"/>
                    <a:pt x="1152" y="0"/>
                  </a:cubicBezTo>
                  <a:cubicBezTo>
                    <a:pt x="1788" y="0"/>
                    <a:pt x="2304" y="85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8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62120" y="3443040"/>
              <a:ext cx="879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База данных по медицинскому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персоналу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2124000" y="4003560"/>
            <a:ext cx="0" cy="1441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627280" y="4581360"/>
            <a:ext cx="1008000" cy="9352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2914560" y="5878440"/>
            <a:ext cx="266400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5146200" y="3211560"/>
            <a:ext cx="36036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708360" y="6021360"/>
            <a:ext cx="1063800" cy="64764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5"/>
                  <a:pt x="516" y="0"/>
                  <a:pt x="1152" y="0"/>
                </a:cubicBezTo>
                <a:cubicBezTo>
                  <a:pt x="1788" y="0"/>
                  <a:pt x="2304" y="85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211640" y="3933720"/>
            <a:ext cx="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78200" y="6165720"/>
            <a:ext cx="79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Справочник МКБ 10 пересмотра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 flipV="1">
            <a:off x="2770200" y="6237000"/>
            <a:ext cx="938160" cy="144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4714920" y="6165360"/>
            <a:ext cx="1152360" cy="28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050920" y="2357280"/>
            <a:ext cx="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049480" y="3139920"/>
            <a:ext cx="144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625840" y="3643200"/>
            <a:ext cx="57600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Cloud"/>
          <p:cNvSpPr/>
          <p:nvPr/>
        </p:nvSpPr>
        <p:spPr>
          <a:xfrm>
            <a:off x="7345440" y="3424320"/>
            <a:ext cx="1619280" cy="1084320"/>
          </a:xfrm>
          <a:prstGeom prst="pie">
            <a:avLst/>
          </a:prstGeom>
          <a:solidFill>
            <a:srgbClr val="0066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можн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6587640" y="4076640"/>
            <a:ext cx="86364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084720" y="1627200"/>
            <a:ext cx="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524720" y="1682640"/>
            <a:ext cx="1513080" cy="307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Нацгвард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524720" y="2114640"/>
            <a:ext cx="1513080" cy="307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УВКБ ОО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524720" y="2906640"/>
            <a:ext cx="1513080" cy="3070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МТиС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050920" y="1555920"/>
            <a:ext cx="0" cy="21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524560" y="3716280"/>
            <a:ext cx="1063440" cy="784440"/>
          </a:xfrm>
          <a:custGeom>
            <a:avLst/>
            <a:gdLst/>
            <a:ahLst/>
            <a:rect l="l" t="t" r="r" b="b"/>
            <a:pathLst>
              <a:path w="2304" h="1536">
                <a:moveTo>
                  <a:pt x="0" y="192"/>
                </a:moveTo>
                <a:cubicBezTo>
                  <a:pt x="0" y="85"/>
                  <a:pt x="516" y="0"/>
                  <a:pt x="1152" y="0"/>
                </a:cubicBezTo>
                <a:cubicBezTo>
                  <a:pt x="1788" y="0"/>
                  <a:pt x="2304" y="85"/>
                  <a:pt x="2304" y="192"/>
                </a:cubicBezTo>
                <a:cubicBezTo>
                  <a:pt x="2304" y="192"/>
                  <a:pt x="2304" y="192"/>
                  <a:pt x="2304" y="192"/>
                </a:cubicBez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  <a:moveTo>
                  <a:pt x="0" y="192"/>
                </a:moveTo>
                <a:lnTo>
                  <a:pt x="0" y="1344"/>
                </a:lnTo>
                <a:cubicBezTo>
                  <a:pt x="0" y="1450"/>
                  <a:pt x="516" y="1536"/>
                  <a:pt x="1152" y="1536"/>
                </a:cubicBezTo>
                <a:cubicBezTo>
                  <a:pt x="1788" y="1536"/>
                  <a:pt x="2304" y="1450"/>
                  <a:pt x="2304" y="1344"/>
                </a:cubicBezTo>
                <a:cubicBezTo>
                  <a:pt x="2304" y="1344"/>
                  <a:pt x="2304" y="1344"/>
                  <a:pt x="2304" y="1344"/>
                </a:cubicBezTo>
                <a:lnTo>
                  <a:pt x="2304" y="1344"/>
                </a:lnTo>
                <a:lnTo>
                  <a:pt x="2304" y="192"/>
                </a:lnTo>
                <a:cubicBezTo>
                  <a:pt x="2304" y="298"/>
                  <a:pt x="1788" y="384"/>
                  <a:pt x="1152" y="384"/>
                </a:cubicBezTo>
                <a:cubicBezTo>
                  <a:pt x="516" y="384"/>
                  <a:pt x="0" y="298"/>
                  <a:pt x="0" y="192"/>
                </a:cubicBez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580000" y="4003560"/>
            <a:ext cx="1008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База данных лекарственных средств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081840" y="2492280"/>
            <a:ext cx="2880" cy="21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625840" y="2276640"/>
            <a:ext cx="793800" cy="5029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3635280" y="4941720"/>
            <a:ext cx="1368360" cy="649440"/>
            <a:chOff x="3635280" y="4941720"/>
            <a:chExt cx="1368360" cy="649440"/>
          </a:xfrm>
        </p:grpSpPr>
        <p:sp>
          <p:nvSpPr>
            <p:cNvPr id="1191" name=""/>
            <p:cNvSpPr/>
            <p:nvPr/>
          </p:nvSpPr>
          <p:spPr>
            <a:xfrm>
              <a:off x="3635280" y="4941720"/>
              <a:ext cx="1368360" cy="64944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6"/>
                    <a:pt x="516" y="0"/>
                    <a:pt x="1152" y="0"/>
                  </a:cubicBezTo>
                  <a:cubicBezTo>
                    <a:pt x="1788" y="0"/>
                    <a:pt x="2304" y="86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8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ff6600"/>
            </a:solidFill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779640" y="5106960"/>
              <a:ext cx="1152360" cy="411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БД «Оказание скорой медицинской помощи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 flipH="1">
            <a:off x="2339640" y="3933720"/>
            <a:ext cx="1079640" cy="1582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916000" y="5157720"/>
            <a:ext cx="718920" cy="5032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H="1" flipV="1">
            <a:off x="5003280" y="5300280"/>
            <a:ext cx="576360" cy="289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4284720" y="4076640"/>
            <a:ext cx="1224000" cy="36036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2340000" y="4005360"/>
            <a:ext cx="1065240" cy="784080"/>
            <a:chOff x="2340000" y="4005360"/>
            <a:chExt cx="1065240" cy="784080"/>
          </a:xfrm>
        </p:grpSpPr>
        <p:sp>
          <p:nvSpPr>
            <p:cNvPr id="1198" name=""/>
            <p:cNvSpPr/>
            <p:nvPr/>
          </p:nvSpPr>
          <p:spPr>
            <a:xfrm>
              <a:off x="2340000" y="4005360"/>
              <a:ext cx="1065240" cy="784080"/>
            </a:xfrm>
            <a:custGeom>
              <a:avLst/>
              <a:gdLst/>
              <a:ahLst/>
              <a:rect l="l" t="t" r="r" b="b"/>
              <a:pathLst>
                <a:path w="2304" h="1536">
                  <a:moveTo>
                    <a:pt x="0" y="192"/>
                  </a:moveTo>
                  <a:cubicBezTo>
                    <a:pt x="0" y="85"/>
                    <a:pt x="516" y="0"/>
                    <a:pt x="1152" y="0"/>
                  </a:cubicBezTo>
                  <a:cubicBezTo>
                    <a:pt x="1788" y="0"/>
                    <a:pt x="2304" y="85"/>
                    <a:pt x="2304" y="192"/>
                  </a:cubicBezTo>
                  <a:cubicBezTo>
                    <a:pt x="2304" y="192"/>
                    <a:pt x="2304" y="192"/>
                    <a:pt x="2304" y="192"/>
                  </a:cubicBez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  <a:moveTo>
                    <a:pt x="0" y="192"/>
                  </a:moveTo>
                  <a:lnTo>
                    <a:pt x="0" y="1344"/>
                  </a:lnTo>
                  <a:cubicBezTo>
                    <a:pt x="0" y="1450"/>
                    <a:pt x="516" y="1536"/>
                    <a:pt x="1152" y="1536"/>
                  </a:cubicBezTo>
                  <a:cubicBezTo>
                    <a:pt x="1788" y="1536"/>
                    <a:pt x="2304" y="1450"/>
                    <a:pt x="2304" y="1344"/>
                  </a:cubicBezTo>
                  <a:cubicBezTo>
                    <a:pt x="2304" y="1344"/>
                    <a:pt x="2304" y="1344"/>
                    <a:pt x="2304" y="1344"/>
                  </a:cubicBezTo>
                  <a:lnTo>
                    <a:pt x="2304" y="1344"/>
                  </a:lnTo>
                  <a:lnTo>
                    <a:pt x="2304" y="192"/>
                  </a:lnTo>
                  <a:cubicBezTo>
                    <a:pt x="2304" y="298"/>
                    <a:pt x="1788" y="384"/>
                    <a:pt x="1152" y="384"/>
                  </a:cubicBezTo>
                  <a:cubicBezTo>
                    <a:pt x="516" y="384"/>
                    <a:pt x="0" y="298"/>
                    <a:pt x="0" y="192"/>
                  </a:cubicBezTo>
                  <a:close/>
                </a:path>
              </a:pathLst>
            </a:custGeom>
            <a:solidFill>
              <a:srgbClr val="cc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55920" y="4236840"/>
              <a:ext cx="87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Регистры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B4B-B428-4045-AB7E-80EF5AB07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"/>
          <p:cNvGrpSpPr/>
          <p:nvPr/>
        </p:nvGrpSpPr>
        <p:grpSpPr>
          <a:xfrm>
            <a:off x="378000" y="765000"/>
            <a:ext cx="8388000" cy="5689800"/>
            <a:chOff x="378000" y="765000"/>
            <a:chExt cx="8388000" cy="5689800"/>
          </a:xfrm>
        </p:grpSpPr>
        <p:graphicFrame>
          <p:nvGraphicFramePr>
            <p:cNvPr id="1201" name=""/>
            <p:cNvGraphicFramePr/>
            <p:nvPr/>
          </p:nvGraphicFramePr>
          <p:xfrm>
            <a:off x="378000" y="765000"/>
            <a:ext cx="8388000" cy="568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8000" y="765000"/>
                      <a:ext cx="8388000" cy="568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3" name=""/>
            <p:cNvSpPr/>
            <p:nvPr/>
          </p:nvSpPr>
          <p:spPr>
            <a:xfrm>
              <a:off x="726120" y="765000"/>
              <a:ext cx="737964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4" name=""/>
          <p:cNvSpPr/>
          <p:nvPr/>
        </p:nvSpPr>
        <p:spPr>
          <a:xfrm>
            <a:off x="0" y="0"/>
            <a:ext cx="9144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Единая информационная сеть здравоохран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738-F8A9-4140-817C-DAF6179B73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4125960" cy="310680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2"/>
          <a:stretch/>
        </p:blipFill>
        <p:spPr>
          <a:xfrm>
            <a:off x="4432320" y="1599840"/>
            <a:ext cx="4416480" cy="250524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4043520" cy="304308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4"/>
          <a:stretch/>
        </p:blipFill>
        <p:spPr>
          <a:xfrm>
            <a:off x="5076720" y="2997360"/>
            <a:ext cx="3888000" cy="2735280"/>
          </a:xfrm>
          <a:prstGeom prst="rect">
            <a:avLst/>
          </a:prstGeom>
          <a:ln w="0">
            <a:noFill/>
          </a:ln>
        </p:spPr>
      </p:pic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3251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ентрализованный доступ к информационным ресурса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заимодействие подразделе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еспечение оперативности получения информац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ащищенный доступ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зграничение пользователей по группам и уровням доступ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Внутрикорпоративный портал Министерства здравоохран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218-1E85-4777-9A2B-A72515E8F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395280" y="1125360"/>
            <a:ext cx="8137440" cy="539928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втоматизированная система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Станции Скорой медицинской помощ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395280" y="216000"/>
          <a:ext cx="813600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6000"/>
                    <a:ext cx="8136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9078-22F4-4F79-A21D-D336AEE1A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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окументооборо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одуль согласования докумен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егистрация входящих документов и контроль исполнени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Журнал регистрации исходящих документ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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рхив документ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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правочники организ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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орпоративный фору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 3"/>
                <a:ea typeface="Wingdings 3"/>
              </a:rPr>
              <a:t>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одуль администрирования систем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"/>
          <p:cNvSpPr/>
          <p:nvPr/>
        </p:nvSpPr>
        <p:spPr>
          <a:xfrm>
            <a:off x="960480" y="90360"/>
            <a:ext cx="7454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Электронный документооборо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22E-9953-4F04-81B0-3213D15A9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1:16:52Z</dcterms:created>
  <dc:creator>Ninel</dc:creator>
  <dc:description/>
  <dc:language>en-US</dc:language>
  <cp:lastModifiedBy>Project Implementation Unit</cp:lastModifiedBy>
  <dcterms:modified xsi:type="dcterms:W3CDTF">2006-08-28T10:48:58Z</dcterms:modified>
  <cp:revision>167</cp:revision>
  <dc:subject/>
  <dc:title>Применение информационно-коммуникационных технологий в секторе здравоохранения  </dc:title>
</cp:coreProperties>
</file>