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10363" cy="9774238"/>
  <p:custShowLst>
    <p:custShow name="Стандартизация" id="0">
      <p:sldLst>
        <p:sld r:id="rId10"/>
      </p:sldLst>
    </p:custShow>
    <p:custShow name="МВД" id="1">
      <p:sldLst>
        <p:sld r:id="rId10"/>
      </p:sldLst>
    </p:custShow>
    <p:custShow name="Харьков" id="2">
      <p:sldLst>
        <p:sld r:id="rId6"/>
        <p:sld r:id="rId5"/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0F1-6036-47A9-A852-140EF54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C59-1522-46C5-A79C-2A02AB8F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019-2D85-4C17-8416-557B1913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083-2806-48F1-855A-814981B9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1352-4DC6-4919-939C-342791B9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8C0-A77C-4DC1-B7E0-2A4767AD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932A-B0DC-4F1D-9592-C531E3C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EF73-6381-40F6-959B-E5585CA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7AD5-5C7C-4EB0-9BC3-D0FC41C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140-B5AB-4100-BBBA-A577743F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F16A-AC2C-43E3-BEE3-CC2602AD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484-4A1A-4D35-A3EE-9D847AF1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BB3F-86D7-4B97-A850-861FEA0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0692-7CE8-4A42-B3BC-A71102BD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4919-F943-483E-A5EE-8EA553F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0796-5B96-4A06-BFC9-E51509CB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A0F8-2AD2-4451-8DAA-CA710123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0A7-EC25-4B65-8CDA-4BDD4676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EC4-8261-416F-9A42-2D25651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7F6-E1C9-4957-A71C-BB551099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1AF-68CB-48C3-A7FF-96A2C05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E2B-77AB-488B-A852-5AE0FA5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1DA-CCDB-4D22-8257-9EB827B8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4CE-8422-4E4B-BA6B-ED33E6F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F63-4888-4368-A428-021CEA7E12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C0B2-8E2E-4B6E-A478-378D317EE8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487080"/>
            <a:ext cx="845820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Концепция развития ИКТ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 в здравоохранении</a:t>
            </a:r>
            <a:br>
              <a:rPr sz="3600"/>
            </a:br>
            <a:br>
              <a:rPr sz="2000"/>
            </a:br>
            <a:r>
              <a:rPr b="1" lang="ru-RU" sz="2000" spc="-1" strike="noStrike">
                <a:solidFill>
                  <a:srgbClr val="ffcc66"/>
                </a:solidFill>
                <a:latin typeface="Arial"/>
              </a:rPr>
              <a:t>Париж. 7-14 сентября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280" y="35049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5) 4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это происходит 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ует государственная политика в сфере медицинских информационных технолог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следствие: отсутствуют рынок, конкурентная среда, единое информационное простран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онцепция должна быт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рет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кт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алистичной (выполняемо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этап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мулирующей использование типовых ре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нижающей коррупционную емкость принимаемых реш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ые цел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единого информационного простран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инфраструктуры, обеспечивающей возможность поэтапного перехода к представлению и использованию ВСЕЙ информации, циркулирующей в системе здравоохранения, в электронном ви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рганизационны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в Минздравсоцразвития специализированного подразделения и аналогичных региональных подраздел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нансирование расходов на ИКТ отдельной стро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трехсторонней комисс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хнически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ащение е ПК всех работников ЛПУ и органов управления здравоохранен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ключение к ЛВС всех П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ключение к региональным корпоративным сетям всех ЛПУ и органов управ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можность выхода в Интернет и представительство в Интернете всех ЛПУ и органов управ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ормационны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банка данных по разработкам в сфере И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банка данных оснащенности ЛПУ и органов управления И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специализированного Интернет-ресур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бликация методических и аналитических материал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дение ежегодного фору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Юридически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ка перечня и утверждение графика принятия нормативных актов; и в первую очередь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юридический статус электронных медицинских документов, ЭЦ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защита данных, права доступа и др.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сертификация ИК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доступ к регистрам данных ОМ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хнологически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ектронные истории болезни и амбулаторные карты. Электронная цифровая подпис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истема электронного документообор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бразовательный бл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ка комплексной программы «ИКТ в медицинском образовани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я и проведение регулярных семинаров (школ и т.п.) для руководителей и специалистов ЛПУ и органов управления по ключевым аспектам использования ИК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6-й выпуск Каталог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75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20 фирм-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5%-8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6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catalog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353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талог «Медицинские информационные технологии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ные средства и банки данных медицинского назначени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ные  средства  и банки данных для решения информационных, управленческих, экономических и др. вопросов в области медиц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ые  медицинские компьютерные системы и комплексы, т.е.  системы, в которых возможны доступ к информационным массивам (базам данных и т.п.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сторо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 подключение к вычислительным сетям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нет-ресурсы и издания, включающие систематизированную информацию по медицинским информационным технологи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азработчик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981080"/>
          <a:ext cx="8077320" cy="2349720"/>
        </p:xfrm>
        <a:graphic>
          <a:graphicData uri="http://schemas.openxmlformats.org/drawingml/2006/table">
            <a:tbl>
              <a:tblPr/>
              <a:tblGrid>
                <a:gridCol w="6400800"/>
                <a:gridCol w="167652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сударственные орган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ерческие орган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коммерческие организ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ные предприним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нее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рк компьютерных систем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72-х ЛПУ Управления здравоохранения СВАО г. Москвы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2819520"/>
          <a:ext cx="7315200" cy="3276360"/>
        </p:xfrm>
        <a:graphic>
          <a:graphicData uri="http://schemas.openxmlformats.org/drawingml/2006/table">
            <a:tbl>
              <a:tblPr/>
              <a:tblGrid>
                <a:gridCol w="4800600"/>
                <a:gridCol w="1200240"/>
                <a:gridCol w="13143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П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реднее число ПК в ЛП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ля новых ПК (возраст 3 года и меньш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ПУ с ЛВ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Структура парка компьютерных систем (УЗ СВАО г. Москвы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981080"/>
          <a:ext cx="7772400" cy="4157640"/>
        </p:xfrm>
        <a:graphic>
          <a:graphicData uri="http://schemas.openxmlformats.org/drawingml/2006/table">
            <a:tbl>
              <a:tblPr/>
              <a:tblGrid>
                <a:gridCol w="5334120"/>
                <a:gridCol w="1218960"/>
                <a:gridCol w="121932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пьютерные системы (АРМ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ы для администрации (бухгалтерия, кадры, статистика, делопроизвод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.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ы для решения задач ОМ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.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обственно медицинские системы (диагностика, лечение, профилактик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6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6.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Юридические справочные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раструктура (серверы, коммутационные станции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аким образом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Это равно числу «медицинских» АРМ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ЛПУ- сосредоточено более половины всех «медицинских» АРМ, а в 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ЛПУ - нет ни одного (в 2001 г. – в 6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асходы ЛПУ на компьютеризацию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371600"/>
          <a:ext cx="8305920" cy="5065560"/>
        </p:xfrm>
        <a:graphic>
          <a:graphicData uri="http://schemas.openxmlformats.org/drawingml/2006/table">
            <a:tbl>
              <a:tblPr/>
              <a:tblGrid>
                <a:gridCol w="6553080"/>
                <a:gridCol w="175284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татья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приобретение средств вычислительной тех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приобретение программных средст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электросвяз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обуч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услуги сторонних организац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акторы, сдерживающие использование ИТ (по мнению ЛПУ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828800"/>
          <a:ext cx="8305920" cy="4647960"/>
        </p:xfrm>
        <a:graphic>
          <a:graphicData uri="http://schemas.openxmlformats.org/drawingml/2006/table">
            <a:tbl>
              <a:tblPr/>
              <a:tblGrid>
                <a:gridCol w="6553080"/>
                <a:gridCol w="175284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Фактор (из формы №3-информ Росстата РФ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Рейтинг важности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сутствие денежных средст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хватка в ЛПУ квалифицированных специалистов по 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достаточность знаний и навыков у работников ЛПУ для использования 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определенность экономической выгоды от использования И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ьянов М.М.</cp:lastModifiedBy>
  <dcterms:modified xsi:type="dcterms:W3CDTF">2006-09-04T08:38:26Z</dcterms:modified>
  <cp:revision>74</cp:revision>
  <dc:subject/>
  <dc:title>PowerPoint Presentation</dc:title>
</cp:coreProperties>
</file>