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D86-A48C-4051-9611-58D2F996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B83-2C08-4FD6-856B-0D54837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B34-1BBE-426C-99E8-A52A78CF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2BF-FD29-4F64-A4CB-42948879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A1A7-1621-4459-9F4F-72EDA0E0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8520-75A3-4F30-A000-58404FC7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F3EA-CF29-46A1-8D49-D0C36306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2DD9-554C-4A1A-91FE-2EF3C71C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8EC9-B515-4D38-A13A-CB83BA5B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635E-9F41-4CCB-9000-55826639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0D2F-FEAD-45F5-BB06-400111F6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803-7C81-40D1-AC72-B87C260F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25DA-D286-4E60-A401-01FE5D4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BE4D-D7AD-4365-B14A-C256357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B10E-8E11-4912-A3E4-7ECBF641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C003-46CF-46C7-8293-F56842F8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791E-9861-4603-92F5-ED46838F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9DB7-B0C6-4D62-A434-8BFDCEC2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997AF-CD84-486B-A58C-1C080194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472B-E984-4BBD-BFB5-EF5BCBD9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C05B-6E55-4AAB-9B3D-B5327D06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0F47-D3F8-42EC-BEB0-B14FE9CC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4E4-3E7B-487E-BBF5-F17BC507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9F870-A0BB-4D65-967F-9771026E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41B5-E526-4889-8B67-E8AD8FC4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63F9-1392-4749-95E1-9A92811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CD20-650F-4217-80AC-C4CFFEB9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B82A-CF84-439F-A33A-51E5DD32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8488-6585-4C95-A7B8-BD8933D8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C06D-B298-41D2-99AA-4CEAFB10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FEA59-6EA2-47AF-8E69-279A1369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C3EFF-9096-49D9-8302-C586F9CD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D2005-239E-4BEC-BEBC-4C5C44FE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83F-EE5F-4200-86F1-4A63BAA2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C796-4AE7-4138-8BE5-83C703ED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0404E-1E6A-4192-8C87-830C295F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6498-DAF2-4376-9B25-3F761F2D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65279-9F9C-47A2-AF58-948CEDF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ED0E4-08CB-4FF8-A0CB-52C0F1EB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6F4AF-7A5C-45E1-8C60-F3BDFBFD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0439-B862-404F-B3AD-088AFDD5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1040C-E5AC-480E-B033-8E5F2D95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13F98-D039-4E01-A767-9DB4E483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974-7BA0-49C1-A304-2FA0DC29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C49-4A02-41E6-9754-D39E0C3A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A26-4C0D-4245-9534-07BC11B0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8BE-6DA4-41FB-B3CE-7C522A7E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85F-38B7-4B5A-942C-9F492119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7DD0-7BD6-42F7-A9B9-5F77CA0757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110F-AF0E-4EEE-BA27-AF02C61907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ACAD-FE21-4D95-AB07-B318811851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151A-4A95-436A-92D7-5185A85B1A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«Кто Вы такие?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Вас здесь не ждут»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      Владимир Высоцкий</a:t>
            </a:r>
            <a:br>
              <a:rPr sz="4800"/>
            </a:br>
            <a:br>
              <a:rPr sz="4800"/>
            </a:b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Информатизация здравоохранения: сказки и реальность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Москва. 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dSoft-2012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52280" y="5300640"/>
            <a:ext cx="87631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АРМИТ, к.т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info@armit.ru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6240" y="569880"/>
            <a:ext cx="77022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аким образом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К используется в качестве пишущих машинок или не используется вообще (большинство их этих ПК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tium III, I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. </a:t>
            </a:r>
            <a:r>
              <a:rPr b="0" lang="ru-RU" sz="3200" spc="-1" strike="noStrike">
                <a:solidFill>
                  <a:srgbClr val="cccc00"/>
                </a:solidFill>
                <a:latin typeface="Times New Roman"/>
              </a:rPr>
              <a:t>Это почти в 4 (!) раза больше числа медицинских АРМ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долю менее 8% персонала приходится более 80% вычислительных ресурсов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24.000.000.000 на информатизацию здравоохранения РФ – поддержат российский рынок или добьют его?</a:t>
            </a:r>
            <a:br>
              <a:rPr sz="24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наш прогноз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MedSoft-2011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18 мая 2011)</a:t>
            </a:r>
            <a:br>
              <a:rPr sz="28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08000" y="4437000"/>
          <a:ext cx="8928000" cy="4000680"/>
        </p:xfrm>
        <a:graphic>
          <a:graphicData uri="http://schemas.openxmlformats.org/drawingml/2006/table">
            <a:tbl>
              <a:tblPr/>
              <a:tblGrid>
                <a:gridCol w="1216080"/>
                <a:gridCol w="7711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и сценария: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ценарий №1. Разумный: средства будут потрачены с пользой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зработана нормативная б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ределены правила иг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катаны типовые реш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ределены основные трудности, проблемы, «узкие» ме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недрены мед. компьютерные системы в значительном числе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здана инфраструктура и созданы условия для дальнейшего разви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ценарий №2. «Совковый» -шумиха и неразбериха с незначительными результатами, несоизмеримыми с затраченными средствами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78544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доделанный сценарий №1: что-то сделано, что - 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е-как все отчитаю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теряны время и деньг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олтовня на тему: «Разве за какие-то несчастные 30 млрд. можно сделать что-то путное? Вот, если бы ….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ценарий №3. Вредительский - больше вреда, чем пользы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еизбежный результат концу 2012 г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диных правил 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иповой инфраструктуры 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многих местах разрушено то, что уже работа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вление ЗООПАРКА несовместимых региональных систем информатизации, интеграция которых может потребовать больших средств, чем разработка с «нуля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регионы благополучно отчитаются за лоскутную (местечковую) информатизац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ходимость переделывать на следующем этапе значительную часть из сделанного со всеми вытекающими финансовыми и организационными последствиями и при мощном противодействии местных медиков, чиновников и разработч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ейчас мы движемся именно по этому сценарию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чему был сделан именно тако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вод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4149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брасывание млрд. бюджетных рублей при отсутствии единых требований к информатизации регистратур и приемных отделений неизбежно приведет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нерациональному использованию сред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разработке кучи уникальных компьютерной регистратур ЛПУ на основе базы данных пациентов собственного форма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следствие - создание уникальных МИС и системы уникальных подключений «клинических» систем; т.е. стыковка «каждого» с «каждым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неизбежному (и практически неустранимому «мирными» средствами) «зоопарку» МИ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оявлению через два года множества несовместимых региональных систем информатизации, интеграция которых может потребовать больших средств, чем разработка с «нуля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идее создания РЕАЛЬНОЙ единой государственной информационной системы в сфере здравоохранения можно будет ставить КРЕ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временное состояние парка компьютерных систе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оминает конструктор ЛЕГО: огромное число разработанных модулей - компьютерных систем для всего спектра медицинских применений, имеющих сходную архитектур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 в отличие от ЛЕГО: отсутствует стандартизированная система сопряжения моду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-й выпуск Каталога «Медицинские информационные технологии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7640" y="1844280"/>
            <a:ext cx="5327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0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43 организации-разработч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 разделов, более 100 рубр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0%-90% рынка россий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гионов Ро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87% организаций-разработчиков – коммерческие струк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4574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окращение числа организаций, работающих на рынке медицинских ИКТ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0" y="1413000"/>
          <a:ext cx="4521240" cy="52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4521240" cy="52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788000" y="1916280"/>
          <a:ext cx="3971880" cy="49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916280"/>
                    <a:ext cx="397188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673520" y="1954080"/>
          <a:ext cx="4470480" cy="490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73520" y="1954080"/>
                    <a:ext cx="447048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дает информатизация медицины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52280" y="4149720"/>
            <a:ext cx="87631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«Зоопарк» МИС живет и побеждает: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доля МИС в общем числе систем возрос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с 5.8% до 13.4% - более, чем вдвое !!!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600200"/>
          <a:ext cx="44276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44276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788000" y="1603440"/>
          <a:ext cx="3971880" cy="524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603440"/>
                    <a:ext cx="3971880" cy="52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572000" y="1608120"/>
          <a:ext cx="4572000" cy="52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608120"/>
                    <a:ext cx="4572000" cy="52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МИС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именно МИС? Объективная потребность растет; можно  выходить на рынок с системами самого примитивного уровня (это не ЛИС и н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ндартов не было и 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т, даже, определения МИ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35 регионов, представленных в каталоге «Медицинские информационные технологии – 2012», в 25 (!)  разработаны собственные МИ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9036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ена ФЗ о персональных данных: стоимость информатизации увеличивается вдво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74872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няя цена по приведению ЛПУ в соотв. с законом: 50-100 тыс. руб. на АР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ько для ЛПУ системы Департамента здравоохранения Москвы г. этой обойдется: 75.000 * 46.200 ПК = 3.465.000.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иповые компьютерные систем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отечественной интерпретац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место четко сформулированных требований не очень понятная система предпочт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Бесплатность» типовых систем – «бесплатность» сыра в мышеловке: основные деньги придется платить за сопрово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у подавляющего большинства разработчиков инфраструктуры  для обслуживания своих продуктов (в т.ч. т «типовых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все просчеты платить придется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286920"/>
            <a:ext cx="878544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многих руководителей и специалистов здравоохранения формируется стойкая ненависть или предубеждение и  к информатизации и к тем, кто ее «навязывает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нкретные «результаты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ынок разваливается на глазах. Зачем ЛПУ платить деньги, если завтра все дадут даром и типовое (хотя нет ни того, ни другого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ЛПУ пропадает интерес к информатиз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ываются уже подписанные догов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8000" y="277560"/>
            <a:ext cx="8856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: число посетителей медик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79280" y="1246320"/>
          <a:ext cx="8829720" cy="56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46320"/>
                    <a:ext cx="8829720" cy="56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- самая большая российская специализированная выставка по мед. ИКТ по числу фирм-экспонентов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788000" y="1603440"/>
          <a:ext cx="3971880" cy="52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603440"/>
                    <a:ext cx="3971880" cy="52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572000" y="1700280"/>
          <a:ext cx="4572000" cy="515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700280"/>
                    <a:ext cx="4572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0" y="1700280"/>
          <a:ext cx="4643280" cy="515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700280"/>
                    <a:ext cx="464328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 год н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edSoft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исло фирм-экспонентов из регионов сократилось на треть: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 28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19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95280" y="1773360"/>
          <a:ext cx="777708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777708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91440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За три года существования Департамента информатизации МЗиСР не решена ни одна из ключевых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IT-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облем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пределен статус электронных документов в здравоохране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ничего не сделано в плане стан-дартизации и информационной совмест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пределены «правила игры» в сфер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ддержки медучрежд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етенция медчиновников в сфер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большинстве случаев ниже «плинтус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ачество оказания медицинской помощ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меньшение числа госпитализаций за счет использования телемедицины и мониторинга здоровья пациента на дому. 5 600 000 госпитализаций пациентов с хр. заболеваниями может быть предупреждено в 6 странах Е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меньшение дублирования при выполнении клинических исследований и тестов. Более 800 000 ненужных лабораторных исследований можно предупредить только в Англии при использовании ЭИ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и повторных госпитализаций больных с сердечной недостаточностью на 39 000 в год за счет внедрения ЭИБ и системой менеджмента хронических заболеваний (СМХЗ), что экономит более 110 млн. евро в год (Франция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82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нкурсы Минздравсоц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2009-2010 г.г. Минздравсоцразвития провел конкурсы по тематике «ИКТ для здравоохранения» на общую сумму 658.800.000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эти деньги многие проблемы могли быть реализованы в течение двух ле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 91%  средств направлены на нужды чиновников, 9% - медучрежд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82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нкурсы Минздравсоц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ы проводились в условиях отсутствия четкого плана работ по развитию ИКТ для здравоохра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 один из членов комиссии не является специалистом в вопросах мед. ИК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ый бизнес оттирается от участия в конкурсах административными метод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ие конкурсы абсолютно не обоснован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и победителей практических нет организаций, известных в мире медицински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96720" y="115560"/>
            <a:ext cx="954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нцепция создания Единой государственной информационной системы здравоохранения (ЕГИС) и особенно Методические рекомендации по ее созданию не выдерживают никакой крити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287280"/>
            <a:ext cx="9144000" cy="35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вная проблема –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казчик (государство) не может сформулировать, что он хочет получить от информатизации здравоохранения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3640" y="4581360"/>
            <a:ext cx="856908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84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ез определения и обязательного выполнения правил игры в сфере создания электронного общества (в т.ч. в сфере здравоохранения) вместо «обычного» беспредела мы получим беспредел электронн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фессиональное сообщество (и в т.ч. бизнес) должно взять на себя часть ответственности за то, что происход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можно сделать и уже делается АРМИТ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трудничество с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оветом при Президенте РФ по развитию информационного общества в РФ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а секции по использованию ИКТ в здравоохранении экспертно-консультативной группы (ЭКГ) Сове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в работе Президиума Совета: Москва, Кремль; 8.06.2010, 22.12.2010, 14.04.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комендации по созданию регионального фрагмента Единой информационной системы в сфере здравоохра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зработка типовых требований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 электронной регистратуре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 медицинским информационным системам (МИС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 электронным медицинским карт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 лабораторным информационным системам (ЛИС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истемам обработки и хранения изображений (PA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истемам ДЛ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административно-хозяйственным систем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работка рекомендац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IT-служба ЛП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Облачные вычисления. Возможности. ЗА и ПРОТИВ. Границы примен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ндартизация и информационная совместимость - программа-миниму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итоге мы получи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ртификационные треб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ход к сертификации медицинских компьютерных сист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Безопасность пациентов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е числа ошибок при назначении препаратов при использовании компьютеризированной системы врачебных назначений и системы поддержки принятия решений (СВН/СПР). Более 26 000 ошибок только в Нидерландах; в т.ч. 1300 случаев средних и тяжелых опасных осложнений, что в сумме экономит до 118 млн. евр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меньшение смертности среди диабетиков за счет использования электронной истории болезни (ЭИБ) и системы менеджмента хронических заболеваний (СМХЗ). 11 000 смертей, вызванных осложнениями диабета, могут быть предупреждены ежегодно в 6 странах ЕС за счет внедрения ЭИБ и СМХЗ. Только в одной Испании, где в год умирает 10 000 диабетиков, можно спасти 3 000 за счет использовании этих же технолог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РМИТ возвращается к созданию рабочих групп по направлениям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ая книга «ИКТ в здравоохранении Росси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цепция развития ИКТ в здравоохран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конодательство в сфере ИКТ для здравоохра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ндартизация и информационная совместим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зование в сфере медицинских ИКТ. ИКТ в дистанционном образова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ука. Защита диссертац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ниторинг литературы и С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КТ в регионах. Взаимодействие с МИАЦ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ниторинг конкурсов, тендеров и т.д. проводимых в сфере ИКТ для здравоохра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служивание компьютерных систем в ЛПУ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служба ЛП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ицинские ИКТ и закон о персональных дан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номика медицинских И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КТ для лечебно-диагностического проце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Летом 2012 г. АРМИТ в очередной раз предложила создать при Департаменте информатизации МЗиСР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Экспертный совет по ИКТ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9280" y="2637000"/>
            <a:ext cx="8964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профессионалов в решении вопросов по определению тематики конкурсов, проводимых Департаментом информатизации, и по подведению их итог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ественная экспертиза проектов решений и документов, регулирующих отрасль медицински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огноз специалистов: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ответит директор Департамента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2492280"/>
          <a:ext cx="8209080" cy="4025880"/>
        </p:xfrm>
        <a:graphic>
          <a:graphicData uri="http://schemas.openxmlformats.org/drawingml/2006/table">
            <a:tbl>
              <a:tblPr/>
              <a:tblGrid>
                <a:gridCol w="7040520"/>
                <a:gridCol w="116856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ответи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шлет не по доброму («без Вас обойдемся и т.п.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шлет по доброму («конечно…, а как же иначе…, но …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чим конструктивный отве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дновременно провели опрос: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ответит директор Департамента?»</a:t>
            </a:r>
            <a:br>
              <a:rPr sz="40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(мнения 48 чел., 18% -кандидаты и доктора наук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5280" y="2492280"/>
          <a:ext cx="8209080" cy="4025880"/>
        </p:xfrm>
        <a:graphic>
          <a:graphicData uri="http://schemas.openxmlformats.org/drawingml/2006/table">
            <a:tbl>
              <a:tblPr/>
              <a:tblGrid>
                <a:gridCol w="7040520"/>
                <a:gridCol w="116856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ответи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шлет не по доброму («без Вас обойдемся и т.п.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шлет по доброму («конечно…, а как же иначе…, но …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чим конструктивный отве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: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а мы не получил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прос АРМИТ «Как Вы оцениваете результаты работы Департамента информатизации?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ень высок научный уровень. Из 30 респондентов: 41%  - специалисты с учеными степенями: 5 докторов наук и 7 кандидатов наук (мед., техн., экон.) 59% - руководители организаций,  28% - руководители подраздел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2% респондентов готовы открыто высказать свою точку зрения, не требуя соблюдения конфиденциаль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обрили концепцию создания ЕГИСЗ менее трети (!) респондентов – 28%. Столько же (28%) считает, что  «Концепция практически бесполезна и на ситуацию реально не влияет». Почти половина (44%) полагает, что «от этого документа больше вреда, чем пользы (прикрывает отсутствие реальной программы действий)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методическим рекомендациям по созданию региональных сегментов ЕГИСЗ (МР) оценки еще более категоричны: практически полное неприятие пакета документов. Ни один из экспертов положительно МР не оценил. Необходимо переписывать МР с нуля. И косметическая правка не спас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з ответа заместителя Министра В.С.Белова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на открытое письмо АРМИТ Министру здравоохранения и социального развития Т.А.Голиковой по поводу плачевного состояния информатизации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0" y="3645000"/>
            <a:ext cx="9144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высказывания АРМИТ не содержат подтверждающих фактов и негативно сказываются на деятельности Минздравсоцразвития России в области информатизации здравоохранения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в то же время: «МЗиСР готово рассмотреть Ваши конкретные предложения по созданию ЕГИСЗ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прос АРМИТ (март-апрель 2012): оказали влияние на ситуацию в Вашем регионе средства, выделенные на реализацию региональных программ информатизации здравоохранения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8000" y="2707920"/>
            <a:ext cx="9036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упили ли в Ваш регион средства на информатизацию, предусмотренные программой модернизации здравоохранения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Да, то на решение каких задач они пошл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ша оценка эффективности использования полученных средст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гральная оценка происходящему в Вашем регионе: - от «-5» (очень плохо) до «+5» (очень хорошо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Итоги опроса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одавляющем большинстве случае речь идет об установке «железа» и прокладке сет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же, в благополучных регионах ни слова не говорится о результатах, существенных, для здравоохра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няя интегральная оценка происходящему в Вашем регионе: - от «-5» (очень плохо) до «+5» (очень хорошо)  «- 2.5» - ДВОЙКА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Если Минздравсоцразвития не начнет сотрудничать с профессионалами, третий сценарий станет основным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озрастание доступности медпомощ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растание доступности госпитализации за счет снижения числа койко-дней на одного больного в результате использования электронной истории болезни (ЭИБ) и компьютеризированной системы врачебных назначений (КСВН). Более 9 млн. койко-дней (3.6 млрд. евро) может быть сэкономлено в 6 странах ЕС. Только в одних Нидерландах можно освободить 560 000 койко-дней (600 млн. евр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ло пропущенных посещений врачей (неявка пациента) в системе вторичной медицинской помощи Англии составляет 600 000 в год (130 млн. евро). При внедрении электронной системы бронирования визита пациент может выбрать удобный период времени для визита., что сопровождается снижением неявок на прием на 33%. В Великобритании стоимость каждого повторного визита оценивается в 220 Евр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Благодарю за внимание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Желающие принять участие в мероприятиях Ассоциации и регулярно получать информацию о мире медицинских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IT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– обращайтесь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52280" y="4149720"/>
            <a:ext cx="87631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АРМ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info@armit.ru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1-м месте должно стоять сокращение числа врачебных и управленческих ошибок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квидация проблемы безобразного почер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лючение возможности потерь дан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ование всей имеющейся диагностической информ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лючение возможности «неиспользования» важных дан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роль за работой медперсонала и т.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137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имеем и что используем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2280" y="3789360"/>
            <a:ext cx="87631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ЛПУ(в %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64960" y="982800"/>
          <a:ext cx="8562960" cy="57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982800"/>
                    <a:ext cx="856296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79280" y="836640"/>
          <a:ext cx="896472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8964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ЛПУ(в шт.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2-04-23T12:38:33Z</dcterms:modified>
  <cp:revision>684</cp:revision>
  <dc:subject/>
  <dc:title>PowerPoint Presentation</dc:title>
</cp:coreProperties>
</file>