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2.wmf" ContentType="image/x-wmf"/>
  <Override PartName="/ppt/media/image7.jpeg" ContentType="image/jpeg"/>
  <Override PartName="/ppt/media/image9.png" ContentType="image/png"/>
  <Override PartName="/ppt/media/image13.wmf" ContentType="image/x-wmf"/>
  <Override PartName="/ppt/media/image10.jpeg" ContentType="image/jpeg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5480" y="95760"/>
            <a:ext cx="8643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2017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6439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50560" y="3589920"/>
            <a:ext cx="86439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5480" y="95760"/>
            <a:ext cx="8643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2017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42181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052280"/>
            <a:ext cx="42181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50560" y="3589920"/>
            <a:ext cx="42181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3589920"/>
            <a:ext cx="42181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85480" y="95760"/>
            <a:ext cx="8643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2017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27831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73400" y="1052280"/>
            <a:ext cx="27831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5880" y="1052280"/>
            <a:ext cx="27831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50560" y="3589920"/>
            <a:ext cx="27831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73400" y="3589920"/>
            <a:ext cx="27831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95880" y="3589920"/>
            <a:ext cx="27831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85480" y="95760"/>
            <a:ext cx="8643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2017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50560" y="1052280"/>
            <a:ext cx="864396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5480" y="95760"/>
            <a:ext cx="8643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2017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64396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5480" y="95760"/>
            <a:ext cx="8643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2017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421812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052280"/>
            <a:ext cx="421812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5480" y="95760"/>
            <a:ext cx="8643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201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85480" y="142560"/>
            <a:ext cx="86439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5480" y="95760"/>
            <a:ext cx="8643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2017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42181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052280"/>
            <a:ext cx="421812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50560" y="3589920"/>
            <a:ext cx="42181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5480" y="95760"/>
            <a:ext cx="8643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2017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421812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052280"/>
            <a:ext cx="42181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3589920"/>
            <a:ext cx="42181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5480" y="95760"/>
            <a:ext cx="8643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2017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42181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052280"/>
            <a:ext cx="42181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50560" y="3589920"/>
            <a:ext cx="86439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5480" y="142560"/>
            <a:ext cx="8643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e2017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de2017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526080"/>
            <a:ext cx="2233440" cy="2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250560" y="1052280"/>
            <a:ext cx="864396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5940360" y="6524640"/>
            <a:ext cx="18781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Слайд </a:t>
            </a:r>
            <a:fld id="{19BDCFC7-366A-4A54-9259-329020142D47}" type="slidenum">
              <a:rPr b="0" i="1" lang="ru-RU" sz="16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 из 2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rarus.ru/" TargetMode="External"/><Relationship Id="rId2" Type="http://schemas.openxmlformats.org/officeDocument/2006/relationships/hyperlink" Target="mailto:shop@rarus.ru" TargetMode="External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2"/>
          <p:cNvSpPr/>
          <p:nvPr/>
        </p:nvSpPr>
        <p:spPr>
          <a:xfrm>
            <a:off x="250920" y="1989000"/>
            <a:ext cx="864396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Пять шагов к успешному внедрению КМИС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на примере Роддом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2"/>
          <p:cNvSpPr/>
          <p:nvPr/>
        </p:nvSpPr>
        <p:spPr>
          <a:xfrm>
            <a:off x="5156280" y="5157720"/>
            <a:ext cx="39560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Кряжев Григор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250920" y="1413000"/>
            <a:ext cx="864396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Создание проектной команды Родд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01880" indent="-2858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Arial"/>
              </a:rPr>
              <a:t>Руководитель проек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01880" indent="-2858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Arial"/>
              </a:rPr>
              <a:t>Отдел АС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01880" indent="-2858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Arial"/>
              </a:rPr>
              <a:t>Назначены ответстве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0188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Arial"/>
              </a:rPr>
              <a:t>в каждом подраздел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                    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Administration 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wer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+ Intellig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85480" y="142560"/>
            <a:ext cx="86439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e2017"/>
                </a:solidFill>
                <a:latin typeface="Tahoma"/>
              </a:rPr>
              <a:t>Шаг 1 </a:t>
            </a:r>
            <a:endParaRPr b="0" lang="en-US" sz="2600" spc="-1" strike="noStrike">
              <a:solidFill>
                <a:srgbClr val="de2017"/>
              </a:solidFill>
              <a:latin typeface="Tahoma"/>
            </a:endParaRPr>
          </a:p>
        </p:txBody>
      </p:sp>
      <p:pic>
        <p:nvPicPr>
          <p:cNvPr id="44" name="Рисунок 1" descr=""/>
          <p:cNvPicPr/>
          <p:nvPr/>
        </p:nvPicPr>
        <p:blipFill>
          <a:blip r:embed="rId1"/>
          <a:stretch/>
        </p:blipFill>
        <p:spPr>
          <a:xfrm>
            <a:off x="6804000" y="3645000"/>
            <a:ext cx="2260800" cy="225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250920" y="1268280"/>
            <a:ext cx="864396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333cc"/>
                </a:solidFill>
                <a:latin typeface="Arial"/>
              </a:rPr>
              <a:t>Выявление индивидуальных особенностей МО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01880" indent="-2858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Arial"/>
              </a:rPr>
              <a:t>Предпроектное обслед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01880" indent="-2858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Arial"/>
              </a:rPr>
              <a:t>Формирование карты разрыва функцион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01880" indent="-2858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Arial"/>
              </a:rPr>
              <a:t>Определение окончательной стоимости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01880" indent="-2858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Arial"/>
              </a:rPr>
              <a:t>Уточнение этапов внедрения КМ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5480" y="142560"/>
            <a:ext cx="86439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e2017"/>
                </a:solidFill>
                <a:latin typeface="Tahoma"/>
              </a:rPr>
              <a:t>Шаг 2</a:t>
            </a:r>
            <a:endParaRPr b="0" lang="en-US" sz="2600" spc="-1" strike="noStrike">
              <a:solidFill>
                <a:srgbClr val="de2017"/>
              </a:solidFill>
              <a:latin typeface="Tahoma"/>
            </a:endParaRPr>
          </a:p>
        </p:txBody>
      </p:sp>
      <p:pic>
        <p:nvPicPr>
          <p:cNvPr id="47" name="Рисунок 1" descr=""/>
          <p:cNvPicPr/>
          <p:nvPr/>
        </p:nvPicPr>
        <p:blipFill>
          <a:blip r:embed="rId1"/>
          <a:stretch/>
        </p:blipFill>
        <p:spPr>
          <a:xfrm>
            <a:off x="7340760" y="2060640"/>
            <a:ext cx="1587240" cy="198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250920" y="1341360"/>
            <a:ext cx="864396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Создание реглам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01880" indent="-2858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Arial"/>
              </a:rPr>
              <a:t>Изменение бизнес-процес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01880" indent="-2858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Arial"/>
              </a:rPr>
              <a:t>Корректировка должностных инструк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01880" indent="-2858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Arial"/>
              </a:rPr>
              <a:t>Кадровые перестано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01880" indent="-285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0188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ahoma"/>
                <a:ea typeface="Arial"/>
              </a:rPr>
              <a:t>Внедрение документообор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5480" y="142560"/>
            <a:ext cx="86439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e2017"/>
                </a:solidFill>
                <a:latin typeface="Tahoma"/>
              </a:rPr>
              <a:t>Шаг 3</a:t>
            </a:r>
            <a:endParaRPr b="0" lang="en-US" sz="2600" spc="-1" strike="noStrike">
              <a:solidFill>
                <a:srgbClr val="de2017"/>
              </a:solidFill>
              <a:latin typeface="Tahoma"/>
            </a:endParaRPr>
          </a:p>
        </p:txBody>
      </p:sp>
      <p:pic>
        <p:nvPicPr>
          <p:cNvPr id="50" name="Рисунок 1" descr=""/>
          <p:cNvPicPr/>
          <p:nvPr/>
        </p:nvPicPr>
        <p:blipFill>
          <a:blip r:embed="rId1"/>
          <a:stretch/>
        </p:blipFill>
        <p:spPr>
          <a:xfrm>
            <a:off x="6659640" y="3357720"/>
            <a:ext cx="2520720" cy="28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50920" y="1484280"/>
            <a:ext cx="86439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Процесси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0188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Arial"/>
              </a:rPr>
              <a:t>Настрой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0188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Arial"/>
              </a:rPr>
              <a:t>Моделирование бизнес-проце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0188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Arial"/>
              </a:rPr>
              <a:t>Создание инструкций для каждой роли пользова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0188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Arial"/>
              </a:rPr>
              <a:t>Обу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0188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Arial"/>
              </a:rPr>
              <a:t>Запуск в опытную эксплуатац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0188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Arial"/>
              </a:rPr>
              <a:t>Корректировка по итогам опытной эксплуа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0188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)))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5480" y="142560"/>
            <a:ext cx="86439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e2017"/>
                </a:solidFill>
                <a:latin typeface="Tahoma"/>
              </a:rPr>
              <a:t>Шаг 4 </a:t>
            </a:r>
            <a:endParaRPr b="0" lang="en-US" sz="2600" spc="-1" strike="noStrike">
              <a:solidFill>
                <a:srgbClr val="de2017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250920" y="1341360"/>
            <a:ext cx="88930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Сопровож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5908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Arial"/>
              </a:rPr>
              <a:t>Передача на сопровождение функционала после окончания каждого этапа внед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5908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Arial"/>
              </a:rPr>
              <a:t>Система сбора и анализа текущих проблем в рамках информационной системы (Роддо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5908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Arial"/>
              </a:rPr>
              <a:t>Два уровня поддержки (Рару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91628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ahoma"/>
                <a:ea typeface="Arial"/>
              </a:rPr>
              <a:t>Линия консульт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91628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ahoma"/>
                <a:ea typeface="Arial"/>
              </a:rPr>
              <a:t>Ответственный менедж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5908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Arial"/>
              </a:rPr>
              <a:t>Консалтинг по вопросам связанным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5908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Arial"/>
              </a:rPr>
              <a:t>изменением законодательства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5908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Arial"/>
              </a:rPr>
              <a:t>текущей ситу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5908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5480" y="142560"/>
            <a:ext cx="86439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e2017"/>
                </a:solidFill>
                <a:latin typeface="Tahoma"/>
              </a:rPr>
              <a:t>Шаг 5</a:t>
            </a:r>
            <a:endParaRPr b="0" lang="en-US" sz="2600" spc="-1" strike="noStrike">
              <a:solidFill>
                <a:srgbClr val="de2017"/>
              </a:solidFill>
              <a:latin typeface="Tahoma"/>
            </a:endParaRPr>
          </a:p>
        </p:txBody>
      </p:sp>
      <p:pic>
        <p:nvPicPr>
          <p:cNvPr id="55" name="Рисунок 3" descr=""/>
          <p:cNvPicPr/>
          <p:nvPr/>
        </p:nvPicPr>
        <p:blipFill>
          <a:blip r:embed="rId1"/>
          <a:stretch/>
        </p:blipFill>
        <p:spPr>
          <a:xfrm>
            <a:off x="6372360" y="3357720"/>
            <a:ext cx="2466720" cy="21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250920" y="1268280"/>
            <a:ext cx="864396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Автоматизировано 150  раб. ме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0188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Arial"/>
              </a:rPr>
              <a:t>Запущена МИС в объе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5908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ahoma"/>
                <a:ea typeface="Arial"/>
              </a:rPr>
              <a:t>Женская консуль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5908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ahoma"/>
                <a:ea typeface="Arial"/>
              </a:rPr>
              <a:t>Род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5908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ahoma"/>
                <a:ea typeface="Arial"/>
              </a:rPr>
              <a:t>Паракли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5908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ahoma"/>
                <a:ea typeface="Arial"/>
              </a:rPr>
              <a:t>ЭМ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5908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ahoma"/>
                <a:ea typeface="Arial"/>
              </a:rPr>
              <a:t>Больничная апт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5908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ahoma"/>
                <a:ea typeface="Arial"/>
              </a:rPr>
              <a:t>Учет услу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0188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Arial"/>
              </a:rPr>
              <a:t>Автоматизирован расчет зарплаты и кадровый уч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0188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Arial"/>
              </a:rPr>
              <a:t>Внедрен документообор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5480" y="142560"/>
            <a:ext cx="86439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e2017"/>
                </a:solidFill>
                <a:latin typeface="Tahoma"/>
              </a:rPr>
              <a:t>ИТОГ</a:t>
            </a:r>
            <a:r>
              <a:rPr b="1" lang="en-US" sz="2600" spc="-1" strike="noStrike">
                <a:solidFill>
                  <a:srgbClr val="de2017"/>
                </a:solidFill>
                <a:latin typeface="Tahoma"/>
              </a:rPr>
              <a:t>:</a:t>
            </a:r>
            <a:endParaRPr b="0" lang="en-US" sz="2600" spc="-1" strike="noStrike">
              <a:solidFill>
                <a:srgbClr val="de2017"/>
              </a:solidFill>
              <a:latin typeface="Tahoma"/>
            </a:endParaRPr>
          </a:p>
        </p:txBody>
      </p:sp>
      <p:pic>
        <p:nvPicPr>
          <p:cNvPr id="58" name="Рисунок 1" descr=""/>
          <p:cNvPicPr/>
          <p:nvPr/>
        </p:nvPicPr>
        <p:blipFill>
          <a:blip r:embed="rId1"/>
          <a:stretch/>
        </p:blipFill>
        <p:spPr>
          <a:xfrm>
            <a:off x="7632720" y="4724280"/>
            <a:ext cx="1509840" cy="112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5480" y="142560"/>
            <a:ext cx="86439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e2017"/>
                </a:solidFill>
                <a:latin typeface="Tahoma"/>
              </a:rPr>
              <a:t>Спасибо за внимание! </a:t>
            </a:r>
            <a:endParaRPr b="0" lang="en-US" sz="2600" spc="-1" strike="noStrike">
              <a:solidFill>
                <a:srgbClr val="de2017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24240" y="1557000"/>
            <a:ext cx="5100480" cy="26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ahoma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г. Москва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,</a:t>
            </a: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ул.</a:t>
            </a: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Бутырский вал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д.68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этаж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66"/>
                </a:solidFill>
                <a:uFillTx/>
                <a:latin typeface="Tahoma"/>
              </a:rPr>
              <a:t>Телефон/Факс: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231-20-02, 223-04-04 (многоканальны</a:t>
            </a: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й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66"/>
                </a:solidFill>
                <a:uFillTx/>
                <a:latin typeface="Tahoma"/>
              </a:rPr>
              <a:t>Internet</a:t>
            </a:r>
            <a:r>
              <a:rPr b="0" lang="ru-RU" sz="2000" spc="-1" strike="noStrike" u="sng">
                <a:solidFill>
                  <a:srgbClr val="000066"/>
                </a:solidFill>
                <a:uFillTx/>
                <a:latin typeface="Tahoma"/>
              </a:rPr>
              <a:t>:</a:t>
            </a: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0" lang="en-US" sz="2000" spc="-1" strike="noStrike" u="sng">
                <a:solidFill>
                  <a:srgbClr val="ff6600"/>
                </a:solidFill>
                <a:uFillTx/>
                <a:latin typeface="Tahoma"/>
                <a:hlinkClick r:id="rId1"/>
              </a:rPr>
              <a:t>www.rarus.ru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66"/>
                </a:solidFill>
                <a:uFillTx/>
                <a:latin typeface="Tahoma"/>
              </a:rPr>
              <a:t>E-mail: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000" spc="-1" strike="noStrike" u="sng">
                <a:solidFill>
                  <a:srgbClr val="ff6600"/>
                </a:solidFill>
                <a:uFillTx/>
                <a:latin typeface="Tahoma"/>
                <a:hlinkClick r:id="rId2"/>
              </a:rPr>
              <a:t>medic@rarus.ru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3"/>
          <a:stretch/>
        </p:blipFill>
        <p:spPr>
          <a:xfrm>
            <a:off x="1332000" y="2103480"/>
            <a:ext cx="761760" cy="554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4"/>
          <a:stretch/>
        </p:blipFill>
        <p:spPr>
          <a:xfrm>
            <a:off x="1258920" y="3111480"/>
            <a:ext cx="720720" cy="711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5"/>
          <a:stretch/>
        </p:blipFill>
        <p:spPr>
          <a:xfrm>
            <a:off x="1332000" y="4119480"/>
            <a:ext cx="838080" cy="56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1T11:17:05Z</dcterms:created>
  <dc:creator>User</dc:creator>
  <dc:description/>
  <dc:language>en-US</dc:language>
  <cp:lastModifiedBy>kryg</cp:lastModifiedBy>
  <dcterms:modified xsi:type="dcterms:W3CDTF">2012-04-18T06:23:10Z</dcterms:modified>
  <cp:revision>442</cp:revision>
  <dc:subject/>
  <dc:title>Опыт внедрения «Управление производственным предприятием» в компании «АББ Автоматизация»</dc:title>
</cp:coreProperties>
</file>