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27.png" ContentType="image/png"/>
  <Override PartName="/ppt/media/image26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94B8-0676-4DC5-A71F-AB975FDBC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3A60-678A-4382-93CE-838722B4F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BDD2-E865-428C-96E6-086D64666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380A-8760-4650-81BD-0D2C1D253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BA18-7D4F-4460-88AF-C955C7C572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B36C8-3E79-4BD5-9B44-D6D266D8C9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B93C9-25C9-4AE8-961A-6003973298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8480B-80F6-4131-82E1-2452C9E0DE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B82ED-9EBA-4D13-A54B-A5652C0507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14400" y="1519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BD62E-0152-45C0-B36D-06642685A8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06F6-181D-42E3-A12A-A8FDC61EE8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51A1-F1D6-46D6-B02D-345343C3D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50554-1814-4FAA-BBC2-B645A11CE6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5034C-9FFD-4B94-8A05-BEC641C3F9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716B-F5B1-4E7F-8924-3A2CCED937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F48E0-4226-4F96-9217-E5BB123B54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9A16-0311-46E9-B078-5BBB9E1C93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4B1-B7EA-4C19-898C-C54315FF7E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310-D5F8-40FA-B61B-554638AF9D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5B8-F6F9-4F0E-BF9F-BC158FE058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9C1-DAEB-4BAB-A345-C55F4C7ECF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9BF-BA39-4A4E-A7A9-4B8E87D1F6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3CBB-F640-4D78-937C-E82123140A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14400" y="1519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A632-F1FB-414D-975B-CE6826B051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D47-8ADA-4858-ADBF-B9A8CEB194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DCFE-549A-4E7D-AE40-54255F5AEB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89B-603A-4EE1-A513-AE376C72CE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969-12CB-41D3-88AB-E7FA6849DE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67D-D6FF-46FE-B5CD-1A73947B05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EADC-3946-4672-9BC8-B41E3E0272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0A82-CD7A-45EE-90E4-B8D4FE30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4209-CB73-4923-96DB-72832F6B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CA27-7AC1-46A0-9F8D-7357C246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A542-B008-49C6-92FA-5BAE5E8EA0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4E8B-11CB-47E3-8612-32EAB413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E18E-521F-409D-BDE2-20B1089D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1519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022C-9F62-4466-B207-43207510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B507-7D36-446F-B60E-E3BAA4B5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8A49-7813-434D-A4A5-E6B9155B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9C69-1FF7-43E2-9E28-80D7F961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9A46-A125-4AA7-8244-A8BF9ABC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AA84-8B33-4C96-90C9-11BFDA7A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ABD2-666C-49B6-A543-7A7F123E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FDBB-4649-44D0-A10D-618C0E021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914400" y="1519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8502-AB64-4080-85DA-0D550E1F0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BC7C-187B-452C-9CA2-3CE91179D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FDDD-9513-4EA6-A127-90B8D5A4B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5AD6-A06D-4617-B4BE-5E3CFB6F1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6"/>
          <p:cNvSpPr/>
          <p:nvPr/>
        </p:nvSpPr>
        <p:spPr>
          <a:xfrm>
            <a:off x="0" y="3343320"/>
            <a:ext cx="9124920" cy="8568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6"/>
          <p:cNvSpPr/>
          <p:nvPr/>
        </p:nvSpPr>
        <p:spPr>
          <a:xfrm>
            <a:off x="0" y="1666800"/>
            <a:ext cx="9144000" cy="1676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230"/>
          <p:cNvGrpSpPr/>
          <p:nvPr/>
        </p:nvGrpSpPr>
        <p:grpSpPr>
          <a:xfrm>
            <a:off x="-360" y="6562800"/>
            <a:ext cx="9144360" cy="309600"/>
            <a:chOff x="-360" y="6562800"/>
            <a:chExt cx="9144360" cy="309600"/>
          </a:xfrm>
        </p:grpSpPr>
        <p:sp>
          <p:nvSpPr>
            <p:cNvPr id="3" name="Rectangle 218"/>
            <p:cNvSpPr/>
            <p:nvPr/>
          </p:nvSpPr>
          <p:spPr>
            <a:xfrm>
              <a:off x="0" y="6638760"/>
              <a:ext cx="9144000" cy="23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Text Box 219"/>
            <p:cNvSpPr/>
            <p:nvPr/>
          </p:nvSpPr>
          <p:spPr>
            <a:xfrm>
              <a:off x="325440" y="6622920"/>
              <a:ext cx="20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w w w. a l a d d i n. r u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Group 220"/>
            <p:cNvGrpSpPr/>
            <p:nvPr/>
          </p:nvGrpSpPr>
          <p:grpSpPr>
            <a:xfrm>
              <a:off x="2881440" y="6637320"/>
              <a:ext cx="6262560" cy="234720"/>
              <a:chOff x="2881440" y="6637320"/>
              <a:chExt cx="6262560" cy="234720"/>
            </a:xfrm>
          </p:grpSpPr>
          <p:sp>
            <p:nvSpPr>
              <p:cNvPr id="6" name="Rectangle 221"/>
              <p:cNvSpPr/>
              <p:nvPr/>
            </p:nvSpPr>
            <p:spPr>
              <a:xfrm>
                <a:off x="5119560" y="6637320"/>
                <a:ext cx="4024440" cy="234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222"/>
              <p:cNvSpPr/>
              <p:nvPr/>
            </p:nvSpPr>
            <p:spPr>
              <a:xfrm>
                <a:off x="3608280" y="6637320"/>
                <a:ext cx="739800" cy="234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223"/>
              <p:cNvSpPr/>
              <p:nvPr/>
            </p:nvSpPr>
            <p:spPr>
              <a:xfrm>
                <a:off x="4346640" y="6637320"/>
                <a:ext cx="739800" cy="2347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224"/>
              <p:cNvSpPr/>
              <p:nvPr/>
            </p:nvSpPr>
            <p:spPr>
              <a:xfrm>
                <a:off x="5084640" y="6637320"/>
                <a:ext cx="739800" cy="234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225"/>
              <p:cNvSpPr/>
              <p:nvPr/>
            </p:nvSpPr>
            <p:spPr>
              <a:xfrm>
                <a:off x="2881440" y="6637320"/>
                <a:ext cx="739800" cy="234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Rectangle 226"/>
            <p:cNvSpPr/>
            <p:nvPr/>
          </p:nvSpPr>
          <p:spPr>
            <a:xfrm rot="10800000">
              <a:off x="-360" y="6562800"/>
              <a:ext cx="9124920" cy="856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230"/>
          <p:cNvGrpSpPr/>
          <p:nvPr/>
        </p:nvGrpSpPr>
        <p:grpSpPr>
          <a:xfrm>
            <a:off x="-360" y="6562800"/>
            <a:ext cx="9144360" cy="309600"/>
            <a:chOff x="-360" y="6562800"/>
            <a:chExt cx="9144360" cy="309600"/>
          </a:xfrm>
        </p:grpSpPr>
        <p:sp>
          <p:nvSpPr>
            <p:cNvPr id="13" name="Rectangle 218"/>
            <p:cNvSpPr/>
            <p:nvPr/>
          </p:nvSpPr>
          <p:spPr>
            <a:xfrm>
              <a:off x="0" y="6638760"/>
              <a:ext cx="9144000" cy="23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Text Box 219"/>
            <p:cNvSpPr/>
            <p:nvPr/>
          </p:nvSpPr>
          <p:spPr>
            <a:xfrm>
              <a:off x="325440" y="6622920"/>
              <a:ext cx="20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w w w. a l a d d i n – r d. r u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220"/>
            <p:cNvGrpSpPr/>
            <p:nvPr/>
          </p:nvGrpSpPr>
          <p:grpSpPr>
            <a:xfrm>
              <a:off x="2881440" y="6637320"/>
              <a:ext cx="6262560" cy="234720"/>
              <a:chOff x="2881440" y="6637320"/>
              <a:chExt cx="6262560" cy="234720"/>
            </a:xfrm>
          </p:grpSpPr>
          <p:sp>
            <p:nvSpPr>
              <p:cNvPr id="16" name="Rectangle 221"/>
              <p:cNvSpPr/>
              <p:nvPr/>
            </p:nvSpPr>
            <p:spPr>
              <a:xfrm>
                <a:off x="5119560" y="6637320"/>
                <a:ext cx="4024440" cy="234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Rectangle 222"/>
              <p:cNvSpPr/>
              <p:nvPr/>
            </p:nvSpPr>
            <p:spPr>
              <a:xfrm>
                <a:off x="3608280" y="6637320"/>
                <a:ext cx="739800" cy="234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223"/>
              <p:cNvSpPr/>
              <p:nvPr/>
            </p:nvSpPr>
            <p:spPr>
              <a:xfrm>
                <a:off x="4346640" y="6637320"/>
                <a:ext cx="739800" cy="2347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24"/>
              <p:cNvSpPr/>
              <p:nvPr/>
            </p:nvSpPr>
            <p:spPr>
              <a:xfrm>
                <a:off x="5084640" y="6637320"/>
                <a:ext cx="739800" cy="234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5"/>
              <p:cNvSpPr/>
              <p:nvPr/>
            </p:nvSpPr>
            <p:spPr>
              <a:xfrm>
                <a:off x="2881440" y="6637320"/>
                <a:ext cx="739800" cy="234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Rectangle 226"/>
            <p:cNvSpPr/>
            <p:nvPr/>
          </p:nvSpPr>
          <p:spPr>
            <a:xfrm rot="10800000">
              <a:off x="-360" y="6562800"/>
              <a:ext cx="9124920" cy="856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sldNum" idx="1"/>
          </p:nvPr>
        </p:nvSpPr>
        <p:spPr>
          <a:xfrm>
            <a:off x="6781320" y="6609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6D16-558B-43B2-AFCB-3BDBCEC73DA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2819520" y="3504960"/>
            <a:ext cx="5029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" name="Picture 2" descr="D:\Temp03\Aladdin-logo.jpg"/>
          <p:cNvPicPr/>
          <p:nvPr/>
        </p:nvPicPr>
        <p:blipFill>
          <a:blip r:embed="rId2"/>
          <a:stretch/>
        </p:blipFill>
        <p:spPr>
          <a:xfrm>
            <a:off x="6289560" y="533520"/>
            <a:ext cx="2216160" cy="457200"/>
          </a:xfrm>
          <a:prstGeom prst="rect">
            <a:avLst/>
          </a:prstGeom>
          <a:ln w="0">
            <a:noFill/>
          </a:ln>
        </p:spPr>
      </p:pic>
      <p:sp>
        <p:nvSpPr>
          <p:cNvPr id="25" name="5-конечная звезда 31"/>
          <p:cNvSpPr/>
          <p:nvPr/>
        </p:nvSpPr>
        <p:spPr>
          <a:xfrm rot="21342000">
            <a:off x="2068200" y="928800"/>
            <a:ext cx="414360" cy="368280"/>
          </a:xfrm>
          <a:custGeom>
            <a:avLst/>
            <a:gdLst/>
            <a:ahLst/>
            <a:rect l="l" t="t" r="r" b="b"/>
            <a:pathLst>
              <a:path w="414337" h="368300">
                <a:moveTo>
                  <a:pt x="0" y="140678"/>
                </a:moveTo>
                <a:lnTo>
                  <a:pt x="158264" y="140679"/>
                </a:lnTo>
                <a:lnTo>
                  <a:pt x="207169" y="0"/>
                </a:lnTo>
                <a:lnTo>
                  <a:pt x="256073" y="140679"/>
                </a:lnTo>
                <a:lnTo>
                  <a:pt x="414337" y="140678"/>
                </a:lnTo>
                <a:lnTo>
                  <a:pt x="286298" y="227621"/>
                </a:lnTo>
                <a:lnTo>
                  <a:pt x="335205" y="368299"/>
                </a:lnTo>
                <a:lnTo>
                  <a:pt x="207169" y="281354"/>
                </a:lnTo>
                <a:lnTo>
                  <a:pt x="79132" y="368299"/>
                </a:lnTo>
                <a:lnTo>
                  <a:pt x="128039" y="227621"/>
                </a:lnTo>
                <a:lnTo>
                  <a:pt x="0" y="140678"/>
                </a:ln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ffff00"/>
              </a:gs>
            </a:gsLst>
            <a:lin ang="18858000"/>
          </a:gradFill>
          <a:ln w="19080">
            <a:solidFill>
              <a:srgbClr val="ff99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5-конечная звезда 38"/>
          <p:cNvSpPr/>
          <p:nvPr/>
        </p:nvSpPr>
        <p:spPr>
          <a:xfrm rot="20877600">
            <a:off x="1348920" y="961560"/>
            <a:ext cx="505080" cy="449280"/>
          </a:xfrm>
          <a:custGeom>
            <a:avLst/>
            <a:gdLst/>
            <a:ahLst/>
            <a:rect l="l" t="t" r="r" b="b"/>
            <a:pathLst>
              <a:path w="504825" h="449263">
                <a:moveTo>
                  <a:pt x="1" y="171603"/>
                </a:moveTo>
                <a:lnTo>
                  <a:pt x="192827" y="171604"/>
                </a:lnTo>
                <a:lnTo>
                  <a:pt x="252413" y="0"/>
                </a:lnTo>
                <a:lnTo>
                  <a:pt x="311998" y="171604"/>
                </a:lnTo>
                <a:lnTo>
                  <a:pt x="504824" y="171603"/>
                </a:lnTo>
                <a:lnTo>
                  <a:pt x="348824" y="277659"/>
                </a:lnTo>
                <a:lnTo>
                  <a:pt x="408412" y="449262"/>
                </a:lnTo>
                <a:lnTo>
                  <a:pt x="252413" y="343204"/>
                </a:lnTo>
                <a:lnTo>
                  <a:pt x="96413" y="449262"/>
                </a:lnTo>
                <a:lnTo>
                  <a:pt x="156001" y="277659"/>
                </a:lnTo>
                <a:lnTo>
                  <a:pt x="1" y="171603"/>
                </a:ln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ffff00"/>
              </a:gs>
            </a:gsLst>
            <a:lin ang="19320000"/>
          </a:gradFill>
          <a:ln w="19080">
            <a:solidFill>
              <a:srgbClr val="ff99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5-конечная звезда 39"/>
          <p:cNvSpPr/>
          <p:nvPr/>
        </p:nvSpPr>
        <p:spPr>
          <a:xfrm rot="20647200">
            <a:off x="704880" y="1293480"/>
            <a:ext cx="628560" cy="558720"/>
          </a:xfrm>
          <a:custGeom>
            <a:avLst/>
            <a:gdLst/>
            <a:ahLst/>
            <a:rect l="l" t="t" r="r" b="b"/>
            <a:pathLst>
              <a:path w="628650" h="558800">
                <a:moveTo>
                  <a:pt x="1" y="213442"/>
                </a:moveTo>
                <a:lnTo>
                  <a:pt x="240124" y="213444"/>
                </a:lnTo>
                <a:lnTo>
                  <a:pt x="314325" y="0"/>
                </a:lnTo>
                <a:lnTo>
                  <a:pt x="388526" y="213444"/>
                </a:lnTo>
                <a:lnTo>
                  <a:pt x="628649" y="213442"/>
                </a:lnTo>
                <a:lnTo>
                  <a:pt x="434384" y="345356"/>
                </a:lnTo>
                <a:lnTo>
                  <a:pt x="508588" y="558799"/>
                </a:lnTo>
                <a:lnTo>
                  <a:pt x="314325" y="426882"/>
                </a:lnTo>
                <a:lnTo>
                  <a:pt x="120062" y="558799"/>
                </a:lnTo>
                <a:lnTo>
                  <a:pt x="194266" y="345356"/>
                </a:lnTo>
                <a:lnTo>
                  <a:pt x="1" y="213442"/>
                </a:ln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ffff00"/>
              </a:gs>
            </a:gsLst>
            <a:lin ang="19554000"/>
          </a:gradFill>
          <a:ln w="19080">
            <a:solidFill>
              <a:srgbClr val="ff99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5-конечная звезда 42"/>
          <p:cNvSpPr/>
          <p:nvPr/>
        </p:nvSpPr>
        <p:spPr>
          <a:xfrm rot="20686200">
            <a:off x="192240" y="1784520"/>
            <a:ext cx="901440" cy="801360"/>
          </a:xfrm>
          <a:custGeom>
            <a:avLst/>
            <a:gdLst/>
            <a:ahLst/>
            <a:rect l="l" t="t" r="r" b="b"/>
            <a:pathLst>
              <a:path w="901700" h="801688">
                <a:moveTo>
                  <a:pt x="1" y="306217"/>
                </a:moveTo>
                <a:lnTo>
                  <a:pt x="344421" y="306219"/>
                </a:lnTo>
                <a:lnTo>
                  <a:pt x="450850" y="0"/>
                </a:lnTo>
                <a:lnTo>
                  <a:pt x="557279" y="306219"/>
                </a:lnTo>
                <a:lnTo>
                  <a:pt x="901699" y="306217"/>
                </a:lnTo>
                <a:lnTo>
                  <a:pt x="623056" y="495468"/>
                </a:lnTo>
                <a:lnTo>
                  <a:pt x="729490" y="801686"/>
                </a:lnTo>
                <a:lnTo>
                  <a:pt x="450850" y="612431"/>
                </a:lnTo>
                <a:lnTo>
                  <a:pt x="172210" y="801686"/>
                </a:lnTo>
                <a:lnTo>
                  <a:pt x="278644" y="495468"/>
                </a:lnTo>
                <a:lnTo>
                  <a:pt x="1" y="306217"/>
                </a:ln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ffff00"/>
              </a:gs>
            </a:gsLst>
            <a:lin ang="19512000"/>
          </a:gradFill>
          <a:ln w="19080">
            <a:solidFill>
              <a:srgbClr val="ff99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5-конечная звезда 49"/>
          <p:cNvSpPr/>
          <p:nvPr/>
        </p:nvSpPr>
        <p:spPr>
          <a:xfrm rot="20674200">
            <a:off x="-140760" y="2565360"/>
            <a:ext cx="1098360" cy="1098720"/>
          </a:xfrm>
          <a:custGeom>
            <a:avLst/>
            <a:gdLst/>
            <a:ahLst/>
            <a:rect l="l" t="t" r="r" b="b"/>
            <a:pathLst>
              <a:path w="1098551" h="1098550">
                <a:moveTo>
                  <a:pt x="1" y="419608"/>
                </a:moveTo>
                <a:lnTo>
                  <a:pt x="419611" y="419611"/>
                </a:lnTo>
                <a:lnTo>
                  <a:pt x="549276" y="0"/>
                </a:lnTo>
                <a:lnTo>
                  <a:pt x="678940" y="419611"/>
                </a:lnTo>
                <a:lnTo>
                  <a:pt x="1098550" y="419608"/>
                </a:lnTo>
                <a:lnTo>
                  <a:pt x="759076" y="678938"/>
                </a:lnTo>
                <a:lnTo>
                  <a:pt x="888746" y="1098547"/>
                </a:lnTo>
                <a:lnTo>
                  <a:pt x="549276" y="839212"/>
                </a:lnTo>
                <a:lnTo>
                  <a:pt x="209805" y="1098547"/>
                </a:lnTo>
                <a:lnTo>
                  <a:pt x="339475" y="678938"/>
                </a:lnTo>
                <a:lnTo>
                  <a:pt x="1" y="419608"/>
                </a:ln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ffff00"/>
              </a:gs>
            </a:gsLst>
            <a:lin ang="19524000"/>
          </a:gradFill>
          <a:ln w="19080">
            <a:solidFill>
              <a:srgbClr val="ff99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title"/>
          </p:nvPr>
        </p:nvSpPr>
        <p:spPr>
          <a:xfrm>
            <a:off x="1638360" y="19807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18"/>
          <p:cNvSpPr/>
          <p:nvPr/>
        </p:nvSpPr>
        <p:spPr>
          <a:xfrm>
            <a:off x="0" y="0"/>
            <a:ext cx="2743200" cy="9334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b8e3e6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30"/>
          <p:cNvGrpSpPr/>
          <p:nvPr/>
        </p:nvGrpSpPr>
        <p:grpSpPr>
          <a:xfrm>
            <a:off x="-360" y="6562800"/>
            <a:ext cx="9144360" cy="309600"/>
            <a:chOff x="-360" y="6562800"/>
            <a:chExt cx="9144360" cy="309600"/>
          </a:xfrm>
        </p:grpSpPr>
        <p:sp>
          <p:nvSpPr>
            <p:cNvPr id="69" name="Rectangle 218"/>
            <p:cNvSpPr/>
            <p:nvPr/>
          </p:nvSpPr>
          <p:spPr>
            <a:xfrm>
              <a:off x="0" y="6638760"/>
              <a:ext cx="9144000" cy="23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220"/>
            <p:cNvGrpSpPr/>
            <p:nvPr/>
          </p:nvGrpSpPr>
          <p:grpSpPr>
            <a:xfrm>
              <a:off x="2881440" y="6637320"/>
              <a:ext cx="6262560" cy="234720"/>
              <a:chOff x="2881440" y="6637320"/>
              <a:chExt cx="6262560" cy="234720"/>
            </a:xfrm>
          </p:grpSpPr>
          <p:sp>
            <p:nvSpPr>
              <p:cNvPr id="71" name="Rectangle 221"/>
              <p:cNvSpPr/>
              <p:nvPr/>
            </p:nvSpPr>
            <p:spPr>
              <a:xfrm>
                <a:off x="5119560" y="6637320"/>
                <a:ext cx="4024440" cy="234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222"/>
              <p:cNvSpPr/>
              <p:nvPr/>
            </p:nvSpPr>
            <p:spPr>
              <a:xfrm>
                <a:off x="3608280" y="6637320"/>
                <a:ext cx="739800" cy="234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223"/>
              <p:cNvSpPr/>
              <p:nvPr/>
            </p:nvSpPr>
            <p:spPr>
              <a:xfrm>
                <a:off x="4346640" y="6637320"/>
                <a:ext cx="739800" cy="2347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224"/>
              <p:cNvSpPr/>
              <p:nvPr/>
            </p:nvSpPr>
            <p:spPr>
              <a:xfrm>
                <a:off x="5084640" y="6637320"/>
                <a:ext cx="739800" cy="234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25"/>
              <p:cNvSpPr/>
              <p:nvPr/>
            </p:nvSpPr>
            <p:spPr>
              <a:xfrm>
                <a:off x="2881440" y="6637320"/>
                <a:ext cx="739800" cy="234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Rectangle 226"/>
            <p:cNvSpPr/>
            <p:nvPr/>
          </p:nvSpPr>
          <p:spPr>
            <a:xfrm rot="10800000">
              <a:off x="-360" y="6562800"/>
              <a:ext cx="9124920" cy="856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sldNum" idx="2"/>
          </p:nvPr>
        </p:nvSpPr>
        <p:spPr>
          <a:xfrm>
            <a:off x="6781320" y="6609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29A4-3405-4B1B-8C57-A1B4764FBF8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6"/>
          <p:cNvSpPr/>
          <p:nvPr/>
        </p:nvSpPr>
        <p:spPr>
          <a:xfrm>
            <a:off x="0" y="914400"/>
            <a:ext cx="9124920" cy="8568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6"/>
          <p:cNvSpPr/>
          <p:nvPr/>
        </p:nvSpPr>
        <p:spPr>
          <a:xfrm>
            <a:off x="324000" y="662292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w w w. a l a d d i n – r d. r u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18"/>
          <p:cNvSpPr/>
          <p:nvPr/>
        </p:nvSpPr>
        <p:spPr>
          <a:xfrm>
            <a:off x="0" y="0"/>
            <a:ext cx="2743200" cy="9334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b8e3e6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30"/>
          <p:cNvGrpSpPr/>
          <p:nvPr/>
        </p:nvGrpSpPr>
        <p:grpSpPr>
          <a:xfrm>
            <a:off x="-360" y="6562800"/>
            <a:ext cx="9144360" cy="309600"/>
            <a:chOff x="-360" y="6562800"/>
            <a:chExt cx="9144360" cy="309600"/>
          </a:xfrm>
        </p:grpSpPr>
        <p:sp>
          <p:nvSpPr>
            <p:cNvPr id="120" name="Rectangle 218"/>
            <p:cNvSpPr/>
            <p:nvPr/>
          </p:nvSpPr>
          <p:spPr>
            <a:xfrm>
              <a:off x="0" y="6638760"/>
              <a:ext cx="9144000" cy="23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220"/>
            <p:cNvGrpSpPr/>
            <p:nvPr/>
          </p:nvGrpSpPr>
          <p:grpSpPr>
            <a:xfrm>
              <a:off x="2881440" y="6637320"/>
              <a:ext cx="6262560" cy="234720"/>
              <a:chOff x="2881440" y="6637320"/>
              <a:chExt cx="6262560" cy="234720"/>
            </a:xfrm>
          </p:grpSpPr>
          <p:sp>
            <p:nvSpPr>
              <p:cNvPr id="122" name="Rectangle 221"/>
              <p:cNvSpPr/>
              <p:nvPr/>
            </p:nvSpPr>
            <p:spPr>
              <a:xfrm>
                <a:off x="5119560" y="6637320"/>
                <a:ext cx="4024440" cy="234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22"/>
              <p:cNvSpPr/>
              <p:nvPr/>
            </p:nvSpPr>
            <p:spPr>
              <a:xfrm>
                <a:off x="3608280" y="6637320"/>
                <a:ext cx="739800" cy="234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23"/>
              <p:cNvSpPr/>
              <p:nvPr/>
            </p:nvSpPr>
            <p:spPr>
              <a:xfrm>
                <a:off x="4346640" y="6637320"/>
                <a:ext cx="739800" cy="2347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24"/>
              <p:cNvSpPr/>
              <p:nvPr/>
            </p:nvSpPr>
            <p:spPr>
              <a:xfrm>
                <a:off x="5084640" y="6637320"/>
                <a:ext cx="739800" cy="234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25"/>
              <p:cNvSpPr/>
              <p:nvPr/>
            </p:nvSpPr>
            <p:spPr>
              <a:xfrm>
                <a:off x="2881440" y="6637320"/>
                <a:ext cx="739800" cy="234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Rectangle 226"/>
            <p:cNvSpPr/>
            <p:nvPr/>
          </p:nvSpPr>
          <p:spPr>
            <a:xfrm rot="10800000">
              <a:off x="-360" y="6562800"/>
              <a:ext cx="9124920" cy="856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226"/>
          <p:cNvSpPr/>
          <p:nvPr/>
        </p:nvSpPr>
        <p:spPr>
          <a:xfrm>
            <a:off x="0" y="914400"/>
            <a:ext cx="9124920" cy="8568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6"/>
          <p:cNvSpPr/>
          <p:nvPr/>
        </p:nvSpPr>
        <p:spPr>
          <a:xfrm>
            <a:off x="324000" y="662292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w w w. a l a d d i n – r d. r u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8"/>
          <p:cNvSpPr/>
          <p:nvPr/>
        </p:nvSpPr>
        <p:spPr>
          <a:xfrm>
            <a:off x="0" y="0"/>
            <a:ext cx="2743200" cy="9334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b8e3e6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3"/>
          </p:nvPr>
        </p:nvSpPr>
        <p:spPr>
          <a:xfrm>
            <a:off x="6781320" y="6609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7F68-6406-4DAC-AF40-41024E06C56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18"/>
          <p:cNvSpPr/>
          <p:nvPr/>
        </p:nvSpPr>
        <p:spPr>
          <a:xfrm>
            <a:off x="0" y="0"/>
            <a:ext cx="2743200" cy="9334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b8e3e6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30"/>
          <p:cNvGrpSpPr/>
          <p:nvPr/>
        </p:nvGrpSpPr>
        <p:grpSpPr>
          <a:xfrm>
            <a:off x="-360" y="6562800"/>
            <a:ext cx="9144360" cy="309600"/>
            <a:chOff x="-360" y="6562800"/>
            <a:chExt cx="9144360" cy="309600"/>
          </a:xfrm>
        </p:grpSpPr>
        <p:sp>
          <p:nvSpPr>
            <p:cNvPr id="172" name="Rectangle 218"/>
            <p:cNvSpPr/>
            <p:nvPr/>
          </p:nvSpPr>
          <p:spPr>
            <a:xfrm>
              <a:off x="0" y="6638760"/>
              <a:ext cx="9144000" cy="23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20"/>
            <p:cNvGrpSpPr/>
            <p:nvPr/>
          </p:nvGrpSpPr>
          <p:grpSpPr>
            <a:xfrm>
              <a:off x="2881440" y="6637320"/>
              <a:ext cx="6262560" cy="234720"/>
              <a:chOff x="2881440" y="6637320"/>
              <a:chExt cx="6262560" cy="234720"/>
            </a:xfrm>
          </p:grpSpPr>
          <p:sp>
            <p:nvSpPr>
              <p:cNvPr id="174" name="Rectangle 221"/>
              <p:cNvSpPr/>
              <p:nvPr/>
            </p:nvSpPr>
            <p:spPr>
              <a:xfrm>
                <a:off x="5119560" y="6637320"/>
                <a:ext cx="4024440" cy="234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222"/>
              <p:cNvSpPr/>
              <p:nvPr/>
            </p:nvSpPr>
            <p:spPr>
              <a:xfrm>
                <a:off x="3608280" y="6637320"/>
                <a:ext cx="739800" cy="234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223"/>
              <p:cNvSpPr/>
              <p:nvPr/>
            </p:nvSpPr>
            <p:spPr>
              <a:xfrm>
                <a:off x="4346640" y="6637320"/>
                <a:ext cx="739800" cy="2347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24"/>
              <p:cNvSpPr/>
              <p:nvPr/>
            </p:nvSpPr>
            <p:spPr>
              <a:xfrm>
                <a:off x="5084640" y="6637320"/>
                <a:ext cx="739800" cy="234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25"/>
              <p:cNvSpPr/>
              <p:nvPr/>
            </p:nvSpPr>
            <p:spPr>
              <a:xfrm>
                <a:off x="2881440" y="6637320"/>
                <a:ext cx="739800" cy="234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Rectangle 226"/>
            <p:cNvSpPr/>
            <p:nvPr/>
          </p:nvSpPr>
          <p:spPr>
            <a:xfrm rot="10800000">
              <a:off x="-360" y="6562800"/>
              <a:ext cx="9124920" cy="856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226"/>
          <p:cNvSpPr/>
          <p:nvPr/>
        </p:nvSpPr>
        <p:spPr>
          <a:xfrm>
            <a:off x="0" y="914400"/>
            <a:ext cx="9124920" cy="8568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6"/>
          <p:cNvSpPr/>
          <p:nvPr/>
        </p:nvSpPr>
        <p:spPr>
          <a:xfrm>
            <a:off x="324000" y="662292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w w w. a l a d d i n – r d. r u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2C72-4E9F-42FE-AC2B-2ADC04054381}" type="datetime">
              <a:rPr b="0" i="1" lang="ru-RU" sz="1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ригорьев Алексей Владимирович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6"/>
          </p:nvPr>
        </p:nvSpPr>
        <p:spPr>
          <a:xfrm>
            <a:off x="6781320" y="6609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EB01-ED65-4D4F-B997-5D55F2DD6CC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7.png"/><Relationship Id="rId8" Type="http://schemas.openxmlformats.org/officeDocument/2006/relationships/image" Target="../media/image19.png"/><Relationship Id="rId9" Type="http://schemas.openxmlformats.org/officeDocument/2006/relationships/image" Target="../media/image20.jpeg"/><Relationship Id="rId10" Type="http://schemas.openxmlformats.org/officeDocument/2006/relationships/image" Target="../media/image21.pn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609480" y="144792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600"/>
            </a:b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2286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Защита персональных данных в медицинских организациях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"/>
          <p:cNvSpPr/>
          <p:nvPr/>
        </p:nvSpPr>
        <p:spPr>
          <a:xfrm>
            <a:off x="6463800" y="515448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банов А.Г.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О «Аладдин Р.Д.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4107960" y="6172200"/>
            <a:ext cx="189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сква, 19.04.2012г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обеспечения безопасност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ить циркуляцию информации в открытом виде только точками шифрования и  расшиф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ть надежные решения по управлению ключами, соответствующие национальным стандарт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ть длины ключей и криптографические алгоритмы, соответствующие национальным стандарт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ить устройства, выполняющие криптографические операции, от физической и логической компрометаци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6781680" y="6610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3289-B448-4920-B52A-EA11E915E5C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1752480" cy="1790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1847880" cy="1255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формация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6781680" y="6610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C7FE-B014-47B9-B27C-FA3920EF8AD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Двойная стрелка влево/вправо 4"/>
          <p:cNvSpPr/>
          <p:nvPr/>
        </p:nvSpPr>
        <p:spPr>
          <a:xfrm>
            <a:off x="2209680" y="4114800"/>
            <a:ext cx="4343400" cy="1600200"/>
          </a:xfrm>
          <a:prstGeom prst="leftRightArrow">
            <a:avLst>
              <a:gd name="adj1" fmla="val 50000"/>
              <a:gd name="adj2" fmla="val 3155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фрование/электронная подпись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"/>
          <p:cNvSpPr/>
          <p:nvPr/>
        </p:nvSpPr>
        <p:spPr>
          <a:xfrm>
            <a:off x="0" y="56386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требитель информации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6"/>
          <p:cNvSpPr/>
          <p:nvPr/>
        </p:nvSpPr>
        <p:spPr>
          <a:xfrm>
            <a:off x="6324480" y="57913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ранилище данных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847880" cy="1255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296" name="Стрелка вниз 9" descr=""/>
          <p:cNvPicPr/>
          <p:nvPr/>
        </p:nvPicPr>
        <p:blipFill>
          <a:blip r:embed="rId4"/>
          <a:stretch/>
        </p:blipFill>
        <p:spPr>
          <a:xfrm>
            <a:off x="3541680" y="2505240"/>
            <a:ext cx="1609920" cy="2085840"/>
          </a:xfrm>
          <a:prstGeom prst="rect">
            <a:avLst/>
          </a:prstGeom>
          <a:ln w="0">
            <a:noFill/>
          </a:ln>
        </p:spPr>
      </p:pic>
      <p:pic>
        <p:nvPicPr>
          <p:cNvPr id="297" name="TextBox 5" descr=""/>
          <p:cNvPicPr/>
          <p:nvPr/>
        </p:nvPicPr>
        <p:blipFill>
          <a:blip r:embed="rId5"/>
          <a:stretch/>
        </p:blipFill>
        <p:spPr>
          <a:xfrm>
            <a:off x="5108400" y="1139760"/>
            <a:ext cx="622440" cy="1663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"/>
          <p:cNvPicPr/>
          <p:nvPr/>
        </p:nvPicPr>
        <p:blipFill>
          <a:blip r:embed="rId6"/>
          <a:stretch/>
        </p:blipFill>
        <p:spPr>
          <a:xfrm>
            <a:off x="6553080" y="1219320"/>
            <a:ext cx="1847880" cy="1255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299" name="Стрелка вниз 14" descr=""/>
          <p:cNvPicPr/>
          <p:nvPr/>
        </p:nvPicPr>
        <p:blipFill>
          <a:blip r:embed="rId7"/>
          <a:stretch/>
        </p:blipFill>
        <p:spPr>
          <a:xfrm>
            <a:off x="6589800" y="2481120"/>
            <a:ext cx="1609560" cy="1578240"/>
          </a:xfrm>
          <a:prstGeom prst="rect">
            <a:avLst/>
          </a:prstGeom>
          <a:ln w="0">
            <a:noFill/>
          </a:ln>
        </p:spPr>
      </p:pic>
      <p:pic>
        <p:nvPicPr>
          <p:cNvPr id="300" name="TextBox 5" descr=""/>
          <p:cNvPicPr/>
          <p:nvPr/>
        </p:nvPicPr>
        <p:blipFill>
          <a:blip r:embed="rId8"/>
          <a:stretch/>
        </p:blipFill>
        <p:spPr>
          <a:xfrm>
            <a:off x="8381880" y="1139760"/>
            <a:ext cx="62244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щита ПДн в М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6781680" y="6610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747F-A79C-48B4-B7D9-1A035B7FCB6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177040" cy="550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3"/>
          <p:cNvSpPr/>
          <p:nvPr/>
        </p:nvSpPr>
        <p:spPr>
          <a:xfrm>
            <a:off x="6781680" y="6610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56B9-C459-4189-9A88-EA190A35CE5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138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лака: возможности и проблем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Placeholder 4"/>
          <p:cNvSpPr/>
          <p:nvPr/>
        </p:nvSpPr>
        <p:spPr>
          <a:xfrm>
            <a:off x="533520" y="1066680"/>
            <a:ext cx="777708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ю информацию контролирует и хранит провайдер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Сняты ограничения по размещению информа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Экономия за счет масштаб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влекательность для преступников и конкурентов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я в ИТ процессах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Физическая безопасность обеспечивается провайдером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Провайдер юридически независим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 хранения персональных данных и иной важной информаци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 проведения расследования киберпреступлени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опасность «облачных вычислений»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6781680" y="6610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3C8D-1A35-4DF3-9ED5-DB983B04E75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Рисунок 4" descr="http://filearchive.cnews.ru/img/reviews/2011/11/28/1_204a5.jpg"/>
          <p:cNvPicPr/>
          <p:nvPr/>
        </p:nvPicPr>
        <p:blipFill>
          <a:blip r:embed="rId1"/>
          <a:stretch/>
        </p:blipFill>
        <p:spPr>
          <a:xfrm>
            <a:off x="838080" y="1219320"/>
            <a:ext cx="7467840" cy="47242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5"/>
          <p:cNvSpPr/>
          <p:nvPr/>
        </p:nvSpPr>
        <p:spPr>
          <a:xfrm>
            <a:off x="176400" y="6172200"/>
            <a:ext cx="83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точник: http://www.cnews.ru/reviews/free/security2011/articles/articles3.shtm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то отвечает за безопасность «облака»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6781680" y="6610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4BD9-BF5C-4FF5-AEB5-08B0008C5B9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4"/>
          <p:cNvSpPr/>
          <p:nvPr/>
        </p:nvSpPr>
        <p:spPr>
          <a:xfrm>
            <a:off x="76320" y="6172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точник: http://www.cnews.ru/reviews/free/security2011/articles/articles3.shtm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Рисунок 5" descr="http://filearchive.cnews.ru/img/reviews/2011/11/28/2_6b67c.jpg"/>
          <p:cNvPicPr/>
          <p:nvPr/>
        </p:nvPicPr>
        <p:blipFill>
          <a:blip r:embed="rId1"/>
          <a:stretch/>
        </p:blipFill>
        <p:spPr>
          <a:xfrm>
            <a:off x="685800" y="1352520"/>
            <a:ext cx="7543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ие облака могут быть построены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6781680" y="6610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0F7A-FF2A-4FDD-B9EA-21D1A6C0F3C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" descr="C:\Users\asabanov\Desktop\Облако_Интернет_1.png"/>
          <p:cNvPicPr/>
          <p:nvPr/>
        </p:nvPicPr>
        <p:blipFill>
          <a:blip r:embed="rId1"/>
          <a:stretch/>
        </p:blipFill>
        <p:spPr>
          <a:xfrm>
            <a:off x="4572000" y="1066680"/>
            <a:ext cx="1409760" cy="847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C:\Users\asabanov\Desktop\Облако_Интернет_1.png"/>
          <p:cNvPicPr/>
          <p:nvPr/>
        </p:nvPicPr>
        <p:blipFill>
          <a:blip r:embed="rId2"/>
          <a:stretch/>
        </p:blipFill>
        <p:spPr>
          <a:xfrm>
            <a:off x="3048120" y="2514600"/>
            <a:ext cx="1409760" cy="847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C:\Users\asabanov\Desktop\Облако_Интернет_1.png"/>
          <p:cNvPicPr/>
          <p:nvPr/>
        </p:nvPicPr>
        <p:blipFill>
          <a:blip r:embed="rId3"/>
          <a:stretch/>
        </p:blipFill>
        <p:spPr>
          <a:xfrm>
            <a:off x="4476600" y="3825720"/>
            <a:ext cx="1409760" cy="847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C:\Users\asabanov\Desktop\Облако_Интернет_1.png"/>
          <p:cNvPicPr/>
          <p:nvPr/>
        </p:nvPicPr>
        <p:blipFill>
          <a:blip r:embed="rId4"/>
          <a:stretch/>
        </p:blipFill>
        <p:spPr>
          <a:xfrm>
            <a:off x="2097000" y="3732120"/>
            <a:ext cx="1409760" cy="847800"/>
          </a:xfrm>
          <a:prstGeom prst="rect">
            <a:avLst/>
          </a:prstGeom>
          <a:ln w="0">
            <a:noFill/>
          </a:ln>
        </p:spPr>
      </p:pic>
      <p:sp>
        <p:nvSpPr>
          <p:cNvPr id="321" name="TextBox 4"/>
          <p:cNvSpPr/>
          <p:nvPr/>
        </p:nvSpPr>
        <p:spPr>
          <a:xfrm>
            <a:off x="162000" y="125244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деральный уровень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9"/>
          <p:cNvSpPr/>
          <p:nvPr/>
        </p:nvSpPr>
        <p:spPr>
          <a:xfrm>
            <a:off x="120240" y="275436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гиональный уровень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283320" y="39718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ласть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1"/>
          <p:cNvSpPr/>
          <p:nvPr/>
        </p:nvSpPr>
        <p:spPr>
          <a:xfrm>
            <a:off x="285120" y="51847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йон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C:\Users\asabanov\Desktop\Database-2.png"/>
          <p:cNvPicPr/>
          <p:nvPr/>
        </p:nvPicPr>
        <p:blipFill>
          <a:blip r:embed="rId5"/>
          <a:stretch/>
        </p:blipFill>
        <p:spPr>
          <a:xfrm>
            <a:off x="2225520" y="5099040"/>
            <a:ext cx="641520" cy="64296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13" descr="C:\Users\asabanov\AppData\Local\Microsoft\Windows\Temporary Internet Files\Content.Outlook\RHGPVFVL\ЭМК.jpg"/>
          <p:cNvPicPr/>
          <p:nvPr/>
        </p:nvPicPr>
        <p:blipFill>
          <a:blip r:embed="rId6"/>
          <a:stretch/>
        </p:blipFill>
        <p:spPr>
          <a:xfrm>
            <a:off x="5715000" y="1427040"/>
            <a:ext cx="793800" cy="7178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C:\Users\asabanov\Desktop\Database-2.png"/>
          <p:cNvPicPr/>
          <p:nvPr/>
        </p:nvPicPr>
        <p:blipFill>
          <a:blip r:embed="rId7"/>
          <a:stretch/>
        </p:blipFill>
        <p:spPr>
          <a:xfrm>
            <a:off x="3111480" y="5083200"/>
            <a:ext cx="641520" cy="641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Users\asabanov\Desktop\Database-2.png"/>
          <p:cNvPicPr/>
          <p:nvPr/>
        </p:nvPicPr>
        <p:blipFill>
          <a:blip r:embed="rId8"/>
          <a:stretch/>
        </p:blipFill>
        <p:spPr>
          <a:xfrm>
            <a:off x="4029120" y="5081760"/>
            <a:ext cx="498600" cy="642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C:\Users\asabanov\Desktop\BD.jpg"/>
          <p:cNvPicPr/>
          <p:nvPr/>
        </p:nvPicPr>
        <p:blipFill>
          <a:blip r:embed="rId9"/>
          <a:stretch/>
        </p:blipFill>
        <p:spPr>
          <a:xfrm>
            <a:off x="4175280" y="2757600"/>
            <a:ext cx="706320" cy="604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C:\Users\asabanov\Desktop\Database.png"/>
          <p:cNvPicPr/>
          <p:nvPr/>
        </p:nvPicPr>
        <p:blipFill>
          <a:blip r:embed="rId10"/>
          <a:stretch/>
        </p:blipFill>
        <p:spPr>
          <a:xfrm>
            <a:off x="3273480" y="399744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31" name="TextBox 10"/>
          <p:cNvSpPr/>
          <p:nvPr/>
        </p:nvSpPr>
        <p:spPr>
          <a:xfrm>
            <a:off x="379800" y="6026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ПУ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6" descr="C:\Users\asabanov\Desktop\картинки_\app_full_proxy.jpg"/>
          <p:cNvPicPr/>
          <p:nvPr/>
        </p:nvPicPr>
        <p:blipFill>
          <a:blip r:embed="rId11"/>
          <a:stretch/>
        </p:blipFill>
        <p:spPr>
          <a:xfrm>
            <a:off x="1600200" y="5954760"/>
            <a:ext cx="1052640" cy="654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C:\Users\asabanov\Desktop\картинки_\app_full_proxy.jpg"/>
          <p:cNvPicPr/>
          <p:nvPr/>
        </p:nvPicPr>
        <p:blipFill>
          <a:blip r:embed="rId12"/>
          <a:stretch/>
        </p:blipFill>
        <p:spPr>
          <a:xfrm>
            <a:off x="2941560" y="5943600"/>
            <a:ext cx="1069920" cy="665280"/>
          </a:xfrm>
          <a:prstGeom prst="rect">
            <a:avLst/>
          </a:prstGeom>
          <a:ln w="0">
            <a:noFill/>
          </a:ln>
        </p:spPr>
      </p:pic>
      <p:cxnSp>
        <p:nvCxnSpPr>
          <p:cNvPr id="334" name="Прямая со стрелкой 19"/>
          <p:cNvCxnSpPr>
            <a:stCxn id="332" idx="0"/>
          </p:cNvCxnSpPr>
          <p:nvPr/>
        </p:nvCxnSpPr>
        <p:spPr>
          <a:xfrm flipV="1">
            <a:off x="2127240" y="5701680"/>
            <a:ext cx="15588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5" name="Прямая со стрелкой 29"/>
          <p:cNvCxnSpPr/>
          <p:nvPr/>
        </p:nvCxnSpPr>
        <p:spPr>
          <a:xfrm flipH="1" flipV="1">
            <a:off x="2809440" y="5724000"/>
            <a:ext cx="30240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6" name="Прямая со стрелкой 31"/>
          <p:cNvCxnSpPr/>
          <p:nvPr/>
        </p:nvCxnSpPr>
        <p:spPr>
          <a:xfrm flipV="1">
            <a:off x="2833560" y="4579560"/>
            <a:ext cx="44064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7" name="Прямая со стрелкой 33"/>
          <p:cNvCxnSpPr/>
          <p:nvPr/>
        </p:nvCxnSpPr>
        <p:spPr>
          <a:xfrm flipV="1">
            <a:off x="3618000" y="3361680"/>
            <a:ext cx="558000" cy="65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8" name="Прямая со стрелкой 35"/>
          <p:cNvCxnSpPr/>
          <p:nvPr/>
        </p:nvCxnSpPr>
        <p:spPr>
          <a:xfrm flipV="1">
            <a:off x="4862520" y="1914120"/>
            <a:ext cx="853200" cy="90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защиты для отраслевого облак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218960"/>
            <a:ext cx="853416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строгой двухфакторной взаимной аутентификации пользователь – информационный ресурс с использованием цифровых сертификатов, выпущенных доверенным обоим участникам взаимодействия сервис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ое шифрование персональных данных при передаче и их хранения в «облачной» сре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безопасности гипервиз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т ограниченных вычислительных ресурсов виртуальных хостов, на которых работают виртуальные машины. Например, это может быть актуально не только для обеспечения непрерывной работы приложения, но и для работы антивирусных сред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6781680" y="6610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FFD6-9CD4-489C-9CF3-F9827DA500C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 защиты ПДн в «Облаках»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6781680" y="6610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0812-02F7-4F5C-B331-AF886C508E9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Рисунок 5" descr="Схема1-ддх.jpg"/>
          <p:cNvPicPr/>
          <p:nvPr/>
        </p:nvPicPr>
        <p:blipFill>
          <a:blip r:embed="rId1"/>
          <a:stretch/>
        </p:blipFill>
        <p:spPr>
          <a:xfrm>
            <a:off x="380880" y="968400"/>
            <a:ext cx="8229600" cy="5537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6810480" y="1752480"/>
            <a:ext cx="1823760" cy="1981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"/>
          <p:cNvPicPr/>
          <p:nvPr/>
        </p:nvPicPr>
        <p:blipFill>
          <a:blip r:embed="rId3"/>
          <a:stretch/>
        </p:blipFill>
        <p:spPr>
          <a:xfrm>
            <a:off x="7010280" y="3809880"/>
            <a:ext cx="5241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полнение требований регуляторов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зличивание всей необходим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сертифицированных С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информационной безопасностью в контролируемой з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6781680" y="6610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8F89-CBBA-4453-A7A7-33B77781DD3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Заголовок 1"/>
          <p:cNvSpPr/>
          <p:nvPr/>
        </p:nvSpPr>
        <p:spPr>
          <a:xfrm>
            <a:off x="838080" y="2971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реальные результаты защиты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Текст 2"/>
          <p:cNvSpPr/>
          <p:nvPr/>
        </p:nvSpPr>
        <p:spPr>
          <a:xfrm>
            <a:off x="533520" y="3733920"/>
            <a:ext cx="8381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зличенная информация неинтересна для киберпреступников и конкурентов на стороне хостер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ледование инцидентов НСД – полностью под контролем Обладателя ПДн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ка персональных данных и иной важной информации – только под контролем Обладателя ПДн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персональных данн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сональные данные(ПДн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 любая информация, относящаяся к прямо или косвенно определенному или определяемому физическому лицу (субъекту персональных данных); с персональными данными связаны следующие понят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ератор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государственный орган, муниципальный орган, юридическое или физическое лицо, самостоятельно или совместно с другими лицами организующие и (или) осуществляющие обработку персональных данных, а также определяющие цели обработки персональных данных, состав персональных данных, подлежащих обработке, действия (операции), совершаемые с персональными дан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ботка персональных данны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 любое действие (операция) или совокупность действий (операций), совершаемых с использованием средств автоматизации или без использования таких средств с персональными данными, включая сбор, запись, систематизацию, накопление, хранение, уточнение (обновление, изменение), извлечение, использование, передачу (распространение, предоставление, доступ), обезличивание, блокирование, удаление, уничтожение персональных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матизированная обработка персональных данны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 обработка персональных данных с помощью средств вычислительной техн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пространение персональных данны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 действия, направленные на раскрытие персональных данных неопределенному кругу ли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оставление персональных данны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 действия, направленные на раскрытие персональных данных определенному лицу или определенному кругу 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6781680" y="6610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672C-0E16-43E9-A7B8-72CE528DB42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рипто БД: сертифицированное СКЗ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6781680" y="6610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F024-7B11-4967-A059-18154A8264E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543800" cy="5362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38360" y="19807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6781680" y="6610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7B75-D1B9-4E75-9E74-6ADF29EC903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"/>
          <p:cNvSpPr/>
          <p:nvPr/>
        </p:nvSpPr>
        <p:spPr>
          <a:xfrm>
            <a:off x="5504040" y="556272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.sabanov@aladdin-rd.ru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ействия с персональными данным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990360"/>
            <a:ext cx="9067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ирование персональных дан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временное прекращение обработки персональных данных (за исключением случаев, если обработка необходима для уточнения персональных данны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чтожение персональных дан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действия, в результате которых становится невозможным восстановить содержание персональных данных в информационной системе персональных данных и (или) в результате которых уничтожаются материальные носители персональных дан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зличивание персональных дан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действия, в результате которых становится невозможным без использования дополнительной информации определить принадлежность персональных данных конкретному субъекту персональных дан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ая система персональных дан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ИСПДн) — совокупность содержащихся в базах данных персональных данных и обеспечивающих их обработку информационных технологий и технических сред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граничная передача персональных дан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передача персональных данных на территорию иностранного государства органу власти иностранного государства, иностранному физическому лицу или иностранному юридическому л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6781680" y="6610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40C2-2727-43ED-8112-DD2A8EB2609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95200" y="151920"/>
            <a:ext cx="79484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 простейшей М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6781680" y="6610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0931-0806-4323-B651-2E7F1A8C605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Группа 4"/>
          <p:cNvGrpSpPr/>
          <p:nvPr/>
        </p:nvGrpSpPr>
        <p:grpSpPr>
          <a:xfrm>
            <a:off x="457200" y="1219320"/>
            <a:ext cx="8001000" cy="5029200"/>
            <a:chOff x="457200" y="1219320"/>
            <a:chExt cx="8001000" cy="5029200"/>
          </a:xfrm>
        </p:grpSpPr>
        <p:sp>
          <p:nvSpPr>
            <p:cNvPr id="236" name="Скругленный прямоугольник 5"/>
            <p:cNvSpPr/>
            <p:nvPr/>
          </p:nvSpPr>
          <p:spPr>
            <a:xfrm>
              <a:off x="457200" y="1219320"/>
              <a:ext cx="2656440" cy="25372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Скругленный прямоугольник 6"/>
            <p:cNvSpPr/>
            <p:nvPr/>
          </p:nvSpPr>
          <p:spPr>
            <a:xfrm>
              <a:off x="536760" y="4165920"/>
              <a:ext cx="2642760" cy="20822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Скругленный прямоугольник 7"/>
            <p:cNvSpPr/>
            <p:nvPr/>
          </p:nvSpPr>
          <p:spPr>
            <a:xfrm>
              <a:off x="4047120" y="2029680"/>
              <a:ext cx="4344840" cy="2205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Скругленный прямоугольник 8"/>
            <p:cNvSpPr/>
            <p:nvPr/>
          </p:nvSpPr>
          <p:spPr>
            <a:xfrm>
              <a:off x="5512680" y="4350960"/>
              <a:ext cx="2945520" cy="18975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Скругленный прямоугольник 9"/>
            <p:cNvSpPr/>
            <p:nvPr/>
          </p:nvSpPr>
          <p:spPr>
            <a:xfrm>
              <a:off x="848160" y="1905840"/>
              <a:ext cx="1411920" cy="44604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ациент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Скругленный прямоугольник 10"/>
            <p:cNvSpPr/>
            <p:nvPr/>
          </p:nvSpPr>
          <p:spPr>
            <a:xfrm>
              <a:off x="848160" y="2484360"/>
              <a:ext cx="1410840" cy="39276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Мед.работник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Скругленный прямоугольник 11"/>
            <p:cNvSpPr/>
            <p:nvPr/>
          </p:nvSpPr>
          <p:spPr>
            <a:xfrm>
              <a:off x="848160" y="3000960"/>
              <a:ext cx="1411920" cy="39276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ользователь ИС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Скругленный прямоугольник 12"/>
            <p:cNvSpPr/>
            <p:nvPr/>
          </p:nvSpPr>
          <p:spPr>
            <a:xfrm>
              <a:off x="934920" y="1219320"/>
              <a:ext cx="1013400" cy="423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9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убъект</a:t>
              </a:r>
              <a:endParaRPr b="0" i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Скругленный прямоугольник 13"/>
            <p:cNvSpPr/>
            <p:nvPr/>
          </p:nvSpPr>
          <p:spPr>
            <a:xfrm>
              <a:off x="667080" y="4235400"/>
              <a:ext cx="2446920" cy="454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9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Единая электронная медкарта</a:t>
              </a:r>
              <a:endParaRPr b="0" i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Скругленный прямоугольник 14"/>
            <p:cNvSpPr/>
            <p:nvPr/>
          </p:nvSpPr>
          <p:spPr>
            <a:xfrm>
              <a:off x="5954400" y="4381920"/>
              <a:ext cx="2129040" cy="4078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9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Экономический блок</a:t>
              </a:r>
              <a:endParaRPr b="0" i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Скругленный прямоугольник 15"/>
            <p:cNvSpPr/>
            <p:nvPr/>
          </p:nvSpPr>
          <p:spPr>
            <a:xfrm>
              <a:off x="934920" y="4790880"/>
              <a:ext cx="1788840" cy="38520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мбулаторная карта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Скругленный прямоугольник 16"/>
            <p:cNvSpPr/>
            <p:nvPr/>
          </p:nvSpPr>
          <p:spPr>
            <a:xfrm>
              <a:off x="6106680" y="4790880"/>
              <a:ext cx="1730520" cy="38520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ОМС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Скругленный прямоугольник 17"/>
            <p:cNvSpPr/>
            <p:nvPr/>
          </p:nvSpPr>
          <p:spPr>
            <a:xfrm>
              <a:off x="1195920" y="5315400"/>
              <a:ext cx="1730520" cy="38520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стория болезни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Скругленный прямоугольник 18"/>
            <p:cNvSpPr/>
            <p:nvPr/>
          </p:nvSpPr>
          <p:spPr>
            <a:xfrm>
              <a:off x="1080000" y="5415840"/>
              <a:ext cx="1730520" cy="38520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стория болезни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Скругленный прямоугольник 19"/>
            <p:cNvSpPr/>
            <p:nvPr/>
          </p:nvSpPr>
          <p:spPr>
            <a:xfrm>
              <a:off x="934920" y="5508360"/>
              <a:ext cx="1730520" cy="38520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стория болезни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Скругленный прямоугольник 20"/>
            <p:cNvSpPr/>
            <p:nvPr/>
          </p:nvSpPr>
          <p:spPr>
            <a:xfrm>
              <a:off x="4259160" y="2039760"/>
              <a:ext cx="3122280" cy="4521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9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олжность медицинского работника</a:t>
              </a:r>
              <a:endParaRPr b="0" i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Скругленный прямоугольник 21"/>
            <p:cNvSpPr/>
            <p:nvPr/>
          </p:nvSpPr>
          <p:spPr>
            <a:xfrm>
              <a:off x="4172760" y="2491920"/>
              <a:ext cx="1730520" cy="38520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ежурный врач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Скругленный прямоугольник 22"/>
            <p:cNvSpPr/>
            <p:nvPr/>
          </p:nvSpPr>
          <p:spPr>
            <a:xfrm>
              <a:off x="4172760" y="3008880"/>
              <a:ext cx="1730520" cy="38520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Лечащий врач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Скругленный прямоугольник 23"/>
            <p:cNvSpPr/>
            <p:nvPr/>
          </p:nvSpPr>
          <p:spPr>
            <a:xfrm>
              <a:off x="4172760" y="3594960"/>
              <a:ext cx="1730520" cy="38520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рач-специалист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Скругленный прямоугольник 24"/>
            <p:cNvSpPr/>
            <p:nvPr/>
          </p:nvSpPr>
          <p:spPr>
            <a:xfrm>
              <a:off x="6208200" y="2491920"/>
              <a:ext cx="1861200" cy="38520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Руководящее звено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Скругленный прямоугольник 25"/>
            <p:cNvSpPr/>
            <p:nvPr/>
          </p:nvSpPr>
          <p:spPr>
            <a:xfrm>
              <a:off x="6208200" y="3024360"/>
              <a:ext cx="1861200" cy="36972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Медицинский статистик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Скругленный прямоугольник 26"/>
            <p:cNvSpPr/>
            <p:nvPr/>
          </p:nvSpPr>
          <p:spPr>
            <a:xfrm>
              <a:off x="6208200" y="3594960"/>
              <a:ext cx="1838880" cy="40788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редний медперсонал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Скругленный прямоугольник 27"/>
            <p:cNvSpPr/>
            <p:nvPr/>
          </p:nvSpPr>
          <p:spPr>
            <a:xfrm>
              <a:off x="6106680" y="5299920"/>
              <a:ext cx="1730520" cy="38520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МС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Скругленный прямоугольник 28"/>
            <p:cNvSpPr/>
            <p:nvPr/>
          </p:nvSpPr>
          <p:spPr>
            <a:xfrm>
              <a:off x="6157440" y="5801400"/>
              <a:ext cx="1730520" cy="38520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аличный расчет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0" name="Прямая со стрелкой 29"/>
            <p:cNvCxnSpPr/>
            <p:nvPr/>
          </p:nvCxnSpPr>
          <p:spPr>
            <a:xfrm flipV="1">
              <a:off x="5955480" y="1662480"/>
              <a:ext cx="941760" cy="35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61" name="Прямая со стрелкой 30"/>
            <p:cNvCxnSpPr/>
            <p:nvPr/>
          </p:nvCxnSpPr>
          <p:spPr>
            <a:xfrm>
              <a:off x="5010840" y="1642320"/>
              <a:ext cx="942840" cy="36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62" name="Прямая со стрелкой 31"/>
            <p:cNvCxnSpPr/>
            <p:nvPr/>
          </p:nvCxnSpPr>
          <p:spPr>
            <a:xfrm>
              <a:off x="3115080" y="2939040"/>
              <a:ext cx="936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3" name="Прямая со стрелкой 32"/>
            <p:cNvCxnSpPr/>
            <p:nvPr/>
          </p:nvCxnSpPr>
          <p:spPr>
            <a:xfrm flipV="1">
              <a:off x="3179520" y="4279320"/>
              <a:ext cx="2388600" cy="912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64" name="Прямая со стрелкой 33"/>
            <p:cNvCxnSpPr/>
            <p:nvPr/>
          </p:nvCxnSpPr>
          <p:spPr>
            <a:xfrm>
              <a:off x="3180600" y="5816520"/>
              <a:ext cx="2332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265" name="Скругленный прямоугольник 35"/>
          <p:cNvSpPr/>
          <p:nvPr/>
        </p:nvSpPr>
        <p:spPr>
          <a:xfrm>
            <a:off x="6840360" y="1227240"/>
            <a:ext cx="1047960" cy="465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помогательные подразделения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36"/>
          <p:cNvSpPr/>
          <p:nvPr/>
        </p:nvSpPr>
        <p:spPr>
          <a:xfrm>
            <a:off x="5504040" y="1204920"/>
            <a:ext cx="841320" cy="447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ИТ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37"/>
          <p:cNvSpPr/>
          <p:nvPr/>
        </p:nvSpPr>
        <p:spPr>
          <a:xfrm>
            <a:off x="4137120" y="1231920"/>
            <a:ext cx="901440" cy="430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авочники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Прямая со стрелкой 38"/>
          <p:cNvCxnSpPr>
            <a:endCxn id="266" idx="1"/>
          </p:cNvCxnSpPr>
          <p:nvPr/>
        </p:nvCxnSpPr>
        <p:spPr>
          <a:xfrm flipV="1">
            <a:off x="5038200" y="1428120"/>
            <a:ext cx="46620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69" name="Прямая со стрелкой 40"/>
          <p:cNvCxnSpPr>
            <a:endCxn id="265" idx="1"/>
          </p:cNvCxnSpPr>
          <p:nvPr/>
        </p:nvCxnSpPr>
        <p:spPr>
          <a:xfrm>
            <a:off x="6345000" y="1458720"/>
            <a:ext cx="495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формация пациента. Виды тайн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6781680" y="6610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EB0F-BDE2-4ED7-8758-FA59F1D16CC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228600" y="106668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я тай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храняется основным законом  Конституцией (ст.23,24)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 Семейном кодексе – медицинская) тайна – Основы законодательства Российской Федерации об охране здоровья граждан (ст.61, 35)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дан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 одной стороны, это – специфические требования №152-ФЗ, с другой стороны Закон дает только инструмент защиты прав и свобод человека и гражданина, в правовом отношении это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йна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ен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.е. переданная) врачу и охраняемая Основным законом РФ (Конституцией)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иды тайн, обрабатываемых в М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6781680" y="6610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BCCD-DE3A-4A38-94E7-39C4C566E35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4" descr=""/>
          <p:cNvPicPr/>
          <p:nvPr/>
        </p:nvPicPr>
        <p:blipFill>
          <a:blip r:embed="rId1"/>
          <a:stretch/>
        </p:blipFill>
        <p:spPr>
          <a:xfrm>
            <a:off x="2455920" y="990720"/>
            <a:ext cx="4021200" cy="53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я ограниченного доступа. Пациен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6781680" y="6610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9D6E-D2EE-4151-A350-A70BB5AC454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Рисунок 4" descr="C:\Users\asabanov\AppData\Local\Microsoft\Windows\Temporary Internet Files\Content.Outlook\RHGPVFVL\1-Guliev.jpg"/>
          <p:cNvPicPr/>
          <p:nvPr/>
        </p:nvPicPr>
        <p:blipFill>
          <a:blip r:embed="rId1"/>
          <a:stretch/>
        </p:blipFill>
        <p:spPr>
          <a:xfrm>
            <a:off x="1371600" y="1143000"/>
            <a:ext cx="5486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о сотруднике ЛП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6781680" y="6610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8CD7-740A-4CAA-A623-403659A34AD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Рисунок 4" descr="C:\Users\asabanov\AppData\Local\Microsoft\Windows\Temporary Internet Files\Content.Outlook\RHGPVFVL\2-Guliev.jpg"/>
          <p:cNvPicPr/>
          <p:nvPr/>
        </p:nvPicPr>
        <p:blipFill>
          <a:blip r:embed="rId1"/>
          <a:stretch/>
        </p:blipFill>
        <p:spPr>
          <a:xfrm>
            <a:off x="1600200" y="1523880"/>
            <a:ext cx="5029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3"/>
          <p:cNvSpPr/>
          <p:nvPr/>
        </p:nvSpPr>
        <p:spPr>
          <a:xfrm>
            <a:off x="6781680" y="6610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AD6B-C7DB-490E-B170-A6035BCA8F0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отношение требований по защит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5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5715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20:52:42Z</dcterms:created>
  <dc:creator>UPM</dc:creator>
  <dc:description/>
  <dc:language>en-US</dc:language>
  <cp:lastModifiedBy>Alexey Sabanov</cp:lastModifiedBy>
  <cp:lastPrinted>2012-04-19T07:23:11Z</cp:lastPrinted>
  <dcterms:modified xsi:type="dcterms:W3CDTF">2012-04-19T08:02:15Z</dcterms:modified>
  <cp:revision>978</cp:revision>
  <dc:subject/>
  <dc:title>Slide 1</dc:title>
</cp:coreProperties>
</file>