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723600" y="739800"/>
            <a:ext cx="534996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D29A-58DF-4644-90BE-36AC49E3C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1AE-4071-4431-A577-8A8C0106C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723960" y="73980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23960" y="73980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ещё и не профильного для Руководител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CD7F-C369-4987-9A0A-26E015884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DD6-B9CE-4E33-8B92-77A81B9F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7D2-6DC4-4894-981F-56D06266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258-5AB3-4B57-9964-1219E412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0200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844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5592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0200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844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A91-5912-4694-B73B-12AEBEF6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9B09-1DD0-43F6-86FC-A2CA9E12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1011-054B-44B5-828F-757D1934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A009-BEB5-46DD-8CEC-790876FA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F7CB-5781-4245-A00D-E4BA2D51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388A-D978-4DE5-8E84-C6F0919D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55920" y="274320"/>
            <a:ext cx="81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CC32-3CEC-40B6-9BA6-66E177D4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536B-CD04-4E0B-82DA-2F2702A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653-DA08-48E3-A6E2-A6FC5D53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53DB-61C1-4F3B-B8CA-45F1797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210C-D156-46CC-9F94-FC05416D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37C9-089A-4B59-A2BD-79E614A2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749D-AB5F-4408-97F7-AB6D160E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0200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04844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5592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30200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04844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FC9F-90B9-4038-93F7-E377668D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4C0A-95C4-4734-9569-5AD9075E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3778-A10B-4815-8BA9-67EEC360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9626-5800-42F4-A4B9-29E751F9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5555-249E-4BEA-9EE8-A25B0E30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A007-3963-4E84-AC51-063E40D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9B4-B55E-4F4D-87DE-18E27D01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55920" y="274320"/>
            <a:ext cx="81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9267-A5D3-4DE1-BC39-F562862C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D753-F13B-4ACA-BC94-99C160B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27D5-BB76-484C-881F-B94BE56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1415-F8CE-4684-BB9A-A45DE94A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8179-31A0-4A76-82C1-F3718B1D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84DD-93E5-478C-881C-A6F7B8A4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0200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04844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5592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30200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04844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C2C0D-56E1-4A42-9937-95B47866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E57F-FB50-4E80-BA82-BDE4D7C3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2C90-16B1-43CB-878C-19422CB7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AF9F-BC22-4988-8A6A-2A5ADFA7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062-8D94-41E6-AC60-7CEB2FA9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A068-6C49-40C8-86AA-4178CD61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6773-B15B-4B73-A1CC-3746B758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55920" y="274320"/>
            <a:ext cx="81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A350-ECEA-4B09-A5D5-8B880DFC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219D-8618-49A0-97EC-E4057269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D6047-7B58-48EC-8FB8-10D51FB4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D664-B657-40C3-A872-992318C7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E8D6-002E-4338-A0C2-A9FFD5C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DB3F-D98B-437F-9B70-0BF3B089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0200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04844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5592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30200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04844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6776B-4A1C-4648-8CAD-60C5A3CB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1F099-3F60-45C3-94A1-CAF38119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60C-3ACD-41E3-87C8-AECCC967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27561-112C-468E-9768-3168C4C0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F6D50-2F49-41E1-8512-B68D7C7D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1F75-AC52-4982-AF95-23DD87B5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BB368-21DD-4A8D-A6BA-31E61991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55920" y="274320"/>
            <a:ext cx="81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0400-8AA7-4BFE-83B4-C8F2EBB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9396D-DE6B-425D-9B67-28A647B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17ED-C20E-4D2E-9EE6-204398C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CD1C-B7AF-4C3A-8B4C-FC245EE9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7002-A3ED-4DD3-AED0-AE436DEA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67A0E-708C-4C3A-AB35-B5B140E2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55920" y="274320"/>
            <a:ext cx="81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E54-E773-4587-A71A-ED3D85F2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0200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04844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5592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0200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04844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56AF-3244-42B7-A102-9E5741D5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E0058-AA2E-4354-BC84-C24446F7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1A822-353A-4E2F-809B-6D0AAF26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95854-241A-42B5-8659-755A67F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F9CE3-99D6-4D9C-9BAF-5113014B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01E50-3121-4B32-80A5-419B284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55920" y="274320"/>
            <a:ext cx="81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9ADE2-85F3-4838-A063-030E2424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4609-8A0E-4878-862C-542C67E2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2A94-5758-4E8C-BD43-83F7571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9AA3-D53E-4535-BAD6-C3020BE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18B-8792-4845-ACEE-8B39C95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52E2-ECDD-4AB9-A55D-4094B87C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2104-DDC5-4C11-B134-24B64711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30200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4844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5592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30200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4844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DBC85-521B-4127-986D-0BA6C9D6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61054-3181-4EF6-ABA8-AB7F5D20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E3DB5-2924-47E3-96E9-0032D121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CFF60-E016-415C-A6B4-0075938A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9D10-F726-452F-9E15-F5CC7C96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FCEAE-55FD-4C57-8DDF-10C322D7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55920" y="274320"/>
            <a:ext cx="81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86B3-0D9B-4183-A075-5F59EB9F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B06F3-0203-434C-9227-88245240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D56-D8D4-40E5-B9C5-4E21162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92BC-429F-47EA-9C11-91DF3C9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7DE8-EE7C-476B-A751-AFA45D9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FB93C-CC3E-4F60-9985-5257E329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717880" y="39549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7681-E2DF-4318-967A-393B004D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0200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48440" y="14475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5592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0200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48440" y="3954960"/>
            <a:ext cx="261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41457-9E5F-4712-90B2-5BCA77D4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5592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7880" y="1447560"/>
            <a:ext cx="396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55920" y="3954960"/>
            <a:ext cx="812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577-03BB-4FCE-9CBA-6C9C098C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arcTo wR="888207" hR="819150" stAng="0" swAng="5402124"/>
                <a:lnTo>
                  <a:pt x="888207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95120" y="1017720"/>
            <a:ext cx="1231920" cy="1207800"/>
            <a:chOff x="195120" y="1017720"/>
            <a:chExt cx="1231920" cy="12078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95120" y="1017720"/>
              <a:ext cx="123192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07A-4E6F-4EB1-8C3A-2E1C245604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arcTo wR="888207" hR="819150" stAng="0" swAng="5402124"/>
                <a:lnTo>
                  <a:pt x="888207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95120" y="1017720"/>
            <a:ext cx="1231920" cy="1207800"/>
            <a:chOff x="195120" y="1017720"/>
            <a:chExt cx="1231920" cy="12078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95120" y="1017720"/>
              <a:ext cx="123192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93600" y="1407960"/>
            <a:ext cx="244800" cy="225720"/>
            <a:chOff x="993600" y="1407960"/>
            <a:chExt cx="24480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93600" y="1407960"/>
              <a:ext cx="244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31760" y="1444680"/>
              <a:ext cx="160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254240" y="1344600"/>
            <a:ext cx="6804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7A2D-7926-4A72-A1DE-0AF6ACC862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473200" y="0"/>
            <a:ext cx="7429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476440" y="0"/>
            <a:ext cx="82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346480" y="2809800"/>
            <a:ext cx="244440" cy="225360"/>
            <a:chOff x="2346480" y="2809800"/>
            <a:chExt cx="244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346480" y="2809800"/>
              <a:ext cx="244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386080" y="2844720"/>
              <a:ext cx="162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608200" y="2746440"/>
            <a:ext cx="698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B962-D10F-4FE3-905B-97BCA332BD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0CC-5F6C-4A75-90DF-8E67CAE152D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F25-9282-4C3F-A23A-135166731D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68CE-6875-4542-8F3E-A07CFE502F2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706320" y="969840"/>
            <a:ext cx="5187960" cy="4802400"/>
            <a:chOff x="706320" y="969840"/>
            <a:chExt cx="518796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706320" y="969840"/>
              <a:ext cx="518796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25480" y="1066680"/>
              <a:ext cx="4952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430200" y="954000"/>
            <a:ext cx="7430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420880" y="936720"/>
            <a:ext cx="703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BEF8-833B-4B97-A21D-63562ECE41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Заголовок 1"/>
          <p:cNvSpPr/>
          <p:nvPr/>
        </p:nvSpPr>
        <p:spPr>
          <a:xfrm>
            <a:off x="2432160" y="1773360"/>
            <a:ext cx="7473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 Информационные Системы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 по выбору на основе функциональных, технических параметров и характеристик внедряющей орган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онс АНКЕТЫ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505240" y="6215040"/>
            <a:ext cx="7400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7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© АРМИТ</a:t>
            </a: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320e04"/>
                </a:solidFill>
                <a:latin typeface="Arial"/>
                <a:ea typeface="Arial"/>
              </a:rPr>
              <a:t>2012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2505240" y="0"/>
            <a:ext cx="7400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ссоциация Развития Медицинских Информационных Технолог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РМИ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5" descr="http://www.intersystems.ru/symposium09/armit-logo.gif"/>
          <p:cNvPicPr/>
          <p:nvPr/>
        </p:nvPicPr>
        <p:blipFill>
          <a:blip r:embed="rId1"/>
          <a:stretch/>
        </p:blipFill>
        <p:spPr>
          <a:xfrm>
            <a:off x="0" y="0"/>
            <a:ext cx="2432160" cy="23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641600" y="1173240"/>
            <a:ext cx="7918200" cy="55944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TextBox 4"/>
          <p:cNvSpPr/>
          <p:nvPr/>
        </p:nvSpPr>
        <p:spPr>
          <a:xfrm>
            <a:off x="1136520" y="765000"/>
            <a:ext cx="84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. Информационная безопас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641600" y="1173240"/>
            <a:ext cx="7918200" cy="55944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1136520" y="765000"/>
            <a:ext cx="84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. Технические характерист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496880" y="1173240"/>
            <a:ext cx="8299440" cy="5122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1136520" y="765000"/>
            <a:ext cx="84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. Вопросы внедр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496880" y="1173240"/>
            <a:ext cx="8302680" cy="5122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136520" y="765000"/>
            <a:ext cx="84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. Вопросы сопровожд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Выноска со стрелкой вправо 5"/>
          <p:cNvSpPr/>
          <p:nvPr/>
        </p:nvSpPr>
        <p:spPr>
          <a:xfrm>
            <a:off x="1136520" y="5445000"/>
            <a:ext cx="7272360" cy="1368720"/>
          </a:xfrm>
          <a:prstGeom prst="rightArrowCallout">
            <a:avLst>
              <a:gd name="adj1" fmla="val 23845"/>
              <a:gd name="adj2" fmla="val 25000"/>
              <a:gd name="adj3" fmla="val 17785"/>
              <a:gd name="adj4" fmla="val 93343"/>
            </a:avLst>
          </a:prstGeom>
          <a:solidFill>
            <a:srgbClr val="ff5050">
              <a:alpha val="6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1136520" y="765000"/>
            <a:ext cx="849636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рминология и стандарты в области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ьность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с внешними 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работанность вопросов информационной безопас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аппаратных средств и программных платформ (ОС,СУБД), необходимых для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внедрения ЛИС и характеристики внедряющей орган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просы сопровождения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документация, сопровождающая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просы сертификации и регист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внедряюще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8408880" y="5592600"/>
            <a:ext cx="144000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ПРОЦЕССЕ РАЗРАБ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http://www.intersystems.ru/symposium09/armit-logo.gif"/>
          <p:cNvPicPr/>
          <p:nvPr/>
        </p:nvPicPr>
        <p:blipFill>
          <a:blip r:embed="rId1"/>
          <a:stretch/>
        </p:blipFill>
        <p:spPr>
          <a:xfrm>
            <a:off x="3419640" y="981000"/>
            <a:ext cx="5175000" cy="4372200"/>
          </a:xfrm>
          <a:prstGeom prst="rect">
            <a:avLst/>
          </a:prstGeom>
          <a:ln w="0">
            <a:noFill/>
          </a:ln>
        </p:spPr>
      </p:pic>
      <p:pic>
        <p:nvPicPr>
          <p:cNvPr id="365" name="Заголовок 1" descr=""/>
          <p:cNvPicPr/>
          <p:nvPr/>
        </p:nvPicPr>
        <p:blipFill>
          <a:blip r:embed="rId2"/>
          <a:stretch/>
        </p:blipFill>
        <p:spPr>
          <a:xfrm>
            <a:off x="3541680" y="3743280"/>
            <a:ext cx="5029200" cy="93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7" descr="Кот Базилио и лиса Алиса"/>
          <p:cNvPicPr/>
          <p:nvPr/>
        </p:nvPicPr>
        <p:blipFill>
          <a:blip r:embed="rId1"/>
          <a:stretch/>
        </p:blipFill>
        <p:spPr>
          <a:xfrm>
            <a:off x="2355840" y="0"/>
            <a:ext cx="5405400" cy="686448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4" descr=""/>
          <p:cNvPicPr/>
          <p:nvPr/>
        </p:nvPicPr>
        <p:blipFill>
          <a:blip r:embed="rId2"/>
          <a:stretch/>
        </p:blipFill>
        <p:spPr>
          <a:xfrm>
            <a:off x="2316240" y="549360"/>
            <a:ext cx="2682720" cy="12002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5" descr=""/>
          <p:cNvPicPr/>
          <p:nvPr/>
        </p:nvPicPr>
        <p:blipFill>
          <a:blip r:embed="rId3"/>
          <a:stretch/>
        </p:blipFill>
        <p:spPr>
          <a:xfrm>
            <a:off x="6053040" y="128520"/>
            <a:ext cx="2548080" cy="11876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7" descr=""/>
          <p:cNvPicPr/>
          <p:nvPr/>
        </p:nvPicPr>
        <p:blipFill>
          <a:blip r:embed="rId4"/>
          <a:stretch/>
        </p:blipFill>
        <p:spPr>
          <a:xfrm>
            <a:off x="3236760" y="5619600"/>
            <a:ext cx="2414880" cy="1116000"/>
          </a:xfrm>
          <a:prstGeom prst="rect">
            <a:avLst/>
          </a:prstGeom>
          <a:ln w="0">
            <a:noFill/>
          </a:ln>
        </p:spPr>
      </p:pic>
      <p:sp>
        <p:nvSpPr>
          <p:cNvPr id="371" name="TextBox 8"/>
          <p:cNvSpPr/>
          <p:nvPr/>
        </p:nvSpPr>
        <p:spPr>
          <a:xfrm rot="19809600">
            <a:off x="3609720" y="3243600"/>
            <a:ext cx="2057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Информационная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Систе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5" descr=""/>
          <p:cNvPicPr/>
          <p:nvPr/>
        </p:nvPicPr>
        <p:blipFill>
          <a:blip r:embed="rId1"/>
          <a:stretch/>
        </p:blipFill>
        <p:spPr>
          <a:xfrm>
            <a:off x="1731960" y="3565440"/>
            <a:ext cx="8077320" cy="3299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http://www.intersystems.ru/symposium09/armit-logo.gif"/>
          <p:cNvPicPr/>
          <p:nvPr/>
        </p:nvPicPr>
        <p:blipFill>
          <a:blip r:embed="rId2"/>
          <a:stretch/>
        </p:blipFill>
        <p:spPr>
          <a:xfrm>
            <a:off x="1122480" y="712800"/>
            <a:ext cx="3760560" cy="24685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6"/>
          <p:cNvSpPr/>
          <p:nvPr/>
        </p:nvSpPr>
        <p:spPr>
          <a:xfrm>
            <a:off x="4232160" y="765000"/>
            <a:ext cx="56739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ссоциация Развития Медицинских Информационных Технологий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560520" y="558720"/>
            <a:ext cx="9171000" cy="6255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http://www.intersystems.ru/symposium09/armit-logo.gif"/>
          <p:cNvPicPr/>
          <p:nvPr/>
        </p:nvPicPr>
        <p:blipFill>
          <a:blip r:embed="rId1"/>
          <a:stretch/>
        </p:blipFill>
        <p:spPr>
          <a:xfrm>
            <a:off x="3419640" y="981000"/>
            <a:ext cx="5175000" cy="4372200"/>
          </a:xfrm>
          <a:prstGeom prst="rect">
            <a:avLst/>
          </a:prstGeom>
          <a:ln w="0">
            <a:noFill/>
          </a:ln>
        </p:spPr>
      </p:pic>
      <p:pic>
        <p:nvPicPr>
          <p:cNvPr id="332" name="Заголовок 1" descr=""/>
          <p:cNvPicPr/>
          <p:nvPr/>
        </p:nvPicPr>
        <p:blipFill>
          <a:blip r:embed="rId2"/>
          <a:stretch/>
        </p:blipFill>
        <p:spPr>
          <a:xfrm>
            <a:off x="3328920" y="3743280"/>
            <a:ext cx="5248440" cy="93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1136520" y="765000"/>
            <a:ext cx="8769600" cy="63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ель докумен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мочь Руководителю лаборатории, Руководителю ЛПУ осуществить выб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ЛОЖН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родукта, а также поставщика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недряющую организаци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ть основные определения и выделить наиболее важные категории выбора в области ЛИ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ть представление о существующих стандартах в области автоматизации и информатизации лаборатор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ложить инструмент оценки и выбора наиболее оптимальной и соответствующей задачам лаборатории Лабораторной Информацион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ить возможности и компетенцию внедряющ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5" descr="http://www.intersystems.ru/symposium09/armit-logo.gif"/>
          <p:cNvPicPr/>
          <p:nvPr/>
        </p:nvPicPr>
        <p:blipFill>
          <a:blip r:embed="rId1"/>
          <a:stretch/>
        </p:blipFill>
        <p:spPr>
          <a:xfrm>
            <a:off x="3419640" y="981000"/>
            <a:ext cx="5175000" cy="4372200"/>
          </a:xfrm>
          <a:prstGeom prst="rect">
            <a:avLst/>
          </a:prstGeom>
          <a:ln w="0">
            <a:noFill/>
          </a:ln>
        </p:spPr>
      </p:pic>
      <p:pic>
        <p:nvPicPr>
          <p:cNvPr id="336" name="Заголовок 1" descr=""/>
          <p:cNvPicPr/>
          <p:nvPr/>
        </p:nvPicPr>
        <p:blipFill>
          <a:blip r:embed="rId2"/>
          <a:stretch/>
        </p:blipFill>
        <p:spPr>
          <a:xfrm>
            <a:off x="3541680" y="3743280"/>
            <a:ext cx="5005440" cy="93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1136520" y="765000"/>
            <a:ext cx="8496360" cy="69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рминология и стандарты в области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ьность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с внешними 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работанность вопросов информационной безопас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аппаратных средств и программных платформ (ОС,СУБД), необходимых для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внедрения ЛИС и характеристики внедряющей орган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просы сопровождения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документация, сопровождающая ЛИ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просы сертификации и регист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внедряюще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1136520" y="765000"/>
            <a:ext cx="84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. Терминология и стандар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1639800" y="1173240"/>
            <a:ext cx="7921800" cy="559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641600" y="1173240"/>
            <a:ext cx="7918200" cy="5594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136520" y="765000"/>
            <a:ext cx="84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. Функциональ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1641600" y="1173240"/>
            <a:ext cx="7918200" cy="5594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5480" y="29880"/>
            <a:ext cx="88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Лабораторная Информационная Система. Анк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1136520" y="765000"/>
            <a:ext cx="84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окумента. Интегр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6:47:09Z</dcterms:created>
  <dc:creator>Светашев М.</dc:creator>
  <dc:description/>
  <dc:language>en-US</dc:language>
  <cp:lastModifiedBy>Светашев</cp:lastModifiedBy>
  <dcterms:modified xsi:type="dcterms:W3CDTF">2012-04-18T14:54:01Z</dcterms:modified>
  <cp:revision>401</cp:revision>
  <dc:subject/>
  <dc:title>Технологии автоматизации лабораторий – инструмент повышения эффективности работы лаборатории.</dc:title>
</cp:coreProperties>
</file>