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54F3-40F4-45A3-A9A9-1A780CD53C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ить об «облаках» за пределами МКАДа пока можно с большими оговорками. Хороших каналов связи, особенно в удаленных точках пока так и не появило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ляет желать лучшего и техническая оснащенность больниц. Приобретаемая в рамках ПМЗ техника, это очень весомо и значимо, но не решит задачи 100% обеспечения потребностей всех врачей во всех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больницы в которых и электричество не всегда быв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«облаках» можно говорить как о цели, к которой мы движемся, но не как о технологии, которую можно применять повсемес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CB47-8525-4D78-8F2D-B47082588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е основные концепции построения корпоративных информационных систем: централизация и интегр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подразумевает реализацию всех ключевых функций в одной универсальной информационной системе класса ERP и ликвидацию «зоопарка» из других информационных сис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интеграции, наоборот, предполагает использование для каждой функциональной области лучшей в своем классе системы и интеграцию всех систем для обмена данными и реализации сквозных бизнес-проце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 опыт показал эффективность интеграционного  подхода. Например, создание региональной информационную систему в Ханты-Мансийском автономном округе-Юг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этого проекта обошлась в несколько раз дешевле, чем  потребовалось для создания близкой по функциональности региональной системы в одном из соседних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8665-1671-440C-8413-A9829E67AB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е с выбранной архитектурой, можно говорить о прямом вводе данные в федеральные сервисы, (ЭМК, АКС,НСИ …) или об использовании существующих или новых ИС и их интеграции между собой и с федеральными 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й уровень ЕГИС может строиться на основе интеграционной шины, обеспечивающей взаимодействие разнородных систем региона между собой и с федеральными серви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МИС. в регионе могут использоваться несколько М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или невозможно выбрать лучшее решение для всех типов медицинских учреж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в регионе МИС (ЕМИС) это скорее решение для «бедных», для реализации необходимых функций в ЛПУ где нет систем, необходимых для работы региональных и федеральных серви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пные и специализированные медицинские учреждения будут продолжать пользоваться ИС, наилучшим образом автоматизирующие именно в 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МИС может быть реализована как в облачной, так и в оффлановой вер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должна подключаться к единой информационной шине вместе с другими медицинскими информационными системами, используемым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единообразное подключение к интеграционной шине разных МИС, удобно обеспечить передачу нужных данных на федеральный уровень или в РИ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одним ярким примером, является информационно-аналитическая система действующая в интересах ТОУ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З региона в дополнение к использованию сервисов, предлагаемых федерацией имеет потребность в информационной поддержке собственных управленческих решений. Подключив РИАС к той же шине можно получать для анализа обезличенные первичные да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же интеграционная шина обеспечит взаимодействие с внешними ИС, например с УФМС и Роспотреб надзором при учете освидетельствований мигра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же образом можно организовать взаимодействие с федеральными сервисами Административно-кадровых систем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1C05-9A17-4FD0-A703-9F8F4671B9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1891-EF08-4B1B-B251-75A345DAE3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3BA-F2E8-41FC-8C20-BA2ED4FEDEB0}" type="datetime3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2681280" y="5715000"/>
            <a:ext cx="1962000" cy="85680"/>
          </a:xfrm>
          <a:prstGeom prst="rect">
            <a:avLst/>
          </a:prstGeom>
          <a:ln w="0">
            <a:noFill/>
          </a:ln>
        </p:spPr>
      </p:pic>
      <p:pic>
        <p:nvPicPr>
          <p:cNvPr id="41" name="Рисунок 6" descr=""/>
          <p:cNvPicPr/>
          <p:nvPr/>
        </p:nvPicPr>
        <p:blipFill>
          <a:blip r:embed="rId3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2557440" y="6124680"/>
            <a:ext cx="261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257184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CD9-6A59-4A35-A417-1CB0BC38527E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928800" y="201456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52C-260B-4D72-8904-75DF1B7CDCC5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928800" y="2060640"/>
            <a:ext cx="1962000" cy="856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6" descr=""/>
          <p:cNvPicPr/>
          <p:nvPr/>
        </p:nvPicPr>
        <p:blipFill>
          <a:blip r:embed="rId3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6728-15D5-47D5-8AF3-05D306DD6485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2"/>
          <a:stretch/>
        </p:blipFill>
        <p:spPr>
          <a:xfrm>
            <a:off x="928800" y="2060640"/>
            <a:ext cx="1962000" cy="85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6" descr=""/>
          <p:cNvPicPr/>
          <p:nvPr/>
        </p:nvPicPr>
        <p:blipFill>
          <a:blip r:embed="rId3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6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C537-C7C8-4FC5-A33F-F99C941BB6B6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5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3"/>
          <a:stretch/>
        </p:blipFill>
        <p:spPr>
          <a:xfrm>
            <a:off x="928800" y="201456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C89-5888-4643-AC9A-8B1F3AA9A761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5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3"/>
          <a:stretch/>
        </p:blipFill>
        <p:spPr>
          <a:xfrm>
            <a:off x="784080" y="3081240"/>
            <a:ext cx="1962360" cy="856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8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CB2-18E5-4279-B6F9-BADDD7D5B065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5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"/>
          <p:cNvPicPr/>
          <p:nvPr/>
        </p:nvPicPr>
        <p:blipFill>
          <a:blip r:embed="rId3"/>
          <a:stretch/>
        </p:blipFill>
        <p:spPr>
          <a:xfrm>
            <a:off x="928800" y="562932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9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ED71-6287-4642-879B-EC625B6CCFC8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" descr=""/>
          <p:cNvPicPr/>
          <p:nvPr/>
        </p:nvPicPr>
        <p:blipFill>
          <a:blip r:embed="rId2"/>
          <a:stretch/>
        </p:blipFill>
        <p:spPr>
          <a:xfrm>
            <a:off x="928800" y="2060640"/>
            <a:ext cx="1962000" cy="8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6" descr=""/>
          <p:cNvPicPr/>
          <p:nvPr/>
        </p:nvPicPr>
        <p:blipFill>
          <a:blip r:embed="rId3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336" name="TextBox 7"/>
          <p:cNvSpPr/>
          <p:nvPr/>
        </p:nvSpPr>
        <p:spPr>
          <a:xfrm>
            <a:off x="755640" y="6134040"/>
            <a:ext cx="261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Verdana"/>
                <a:ea typeface="Verdana"/>
              </a:rPr>
              <a:t>Группа 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8ed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10"/>
          </p:nvPr>
        </p:nvSpPr>
        <p:spPr>
          <a:xfrm>
            <a:off x="785880" y="6286320"/>
            <a:ext cx="2133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E557-F40E-4C01-9183-37B318441759}" type="datetime3">
              <a:rPr b="0" lang="ru-RU" sz="1000" spc="-1" strike="noStrike">
                <a:solidFill>
                  <a:srgbClr val="898989"/>
                </a:solidFill>
                <a:latin typeface="Times New Roman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7320" y="3573000"/>
            <a:ext cx="678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хитектура регионального сегмента ЕГИС здравоохранени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пределение функций и взаимодействие между уровнями.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Дата 6"/>
          <p:cNvSpPr/>
          <p:nvPr/>
        </p:nvSpPr>
        <p:spPr>
          <a:xfrm>
            <a:off x="279576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0BF9-A55C-4FF8-97D1-5A04D6267276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Рисунок 2" descr=""/>
          <p:cNvPicPr/>
          <p:nvPr/>
        </p:nvPicPr>
        <p:blipFill>
          <a:blip r:embed="rId1"/>
          <a:srcRect l="32556" t="967" r="37988" b="82892"/>
          <a:stretch/>
        </p:blipFill>
        <p:spPr>
          <a:xfrm>
            <a:off x="4524480" y="825480"/>
            <a:ext cx="4417920" cy="201924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8"/>
          <p:cNvSpPr/>
          <p:nvPr/>
        </p:nvSpPr>
        <p:spPr>
          <a:xfrm>
            <a:off x="0" y="-10008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Рисунок 14" descr=""/>
          <p:cNvPicPr/>
          <p:nvPr/>
        </p:nvPicPr>
        <p:blipFill>
          <a:blip r:embed="rId2"/>
          <a:stretch/>
        </p:blipFill>
        <p:spPr>
          <a:xfrm>
            <a:off x="611280" y="750960"/>
            <a:ext cx="3487680" cy="207792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2" descr=""/>
          <p:cNvPicPr/>
          <p:nvPr/>
        </p:nvPicPr>
        <p:blipFill>
          <a:blip r:embed="rId3"/>
          <a:srcRect l="60665" t="936" r="27810" b="83062"/>
          <a:stretch/>
        </p:blipFill>
        <p:spPr>
          <a:xfrm>
            <a:off x="231840" y="3573360"/>
            <a:ext cx="21034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Дата 4"/>
          <p:cNvSpPr/>
          <p:nvPr/>
        </p:nvSpPr>
        <p:spPr>
          <a:xfrm>
            <a:off x="78588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3CA4-9F28-47BE-92B3-AD4CAE6146BC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Рисунок 7" descr=""/>
          <p:cNvPicPr/>
          <p:nvPr/>
        </p:nvPicPr>
        <p:blipFill>
          <a:blip r:embed="rId1"/>
          <a:stretch/>
        </p:blipFill>
        <p:spPr>
          <a:xfrm>
            <a:off x="947880" y="3429000"/>
            <a:ext cx="3430440" cy="2044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kotohin\Desktop\medved.jpg"/>
          <p:cNvPicPr/>
          <p:nvPr/>
        </p:nvPicPr>
        <p:blipFill>
          <a:blip r:embed="rId2"/>
          <a:stretch/>
        </p:blipFill>
        <p:spPr>
          <a:xfrm>
            <a:off x="755640" y="765000"/>
            <a:ext cx="2409840" cy="403560"/>
          </a:xfrm>
          <a:prstGeom prst="rect">
            <a:avLst/>
          </a:prstGeom>
          <a:ln w="0">
            <a:noFill/>
          </a:ln>
        </p:spPr>
      </p:pic>
      <p:sp>
        <p:nvSpPr>
          <p:cNvPr id="392" name="Прямоугольник 10"/>
          <p:cNvSpPr/>
          <p:nvPr/>
        </p:nvSpPr>
        <p:spPr>
          <a:xfrm>
            <a:off x="766800" y="1628640"/>
            <a:ext cx="3444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9"/>
          <p:cNvSpPr/>
          <p:nvPr/>
        </p:nvSpPr>
        <p:spPr>
          <a:xfrm>
            <a:off x="755640" y="2003400"/>
            <a:ext cx="75708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вед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символ добродушия, богатырской силы и нежных материнских чув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Фоли Дж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нциклопед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знаков и символов. М.,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3"/>
          <a:stretch/>
        </p:blipFill>
        <p:spPr>
          <a:xfrm>
            <a:off x="928800" y="154296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395" name="Заголовок 3"/>
          <p:cNvSpPr/>
          <p:nvPr/>
        </p:nvSpPr>
        <p:spPr>
          <a:xfrm>
            <a:off x="907920" y="426960"/>
            <a:ext cx="7551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Verdana"/>
              </a:rPr>
              <a:t>          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  <a:ea typeface="Verdana"/>
              </a:rPr>
              <a:t>- ведающий медицино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4"/>
          <a:srcRect l="51781" t="751" r="22253" b="79893"/>
          <a:stretch/>
        </p:blipFill>
        <p:spPr>
          <a:xfrm>
            <a:off x="5392800" y="3997440"/>
            <a:ext cx="3035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Дата 1"/>
          <p:cNvSpPr/>
          <p:nvPr/>
        </p:nvSpPr>
        <p:spPr>
          <a:xfrm>
            <a:off x="78588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4F2E-CE33-4DE4-922F-5DA72633FCF5}" type="datetime3">
              <a:rPr b="0" lang="ru-RU" sz="1000" spc="-1" strike="noStrike">
                <a:solidFill>
                  <a:srgbClr val="898989"/>
                </a:solidFill>
                <a:latin typeface="Calibri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3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399" name="Заголовок 3"/>
          <p:cNvSpPr/>
          <p:nvPr/>
        </p:nvSpPr>
        <p:spPr>
          <a:xfrm>
            <a:off x="785880" y="426960"/>
            <a:ext cx="7551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Модернизация здравоохранен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всея Рус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17"/>
          <p:cNvSpPr/>
          <p:nvPr/>
        </p:nvSpPr>
        <p:spPr>
          <a:xfrm>
            <a:off x="766800" y="1779480"/>
            <a:ext cx="3444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875880" y="1989000"/>
            <a:ext cx="79236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00120" y="1991880"/>
            <a:ext cx="450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Впервые за много лет резко выросло внимание федеральных органов </a:t>
            </a:r>
            <a:endParaRPr b="0" lang="en-US" sz="14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500120" y="2637000"/>
            <a:ext cx="4440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Arial"/>
              </a:rPr>
              <a:t>Программы модернизации имеют шанс на реальное воплощение</a:t>
            </a:r>
            <a:endParaRPr b="0" lang="en-US" sz="14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499760" y="3284640"/>
            <a:ext cx="429588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Выделяются значительные средства на самые ресурсоемкие задачи – создание базовой ИТ инфраструктуры в ЛПУ (ПК, сети, системы и т.п.)</a:t>
            </a:r>
            <a:endParaRPr b="0" lang="en-US" sz="13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500120" y="4218120"/>
            <a:ext cx="4440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  <a:ea typeface="Arial"/>
              </a:rPr>
              <a:t>Декларируется стандартизация информационного взаимодействия между региональным и федеральным уровнем.</a:t>
            </a:r>
            <a:endParaRPr b="0" lang="en-US" sz="13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875880" y="2636640"/>
            <a:ext cx="79236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75880" y="3357360"/>
            <a:ext cx="79236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8" name="PlaceHolder 8"/>
          <p:cNvSpPr>
            <a:spLocks noGrp="1"/>
          </p:cNvSpPr>
          <p:nvPr>
            <p:ph/>
          </p:nvPr>
        </p:nvSpPr>
        <p:spPr>
          <a:xfrm>
            <a:off x="875880" y="4217760"/>
            <a:ext cx="79236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558ed5"/>
              </a:solidFill>
              <a:latin typeface="Verdana"/>
            </a:endParaRPr>
          </a:p>
        </p:txBody>
      </p:sp>
      <p:sp>
        <p:nvSpPr>
          <p:cNvPr id="409" name="Текст 9"/>
          <p:cNvSpPr/>
          <p:nvPr/>
        </p:nvSpPr>
        <p:spPr>
          <a:xfrm>
            <a:off x="1500120" y="5062680"/>
            <a:ext cx="4872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  <a:ea typeface="Verdana"/>
              </a:rPr>
              <a:t>В качестве одного из основных подходов рекомендуется применение облачных технологий, которые должны облегчить массовое внедрение И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Текст 12"/>
          <p:cNvSpPr/>
          <p:nvPr/>
        </p:nvSpPr>
        <p:spPr>
          <a:xfrm>
            <a:off x="876240" y="5135400"/>
            <a:ext cx="79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8ed5"/>
                </a:solidFill>
                <a:latin typeface="Verdana"/>
                <a:ea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Подзаголовок 2"/>
          <p:cNvSpPr/>
          <p:nvPr/>
        </p:nvSpPr>
        <p:spPr>
          <a:xfrm>
            <a:off x="803160" y="1285920"/>
            <a:ext cx="784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Verdana"/>
                <a:ea typeface="Verdana"/>
              </a:rPr>
              <a:t>Это знают в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2"/>
          <a:srcRect l="32556" t="967" r="37988" b="82892"/>
          <a:stretch/>
        </p:blipFill>
        <p:spPr>
          <a:xfrm>
            <a:off x="5786280" y="928800"/>
            <a:ext cx="3214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78588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F37B-F815-4C85-9B13-2F03A4495894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Прямоугольник 10"/>
          <p:cNvSpPr/>
          <p:nvPr/>
        </p:nvSpPr>
        <p:spPr>
          <a:xfrm>
            <a:off x="766800" y="1628640"/>
            <a:ext cx="34448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1"/>
          <a:stretch/>
        </p:blipFill>
        <p:spPr>
          <a:xfrm>
            <a:off x="928800" y="2700360"/>
            <a:ext cx="1962000" cy="85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http://thenextweb.com/google/files/2010/04/cloud-question-mark-cloud-computing.jpg"/>
          <p:cNvPicPr/>
          <p:nvPr/>
        </p:nvPicPr>
        <p:blipFill>
          <a:blip r:embed="rId2"/>
          <a:stretch/>
        </p:blipFill>
        <p:spPr>
          <a:xfrm>
            <a:off x="3500280" y="1071720"/>
            <a:ext cx="4643640" cy="46497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4" descr=""/>
          <p:cNvPicPr/>
          <p:nvPr/>
        </p:nvPicPr>
        <p:blipFill>
          <a:blip r:embed="rId3"/>
          <a:stretch/>
        </p:blipFill>
        <p:spPr>
          <a:xfrm>
            <a:off x="611280" y="1336680"/>
            <a:ext cx="2217600" cy="1320840"/>
          </a:xfrm>
          <a:prstGeom prst="rect">
            <a:avLst/>
          </a:prstGeom>
          <a:ln w="0">
            <a:noFill/>
          </a:ln>
        </p:spPr>
      </p:pic>
      <p:sp>
        <p:nvSpPr>
          <p:cNvPr id="418" name="Заголовок 3"/>
          <p:cNvSpPr/>
          <p:nvPr/>
        </p:nvSpPr>
        <p:spPr>
          <a:xfrm>
            <a:off x="785880" y="426960"/>
            <a:ext cx="7551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К вопросу об обла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Прямоугольник 11"/>
          <p:cNvSpPr/>
          <p:nvPr/>
        </p:nvSpPr>
        <p:spPr>
          <a:xfrm>
            <a:off x="611280" y="1773360"/>
            <a:ext cx="2512800" cy="45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883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ходы к архитектуре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Дата 4"/>
          <p:cNvSpPr/>
          <p:nvPr/>
        </p:nvSpPr>
        <p:spPr>
          <a:xfrm>
            <a:off x="78588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CC0F-3B26-40B8-A608-7309E0866438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928800" y="154296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423" name="Нижний колонтитул 4"/>
          <p:cNvSpPr/>
          <p:nvPr/>
        </p:nvSpPr>
        <p:spPr>
          <a:xfrm>
            <a:off x="755640" y="6126120"/>
            <a:ext cx="2895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Группа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Рисунок 10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425" name="Подзаголовок 2"/>
          <p:cNvSpPr/>
          <p:nvPr/>
        </p:nvSpPr>
        <p:spPr>
          <a:xfrm>
            <a:off x="798480" y="1052640"/>
            <a:ext cx="784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Verdana"/>
                <a:ea typeface="Verdana"/>
              </a:rPr>
              <a:t>Централизация или интегр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2" descr="http://cs5401.vkontakte.ru/u167792/-14/x_19c14ce1.jpg"/>
          <p:cNvPicPr/>
          <p:nvPr/>
        </p:nvPicPr>
        <p:blipFill>
          <a:blip r:embed="rId3"/>
          <a:stretch/>
        </p:blipFill>
        <p:spPr>
          <a:xfrm>
            <a:off x="285840" y="1857240"/>
            <a:ext cx="4057560" cy="331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Картинка 27 из 104823"/>
          <p:cNvPicPr/>
          <p:nvPr/>
        </p:nvPicPr>
        <p:blipFill>
          <a:blip r:embed="rId4"/>
          <a:stretch/>
        </p:blipFill>
        <p:spPr>
          <a:xfrm>
            <a:off x="4786200" y="1928880"/>
            <a:ext cx="33577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11"/>
          <p:cNvSpPr/>
          <p:nvPr/>
        </p:nvSpPr>
        <p:spPr>
          <a:xfrm>
            <a:off x="611280" y="1773360"/>
            <a:ext cx="2512800" cy="458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55280" y="-136440"/>
            <a:ext cx="7883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рхитектура ЕГИС ЗО для регион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Дата 4"/>
          <p:cNvSpPr/>
          <p:nvPr/>
        </p:nvSpPr>
        <p:spPr>
          <a:xfrm>
            <a:off x="78588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CDEB-2259-475E-8A2E-02267D54334E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1962000" cy="85680"/>
          </a:xfrm>
          <a:prstGeom prst="rect">
            <a:avLst/>
          </a:prstGeom>
          <a:ln w="0">
            <a:noFill/>
          </a:ln>
        </p:spPr>
      </p:pic>
      <p:sp>
        <p:nvSpPr>
          <p:cNvPr id="432" name="Нижний колонтитул 4"/>
          <p:cNvSpPr/>
          <p:nvPr/>
        </p:nvSpPr>
        <p:spPr>
          <a:xfrm>
            <a:off x="755640" y="6126120"/>
            <a:ext cx="2895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Группа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Компаний ХОС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3" name="Рисунок 10" descr=""/>
          <p:cNvPicPr/>
          <p:nvPr/>
        </p:nvPicPr>
        <p:blipFill>
          <a:blip r:embed="rId2"/>
          <a:stretch/>
        </p:blipFill>
        <p:spPr>
          <a:xfrm>
            <a:off x="7580160" y="6124680"/>
            <a:ext cx="1059120" cy="473040"/>
          </a:xfrm>
          <a:prstGeom prst="rect">
            <a:avLst/>
          </a:prstGeom>
          <a:ln w="0">
            <a:noFill/>
          </a:ln>
        </p:spPr>
      </p:pic>
      <p:sp>
        <p:nvSpPr>
          <p:cNvPr id="434" name="Подзаголовок 2"/>
          <p:cNvSpPr/>
          <p:nvPr/>
        </p:nvSpPr>
        <p:spPr>
          <a:xfrm>
            <a:off x="798480" y="571680"/>
            <a:ext cx="7840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Verdana"/>
                <a:ea typeface="Verdana"/>
              </a:rPr>
              <a:t>Интеграционное решение регионального уровня ЕГИС З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2" descr="Архитектура и тех требования РС ЕГИС ЗО СВ_v22"/>
          <p:cNvPicPr/>
          <p:nvPr/>
        </p:nvPicPr>
        <p:blipFill>
          <a:blip r:embed="rId3"/>
          <a:stretch/>
        </p:blipFill>
        <p:spPr>
          <a:xfrm>
            <a:off x="928800" y="1071720"/>
            <a:ext cx="7072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714400" y="3928680"/>
            <a:ext cx="678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 МедВедь - интеграционная платформа.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Дата 6"/>
          <p:cNvSpPr/>
          <p:nvPr/>
        </p:nvSpPr>
        <p:spPr>
          <a:xfrm>
            <a:off x="2795760" y="6286680"/>
            <a:ext cx="2133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04F-8896-4EA0-99C4-590FCD9A4B31}" type="datetime3">
              <a:rPr b="0" lang="ru-RU" sz="1000" spc="-1" strike="noStrike">
                <a:solidFill>
                  <a:srgbClr val="898989"/>
                </a:solidFill>
                <a:latin typeface="Verdana"/>
                <a:ea typeface="Verdana"/>
              </a:rPr>
              <a:t>28 июля, 2026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8" name="Рисунок 2" descr=""/>
          <p:cNvPicPr/>
          <p:nvPr/>
        </p:nvPicPr>
        <p:blipFill>
          <a:blip r:embed="rId1"/>
          <a:srcRect l="32556" t="967" r="37988" b="82892"/>
          <a:stretch/>
        </p:blipFill>
        <p:spPr>
          <a:xfrm>
            <a:off x="4524480" y="825480"/>
            <a:ext cx="4417920" cy="201924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8"/>
          <p:cNvSpPr/>
          <p:nvPr/>
        </p:nvSpPr>
        <p:spPr>
          <a:xfrm>
            <a:off x="0" y="-10008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Рисунок 14" descr=""/>
          <p:cNvPicPr/>
          <p:nvPr/>
        </p:nvPicPr>
        <p:blipFill>
          <a:blip r:embed="rId2"/>
          <a:stretch/>
        </p:blipFill>
        <p:spPr>
          <a:xfrm>
            <a:off x="611280" y="750960"/>
            <a:ext cx="3487680" cy="207792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" descr=""/>
          <p:cNvPicPr/>
          <p:nvPr/>
        </p:nvPicPr>
        <p:blipFill>
          <a:blip r:embed="rId3"/>
          <a:srcRect l="60665" t="936" r="27810" b="83062"/>
          <a:stretch/>
        </p:blipFill>
        <p:spPr>
          <a:xfrm>
            <a:off x="231840" y="3573360"/>
            <a:ext cx="21034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10:31:32Z</dcterms:created>
  <dc:creator>Surganova Natalya</dc:creator>
  <dc:description/>
  <dc:language>en-US</dc:language>
  <cp:lastModifiedBy>ginzburg</cp:lastModifiedBy>
  <dcterms:modified xsi:type="dcterms:W3CDTF">2012-04-17T13:22:50Z</dcterms:modified>
  <cp:revision>79</cp:revision>
  <dc:subject/>
  <dc:title>Презентация PowerPoint</dc:title>
</cp:coreProperties>
</file>