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15.png" ContentType="image/png"/>
  <Override PartName="/ppt/media/image35.wmf" ContentType="image/x-wmf"/>
  <Override PartName="/ppt/media/image36.wmf" ContentType="image/x-wmf"/>
  <Override PartName="/ppt/media/image9.png" ContentType="image/png"/>
  <Override PartName="/ppt/media/image34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37.wmf" ContentType="image/x-wmf"/>
  <Override PartName="/ppt/media/image31.jpeg" ContentType="image/jpeg"/>
  <Override PartName="/ppt/media/image45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40.jpeg" ContentType="image/jpeg"/>
  <Override PartName="/ppt/media/image44.png" ContentType="image/png"/>
  <Override PartName="/ppt/media/image43.wmf" ContentType="image/x-wmf"/>
  <Override PartName="/ppt/media/image13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.jpeg" ContentType="image/jpeg"/>
  <Override PartName="/ppt/media/image3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85248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"/>
          </p:nvPr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4"/>
          </p:nvPr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B24-ACC5-442A-B855-5F2271F6AC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ффективное управление аптечной деятельностью  невозможно без построения единого информационного пространства (ЕИП) сферы обращения лекарств. Фундаментом для его построения является федеральная система нормативно-справочной информации (НС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4A70-0F27-4FA1-A1DD-81600C9EA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основе лингвистической базы федеральной системы НСИ сферы обращения лекарств лежат  два системных словар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их номенклатурные единицы обладают жизненным цик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словарь уникальных для всего пространства единых кодов номенклатурных единиц (аптечных товаров),  поступающих в обращение,  дополненные датой их прихода на склад субъекта – владельца товара; (Слайд 1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словарь единых кодов субъектов, образующих серию (производителя или упаковщика или владельца регистрационного удостоверения) и единых кодов владельцев товаров, дополненных кодами мест их территориального расположения. (Слайд 1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114A-8F13-4226-B911-86D03A7A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ачестве номенклатурной единицы аптечного товара принимается введенная в оборот серия лекарственной упаковки.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одавляющее большинство автоматизированных учетных систем, применяемых в аптечной деятельности, генерируют локальный уникальный для данного субъекта штрих-код на каждую поступающую на склад товарную позицию. Он наклеивается на место штрих-кода ЕАН и считывается посредством сканера для введения учетной информации об этой позиции в систему. Таким образом, формируется локальное единое для данного субъекта информационное пространство, свободное от дублей. Но, поскольку этот код, как правило, не имеет никакого смыслового значения, его применение несет в себе существенные ограничения. По нему, например, нельзя объединить автоматически (алгоритмически) два однотипных словаря двух различных учетных систем при их слиянии (образовании корпорации). Тем более  что способы записи идентичных лекарственных упаковок в разных учетных системах различ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ачестве номенклатурной единицы аптечного товара принимается введенная в оборот серия лекарственной упаковки.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одавляющее большинство автоматизированных учетных систем, применяемых в аптечной деятельности, генерируют локальный уникальный для данного субъекта штрих-код на каждую поступающую на склад товарную позицию. Он наклеивается на место штрих-кода ЕАН и считывается посредством сканера для введения учетной информации об этой позиции в систему. Таким образом, формируется локальное единое для данного субъекта информационное пространство, свободное от дублей. Но, поскольку этот код, как правило, не имеет никакого смыслового значения, его применение несет в себе существенные ограничения. По нему, например, нельзя объединить автоматически (алгоритмически) два однотипных словаря двух различных учетных систем при их слиянии (образовании корпорации). Тем более  что способы записи идентичных лекарственных упаковок в разных учетных системах различ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ачестве номенклатурной единицы аптечного товара принимается введенная в оборот серия лекарственной упаковки.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Подавляющее большинство автоматизированных учетных систем, применяемых в аптечной деятельности, генерируют локальный уникальный для данного субъекта штрих-код на каждую поступающую на склад товарную позицию. Он наклеивается на место штрих-кода ЕАН и считывается посредством сканера для введения учетной информации об этой позиции в систему. Таким образом, формируется локальное единое для данного субъекта информационное пространство, свободное от дублей. Но, поскольку этот код, как правило, не имеет никакого смыслового значения, его применение несет в себе существенные ограничения. По нему, например, нельзя объединить автоматически (алгоритмически) два однотипных словаря двух различных учетных систем при их слиянии (образовании корпорации). Тем более  что способы записи идентичных лекарственных упаковок в разных учетных системах различ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четная система субъекта оптовой торговли, работающая в рамках приказа  Минздравсоцразвития РФ № 1222н от 28 декабря 2010 г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б утверждении правил оптовой торговли лекарственными средствами для медицинского применения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 имеет в составе своей автоматизированной системы некоторых необходимых для уникальной идентификации товара параметров.  В частности, в приказе не сказано о необходимости записи номера регистрационного удостоверения, даты регистрации, номера штрих-кода ЕАН вторичной упаковки. А для идентификации единого кода аптечного товара необходимо знать либо номер штрих-кода ЕАН, либо номер регистрационного удостоверения с датой регистрации. Подавляющее большинство субъектов, обращающихся к нам с просьбой привязать их номенклатуру аптечных товаров к единым кодам ЕИП СОЛ, не имеет достаточного набора данных для такой привязки. В результате 30% позиций привязываются достаточно легко, но с визуальным контролем каждой позиции экспертом, для привязки еще 30% позиций нужна серьезная работа эксперта в отношении каждой позиции, а остальные 40% не привязываются вовсе. При этом это не выгодно ни заказчику, ни РЛС, поскольку работа эксперта стоит в три раза дороже, чем автоматическая привязка, а за непривязанные позиции эксперт денег не получает, хотя работу он проделал. (Слайд 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6D07-42E7-4A32-861E-710216F8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ервом этапе формирования ЕИП происходит накопление номенклатуры единых кодов аптечных товаров и ведется их реестр для решения задач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ификации подлинност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(Слайд 1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5972-B50D-4B78-8156-3DD0027F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обеспечения 95% полноты реестра товаров, присутствующих в СОЛ, достаточно иметь несколько десятков субъектов из разных территорий. В  настоящее время в РЛС завершается этот эта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лобальной гармонизацией аптечных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и формирования ФС НСИ. (Слайд  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4598-BCDA-421D-9852-1C286E7D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обеспечения 95% полноты реестра товаров, присутствующих в СОЛ, достаточно иметь несколько десятков субъектов из разных территорий. В  настоящее время в РЛС завершается этот эта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лобальной гармонизацией аптечных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и формирования ФС НСИ. (Слайд  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66A1-F998-4E4B-8B04-5C596825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на ее основе осуществлять прослеживание каждой серии аптечного товара субъекта – участника ЕИП в пространстве и во времени. (Слайд 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вышение эффективности управления аптечной деятельностью является сегодня одной из важнейших социальных, экономических и политических задач в России.   Важно уметь ее решать на уровне ЛПУ, аптеки, аптечной сети, дистрибьютора, производителя, отдельного региона и государства в цел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2832-2E82-4957-93E0-431C8E73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ебования к составу полей выходного файла, предоставляемого субъектом СОЛ для гармонизации с едиными кодами, принимаемыми субъектами – участниками ЕИП, отражены в следующих двух таблицах. (Слайд 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4537-F18F-42E7-B1B5-2C2F525A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е  к расширению состава полей автоматизированной учетной системы субъекта, осуществляющего работы по гармонизации, заключается в дополнении базы данных полями: «локальный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рии», номер регистрационного удостоверения, дата регистрации, номер штрих-кода вторичной упаковки, единый код «серия РЛ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, единый код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, образующего серию» и единый код 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– владельца аптечного товара». (Слайд 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EDC1-FD3C-4AD6-9947-E62FD5BA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ребования к составу полей входного файла, образованного системой гармонизации РЛС представлены таблицами 3 - 5.(Слайд 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E03D-DE78-4156-A16F-E036D947B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«автоматизатору», отвечающему за ведение  локальной учетной автоматизированной системы субъекта СОЛ: (Слайд 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писать программу формирования электронной накладной, которая бы считывала номер и дату регистрационного удостоверения из поля товарной накладной продавца с названием «Документ, подтверждающий качество товар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втоматически после обработки товарной накладной должен формироваться «скрипт» по заданному в контракте адресу в интернете, содержащий сведения по полям выходного фай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определенным лагом программа должна считывать данные входного файла, сформированного ФС НСИ и загружать их в базу данных субъек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9231-D325-4202-B616-6B03EF5C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услуга РЛС позволяет субъекту СОЛ осуществить (Слайд 24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ь локальных уникальных кодов поступающих на склад аптечных товаров с кодам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рия РЛС» автоматизированной информационно-справочной системы РЛ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вязь собственной учетной системы с учетными системами других участников СОЛ (реализовать автоматизированный обмен данными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здание модернизированного основного словаря аптечных товаров, совместимого со старым  на основе уникальных идентификационных кодов товар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ерия РЛС», единых для всей С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троение локальной корпоративной системы нормативно-справочной информации. (Слайд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9BBA-93AC-4A68-B273-EC74F917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дача глобальной гармонизации решается на основе консолидации записей выходных файлов субъекта с записями других учетных систем, а также их уникальной идентификации и гармонизации с эталонной учетной записью в системе РЛС. (Слайд 2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мпания РЛС готова в рамках двусторонних соглашений  предоставить регионам методику формирования региональной системы НСИ, а также  выполнить услугу по привязке локальных кодов основного словаря для конкретных субъектов-участников ЕИП к единым уникальным кодам на основе требований международных стандар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PI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R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GE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вместно работают над  Европейской Моделью – Европейским проектом верификации лекарств, цель которого предотвратить проникновение контрафактных препаратов  в европейскую товаропроводящую цепь, и, таким образом, усилить безопасность пациентов. Недавн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EPC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ссоциация, представляющая параллельных (коммерческих) дистрибьюторов, присоединилась к проек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1C58-5FD5-4E52-B5D9-8E74A777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звестно, что слабая управляемость приводит к уменьшению уровня безопасности  пациентов, росту цен на лекарства (даже по сравнению с ценами на те же товары за рубежом) и  снижению уровня их потребления, что в конечном итоге наносит ущерб всему аптечному де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58A3-228C-40CE-9019-11134198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хотя в основополагающих документах, касающихся модернизации сферы обращения лекарств, пункты, направленные на решение этой  задачи есть, конкретного их воплощения в соглашениях администраций регионов с Минздравсоцразвития РФ не предусмотрено. Т.е. денег на это не выделено. И, следовательно, в рамках бюджета 2012 года эта задача решена не будет. И на это я хочу обратить особое внимание представителей регио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Нижний колонтитул 3"/>
          <p:cNvSpPr/>
          <p:nvPr/>
        </p:nvSpPr>
        <p:spPr>
          <a:xfrm>
            <a:off x="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Номер слайда 4"/>
          <p:cNvSpPr/>
          <p:nvPr/>
        </p:nvSpPr>
        <p:spPr>
          <a:xfrm>
            <a:off x="3778200" y="943128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6CF5-ACFA-4AD0-B788-0D76507D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4C3A-722A-4517-AE54-778E24B4C1D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51E11-CA7D-42D5-B8A5-1AFBF5C538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1FC1-63CB-4147-A41A-6A593B8A3D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7E386-38DD-4957-B0B7-95E9DBF157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496C-144A-4B34-9171-55FAFFDECF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2B84-BB44-46B2-85AB-0946AECFAC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1332-5B9A-4E1C-AE8F-B7BFB5985E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F1B6-B32A-45C1-BF8A-E9D425A3E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6365-4911-490F-8EAC-A96E887C1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650A-8993-4B66-A601-A20BE9078A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91F9-0706-482C-9DA3-4E7189E12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7458-CF2D-4A25-86FF-35182AB2FE7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0304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EFE0D40C-1C09-4332-9784-F61C1CA2B7C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3EFB1D79-9326-4D52-8C80-5614AD33FA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E12E804C-DCCA-4BAD-8217-5CBFD1CA83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C6B49095-3334-4A76-8E6F-3022605A5C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408720"/>
            <a:ext cx="9144000" cy="287280"/>
          </a:xfrm>
          <a:prstGeom prst="rect">
            <a:avLst/>
          </a:prstGeom>
          <a:solidFill>
            <a:srgbClr val="28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90600" y="64087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253800" y="640872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http://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285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LogoRLSFinish1 copy"/>
          <p:cNvPicPr/>
          <p:nvPr/>
        </p:nvPicPr>
        <p:blipFill>
          <a:blip r:embed="rId2"/>
          <a:stretch/>
        </p:blipFill>
        <p:spPr>
          <a:xfrm>
            <a:off x="0" y="128520"/>
            <a:ext cx="1403280" cy="636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7912080" y="6374880"/>
            <a:ext cx="982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A6A5-2995-409B-85E1-785E0B2A1727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AAAFFD7C-7DFD-41E1-B607-6570941AD1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8246E419-D8A0-4D66-9A52-3AC13087D3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FF73B82B-CB3C-4BDC-8D4D-322DCCE774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0FAFC430-29F0-4F35-A4A9-B38EB4D287D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04EBC64F-94FC-4FE7-ACB8-9B2DFF837B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2D350A5F-E70E-4B03-8CFC-7382A78B83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8136000" y="6526080"/>
            <a:ext cx="10080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айд: </a:t>
            </a:r>
            <a:fld id="{21FBC708-1936-4A3C-80FA-69E8821AF69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361800" y="6248520"/>
            <a:ext cx="208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rlsnet.r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63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4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4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2.png"/><Relationship Id="rId9" Type="http://schemas.openxmlformats.org/officeDocument/2006/relationships/image" Target="../media/image25.png"/><Relationship Id="rId10" Type="http://schemas.openxmlformats.org/officeDocument/2006/relationships/image" Target="../media/image23.png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l-e.ru/w/&#1060;&#1072;&#1081;&#1083;:&#1060;&#1088;&#1072;&#1085;&#1094;&#1080;&#1103;_&#1082;&#1086;&#1076;&#1080;&#1088;&#1091;&#1077;&#1090;&#1089;&#1103;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"/>
          <p:cNvSpPr/>
          <p:nvPr/>
        </p:nvSpPr>
        <p:spPr>
          <a:xfrm>
            <a:off x="0" y="1989000"/>
            <a:ext cx="9144000" cy="2880000"/>
          </a:xfrm>
          <a:prstGeom prst="rect">
            <a:avLst/>
          </a:prstGeom>
          <a:solidFill>
            <a:srgbClr val="2245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0" y="1916280"/>
            <a:ext cx="9144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ВЛЕНИЕ АПТЕЧНО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ЕЯТЕЛЬНОСТЬЮ В РЕГИОН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 ОСНОВЕ ЕДИНОГО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НФОРМАЦИОННОГО ПРОСТРАНСТВ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4" descr="LogoRLSFinish1 copy"/>
          <p:cNvPicPr/>
          <p:nvPr/>
        </p:nvPicPr>
        <p:blipFill>
          <a:blip r:embed="rId1"/>
          <a:stretch/>
        </p:blipFill>
        <p:spPr>
          <a:xfrm>
            <a:off x="0" y="260280"/>
            <a:ext cx="2709720" cy="1230480"/>
          </a:xfrm>
          <a:prstGeom prst="rect">
            <a:avLst/>
          </a:prstGeom>
          <a:ln w="0">
            <a:noFill/>
          </a:ln>
        </p:spPr>
      </p:pic>
      <p:sp>
        <p:nvSpPr>
          <p:cNvPr id="494" name="Прямоугольник 8"/>
          <p:cNvSpPr/>
          <p:nvPr/>
        </p:nvSpPr>
        <p:spPr>
          <a:xfrm>
            <a:off x="4068720" y="4941720"/>
            <a:ext cx="4896000" cy="12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b71"/>
                </a:solidFill>
                <a:latin typeface="Arial"/>
              </a:rPr>
              <a:t>Д.э.н., проф. Г. Л. Вышковски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b71"/>
                </a:solidFill>
                <a:latin typeface="Arial"/>
              </a:rPr>
              <a:t>президент группы компаний РЛС</a:t>
            </a:r>
            <a:r>
              <a:rPr b="1" lang="ru-RU" sz="2000" spc="-1" strike="noStrike" baseline="30000">
                <a:solidFill>
                  <a:srgbClr val="254b71"/>
                </a:solidFill>
                <a:latin typeface="Symbol"/>
                <a:ea typeface="Symbol"/>
              </a:rPr>
              <a:t>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b71"/>
                </a:solidFill>
                <a:latin typeface="Arial"/>
              </a:rPr>
              <a:t>GLV@RLSNET.R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54b71"/>
                </a:solidFill>
                <a:latin typeface="Arial"/>
              </a:rPr>
              <a:t>RLSGLV@GMAIL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7"/>
          <p:cNvSpPr/>
          <p:nvPr/>
        </p:nvSpPr>
        <p:spPr>
          <a:xfrm>
            <a:off x="173160" y="6453360"/>
            <a:ext cx="375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54b71"/>
                </a:solidFill>
                <a:latin typeface="Arial"/>
              </a:rPr>
              <a:t>Москва, «</a:t>
            </a:r>
            <a:r>
              <a:rPr b="1" i="1" lang="en-US" sz="1200" spc="-1" strike="noStrike">
                <a:solidFill>
                  <a:srgbClr val="254b71"/>
                </a:solidFill>
                <a:latin typeface="Arial"/>
              </a:rPr>
              <a:t>MedSoft</a:t>
            </a:r>
            <a:r>
              <a:rPr b="1" i="1" lang="ru-RU" sz="1200" spc="-1" strike="noStrike">
                <a:solidFill>
                  <a:srgbClr val="254b71"/>
                </a:solidFill>
                <a:latin typeface="Arial"/>
              </a:rPr>
              <a:t> – </a:t>
            </a:r>
            <a:r>
              <a:rPr b="1" i="1" lang="en-US" sz="1200" spc="-1" strike="noStrike">
                <a:solidFill>
                  <a:srgbClr val="254b71"/>
                </a:solidFill>
                <a:latin typeface="Arial"/>
              </a:rPr>
              <a:t>2012</a:t>
            </a:r>
            <a:r>
              <a:rPr b="1" i="1" lang="ru-RU" sz="1200" spc="-1" strike="noStrike">
                <a:solidFill>
                  <a:srgbClr val="254b71"/>
                </a:solidFill>
                <a:latin typeface="Arial"/>
              </a:rPr>
              <a:t>», 1</a:t>
            </a:r>
            <a:r>
              <a:rPr b="1" i="1" lang="en-US" sz="1200" spc="-1" strike="noStrike">
                <a:solidFill>
                  <a:srgbClr val="254b71"/>
                </a:solidFill>
                <a:latin typeface="Arial"/>
              </a:rPr>
              <a:t>7</a:t>
            </a:r>
            <a:r>
              <a:rPr b="0" i="1" lang="ru-RU" sz="1200" spc="-1" strike="noStrike">
                <a:solidFill>
                  <a:srgbClr val="254b71"/>
                </a:solidFill>
                <a:latin typeface="Arial"/>
              </a:rPr>
              <a:t>–</a:t>
            </a:r>
            <a:r>
              <a:rPr b="1" i="1" lang="en-US" sz="1200" spc="-1" strike="noStrike">
                <a:solidFill>
                  <a:srgbClr val="254b71"/>
                </a:solidFill>
                <a:latin typeface="Arial"/>
              </a:rPr>
              <a:t>19</a:t>
            </a:r>
            <a:r>
              <a:rPr b="1" i="1" lang="ru-RU" sz="1200" spc="-1" strike="noStrike">
                <a:solidFill>
                  <a:srgbClr val="254b71"/>
                </a:solidFill>
                <a:latin typeface="Arial"/>
              </a:rPr>
              <a:t> апреля 2012 г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8"/>
          <p:cNvSpPr/>
          <p:nvPr/>
        </p:nvSpPr>
        <p:spPr>
          <a:xfrm>
            <a:off x="108000" y="6381720"/>
            <a:ext cx="547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D7D-4B1F-4486-A27D-A92D728A592F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324000" y="1700280"/>
            <a:ext cx="8640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Прямоугольник 16"/>
          <p:cNvGrpSpPr/>
          <p:nvPr/>
        </p:nvGrpSpPr>
        <p:grpSpPr>
          <a:xfrm>
            <a:off x="938160" y="2389320"/>
            <a:ext cx="1712880" cy="1566720"/>
            <a:chOff x="938160" y="2389320"/>
            <a:chExt cx="1712880" cy="1566720"/>
          </a:xfrm>
        </p:grpSpPr>
        <p:pic>
          <p:nvPicPr>
            <p:cNvPr id="538" name="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938160" y="2389320"/>
              <a:ext cx="171288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971640" y="2421000"/>
              <a:ext cx="16556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Равнобедренный треугольник 17"/>
          <p:cNvGrpSpPr/>
          <p:nvPr/>
        </p:nvGrpSpPr>
        <p:grpSpPr>
          <a:xfrm>
            <a:off x="438120" y="1238400"/>
            <a:ext cx="7974000" cy="1279440"/>
            <a:chOff x="438120" y="1238400"/>
            <a:chExt cx="7974000" cy="1279440"/>
          </a:xfrm>
        </p:grpSpPr>
        <p:pic>
          <p:nvPicPr>
            <p:cNvPr id="541" name="Равнобедренный треугольник 17" descr=""/>
            <p:cNvPicPr/>
            <p:nvPr/>
          </p:nvPicPr>
          <p:blipFill>
            <a:blip r:embed="rId2"/>
            <a:stretch/>
          </p:blipFill>
          <p:spPr>
            <a:xfrm>
              <a:off x="438120" y="1238400"/>
              <a:ext cx="79740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2411280" y="1881360"/>
              <a:ext cx="388800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ЕИП сферы обращения лекарств</a:t>
              </a:r>
              <a:endParaRPr b="1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Прямоугольник 18"/>
          <p:cNvGrpSpPr/>
          <p:nvPr/>
        </p:nvGrpSpPr>
        <p:grpSpPr>
          <a:xfrm>
            <a:off x="5334120" y="1090440"/>
            <a:ext cx="633240" cy="708120"/>
            <a:chOff x="5334120" y="1090440"/>
            <a:chExt cx="633240" cy="708120"/>
          </a:xfrm>
        </p:grpSpPr>
        <p:pic>
          <p:nvPicPr>
            <p:cNvPr id="544" name="Прямоугольник 18" descr=""/>
            <p:cNvPicPr/>
            <p:nvPr/>
          </p:nvPicPr>
          <p:blipFill>
            <a:blip r:embed="rId3"/>
            <a:stretch/>
          </p:blipFill>
          <p:spPr>
            <a:xfrm>
              <a:off x="5334120" y="1090440"/>
              <a:ext cx="6332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5364000" y="1125360"/>
              <a:ext cx="576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Прямоугольник 19"/>
          <p:cNvGrpSpPr/>
          <p:nvPr/>
        </p:nvGrpSpPr>
        <p:grpSpPr>
          <a:xfrm>
            <a:off x="725400" y="4840200"/>
            <a:ext cx="7547040" cy="920880"/>
            <a:chOff x="725400" y="4840200"/>
            <a:chExt cx="7547040" cy="920880"/>
          </a:xfrm>
        </p:grpSpPr>
        <p:pic>
          <p:nvPicPr>
            <p:cNvPr id="547" name="Прямоугольник 19" descr=""/>
            <p:cNvPicPr/>
            <p:nvPr/>
          </p:nvPicPr>
          <p:blipFill>
            <a:blip r:embed="rId4"/>
            <a:stretch/>
          </p:blipFill>
          <p:spPr>
            <a:xfrm>
              <a:off x="725400" y="4840200"/>
              <a:ext cx="75470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755640" y="4869000"/>
              <a:ext cx="7488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Федеральная система нормативно-справочной информации (НСИ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сферы обращения лекарств (СОЛ)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TextBox 21"/>
          <p:cNvGrpSpPr/>
          <p:nvPr/>
        </p:nvGrpSpPr>
        <p:grpSpPr>
          <a:xfrm>
            <a:off x="950760" y="3408480"/>
            <a:ext cx="2048040" cy="1334160"/>
            <a:chOff x="950760" y="3408480"/>
            <a:chExt cx="2048040" cy="1334160"/>
          </a:xfrm>
        </p:grpSpPr>
        <p:pic>
          <p:nvPicPr>
            <p:cNvPr id="550" name="TextBox 21" descr=""/>
            <p:cNvPicPr/>
            <p:nvPr/>
          </p:nvPicPr>
          <p:blipFill>
            <a:blip r:embed="rId5"/>
            <a:stretch/>
          </p:blipFill>
          <p:spPr>
            <a:xfrm>
              <a:off x="950760" y="3408480"/>
              <a:ext cx="2048040" cy="13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971640" y="342864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Региональная система НСИ в СОЛ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Прямоугольник 49"/>
          <p:cNvSpPr/>
          <p:nvPr/>
        </p:nvSpPr>
        <p:spPr>
          <a:xfrm>
            <a:off x="118728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гиональная АСЗи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Прямоугольник 23"/>
          <p:cNvGrpSpPr/>
          <p:nvPr/>
        </p:nvGrpSpPr>
        <p:grpSpPr>
          <a:xfrm>
            <a:off x="938160" y="2462040"/>
            <a:ext cx="2049480" cy="993960"/>
            <a:chOff x="938160" y="2462040"/>
            <a:chExt cx="2049480" cy="993960"/>
          </a:xfrm>
        </p:grpSpPr>
        <p:pic>
          <p:nvPicPr>
            <p:cNvPr id="554" name="Прямоугольник 23" descr=""/>
            <p:cNvPicPr/>
            <p:nvPr/>
          </p:nvPicPr>
          <p:blipFill>
            <a:blip r:embed="rId6"/>
            <a:stretch/>
          </p:blipFill>
          <p:spPr>
            <a:xfrm>
              <a:off x="938160" y="2462040"/>
              <a:ext cx="20494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970920" y="2492280"/>
              <a:ext cx="19926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егиональный центр обработки данных СОЛ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Box 24"/>
          <p:cNvGrpSpPr/>
          <p:nvPr/>
        </p:nvGrpSpPr>
        <p:grpSpPr>
          <a:xfrm>
            <a:off x="3419640" y="3429000"/>
            <a:ext cx="2088720" cy="609480"/>
            <a:chOff x="3419640" y="3429000"/>
            <a:chExt cx="2088720" cy="609480"/>
          </a:xfrm>
        </p:grpSpPr>
        <p:pic>
          <p:nvPicPr>
            <p:cNvPr id="557" name="TextBox 24" descr=""/>
            <p:cNvPicPr/>
            <p:nvPr/>
          </p:nvPicPr>
          <p:blipFill>
            <a:blip r:embed="rId7"/>
            <a:stretch/>
          </p:blipFill>
          <p:spPr>
            <a:xfrm>
              <a:off x="3419640" y="3429000"/>
              <a:ext cx="20887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3437640" y="3444840"/>
              <a:ext cx="2055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Региональная система НСИ в СОЛ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TextBox 25"/>
          <p:cNvGrpSpPr/>
          <p:nvPr/>
        </p:nvGrpSpPr>
        <p:grpSpPr>
          <a:xfrm>
            <a:off x="5992920" y="3408480"/>
            <a:ext cx="2047680" cy="614160"/>
            <a:chOff x="5992920" y="3408480"/>
            <a:chExt cx="2047680" cy="614160"/>
          </a:xfrm>
        </p:grpSpPr>
        <p:pic>
          <p:nvPicPr>
            <p:cNvPr id="560" name="TextBox 25" descr=""/>
            <p:cNvPicPr/>
            <p:nvPr/>
          </p:nvPicPr>
          <p:blipFill>
            <a:blip r:embed="rId8"/>
            <a:stretch/>
          </p:blipFill>
          <p:spPr>
            <a:xfrm>
              <a:off x="5992920" y="3408480"/>
              <a:ext cx="204768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6012000" y="3429000"/>
              <a:ext cx="20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Региональная система НСИ в СОЛ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Прямоугольник 27"/>
          <p:cNvGrpSpPr/>
          <p:nvPr/>
        </p:nvGrpSpPr>
        <p:grpSpPr>
          <a:xfrm>
            <a:off x="5979960" y="2462040"/>
            <a:ext cx="2073600" cy="993960"/>
            <a:chOff x="5979960" y="2462040"/>
            <a:chExt cx="2073600" cy="993960"/>
          </a:xfrm>
        </p:grpSpPr>
        <p:pic>
          <p:nvPicPr>
            <p:cNvPr id="563" name="Прямоугольник 27" descr=""/>
            <p:cNvPicPr/>
            <p:nvPr/>
          </p:nvPicPr>
          <p:blipFill>
            <a:blip r:embed="rId9"/>
            <a:stretch/>
          </p:blipFill>
          <p:spPr>
            <a:xfrm>
              <a:off x="5979960" y="2462040"/>
              <a:ext cx="207360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6012000" y="2492280"/>
              <a:ext cx="20160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егиональный центр обработки данных СОЛ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Прямоугольник 29"/>
          <p:cNvSpPr/>
          <p:nvPr/>
        </p:nvSpPr>
        <p:spPr>
          <a:xfrm>
            <a:off x="1547640" y="189000"/>
            <a:ext cx="74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ИП сферы лекарственного обеспеч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Прямоугольник 23"/>
          <p:cNvGrpSpPr/>
          <p:nvPr/>
        </p:nvGrpSpPr>
        <p:grpSpPr>
          <a:xfrm>
            <a:off x="3419640" y="2492280"/>
            <a:ext cx="2088720" cy="993960"/>
            <a:chOff x="3419640" y="2492280"/>
            <a:chExt cx="2088720" cy="993960"/>
          </a:xfrm>
        </p:grpSpPr>
        <p:pic>
          <p:nvPicPr>
            <p:cNvPr id="567" name="Прямоугольник 23" descr=""/>
            <p:cNvPicPr/>
            <p:nvPr/>
          </p:nvPicPr>
          <p:blipFill>
            <a:blip r:embed="rId10"/>
            <a:stretch/>
          </p:blipFill>
          <p:spPr>
            <a:xfrm>
              <a:off x="3419640" y="2492280"/>
              <a:ext cx="20887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3453120" y="2522520"/>
              <a:ext cx="20311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"/>
                </a:rPr>
                <a:t>Региональный центр обработки данных СОЛ</a:t>
              </a:r>
              <a:endParaRPr b="1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Прямоугольник 20"/>
          <p:cNvGrpSpPr/>
          <p:nvPr/>
        </p:nvGrpSpPr>
        <p:grpSpPr>
          <a:xfrm>
            <a:off x="725400" y="3975120"/>
            <a:ext cx="7547040" cy="920880"/>
            <a:chOff x="725400" y="3975120"/>
            <a:chExt cx="7547040" cy="920880"/>
          </a:xfrm>
        </p:grpSpPr>
        <p:pic>
          <p:nvPicPr>
            <p:cNvPr id="570" name="Прямоугольник 20" descr=""/>
            <p:cNvPicPr/>
            <p:nvPr/>
          </p:nvPicPr>
          <p:blipFill>
            <a:blip r:embed="rId11"/>
            <a:stretch/>
          </p:blipFill>
          <p:spPr>
            <a:xfrm>
              <a:off x="725400" y="3975120"/>
              <a:ext cx="75470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755640" y="4005360"/>
              <a:ext cx="7488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Автоматизированная информационно-справочная система С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4C60-3D89-4183-AF7F-BAAEFB456E82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3C7F-130B-4BD4-9EA4-96B858B54FA3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1187280" y="0"/>
            <a:ext cx="81727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Внедрение уникального идентификационного код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аптечного товара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ключ к построению ЕИП СО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Рисунок 4" descr="http://pl-e.ru/images/8/87/%D0%A4%D1%80%D0%B0%D0%BD%D1%86%D0%B8%D1%8F_%D0%BA%D0%BE%D0%B4%D0%B8%D1%80%D1%83%D0%B5%D1%82%D1%81%D1%8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700280"/>
            <a:ext cx="4969080" cy="3744720"/>
          </a:xfrm>
          <a:prstGeom prst="rect">
            <a:avLst/>
          </a:prstGeom>
          <a:ln w="0">
            <a:noFill/>
          </a:ln>
        </p:spPr>
      </p:pic>
      <p:sp>
        <p:nvSpPr>
          <p:cNvPr id="575" name="Дуга 6"/>
          <p:cNvSpPr/>
          <p:nvPr/>
        </p:nvSpPr>
        <p:spPr>
          <a:xfrm>
            <a:off x="3635280" y="3716280"/>
            <a:ext cx="1368360" cy="1079640"/>
          </a:xfrm>
          <a:custGeom>
            <a:avLst/>
            <a:gdLst>
              <a:gd name="textAreaLeft" fmla="*/ 0 w 1368360"/>
              <a:gd name="textAreaRight" fmla="*/ 1368360 w 136836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stroke="0" w="1368151" h="1079500">
                <a:moveTo>
                  <a:pt x="1340068" y="386685"/>
                </a:moveTo>
                <a:lnTo>
                  <a:pt x="1340068" y="386685"/>
                </a:lnTo>
                <a:arcTo wR="684076" hR="539750" stAng="-788041" swAng="21555881"/>
                <a:lnTo>
                  <a:pt x="684076" y="539750"/>
                </a:lnTo>
                <a:close/>
              </a:path>
              <a:path fill="none" w="1368151" h="1079500">
                <a:moveTo>
                  <a:pt x="1340068" y="386685"/>
                </a:moveTo>
                <a:lnTo>
                  <a:pt x="1340068" y="386685"/>
                </a:lnTo>
                <a:arcTo wR="684076" hR="539750" stAng="-788041" swAng="21555881"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5"/>
          <p:cNvSpPr/>
          <p:nvPr/>
        </p:nvSpPr>
        <p:spPr>
          <a:xfrm>
            <a:off x="539640" y="170028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IN:0704626139857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ch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iry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1.201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/N: 1906781181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58E56-B581-4EB9-BB25-CB1C2687F365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opl-12_2_comp_Page_02_11111"/>
          <p:cNvPicPr/>
          <p:nvPr/>
        </p:nvPicPr>
        <p:blipFill>
          <a:blip r:embed="rId1"/>
          <a:stretch/>
        </p:blipFill>
        <p:spPr>
          <a:xfrm>
            <a:off x="1065240" y="1268280"/>
            <a:ext cx="4730760" cy="475164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E08D-F331-48FF-9DCD-584C4B390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5695920" y="2340000"/>
            <a:ext cx="1224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название действующего веществ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2556000" y="1484280"/>
            <a:ext cx="93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доз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4932360" y="1484280"/>
            <a:ext cx="1079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количество препарата в упаковк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5653080" y="435924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название препара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5637240" y="3351240"/>
            <a:ext cx="10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условия хран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Text Box 10"/>
          <p:cNvGrpSpPr/>
          <p:nvPr/>
        </p:nvGrpSpPr>
        <p:grpSpPr>
          <a:xfrm>
            <a:off x="4711680" y="5425920"/>
            <a:ext cx="1324080" cy="816480"/>
            <a:chOff x="4711680" y="5425920"/>
            <a:chExt cx="1324080" cy="816480"/>
          </a:xfrm>
        </p:grpSpPr>
        <p:pic>
          <p:nvPicPr>
            <p:cNvPr id="585" name="Text Box 10" descr=""/>
            <p:cNvPicPr/>
            <p:nvPr/>
          </p:nvPicPr>
          <p:blipFill>
            <a:blip r:embed="rId2"/>
            <a:stretch/>
          </p:blipFill>
          <p:spPr>
            <a:xfrm>
              <a:off x="4711680" y="5425920"/>
              <a:ext cx="13240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859280" y="5511960"/>
              <a:ext cx="7923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серия,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срок            годност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11"/>
          <p:cNvSpPr/>
          <p:nvPr/>
        </p:nvSpPr>
        <p:spPr>
          <a:xfrm>
            <a:off x="5651640" y="3855960"/>
            <a:ext cx="129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знак оригин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2"/>
          <p:cNvSpPr/>
          <p:nvPr/>
        </p:nvSpPr>
        <p:spPr>
          <a:xfrm>
            <a:off x="3203640" y="5516640"/>
            <a:ext cx="136836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условия отпуска в аптечных учреждения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2089080" y="5511960"/>
            <a:ext cx="118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способ примен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Text Box 14"/>
          <p:cNvGrpSpPr/>
          <p:nvPr/>
        </p:nvGrpSpPr>
        <p:grpSpPr>
          <a:xfrm>
            <a:off x="-42840" y="5425920"/>
            <a:ext cx="1927080" cy="530280"/>
            <a:chOff x="-42840" y="5425920"/>
            <a:chExt cx="1927080" cy="530280"/>
          </a:xfrm>
        </p:grpSpPr>
        <p:pic>
          <p:nvPicPr>
            <p:cNvPr id="591" name="Text Box 14" descr=""/>
            <p:cNvPicPr/>
            <p:nvPr/>
          </p:nvPicPr>
          <p:blipFill>
            <a:blip r:embed="rId3"/>
            <a:stretch/>
          </p:blipFill>
          <p:spPr>
            <a:xfrm>
              <a:off x="-42840" y="5425920"/>
              <a:ext cx="19270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08000" y="5511960"/>
              <a:ext cx="1655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№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регистрационного удостоверен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 Box 15"/>
          <p:cNvSpPr/>
          <p:nvPr/>
        </p:nvSpPr>
        <p:spPr>
          <a:xfrm>
            <a:off x="108000" y="234936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логотип фирм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108000" y="2924280"/>
            <a:ext cx="118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фирма-производ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7"/>
          <p:cNvSpPr/>
          <p:nvPr/>
        </p:nvSpPr>
        <p:spPr>
          <a:xfrm>
            <a:off x="108000" y="3500280"/>
            <a:ext cx="1258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страна (город) - производ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8"/>
          <p:cNvSpPr/>
          <p:nvPr/>
        </p:nvSpPr>
        <p:spPr>
          <a:xfrm>
            <a:off x="108000" y="4076640"/>
            <a:ext cx="93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штрих-код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3564000" y="1484280"/>
            <a:ext cx="1152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лекарственная фор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0" descr="Лекформа"/>
          <p:cNvPicPr/>
          <p:nvPr/>
        </p:nvPicPr>
        <p:blipFill>
          <a:blip r:embed="rId4"/>
          <a:stretch/>
        </p:blipFill>
        <p:spPr>
          <a:xfrm>
            <a:off x="7075440" y="1413000"/>
            <a:ext cx="557280" cy="5569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1" descr="Первичная упаковка"/>
          <p:cNvPicPr/>
          <p:nvPr/>
        </p:nvPicPr>
        <p:blipFill>
          <a:blip r:embed="rId5"/>
          <a:stretch/>
        </p:blipFill>
        <p:spPr>
          <a:xfrm>
            <a:off x="7027920" y="2421000"/>
            <a:ext cx="838080" cy="1741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2" descr="Вторичная упаковка"/>
          <p:cNvPicPr/>
          <p:nvPr/>
        </p:nvPicPr>
        <p:blipFill>
          <a:blip r:embed="rId6"/>
          <a:stretch/>
        </p:blipFill>
        <p:spPr>
          <a:xfrm>
            <a:off x="7002360" y="4365720"/>
            <a:ext cx="903240" cy="1925640"/>
          </a:xfrm>
          <a:prstGeom prst="rect">
            <a:avLst/>
          </a:prstGeom>
          <a:ln w="0">
            <a:noFill/>
          </a:ln>
        </p:spPr>
      </p:pic>
      <p:sp>
        <p:nvSpPr>
          <p:cNvPr id="601" name="Line 23"/>
          <p:cNvSpPr/>
          <p:nvPr/>
        </p:nvSpPr>
        <p:spPr>
          <a:xfrm>
            <a:off x="6958080" y="1555920"/>
            <a:ext cx="0" cy="453708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AutoShape 24"/>
          <p:cNvCxnSpPr/>
          <p:nvPr/>
        </p:nvCxnSpPr>
        <p:spPr>
          <a:xfrm flipH="1" flipV="1" rot="5400000">
            <a:off x="686160" y="4578840"/>
            <a:ext cx="1183680" cy="68292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3" name="AutoShape 25"/>
          <p:cNvCxnSpPr>
            <a:stCxn id="596" idx="3"/>
          </p:cNvCxnSpPr>
          <p:nvPr/>
        </p:nvCxnSpPr>
        <p:spPr>
          <a:xfrm flipV="1">
            <a:off x="1044720" y="3976200"/>
            <a:ext cx="497520" cy="192960"/>
          </a:xfrm>
          <a:prstGeom prst="bentConnector3">
            <a:avLst>
              <a:gd name="adj1" fmla="val 49818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4" name="AutoShape 26"/>
          <p:cNvCxnSpPr>
            <a:stCxn id="595" idx="3"/>
          </p:cNvCxnSpPr>
          <p:nvPr/>
        </p:nvCxnSpPr>
        <p:spPr>
          <a:xfrm flipV="1">
            <a:off x="1366560" y="3546000"/>
            <a:ext cx="361080" cy="137520"/>
          </a:xfrm>
          <a:prstGeom prst="bentConnector3">
            <a:avLst>
              <a:gd name="adj1" fmla="val 4970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5" name="AutoShape 27"/>
          <p:cNvCxnSpPr>
            <a:stCxn id="594" idx="3"/>
          </p:cNvCxnSpPr>
          <p:nvPr/>
        </p:nvCxnSpPr>
        <p:spPr>
          <a:xfrm>
            <a:off x="1295280" y="3106800"/>
            <a:ext cx="302400" cy="38880"/>
          </a:xfrm>
          <a:prstGeom prst="bentConnector3">
            <a:avLst>
              <a:gd name="adj1" fmla="val 4994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6" name="AutoShape 28"/>
          <p:cNvCxnSpPr>
            <a:stCxn id="593" idx="3"/>
          </p:cNvCxnSpPr>
          <p:nvPr/>
        </p:nvCxnSpPr>
        <p:spPr>
          <a:xfrm>
            <a:off x="828720" y="2532240"/>
            <a:ext cx="954720" cy="414720"/>
          </a:xfrm>
          <a:prstGeom prst="bentConnector3">
            <a:avLst>
              <a:gd name="adj1" fmla="val 22934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7" name="AutoShape 29"/>
          <p:cNvCxnSpPr>
            <a:stCxn id="580" idx="2"/>
          </p:cNvCxnSpPr>
          <p:nvPr/>
        </p:nvCxnSpPr>
        <p:spPr>
          <a:xfrm flipH="1" rot="16200000">
            <a:off x="2554200" y="2136600"/>
            <a:ext cx="1096200" cy="155880"/>
          </a:xfrm>
          <a:prstGeom prst="bentConnector3">
            <a:avLst>
              <a:gd name="adj1" fmla="val 49835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8" name="AutoShape 30"/>
          <p:cNvCxnSpPr>
            <a:stCxn id="597" idx="2"/>
          </p:cNvCxnSpPr>
          <p:nvPr/>
        </p:nvCxnSpPr>
        <p:spPr>
          <a:xfrm rot="5400000">
            <a:off x="3493440" y="2150640"/>
            <a:ext cx="948600" cy="345240"/>
          </a:xfrm>
          <a:prstGeom prst="bentConnector3">
            <a:avLst>
              <a:gd name="adj1" fmla="val 36977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09" name="AutoShape 31"/>
          <p:cNvCxnSpPr>
            <a:stCxn id="581" idx="2"/>
          </p:cNvCxnSpPr>
          <p:nvPr/>
        </p:nvCxnSpPr>
        <p:spPr>
          <a:xfrm rot="5400000">
            <a:off x="4643640" y="1959480"/>
            <a:ext cx="756360" cy="900720"/>
          </a:xfrm>
          <a:prstGeom prst="bentConnector3">
            <a:avLst>
              <a:gd name="adj1" fmla="val 22238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0" name="AutoShape 32"/>
          <p:cNvCxnSpPr>
            <a:stCxn id="579" idx="2"/>
          </p:cNvCxnSpPr>
          <p:nvPr/>
        </p:nvCxnSpPr>
        <p:spPr>
          <a:xfrm rot="5400000">
            <a:off x="5025960" y="1871640"/>
            <a:ext cx="267120" cy="229788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1" name="AutoShape 33"/>
          <p:cNvCxnSpPr/>
          <p:nvPr/>
        </p:nvCxnSpPr>
        <p:spPr>
          <a:xfrm flipH="1" flipV="1" rot="5400000">
            <a:off x="1535040" y="4496760"/>
            <a:ext cx="1873800" cy="16920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2" name="AutoShape 34"/>
          <p:cNvCxnSpPr/>
          <p:nvPr/>
        </p:nvCxnSpPr>
        <p:spPr>
          <a:xfrm flipV="1" rot="16200000">
            <a:off x="4574520" y="4830120"/>
            <a:ext cx="391320" cy="97236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3" name="AutoShape 35"/>
          <p:cNvCxnSpPr/>
          <p:nvPr/>
        </p:nvCxnSpPr>
        <p:spPr>
          <a:xfrm flipH="1" flipV="1" rot="5400000">
            <a:off x="2599200" y="4523040"/>
            <a:ext cx="1855080" cy="132480"/>
          </a:xfrm>
          <a:prstGeom prst="bentConnector2">
            <a:avLst/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4" name="AutoShape 36"/>
          <p:cNvCxnSpPr>
            <a:stCxn id="582" idx="1"/>
          </p:cNvCxnSpPr>
          <p:nvPr/>
        </p:nvCxnSpPr>
        <p:spPr>
          <a:xfrm rot="10800000">
            <a:off x="5361840" y="4330080"/>
            <a:ext cx="291240" cy="211680"/>
          </a:xfrm>
          <a:prstGeom prst="bentConnector3">
            <a:avLst>
              <a:gd name="adj1" fmla="val 50247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5" name="AutoShape 37"/>
          <p:cNvCxnSpPr>
            <a:stCxn id="587" idx="1"/>
          </p:cNvCxnSpPr>
          <p:nvPr/>
        </p:nvCxnSpPr>
        <p:spPr>
          <a:xfrm flipV="1" rot="10800000">
            <a:off x="5385600" y="4038120"/>
            <a:ext cx="266040" cy="192960"/>
          </a:xfrm>
          <a:prstGeom prst="bentConnector3">
            <a:avLst>
              <a:gd name="adj1" fmla="val 49593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cxnSp>
        <p:nvCxnSpPr>
          <p:cNvPr id="616" name="AutoShape 38"/>
          <p:cNvCxnSpPr>
            <a:stCxn id="583" idx="1"/>
          </p:cNvCxnSpPr>
          <p:nvPr/>
        </p:nvCxnSpPr>
        <p:spPr>
          <a:xfrm flipV="1" rot="10800000">
            <a:off x="4988880" y="3533760"/>
            <a:ext cx="648360" cy="76680"/>
          </a:xfrm>
          <a:prstGeom prst="bentConnector3">
            <a:avLst>
              <a:gd name="adj1" fmla="val 50000"/>
            </a:avLst>
          </a:prstGeom>
          <a:ln w="12600">
            <a:solidFill>
              <a:srgbClr val="808080"/>
            </a:solidFill>
            <a:miter/>
            <a:headEnd len="sm" type="oval" w="sm"/>
            <a:tailEnd len="med" type="stealth" w="med"/>
          </a:ln>
        </p:spPr>
      </p:cxnSp>
      <p:sp>
        <p:nvSpPr>
          <p:cNvPr id="617" name="AutoShape 39"/>
          <p:cNvSpPr/>
          <p:nvPr/>
        </p:nvSpPr>
        <p:spPr>
          <a:xfrm>
            <a:off x="108000" y="1052640"/>
            <a:ext cx="1152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Разворот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торично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упаковк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0"/>
          <p:cNvSpPr/>
          <p:nvPr/>
        </p:nvSpPr>
        <p:spPr>
          <a:xfrm>
            <a:off x="7721640" y="1413000"/>
            <a:ext cx="1297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лекарственная фор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1"/>
          <p:cNvSpPr/>
          <p:nvPr/>
        </p:nvSpPr>
        <p:spPr>
          <a:xfrm>
            <a:off x="7956720" y="3068640"/>
            <a:ext cx="10792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ервичная упак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42"/>
          <p:cNvSpPr/>
          <p:nvPr/>
        </p:nvSpPr>
        <p:spPr>
          <a:xfrm>
            <a:off x="7956720" y="5011560"/>
            <a:ext cx="107928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172f"/>
              </a:gs>
              <a:gs pos="100000">
                <a:srgbClr val="bc3e7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торичная упак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19280" y="0"/>
            <a:ext cx="734544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нформация на реальной упаковке в соответств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о статьей 46 Закона № 61-ФЗ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Об обращении лекарственных средств» от 12.04.2010 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7FC9-EDB7-4931-BA17-5A946B87A322}" type="slidenum">
              <a:t>12</a:t>
            </a:fld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0"/>
          <p:cNvSpPr/>
          <p:nvPr/>
        </p:nvSpPr>
        <p:spPr>
          <a:xfrm>
            <a:off x="971640" y="189000"/>
            <a:ext cx="817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Формат данных у хозяйствующего субъекта СО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50920" y="1671480"/>
          <a:ext cx="8569080" cy="3510000"/>
        </p:xfrm>
        <a:graphic>
          <a:graphicData uri="http://schemas.openxmlformats.org/drawingml/2006/table">
            <a:tbl>
              <a:tblPr/>
              <a:tblGrid>
                <a:gridCol w="1469880"/>
                <a:gridCol w="1594080"/>
                <a:gridCol w="1838160"/>
                <a:gridCol w="2286000"/>
                <a:gridCol w="1380960"/>
              </a:tblGrid>
              <a:tr h="43200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320"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Се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Лекарственная доз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</a:tr>
              <a:tr h="85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Номер сер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Срок год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Торговое 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Лекарственная форм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Доз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2885-2F4C-4DDA-A326-64ECAE74263C}" type="slidenum">
              <a:t>13</a:t>
            </a:fld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1116000" y="189000"/>
            <a:ext cx="8172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Формат данных у хозяйствующего субъекта СО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52560" y="1413000"/>
          <a:ext cx="8962920" cy="4314600"/>
        </p:xfrm>
        <a:graphic>
          <a:graphicData uri="http://schemas.openxmlformats.org/drawingml/2006/table">
            <a:tbl>
              <a:tblPr/>
              <a:tblGrid>
                <a:gridCol w="1103040"/>
                <a:gridCol w="560520"/>
                <a:gridCol w="676080"/>
                <a:gridCol w="839880"/>
                <a:gridCol w="939960"/>
                <a:gridCol w="457200"/>
                <a:gridCol w="904680"/>
                <a:gridCol w="1171800"/>
                <a:gridCol w="1066680"/>
                <a:gridCol w="1243080"/>
              </a:tblGrid>
              <a:tr h="51264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2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</a:tr>
              <a:tr h="1425600"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Субъект, образующий сери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Регистрационное удостовер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Штрих-ко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NOMEN I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004182"/>
                    </a:solidFill>
                  </a:tcPr>
                </a:tc>
              </a:tr>
              <a:tr h="1371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Наз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GL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ОГР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ОКАТ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Призна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Ти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Номе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Да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GT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f7e"/>
                          </a:solidFill>
                          <a:latin typeface="Arial"/>
                        </a:rPr>
                        <a:t>РЛ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4D1D-3AEA-480B-959D-173189F5B872}" type="slidenum">
              <a:t>14</a:t>
            </a:fld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C495-3BE5-4384-8D5C-FC7076128F7A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1258920" y="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аз 1222н не позволяет создавать федеральную систему НС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5"/>
          <p:cNvSpPr/>
          <p:nvPr/>
        </p:nvSpPr>
        <p:spPr>
          <a:xfrm>
            <a:off x="1403280" y="246852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частности, в приказе не сказано о необходимости записи номера регистрационного удостоверения, даты регистрации, номера штрих-кода ЕАН вторичной упаков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24B9-B5C4-4261-B3FD-773770B6ED40}" type="slidenum">
              <a:t>15</a:t>
            </a:fld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57E4-5BBE-4C8E-ACE2-AD5262106975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0"/>
          <p:cNvSpPr/>
          <p:nvPr/>
        </p:nvSpPr>
        <p:spPr>
          <a:xfrm>
            <a:off x="1258920" y="260280"/>
            <a:ext cx="7885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рификация подлинности аптечных товар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64360" cy="460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864C-9412-40D2-BB21-75C645B62280}" type="slidenum">
              <a:t>16</a:t>
            </a:fld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0798-2D8B-497C-8537-5480A8EFE4CB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0"/>
          <p:cNvSpPr/>
          <p:nvPr/>
        </p:nvSpPr>
        <p:spPr>
          <a:xfrm>
            <a:off x="1258920" y="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ый этап формиро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едеральной системы НСИ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Прямоугольник 5"/>
          <p:cNvSpPr/>
          <p:nvPr/>
        </p:nvSpPr>
        <p:spPr>
          <a:xfrm>
            <a:off x="1547640" y="270828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беспечения 95% полноты реестра товаров, присутствующих в СОЛ, достаточно иметь несколько десятков субъектов из разных территорий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565D-9ADA-43AD-89E7-2781FE29BA1A}" type="slidenum">
              <a:t>17</a:t>
            </a:fld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E919-EACE-4803-B748-3A0A244451AC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1258920" y="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тап глобальной синхрониз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птечных товаров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497A-580E-4FD9-A4A7-AC046FE6B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08000" y="358632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f7e"/>
                </a:solidFill>
                <a:latin typeface="Arial"/>
              </a:rPr>
              <a:t>Хозяйствующие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f7e"/>
                </a:solidFill>
                <a:latin typeface="Arial"/>
              </a:rPr>
              <a:t>субъекты СО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"/>
          <p:cNvPicPr/>
          <p:nvPr/>
        </p:nvPicPr>
        <p:blipFill>
          <a:blip r:embed="rId1"/>
          <a:stretch/>
        </p:blipFill>
        <p:spPr>
          <a:xfrm>
            <a:off x="2411280" y="1536840"/>
            <a:ext cx="4694400" cy="4700520"/>
          </a:xfrm>
          <a:prstGeom prst="rect">
            <a:avLst/>
          </a:prstGeom>
          <a:ln w="0">
            <a:noFill/>
          </a:ln>
        </p:spPr>
      </p:pic>
      <p:sp>
        <p:nvSpPr>
          <p:cNvPr id="640" name="Line 6"/>
          <p:cNvSpPr/>
          <p:nvPr/>
        </p:nvSpPr>
        <p:spPr>
          <a:xfrm flipH="1">
            <a:off x="6582960" y="52862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2411280" y="3481560"/>
            <a:ext cx="64800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1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2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j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2627280" y="900000"/>
            <a:ext cx="352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f7e"/>
                </a:solidFill>
                <a:latin typeface="Arial"/>
              </a:rPr>
              <a:t>Единые коды серий лекарственных средст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7451640" y="393372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f7e"/>
                </a:solidFill>
                <a:latin typeface="Arial"/>
              </a:rPr>
              <a:t>Периоды времен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6732720" y="59634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f7e"/>
                </a:solidFill>
                <a:latin typeface="Arial"/>
              </a:rPr>
              <a:t>01/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7020000" y="57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f7e"/>
                </a:solidFill>
                <a:latin typeface="Arial"/>
              </a:rPr>
              <a:t>02/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8018640" y="46951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f7e"/>
                </a:solidFill>
                <a:latin typeface="Arial"/>
              </a:rPr>
              <a:t>12/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3"/>
          <p:cNvSpPr/>
          <p:nvPr/>
        </p:nvSpPr>
        <p:spPr>
          <a:xfrm flipH="1">
            <a:off x="7020000" y="4869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4"/>
          <p:cNvSpPr/>
          <p:nvPr/>
        </p:nvSpPr>
        <p:spPr>
          <a:xfrm flipH="1">
            <a:off x="5940360" y="5950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5"/>
          <p:cNvSpPr/>
          <p:nvPr/>
        </p:nvSpPr>
        <p:spPr>
          <a:xfrm flipH="1">
            <a:off x="5724000" y="6165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6"/>
          <p:cNvSpPr/>
          <p:nvPr/>
        </p:nvSpPr>
        <p:spPr>
          <a:xfrm>
            <a:off x="3564000" y="2060640"/>
            <a:ext cx="2952720" cy="0"/>
          </a:xfrm>
          <a:prstGeom prst="line">
            <a:avLst/>
          </a:prstGeom>
          <a:ln w="2232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7"/>
          <p:cNvSpPr/>
          <p:nvPr/>
        </p:nvSpPr>
        <p:spPr>
          <a:xfrm>
            <a:off x="6535800" y="2166840"/>
            <a:ext cx="0" cy="2990880"/>
          </a:xfrm>
          <a:prstGeom prst="line">
            <a:avLst/>
          </a:prstGeom>
          <a:ln w="2232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4240080" y="3075120"/>
            <a:ext cx="409680" cy="3128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2916360" y="35528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   1   …  0  … 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2916360" y="39844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0   1   …  1   …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2916360" y="4896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0   1   …  1   …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22"/>
          <p:cNvSpPr/>
          <p:nvPr/>
        </p:nvSpPr>
        <p:spPr>
          <a:xfrm>
            <a:off x="2556000" y="5497560"/>
            <a:ext cx="2952720" cy="0"/>
          </a:xfrm>
          <a:prstGeom prst="line">
            <a:avLst/>
          </a:prstGeom>
          <a:ln w="2232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3"/>
          <p:cNvSpPr/>
          <p:nvPr/>
        </p:nvSpPr>
        <p:spPr>
          <a:xfrm>
            <a:off x="2916360" y="57801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   1   …  1   … 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4"/>
          <p:cNvSpPr/>
          <p:nvPr/>
        </p:nvSpPr>
        <p:spPr>
          <a:xfrm>
            <a:off x="2916360" y="2976480"/>
            <a:ext cx="331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1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2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i            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3399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5"/>
          <p:cNvSpPr/>
          <p:nvPr/>
        </p:nvSpPr>
        <p:spPr>
          <a:xfrm>
            <a:off x="2556000" y="4633920"/>
            <a:ext cx="2952720" cy="0"/>
          </a:xfrm>
          <a:prstGeom prst="line">
            <a:avLst/>
          </a:prstGeom>
          <a:ln w="2232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26" descr=""/>
          <p:cNvPicPr/>
          <p:nvPr/>
        </p:nvPicPr>
        <p:blipFill>
          <a:blip r:embed="rId2"/>
          <a:stretch/>
        </p:blipFill>
        <p:spPr>
          <a:xfrm>
            <a:off x="4240080" y="1539720"/>
            <a:ext cx="2016360" cy="15289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7" descr=""/>
          <p:cNvPicPr/>
          <p:nvPr/>
        </p:nvPicPr>
        <p:blipFill>
          <a:blip r:embed="rId3"/>
          <a:stretch/>
        </p:blipFill>
        <p:spPr>
          <a:xfrm rot="14635200">
            <a:off x="6884640" y="107640"/>
            <a:ext cx="1206360" cy="266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2244F-84A6-4464-9546-03A114947407}" type="slidenum">
              <a:t>18</a:t>
            </a:fld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AD4-EE94-4B94-983F-57B03A1A2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9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2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3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4" descr=""/>
          <p:cNvPicPr/>
          <p:nvPr/>
        </p:nvPicPr>
        <p:blipFill>
          <a:blip r:embed="rId1"/>
          <a:stretch/>
        </p:blipFill>
        <p:spPr>
          <a:xfrm>
            <a:off x="2266920" y="1592280"/>
            <a:ext cx="6602400" cy="442908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15"/>
          <p:cNvSpPr/>
          <p:nvPr/>
        </p:nvSpPr>
        <p:spPr>
          <a:xfrm>
            <a:off x="4981680" y="112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e"/>
                </a:solidFill>
                <a:latin typeface="Arial"/>
              </a:rPr>
              <a:t>Месяц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6"/>
          <p:cNvSpPr/>
          <p:nvPr/>
        </p:nvSpPr>
        <p:spPr>
          <a:xfrm>
            <a:off x="108000" y="3476160"/>
            <a:ext cx="2179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e"/>
                </a:solidFill>
                <a:latin typeface="Arial"/>
              </a:rPr>
              <a:t>Тип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f7e"/>
                </a:solidFill>
                <a:latin typeface="Arial"/>
              </a:rPr>
              <a:t>хозяйствующих </a:t>
            </a:r>
            <a:r>
              <a:rPr b="1" lang="en-US" sz="2000" spc="-1" strike="noStrike">
                <a:solidFill>
                  <a:srgbClr val="003f7e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3f7e"/>
                </a:solidFill>
                <a:latin typeface="Arial"/>
              </a:rPr>
              <a:t>убъектов СО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17"/>
          <p:cNvSpPr/>
          <p:nvPr/>
        </p:nvSpPr>
        <p:spPr>
          <a:xfrm>
            <a:off x="2593800" y="1952640"/>
            <a:ext cx="6515280" cy="4200480"/>
          </a:xfrm>
          <a:custGeom>
            <a:avLst/>
            <a:gdLst>
              <a:gd name="textAreaLeft" fmla="*/ 0 w 6515280"/>
              <a:gd name="textAreaRight" fmla="*/ 6515640 w 6515280"/>
              <a:gd name="textAreaTop" fmla="*/ 0 h 4200480"/>
              <a:gd name="textAreaBottom" fmla="*/ 4200840 h 4200480"/>
            </a:gdLst>
            <a:ahLst/>
            <a:rect l="textAreaLeft" t="textAreaTop" r="textAreaRight" b="textAreaBottom"/>
            <a:pathLst>
              <a:path w="4104" h="2646">
                <a:moveTo>
                  <a:pt x="98" y="23"/>
                </a:moveTo>
                <a:cubicBezTo>
                  <a:pt x="196" y="0"/>
                  <a:pt x="483" y="23"/>
                  <a:pt x="642" y="23"/>
                </a:cubicBezTo>
                <a:cubicBezTo>
                  <a:pt x="801" y="23"/>
                  <a:pt x="906" y="23"/>
                  <a:pt x="1050" y="23"/>
                </a:cubicBezTo>
                <a:cubicBezTo>
                  <a:pt x="1194" y="23"/>
                  <a:pt x="1383" y="16"/>
                  <a:pt x="1504" y="23"/>
                </a:cubicBezTo>
                <a:cubicBezTo>
                  <a:pt x="1625" y="30"/>
                  <a:pt x="1708" y="30"/>
                  <a:pt x="1776" y="68"/>
                </a:cubicBezTo>
                <a:cubicBezTo>
                  <a:pt x="1844" y="106"/>
                  <a:pt x="1814" y="152"/>
                  <a:pt x="1912" y="250"/>
                </a:cubicBezTo>
                <a:cubicBezTo>
                  <a:pt x="2010" y="348"/>
                  <a:pt x="2229" y="530"/>
                  <a:pt x="2365" y="658"/>
                </a:cubicBezTo>
                <a:cubicBezTo>
                  <a:pt x="2501" y="786"/>
                  <a:pt x="2592" y="915"/>
                  <a:pt x="2728" y="1021"/>
                </a:cubicBezTo>
                <a:cubicBezTo>
                  <a:pt x="2864" y="1127"/>
                  <a:pt x="3061" y="1195"/>
                  <a:pt x="3182" y="1293"/>
                </a:cubicBezTo>
                <a:cubicBezTo>
                  <a:pt x="3303" y="1391"/>
                  <a:pt x="3363" y="1512"/>
                  <a:pt x="3454" y="1610"/>
                </a:cubicBezTo>
                <a:cubicBezTo>
                  <a:pt x="3545" y="1708"/>
                  <a:pt x="3658" y="1792"/>
                  <a:pt x="3726" y="1883"/>
                </a:cubicBezTo>
                <a:cubicBezTo>
                  <a:pt x="3794" y="1974"/>
                  <a:pt x="3817" y="2072"/>
                  <a:pt x="3862" y="2155"/>
                </a:cubicBezTo>
                <a:cubicBezTo>
                  <a:pt x="3907" y="2238"/>
                  <a:pt x="3975" y="2307"/>
                  <a:pt x="3998" y="2382"/>
                </a:cubicBezTo>
                <a:cubicBezTo>
                  <a:pt x="4021" y="2457"/>
                  <a:pt x="4104" y="2570"/>
                  <a:pt x="3998" y="2608"/>
                </a:cubicBezTo>
                <a:cubicBezTo>
                  <a:pt x="3892" y="2646"/>
                  <a:pt x="3537" y="2608"/>
                  <a:pt x="3363" y="2608"/>
                </a:cubicBezTo>
                <a:cubicBezTo>
                  <a:pt x="3189" y="2608"/>
                  <a:pt x="3121" y="2608"/>
                  <a:pt x="2955" y="2608"/>
                </a:cubicBezTo>
                <a:cubicBezTo>
                  <a:pt x="2789" y="2608"/>
                  <a:pt x="2478" y="2623"/>
                  <a:pt x="2365" y="2608"/>
                </a:cubicBezTo>
                <a:cubicBezTo>
                  <a:pt x="2252" y="2593"/>
                  <a:pt x="2343" y="2601"/>
                  <a:pt x="2275" y="2518"/>
                </a:cubicBezTo>
                <a:cubicBezTo>
                  <a:pt x="2207" y="2435"/>
                  <a:pt x="2048" y="2238"/>
                  <a:pt x="1957" y="2109"/>
                </a:cubicBezTo>
                <a:cubicBezTo>
                  <a:pt x="1866" y="1980"/>
                  <a:pt x="1798" y="1859"/>
                  <a:pt x="1730" y="1746"/>
                </a:cubicBezTo>
                <a:cubicBezTo>
                  <a:pt x="1662" y="1633"/>
                  <a:pt x="1587" y="1527"/>
                  <a:pt x="1549" y="1429"/>
                </a:cubicBezTo>
                <a:cubicBezTo>
                  <a:pt x="1511" y="1331"/>
                  <a:pt x="1549" y="1240"/>
                  <a:pt x="1504" y="1157"/>
                </a:cubicBezTo>
                <a:cubicBezTo>
                  <a:pt x="1459" y="1074"/>
                  <a:pt x="1368" y="998"/>
                  <a:pt x="1277" y="930"/>
                </a:cubicBezTo>
                <a:cubicBezTo>
                  <a:pt x="1186" y="862"/>
                  <a:pt x="1072" y="802"/>
                  <a:pt x="959" y="749"/>
                </a:cubicBezTo>
                <a:cubicBezTo>
                  <a:pt x="846" y="696"/>
                  <a:pt x="709" y="665"/>
                  <a:pt x="596" y="612"/>
                </a:cubicBezTo>
                <a:cubicBezTo>
                  <a:pt x="483" y="559"/>
                  <a:pt x="354" y="476"/>
                  <a:pt x="279" y="431"/>
                </a:cubicBezTo>
                <a:cubicBezTo>
                  <a:pt x="204" y="386"/>
                  <a:pt x="181" y="385"/>
                  <a:pt x="143" y="340"/>
                </a:cubicBezTo>
                <a:cubicBezTo>
                  <a:pt x="105" y="295"/>
                  <a:pt x="59" y="212"/>
                  <a:pt x="52" y="159"/>
                </a:cubicBezTo>
                <a:cubicBezTo>
                  <a:pt x="45" y="106"/>
                  <a:pt x="0" y="46"/>
                  <a:pt x="98" y="23"/>
                </a:cubicBezTo>
                <a:close/>
              </a:path>
            </a:pathLst>
          </a:custGeom>
          <a:noFill/>
          <a:ln w="255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8" descr=""/>
          <p:cNvPicPr/>
          <p:nvPr/>
        </p:nvPicPr>
        <p:blipFill>
          <a:blip r:embed="rId2"/>
          <a:stretch/>
        </p:blipFill>
        <p:spPr>
          <a:xfrm rot="15199200">
            <a:off x="736200" y="252000"/>
            <a:ext cx="966600" cy="213516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10"/>
          <p:cNvSpPr/>
          <p:nvPr/>
        </p:nvSpPr>
        <p:spPr>
          <a:xfrm>
            <a:off x="1258920" y="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астный случай трекинга препарата в матрице состоя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лекарственного средства с серией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6CBE-09B7-4B24-8995-69967A59D0C9}" type="slidenum">
              <a:t>19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3180-8791-4BFC-9279-C55B8A6B221D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1476360" y="44280"/>
            <a:ext cx="7416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ча повышения эффективности управления аптечной деятель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http://www.aecc.ru/img/news/sap_s.jpg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10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8E68-7B55-4666-A13C-2FF716B51EA2}" type="slidenum">
              <a:t>2</a:t>
            </a:fld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1258920" y="0"/>
            <a:ext cx="78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анные, передаваемые в Федеральную общественную систему (ФОС) НС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учетной системы аптечного учреждения или другого субъект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ОЛ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владельца информации о товаре аптечного ассортимента (ТАА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2DDC-0814-4639-B803-0B18026E3C7A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250920" y="1211400"/>
          <a:ext cx="4105080" cy="4738680"/>
        </p:xfrm>
        <a:graphic>
          <a:graphicData uri="http://schemas.openxmlformats.org/drawingml/2006/table">
            <a:tbl>
              <a:tblPr/>
              <a:tblGrid>
                <a:gridCol w="1128600"/>
                <a:gridCol w="304920"/>
                <a:gridCol w="2671560"/>
              </a:tblGrid>
              <a:tr h="578880">
                <a:tc rowSpan="10">
                  <a:txBody>
                    <a:bodyPr lIns="90000" rIns="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а 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омер    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составления данных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ФОС НС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аптечного или другого субъекта СОЛ (ненормализованный вид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ГР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нахождение субъекта СОЛ (ненормализованный вид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, фак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ma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, Ф.И.О. (сведения о должностном лице, составившем документ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0" tIns="54000" bIns="540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подпись аптек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7921800" y="907920"/>
            <a:ext cx="9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45a"/>
                </a:solidFill>
                <a:latin typeface="Arial"/>
              </a:rPr>
              <a:t>Таблица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4500720" y="1197000"/>
          <a:ext cx="4519440" cy="4752720"/>
        </p:xfrm>
        <a:graphic>
          <a:graphicData uri="http://schemas.openxmlformats.org/drawingml/2006/table">
            <a:tbl>
              <a:tblPr/>
              <a:tblGrid>
                <a:gridCol w="869760"/>
                <a:gridCol w="311040"/>
                <a:gridCol w="3338640"/>
              </a:tblGrid>
              <a:tr h="498600">
                <a:tc rowSpan="10">
                  <a:txBody>
                    <a:bodyPr lIns="90000" rIns="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а СО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говое наименование ТАА (ненормализованный вид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сер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годно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регистрационного удостоверения (РУ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выда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-ко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изводителя ТАА (ненормализованный вид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нахождение производителя (ненормализованный вид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ый уникальный штрих-код (ЛУШК), сгенерированный аптечной программо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0" tIns="36000" bIns="36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формления сопроводительных документов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4" name=""/>
          <p:cNvSpPr/>
          <p:nvPr/>
        </p:nvSpPr>
        <p:spPr>
          <a:xfrm>
            <a:off x="3203640" y="90792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45a"/>
                </a:solidFill>
                <a:latin typeface="Arial"/>
              </a:rPr>
              <a:t>Таблица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0920" y="6021360"/>
            <a:ext cx="864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45a"/>
                </a:solidFill>
                <a:latin typeface="Arial"/>
              </a:rPr>
              <a:t>Поля 1</a:t>
            </a:r>
            <a:r>
              <a:rPr b="1" lang="en-US" sz="1200" spc="-1" strike="noStrike">
                <a:solidFill>
                  <a:srgbClr val="00645a"/>
                </a:solidFill>
                <a:latin typeface=""/>
              </a:rPr>
              <a:t>–</a:t>
            </a:r>
            <a:r>
              <a:rPr b="1" lang="en-US" sz="1200" spc="-1" strike="noStrike">
                <a:solidFill>
                  <a:srgbClr val="00645a"/>
                </a:solidFill>
                <a:latin typeface="Arial"/>
              </a:rPr>
              <a:t>6 являются обязательными к заполнению, при этом поля 4</a:t>
            </a:r>
            <a:r>
              <a:rPr b="0" lang="en-US" sz="1200" spc="-1" strike="noStrike">
                <a:solidFill>
                  <a:srgbClr val="00645a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645a"/>
                </a:solidFill>
                <a:latin typeface="Arial"/>
              </a:rPr>
              <a:t>5 можно заменить на 6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BA0F-BC3F-44A1-866F-C881B341A9DB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2357-CCC9-4182-9D68-448AC4494868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8"/>
          <p:cNvSpPr/>
          <p:nvPr/>
        </p:nvSpPr>
        <p:spPr>
          <a:xfrm>
            <a:off x="1655640" y="189000"/>
            <a:ext cx="748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8"/>
          <p:cNvSpPr/>
          <p:nvPr/>
        </p:nvSpPr>
        <p:spPr>
          <a:xfrm>
            <a:off x="250920" y="1341360"/>
            <a:ext cx="69840" cy="51300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8"/>
          <p:cNvSpPr/>
          <p:nvPr/>
        </p:nvSpPr>
        <p:spPr>
          <a:xfrm>
            <a:off x="250920" y="2276640"/>
            <a:ext cx="69840" cy="51264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8"/>
          <p:cNvSpPr/>
          <p:nvPr/>
        </p:nvSpPr>
        <p:spPr>
          <a:xfrm>
            <a:off x="250920" y="3213000"/>
            <a:ext cx="69840" cy="51300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8"/>
          <p:cNvSpPr/>
          <p:nvPr/>
        </p:nvSpPr>
        <p:spPr>
          <a:xfrm>
            <a:off x="250920" y="4076640"/>
            <a:ext cx="71280" cy="51300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Прямоугольник 9"/>
          <p:cNvSpPr/>
          <p:nvPr/>
        </p:nvSpPr>
        <p:spPr>
          <a:xfrm>
            <a:off x="395280" y="1413000"/>
            <a:ext cx="56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Локальн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ерии»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Прямоугольник 10"/>
          <p:cNvSpPr/>
          <p:nvPr/>
        </p:nvSpPr>
        <p:spPr>
          <a:xfrm>
            <a:off x="1511280" y="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к расширению состава полей автоматизированной учетной системы субъ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Прямоугольник 11"/>
          <p:cNvSpPr/>
          <p:nvPr/>
        </p:nvSpPr>
        <p:spPr>
          <a:xfrm>
            <a:off x="395280" y="2349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мер регистрационного удостоверения, дата регистр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Прямоугольник 12"/>
          <p:cNvSpPr/>
          <p:nvPr/>
        </p:nvSpPr>
        <p:spPr>
          <a:xfrm>
            <a:off x="395280" y="328464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мер штрих-кода вторичной упаков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13"/>
          <p:cNvSpPr/>
          <p:nvPr/>
        </p:nvSpPr>
        <p:spPr>
          <a:xfrm>
            <a:off x="395280" y="414972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ый код «серия РЛ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250920" y="4941720"/>
            <a:ext cx="71280" cy="64800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15"/>
          <p:cNvSpPr/>
          <p:nvPr/>
        </p:nvSpPr>
        <p:spPr>
          <a:xfrm>
            <a:off x="468360" y="49417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ый код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убъекта, образующего серию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единый код  «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убъект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ладельца аптечного товара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321F-BC93-459E-8835-9B0CDC9C8775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3"/>
          <p:cNvSpPr/>
          <p:nvPr/>
        </p:nvSpPr>
        <p:spPr>
          <a:xfrm>
            <a:off x="1735920" y="-1440"/>
            <a:ext cx="67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аблицы, получаемые из автоматизированных ФОС НС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птечным учреждением или другим субъектом СОЛ </a:t>
            </a:r>
            <a:r>
              <a:rPr b="1" lang="en-US" sz="1800" spc="-1" strike="noStrike">
                <a:solidFill>
                  <a:srgbClr val="ffffff"/>
                </a:solidFill>
                <a:latin typeface=""/>
              </a:rPr>
              <a:t>—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адельцем информации о ТА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08000" y="3471840"/>
          <a:ext cx="8856720" cy="2693880"/>
        </p:xfrm>
        <a:graphic>
          <a:graphicData uri="http://schemas.openxmlformats.org/drawingml/2006/table">
            <a:tbl>
              <a:tblPr/>
              <a:tblGrid>
                <a:gridCol w="1074600"/>
                <a:gridCol w="1298520"/>
                <a:gridCol w="1258920"/>
                <a:gridCol w="1346400"/>
                <a:gridCol w="1403280"/>
                <a:gridCol w="1278000"/>
                <a:gridCol w="1197000"/>
              </a:tblGrid>
              <a:tr h="1339920"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ID </a:t>
                      </a:r>
                      <a:r>
                        <a:rPr b="0" lang="ru-RU" sz="16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серии аптечного товара          </a:t>
                      </a:r>
                      <a:r>
                        <a:rPr b="0" lang="ru-RU" sz="14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субъект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СО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Дата составления</a:t>
                      </a:r>
                      <a:r>
                        <a:rPr b="0" lang="en-US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данных экспертами ФС НСИ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Локальный универсаль-ный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штрих-код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РЛС серия </a:t>
                      </a:r>
                      <a:r>
                        <a:rPr b="0" lang="en-US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ID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уникальный код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РЛС </a:t>
                      </a:r>
                      <a:r>
                        <a:rPr b="0" lang="en-US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NOMEN  ID (</a:t>
                      </a: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из базы данных РЛС</a:t>
                      </a:r>
                      <a:r>
                        <a:rPr b="0" lang="en-US" sz="1500" spc="-1" strike="noStrike" baseline="30000">
                          <a:solidFill>
                            <a:srgbClr val="224568"/>
                          </a:solidFill>
                          <a:latin typeface="Arial"/>
                          <a:ea typeface="Arial"/>
                        </a:rPr>
                        <a:t>®</a:t>
                      </a: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Название субъекта СОЛ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(нормализо-ванный вид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Название ТАА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224568"/>
                          </a:solidFill>
                          <a:latin typeface="Arial"/>
                        </a:rPr>
                        <a:t>(нормализо-ванный вид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 gridSpan="3"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базы данных субъектов СО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45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базы данных ФОС НС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245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2" name="Text Box 210"/>
          <p:cNvSpPr/>
          <p:nvPr/>
        </p:nvSpPr>
        <p:spPr>
          <a:xfrm>
            <a:off x="7740720" y="31240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45a"/>
                </a:solidFill>
                <a:latin typeface="Arial"/>
              </a:rPr>
              <a:t>Таблица 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11"/>
          <p:cNvSpPr/>
          <p:nvPr/>
        </p:nvSpPr>
        <p:spPr>
          <a:xfrm>
            <a:off x="7740720" y="21160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45a"/>
                </a:solidFill>
                <a:latin typeface="Arial"/>
              </a:rPr>
              <a:t>Таблица 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179280" y="2492280"/>
          <a:ext cx="8569440" cy="515880"/>
        </p:xfrm>
        <a:graphic>
          <a:graphicData uri="http://schemas.openxmlformats.org/drawingml/2006/table">
            <a:tbl>
              <a:tblPr/>
              <a:tblGrid>
                <a:gridCol w="4753080"/>
                <a:gridCol w="3816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D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бъекта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—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владельца аптечного това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выгрузки выходного файла в автоматизированную систему ФОС НС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Text Box 230"/>
          <p:cNvSpPr/>
          <p:nvPr/>
        </p:nvSpPr>
        <p:spPr>
          <a:xfrm>
            <a:off x="7740720" y="10526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45a"/>
                </a:solidFill>
                <a:latin typeface="Arial"/>
              </a:rPr>
              <a:t>Таблица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9280" y="1428840"/>
          <a:ext cx="8569440" cy="560160"/>
        </p:xfrm>
        <a:graphic>
          <a:graphicData uri="http://schemas.openxmlformats.org/drawingml/2006/table">
            <a:tbl>
              <a:tblPr/>
              <a:tblGrid>
                <a:gridCol w="4753080"/>
                <a:gridCol w="38163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D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бъекта, образующего сер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D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убъекта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  <a:ea typeface="Arial"/>
                        </a:rPr>
                        <a:t>—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владельца аптечного товар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ID 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ерии аптечного товара субъекта СОЛ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0D4D-A159-4CC0-8C2E-C4CBA6B89699}" type="slidenum">
              <a:t>22</a:t>
            </a:fld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B528-FA16-48DB-8CF3-94A36AE1ED19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108000" y="1125360"/>
            <a:ext cx="8810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6"/>
          <p:cNvSpPr/>
          <p:nvPr/>
        </p:nvSpPr>
        <p:spPr>
          <a:xfrm>
            <a:off x="1547640" y="2602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ования к «автоматизатору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7"/>
          <p:cNvSpPr/>
          <p:nvPr/>
        </p:nvSpPr>
        <p:spPr>
          <a:xfrm>
            <a:off x="826920" y="1052640"/>
            <a:ext cx="7775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Требования к «автоматизатору», отвечающему за ведение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2060"/>
                </a:solidFill>
                <a:latin typeface="Arial"/>
              </a:rPr>
              <a:t>локальной учетной автоматизированной системы субъекта СОЛ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6"/>
          <p:cNvSpPr/>
          <p:nvPr/>
        </p:nvSpPr>
        <p:spPr>
          <a:xfrm>
            <a:off x="826920" y="1989000"/>
            <a:ext cx="7561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написать программу формирования электронной накладной, которая бы считывала номер и дату регистрационного удостоверения из поля товарной накладной продавца с названием «Документ, подтверждающий качество товара»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после обработки товарной накладной по заданному в контракте адресу в интернет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должен автоматически формироваться «скрипт», содержащий сведения по полям выходного файла</a:t>
            </a:r>
            <a:r>
              <a:rPr b="0" lang="en-US" sz="1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с определенным лагом программа должна считывать данные входного файла, сформированного ФОС НСИ, и загружать их в базу данных субъекта.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9194F-98CF-41DC-9220-4A4CA3E3F8F0}" type="slidenum">
              <a:t>23</a:t>
            </a:fld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5C17-4E05-4F43-9EDC-6D1FCDF37768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1655640" y="189000"/>
            <a:ext cx="748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ь предоставления услуги РЛС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8"/>
          <p:cNvSpPr/>
          <p:nvPr/>
        </p:nvSpPr>
        <p:spPr>
          <a:xfrm>
            <a:off x="108000" y="1916280"/>
            <a:ext cx="69840" cy="51264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0"/>
          <p:cNvSpPr/>
          <p:nvPr/>
        </p:nvSpPr>
        <p:spPr>
          <a:xfrm>
            <a:off x="298440" y="1123920"/>
            <a:ext cx="8810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ая услуга РЛС позволяет субъекту СОЛ осуществи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язь локальных уникальных кодов, поступающих на склад аптечных товаров с кодами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ерия РЛС», автоматизированной информационно-справочной системы РЛС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язь собственной учетной системы с учетными системами других участников ЕИП СОЛ (реализовать автоматизированный обмен данными);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модернизированного основного словаря аптечных товаров, совместимого со старым  на основе уникальных идентификационных кодов товара «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ерия РЛС», единых для всей СОЛ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построение локальной корпоративной системы НСИ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108000" y="2781360"/>
            <a:ext cx="69840" cy="51264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8"/>
          <p:cNvSpPr/>
          <p:nvPr/>
        </p:nvSpPr>
        <p:spPr>
          <a:xfrm>
            <a:off x="108000" y="3573360"/>
            <a:ext cx="69840" cy="51300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8"/>
          <p:cNvSpPr/>
          <p:nvPr/>
        </p:nvSpPr>
        <p:spPr>
          <a:xfrm>
            <a:off x="108000" y="4437000"/>
            <a:ext cx="69840" cy="513000"/>
          </a:xfrm>
          <a:prstGeom prst="rect">
            <a:avLst/>
          </a:prstGeom>
          <a:solidFill>
            <a:srgbClr val="ba1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1F3F-C0AF-49AF-B7D0-EDA0C9684BA4}" type="slidenum">
              <a:t>24</a:t>
            </a:fld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14"/>
          <p:cNvSpPr/>
          <p:nvPr/>
        </p:nvSpPr>
        <p:spPr>
          <a:xfrm>
            <a:off x="250920" y="6408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4063-808B-4482-8A23-40554F543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250920" y="6021360"/>
            <a:ext cx="9144000" cy="836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ТЕРФЕЙС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ГРАММЫ ОСУЩЕСТВЛЕНИЯ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СОЛИДАЦИ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АРМОНИЗАЦ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ССИВОВ   ДАННЫХ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О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ЕРИЯХ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ХОЗЯЙСТВУЮЩИХ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СУБЪЕКТОВ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leykran"/>
          <p:cNvPicPr/>
          <p:nvPr/>
        </p:nvPicPr>
        <p:blipFill>
          <a:blip r:embed="rId1"/>
          <a:stretch/>
        </p:blipFill>
        <p:spPr>
          <a:xfrm>
            <a:off x="108000" y="1052640"/>
            <a:ext cx="8856720" cy="4805280"/>
          </a:xfrm>
          <a:prstGeom prst="rect">
            <a:avLst/>
          </a:prstGeom>
          <a:ln w="0">
            <a:noFill/>
          </a:ln>
        </p:spPr>
      </p:pic>
      <p:sp>
        <p:nvSpPr>
          <p:cNvPr id="724" name="AutoShape 12"/>
          <p:cNvSpPr/>
          <p:nvPr/>
        </p:nvSpPr>
        <p:spPr>
          <a:xfrm>
            <a:off x="5364000" y="2637000"/>
            <a:ext cx="3672000" cy="1512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1403280" y="0"/>
            <a:ext cx="774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нтерфейс программы осуществления консолидац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гармонизации массивов данных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сериях хозяйствующих субъектов СО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7623-1B46-424F-9EE1-D6A7384B6224}" type="slidenum">
              <a:t>25</a:t>
            </a:fld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34E3-4798-43F9-A53D-7133DFB08216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33" descr="EFPIA"/>
          <p:cNvPicPr/>
          <p:nvPr/>
        </p:nvPicPr>
        <p:blipFill>
          <a:blip r:embed="rId1"/>
          <a:stretch/>
        </p:blipFill>
        <p:spPr>
          <a:xfrm>
            <a:off x="395280" y="907920"/>
            <a:ext cx="3859200" cy="54738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5" descr=""/>
          <p:cNvPicPr/>
          <p:nvPr/>
        </p:nvPicPr>
        <p:blipFill>
          <a:blip r:embed="rId2"/>
          <a:stretch/>
        </p:blipFill>
        <p:spPr>
          <a:xfrm>
            <a:off x="4786200" y="981000"/>
            <a:ext cx="3673440" cy="29815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6" descr=""/>
          <p:cNvPicPr/>
          <p:nvPr/>
        </p:nvPicPr>
        <p:blipFill>
          <a:blip r:embed="rId3"/>
          <a:stretch/>
        </p:blipFill>
        <p:spPr>
          <a:xfrm>
            <a:off x="4786200" y="3933720"/>
            <a:ext cx="3529080" cy="137340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37"/>
          <p:cNvSpPr/>
          <p:nvPr/>
        </p:nvSpPr>
        <p:spPr>
          <a:xfrm>
            <a:off x="1547640" y="23508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чало создания ЕИП в Е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38"/>
          <p:cNvSpPr/>
          <p:nvPr/>
        </p:nvSpPr>
        <p:spPr>
          <a:xfrm>
            <a:off x="250920" y="3068640"/>
            <a:ext cx="3600360" cy="647640"/>
          </a:xfrm>
          <a:prstGeom prst="ellipse">
            <a:avLst/>
          </a:prstGeom>
          <a:noFill/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9"/>
          <p:cNvSpPr/>
          <p:nvPr/>
        </p:nvSpPr>
        <p:spPr>
          <a:xfrm>
            <a:off x="179280" y="2421000"/>
            <a:ext cx="8785440" cy="1883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234000" tIns="118800" bIns="118800" anchor="t">
            <a:sp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4b71"/>
                </a:solidFill>
                <a:latin typeface="Arial"/>
              </a:rPr>
              <a:t>Ассоциации </a:t>
            </a:r>
            <a:r>
              <a:rPr b="0" lang="en-US" sz="1800" spc="-1" strike="noStrike">
                <a:solidFill>
                  <a:srgbClr val="254b71"/>
                </a:solidFill>
                <a:latin typeface="Arial"/>
              </a:rPr>
              <a:t>EFPIA</a:t>
            </a:r>
            <a:r>
              <a:rPr b="0" lang="ru-RU" sz="1800" spc="-1" strike="noStrike">
                <a:solidFill>
                  <a:srgbClr val="254b71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254b71"/>
                </a:solidFill>
                <a:latin typeface="Arial"/>
              </a:rPr>
              <a:t>GIRP</a:t>
            </a:r>
            <a:r>
              <a:rPr b="0" lang="ru-RU" sz="1800" spc="-1" strike="noStrike">
                <a:solidFill>
                  <a:srgbClr val="254b71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254b71"/>
                </a:solidFill>
                <a:latin typeface="Arial"/>
              </a:rPr>
              <a:t>PGEU</a:t>
            </a:r>
            <a:r>
              <a:rPr b="0" lang="ru-RU" sz="1800" spc="-1" strike="noStrike">
                <a:solidFill>
                  <a:srgbClr val="254b71"/>
                </a:solidFill>
                <a:latin typeface="Arial"/>
              </a:rPr>
              <a:t> совместно работают над  Европейской Моделью </a:t>
            </a:r>
            <a:r>
              <a:rPr b="0" lang="ru-RU" sz="1800" spc="-1" strike="noStrike">
                <a:solidFill>
                  <a:srgbClr val="254b71"/>
                </a:solidFill>
                <a:latin typeface="Arial"/>
                <a:ea typeface="Arial"/>
              </a:rPr>
              <a:t>—</a:t>
            </a:r>
            <a:r>
              <a:rPr b="0" lang="ru-RU" sz="1800" spc="-1" strike="noStrike">
                <a:solidFill>
                  <a:srgbClr val="254b71"/>
                </a:solidFill>
                <a:latin typeface="Arial"/>
              </a:rPr>
              <a:t> Европейским проектом верификации лекарств, цель которого предотвратить проникновение контрафактных препаратов  в европейскую товаропроводящую цепь, и, таким образом, усилить безопасность пациентов. Недавно </a:t>
            </a:r>
            <a:r>
              <a:rPr b="0" lang="en-US" sz="1800" spc="-1" strike="noStrike">
                <a:solidFill>
                  <a:srgbClr val="254b71"/>
                </a:solidFill>
                <a:latin typeface="Arial"/>
              </a:rPr>
              <a:t>EAEPC</a:t>
            </a:r>
            <a:r>
              <a:rPr b="0" lang="ru-RU" sz="1800" spc="-1" strike="noStrike">
                <a:solidFill>
                  <a:srgbClr val="254b71"/>
                </a:solidFill>
                <a:latin typeface="Arial"/>
              </a:rPr>
              <a:t>, ассоциация, представляющая параллельных (коммерческих) дистрибьюторов, присоединилась к проек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EB12-ADC5-4DB0-A4A9-049D6D0A6E29}" type="slidenum">
              <a:t>26</a:t>
            </a:fld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732-531C-4952-9732-DB0CAFA207C6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"/>
          <p:cNvSpPr/>
          <p:nvPr/>
        </p:nvSpPr>
        <p:spPr>
          <a:xfrm>
            <a:off x="1635480" y="260280"/>
            <a:ext cx="652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тапы взаимодействия субъекта СОЛ с РЛС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"/>
          <p:cNvSpPr/>
          <p:nvPr/>
        </p:nvSpPr>
        <p:spPr>
          <a:xfrm>
            <a:off x="298440" y="1123920"/>
            <a:ext cx="881064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17a"/>
                </a:solidFill>
                <a:latin typeface="Arial"/>
              </a:rPr>
              <a:t>Компания РЛС</a:t>
            </a:r>
            <a:r>
              <a:rPr b="1" lang="en-US" sz="2400" spc="-1" strike="noStrike" baseline="30000">
                <a:solidFill>
                  <a:srgbClr val="28517a"/>
                </a:solidFill>
                <a:latin typeface="Arial"/>
                <a:ea typeface="Arial"/>
              </a:rPr>
              <a:t>®</a:t>
            </a:r>
            <a:r>
              <a:rPr b="1" lang="ru-RU" sz="2400" spc="-1" strike="noStrike">
                <a:solidFill>
                  <a:srgbClr val="28517a"/>
                </a:solidFill>
                <a:latin typeface="Arial"/>
              </a:rPr>
              <a:t> приглашает В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17a"/>
                </a:solidFill>
                <a:latin typeface="Arial"/>
              </a:rPr>
              <a:t>принять участие в обсуждении темы</a:t>
            </a:r>
            <a:r>
              <a:rPr b="1" lang="en-US" sz="2400" spc="-1" strike="noStrike">
                <a:solidFill>
                  <a:srgbClr val="28517a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Управление аптечной деятельностью в регионе на основе единого информационного пространства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517a"/>
                </a:solidFill>
                <a:latin typeface="Arial"/>
              </a:rPr>
              <a:t>Круглый стол состоится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Место</a:t>
            </a:r>
            <a:r>
              <a:rPr b="1" lang="en-US" sz="2200" spc="-1" strike="noStrike">
                <a:solidFill>
                  <a:srgbClr val="28517a"/>
                </a:solidFill>
                <a:latin typeface="Arial"/>
              </a:rPr>
              <a:t>:</a:t>
            </a: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 Москва, «Экспоцентр», зал №5 павильона №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Зона переговоров и презентаций выставки «</a:t>
            </a:r>
            <a:r>
              <a:rPr b="1" lang="en-US" sz="2200" spc="-1" strike="noStrike">
                <a:solidFill>
                  <a:srgbClr val="28517a"/>
                </a:solidFill>
                <a:latin typeface="Arial"/>
              </a:rPr>
              <a:t>MedSoft</a:t>
            </a: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 – 2012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Дата</a:t>
            </a:r>
            <a:r>
              <a:rPr b="1" lang="en-US" sz="2200" spc="-1" strike="noStrike">
                <a:solidFill>
                  <a:srgbClr val="28517a"/>
                </a:solidFill>
                <a:latin typeface="Arial"/>
              </a:rPr>
              <a:t>: </a:t>
            </a: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18 апреля 2012 г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Время</a:t>
            </a:r>
            <a:r>
              <a:rPr b="1" lang="en-US" sz="2200" spc="-1" strike="noStrike">
                <a:solidFill>
                  <a:srgbClr val="28517a"/>
                </a:solidFill>
                <a:latin typeface="Arial"/>
              </a:rPr>
              <a:t>:</a:t>
            </a: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 15.00</a:t>
            </a:r>
            <a:r>
              <a:rPr b="1" lang="ru-RU" sz="1800" spc="-1" strike="noStrike">
                <a:solidFill>
                  <a:srgbClr val="28517a"/>
                </a:solidFill>
                <a:latin typeface="Arial"/>
              </a:rPr>
              <a:t>–</a:t>
            </a:r>
            <a:r>
              <a:rPr b="1" lang="ru-RU" sz="2200" spc="-1" strike="noStrike">
                <a:solidFill>
                  <a:srgbClr val="28517a"/>
                </a:solidFill>
                <a:latin typeface="Arial"/>
              </a:rPr>
              <a:t>16.3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7" descr=""/>
          <p:cNvPicPr/>
          <p:nvPr/>
        </p:nvPicPr>
        <p:blipFill>
          <a:blip r:embed="rId1"/>
          <a:stretch/>
        </p:blipFill>
        <p:spPr>
          <a:xfrm>
            <a:off x="4221000" y="3645000"/>
            <a:ext cx="1071720" cy="57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E6E0-683F-4B2E-9273-EB80FE4C0C69}" type="slidenum">
              <a:t>27</a:t>
            </a:fld>
          </a:p>
        </p:txBody>
      </p:sp>
    </p:spTree>
  </p:cSld>
  <p:transition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C353-3285-466E-9749-877571DBC2D8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12720" y="981000"/>
            <a:ext cx="23162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AutoShape 7"/>
          <p:cNvGrpSpPr/>
          <p:nvPr/>
        </p:nvGrpSpPr>
        <p:grpSpPr>
          <a:xfrm>
            <a:off x="1042920" y="1414440"/>
            <a:ext cx="7027920" cy="1335240"/>
            <a:chOff x="1042920" y="1414440"/>
            <a:chExt cx="7027920" cy="1335240"/>
          </a:xfrm>
        </p:grpSpPr>
        <p:pic>
          <p:nvPicPr>
            <p:cNvPr id="742" name="AutoShape 7" descr=""/>
            <p:cNvPicPr/>
            <p:nvPr/>
          </p:nvPicPr>
          <p:blipFill>
            <a:blip r:embed="rId1"/>
            <a:stretch/>
          </p:blipFill>
          <p:spPr>
            <a:xfrm>
              <a:off x="1042920" y="1414440"/>
              <a:ext cx="702792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1163520" y="1509840"/>
              <a:ext cx="679140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502452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Спасибо за внимание!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Rectangle 12"/>
          <p:cNvSpPr/>
          <p:nvPr/>
        </p:nvSpPr>
        <p:spPr>
          <a:xfrm>
            <a:off x="2411280" y="4797000"/>
            <a:ext cx="468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45a"/>
                </a:solidFill>
                <a:latin typeface="Arial"/>
              </a:rPr>
              <a:t>http://www.rlsnet.r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Прямоугольник 8"/>
          <p:cNvSpPr/>
          <p:nvPr/>
        </p:nvSpPr>
        <p:spPr>
          <a:xfrm>
            <a:off x="1763640" y="3068640"/>
            <a:ext cx="4896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b71"/>
                </a:solidFill>
                <a:latin typeface="Arial"/>
              </a:rPr>
              <a:t>Д.э.н., проф. Г. Л. Вышковский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b71"/>
                </a:solidFill>
                <a:latin typeface="Arial"/>
              </a:rPr>
              <a:t>президент группы компаний РЛС</a:t>
            </a:r>
            <a:r>
              <a:rPr b="1" lang="ru-RU" sz="2000" spc="-1" strike="noStrike" baseline="30000">
                <a:solidFill>
                  <a:srgbClr val="254b71"/>
                </a:solidFill>
                <a:latin typeface="Symbol"/>
                <a:ea typeface="Symbol"/>
              </a:rPr>
              <a:t>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4b71"/>
                </a:solidFill>
                <a:latin typeface="Arial"/>
              </a:rPr>
              <a:t>GLV@RLSNET.R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4b71"/>
                </a:solidFill>
                <a:latin typeface="Arial"/>
              </a:rPr>
              <a:t>RLSGLV@GMAIL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22C5-AF75-499F-A689-FB37DACB4A09}" type="slidenum">
              <a:t>28</a:t>
            </a:fld>
          </a:p>
        </p:txBody>
      </p:sp>
    </p:spTree>
  </p:cSld>
  <p:transition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40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5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69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83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97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1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25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39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3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80"/>
          <p:cNvSpPr/>
          <p:nvPr/>
        </p:nvSpPr>
        <p:spPr>
          <a:xfrm>
            <a:off x="1449360" y="-193680"/>
            <a:ext cx="441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990720" y="1827360"/>
            <a:ext cx="7621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Вопросы 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Object 2"/>
          <p:cNvGraphicFramePr/>
          <p:nvPr/>
        </p:nvGraphicFramePr>
        <p:xfrm>
          <a:off x="4071960" y="3357720"/>
          <a:ext cx="2857320" cy="24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1960" y="3357720"/>
                    <a:ext cx="285732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ECD2-C8F7-4F8C-90D7-FD8F9DD8BF0B}" type="slidenum">
              <a:t>29</a:t>
            </a:fld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1D7A-F53B-4214-8866-B0327043DAFD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0"/>
          <p:cNvSpPr/>
          <p:nvPr/>
        </p:nvSpPr>
        <p:spPr>
          <a:xfrm>
            <a:off x="1835280" y="0"/>
            <a:ext cx="633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абая управляемость наносит ущер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сему аптечному де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http://www.novaja.lv/resources/news/300x200/20100519164151-IMG_9761p_aptieka_eleja_190510.jpg"/>
          <p:cNvPicPr/>
          <p:nvPr/>
        </p:nvPicPr>
        <p:blipFill>
          <a:blip r:embed="rId1"/>
          <a:stretch/>
        </p:blipFill>
        <p:spPr>
          <a:xfrm>
            <a:off x="2124000" y="1844640"/>
            <a:ext cx="4680000" cy="36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D190-FF8D-48D1-B6D1-65F38832BD09}" type="slidenum">
              <a:t>3</a:t>
            </a:fld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C7F0-BFA1-42F2-9A6B-E2F40DF99459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476360" y="0"/>
            <a:ext cx="74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шение засед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зидиума Совета при Президенте Р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0" descr=""/>
          <p:cNvPicPr/>
          <p:nvPr/>
        </p:nvPicPr>
        <p:blipFill>
          <a:blip r:embed="rId1"/>
          <a:stretch/>
        </p:blipFill>
        <p:spPr>
          <a:xfrm>
            <a:off x="1120680" y="1146240"/>
            <a:ext cx="6691320" cy="49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498B-9441-4F8C-BD00-0E73D77E4AC0}" type="slidenum">
              <a:t>4</a:t>
            </a:fld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D4CE-1451-430F-91EC-84650C53D870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1547640" y="0"/>
            <a:ext cx="741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содержат информац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 управлении аптечной деятель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8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141960" cy="15098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9" descr=""/>
          <p:cNvPicPr/>
          <p:nvPr/>
        </p:nvPicPr>
        <p:blipFill>
          <a:blip r:embed="rId2"/>
          <a:stretch/>
        </p:blipFill>
        <p:spPr>
          <a:xfrm>
            <a:off x="1476360" y="2276640"/>
            <a:ext cx="5975280" cy="40431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108000" y="4397400"/>
            <a:ext cx="9001080" cy="1119240"/>
          </a:xfrm>
          <a:prstGeom prst="rect">
            <a:avLst/>
          </a:prstGeom>
          <a:ln w="0">
            <a:noFill/>
          </a:ln>
        </p:spPr>
      </p:pic>
      <p:sp>
        <p:nvSpPr>
          <p:cNvPr id="511" name="AutoShape 11"/>
          <p:cNvSpPr/>
          <p:nvPr/>
        </p:nvSpPr>
        <p:spPr>
          <a:xfrm>
            <a:off x="179280" y="981000"/>
            <a:ext cx="352764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ДЕРЖИТ ИНФОРМАЦИЮ ОБ УПРАВЛЕНИИ АПТЕЧНОЙ ДЕЯТЕЛЬНОСТЬ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EA2B-17BF-4CAE-9DF0-ADD2A1B8EC67}" type="slidenum">
              <a:t>5</a:t>
            </a:fld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E6FA-0ADE-46BA-A8D8-C80FCBD1FF57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811920" cy="1857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1617840" y="2751120"/>
            <a:ext cx="6049800" cy="3567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"/>
          <p:cNvPicPr/>
          <p:nvPr/>
        </p:nvPicPr>
        <p:blipFill>
          <a:blip r:embed="rId3"/>
          <a:stretch/>
        </p:blipFill>
        <p:spPr>
          <a:xfrm>
            <a:off x="179280" y="4508640"/>
            <a:ext cx="8785440" cy="863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10"/>
          <p:cNvSpPr/>
          <p:nvPr/>
        </p:nvSpPr>
        <p:spPr>
          <a:xfrm>
            <a:off x="1547640" y="0"/>
            <a:ext cx="741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ребования содержат информаци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 управлении аптечной деятельность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179280" y="1125360"/>
            <a:ext cx="352764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ДЕРЖИТ ИНФОРМАЦИЮ ОБ УПРАВЛЕНИИ АПТЕЧНОЙ ДЕЯТЕЛЬНОСТЬ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4810-0D2E-4BDF-A568-21BE7D2D1106}" type="slidenum">
              <a:t>6</a:t>
            </a:fld>
          </a:p>
        </p:txBody>
      </p:sp>
    </p:spTree>
  </p:cSld>
  <p:transition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D440-48CA-4008-9FAC-43DFB9BDA7A6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2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408720" cy="528660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10"/>
          <p:cNvSpPr/>
          <p:nvPr/>
        </p:nvSpPr>
        <p:spPr>
          <a:xfrm>
            <a:off x="1655640" y="0"/>
            <a:ext cx="74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ав регионального фрагмен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диной информационной системы (ЕИП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89A62-49D5-430C-B9F7-55CA9D62EAC0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60C-B98E-44B5-AA9C-A928E0E50179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2330280" y="981000"/>
            <a:ext cx="4186440" cy="53276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0" descr=""/>
          <p:cNvPicPr/>
          <p:nvPr/>
        </p:nvPicPr>
        <p:blipFill>
          <a:blip r:embed="rId2"/>
          <a:stretch/>
        </p:blipFill>
        <p:spPr>
          <a:xfrm>
            <a:off x="36360" y="3770280"/>
            <a:ext cx="9072720" cy="450720"/>
          </a:xfrm>
          <a:prstGeom prst="rect">
            <a:avLst/>
          </a:prstGeom>
          <a:ln w="0">
            <a:noFill/>
          </a:ln>
        </p:spPr>
      </p:pic>
      <p:sp>
        <p:nvSpPr>
          <p:cNvPr id="525" name="AutoShape 11"/>
          <p:cNvSpPr/>
          <p:nvPr/>
        </p:nvSpPr>
        <p:spPr>
          <a:xfrm>
            <a:off x="6732720" y="1125360"/>
            <a:ext cx="2160360" cy="165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ДЕРЖИТ ИНФОРМАЦИ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 УПРАВЛЕНИИ АПТЕЧНОЙ ДЕЯТЕЛЬНОСТЬЮ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"/>
          <p:cNvSpPr/>
          <p:nvPr/>
        </p:nvSpPr>
        <p:spPr>
          <a:xfrm>
            <a:off x="1476360" y="189000"/>
            <a:ext cx="748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ав регионального фрагмента ЕИ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3605-ABC6-4614-9963-2A94EE6AADD5}" type="slidenum">
              <a:t>8</a:t>
            </a:fld>
          </a:p>
        </p:txBody>
      </p:sp>
    </p:spTree>
  </p:cSld>
  <p:transition>
    <p:cover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4"/>
          <p:cNvSpPr/>
          <p:nvPr/>
        </p:nvSpPr>
        <p:spPr>
          <a:xfrm>
            <a:off x="7912080" y="6381720"/>
            <a:ext cx="982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DC37-147D-4BD2-99DE-A0F278444FBC}" type="slidenum">
              <a:rPr b="0" lang="en-US" sz="1600" spc="-1" strike="noStrike">
                <a:solidFill>
                  <a:srgbClr val="ffffff"/>
                </a:solidFill>
                <a:latin typeface="FranklinGothicBookC"/>
                <a:ea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-612720" y="404640"/>
            <a:ext cx="7775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8"/>
          <p:cNvSpPr/>
          <p:nvPr/>
        </p:nvSpPr>
        <p:spPr>
          <a:xfrm>
            <a:off x="1547640" y="44280"/>
            <a:ext cx="75963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глашение администраций регион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Минздравсоцразвития Р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230720" cy="42674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10"/>
          <p:cNvSpPr/>
          <p:nvPr/>
        </p:nvSpPr>
        <p:spPr>
          <a:xfrm>
            <a:off x="179280" y="907920"/>
            <a:ext cx="42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517a"/>
                </a:solidFill>
                <a:latin typeface="Arial"/>
              </a:rPr>
              <a:t>Пример соглашения Липецкой област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517a"/>
                </a:solidFill>
                <a:latin typeface="Arial"/>
              </a:rPr>
              <a:t>о финансовом обеспечении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517a"/>
                </a:solidFill>
                <a:latin typeface="Arial"/>
              </a:rPr>
              <a:t>программы модернизации здравоохране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8517a"/>
                </a:solidFill>
                <a:latin typeface="Arial"/>
              </a:rPr>
              <a:t>Липецкой области на 2011-2012 год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7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3854520" cy="4176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"/>
          <p:cNvPicPr/>
          <p:nvPr/>
        </p:nvPicPr>
        <p:blipFill>
          <a:blip r:embed="rId3"/>
          <a:stretch/>
        </p:blipFill>
        <p:spPr>
          <a:xfrm>
            <a:off x="4932360" y="907920"/>
            <a:ext cx="3743280" cy="136872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8"/>
          <p:cNvSpPr/>
          <p:nvPr/>
        </p:nvSpPr>
        <p:spPr>
          <a:xfrm>
            <a:off x="2050920" y="2492280"/>
            <a:ext cx="47516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faf00"/>
              </a:gs>
              <a:gs pos="50000">
                <a:srgbClr val="ffff00"/>
              </a:gs>
              <a:gs pos="100000">
                <a:srgbClr val="afa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ньги есть, а на решение задач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я эффективности УПРАВЛЕНИЯ АПТЕЧНОЙ ДЕЯТЕЛЬНОСТЬЮ не выделены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FEF11-159C-4CDB-AC46-CCF6975B0FF3}" type="slidenum">
              <a:t>9</a:t>
            </a:fld>
          </a:p>
        </p:txBody>
      </p:sp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52:06Z</dcterms:created>
  <dc:creator>Василев</dc:creator>
  <dc:description/>
  <dc:language>en-US</dc:language>
  <cp:lastModifiedBy>nastya</cp:lastModifiedBy>
  <dcterms:modified xsi:type="dcterms:W3CDTF">2012-04-17T12:02:02Z</dcterms:modified>
  <cp:revision>1246</cp:revision>
  <dc:subject/>
  <dc:title>Слайд 1</dc:title>
</cp:coreProperties>
</file>