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714C-175F-4615-B68A-933A1754F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C1CE-9323-4E4A-AB4B-86F310466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о по текст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385-5A6B-46C6-AD75-B88744FB27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C70-879B-4566-98B1-99D9EB517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92D-4E8F-447B-93EF-47F67D672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9BE9-80C7-4512-BBE0-602E2CF9E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378-90A1-4AA7-B568-B2B9A74C77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89C2-658C-49AD-B08E-1DA9FE61F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1600-6009-4D8C-A7E0-1B2EA10CD1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451-DA12-4C94-AE30-E8A5EC6799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3FC8-E7CE-4A4B-95AC-AF3B633AA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DE4-0073-4F5E-93A6-9D0146278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237-D6A0-4F23-AF94-BCF08924F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AEA1-ADF4-4FE7-A6F4-F5AA2100C6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5CE-433D-4379-988B-436949C782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187-952A-4602-992F-8BFB3C614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E74F-A265-4737-97BD-31A2D5CF92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10E-D0CD-4797-A227-13A392A05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20F6-7108-4B7E-8521-7BD98A255B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4A3-7491-40BA-A412-26A256F6AB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A562-17A9-4737-AECA-386BDF19C9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0026-A1F6-463E-9455-8ACF9BFFE6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0F8-2F5E-42C3-B034-8365477A76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F530-92B4-4EEA-9219-E7E3402994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773-E26B-476B-A5E1-D8AF861B02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139-E6C2-4FCF-A9B1-F5DE246B6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CDDB-CBC7-4F49-8388-607A00E686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B28-98C7-4608-9DFD-5BF0208D8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CCE9-900B-437D-BE85-1105B2179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6AF-421B-4D81-A172-F60338F307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60A-F5A2-4CC7-92D0-B815E5F58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BCF-CF14-413A-B2B0-964D10AC9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2584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620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A3F-C3B7-447C-97B2-54DF63A11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61A-6EA2-4665-8F9D-4D17A370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D92-9D64-47AC-AF8B-5E15367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BB0-230E-4E74-B64B-49BEC82C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D10-33D4-49AD-BFCA-66B8F3B3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6FF-7A68-4FDA-92E1-5B1DC2E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939-7672-4D1B-88C6-FAC64A03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466-2630-4DC1-A3CB-7D6F15B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B80-2A03-4233-B577-67C48448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3B1-AD77-4047-8840-AEC10D8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4E7-514E-4C5A-AFA2-5D23AB1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A49-3C5C-4AA5-AB6A-D017A1E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D3F-3A4B-48B1-A0A2-8851BA4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AB0-4AAD-450C-8054-48AE8AD3A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1262800">
            <a:off x="654840" y="1068120"/>
            <a:ext cx="626436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ИКТ - инструмент выявления</a:t>
            </a:r>
            <a:br>
              <a:rPr sz="3400"/>
            </a:b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 и устранения врачебных и управленческих ошибок</a:t>
            </a:r>
            <a:br>
              <a:rPr sz="20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эмблема"/>
          <p:cNvPicPr/>
          <p:nvPr/>
        </p:nvPicPr>
        <p:blipFill>
          <a:blip r:embed="rId1"/>
          <a:stretch/>
        </p:blipFill>
        <p:spPr>
          <a:xfrm>
            <a:off x="179280" y="115920"/>
            <a:ext cx="1225800" cy="107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рис 2"/>
          <p:cNvPicPr/>
          <p:nvPr/>
        </p:nvPicPr>
        <p:blipFill>
          <a:blip r:embed="rId2"/>
          <a:stretch/>
        </p:blipFill>
        <p:spPr>
          <a:xfrm>
            <a:off x="396720" y="2637000"/>
            <a:ext cx="4104000" cy="3732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5"/>
          <p:cNvSpPr/>
          <p:nvPr/>
        </p:nvSpPr>
        <p:spPr>
          <a:xfrm>
            <a:off x="1403280" y="115920"/>
            <a:ext cx="62643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М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К «Медицинская кибернетика и информатика» РАМ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ЦССХ им. А.Н. Бакулева РАМН, ОТ 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Безымянный"/>
          <p:cNvPicPr/>
          <p:nvPr/>
        </p:nvPicPr>
        <p:blipFill>
          <a:blip r:embed="rId3"/>
          <a:stretch/>
        </p:blipFill>
        <p:spPr>
          <a:xfrm>
            <a:off x="6732720" y="311040"/>
            <a:ext cx="2376360" cy="232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4"/>
          <a:stretch/>
        </p:blipFill>
        <p:spPr>
          <a:xfrm>
            <a:off x="5148360" y="2637000"/>
            <a:ext cx="3591000" cy="374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3471840" y="2395440"/>
            <a:ext cx="29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3941640" y="220500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А. Лищ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2360" y="3357720"/>
            <a:ext cx="8640720" cy="35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чень трудно дались эти и многие другие разработки. Всё проверялось в экспериментах, на моделях, защищалось у Носковой и т.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з год удалось запустить АИБ поликлиники на крупной ЭВМ «Ряд 35». Потом перешли на минимашины, микромашины и персоналк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делал это В.Н. Зен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Я только инициатор и ответственный за результ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6364440" y="115920"/>
            <a:ext cx="243180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7623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735120" y="236844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79280" y="486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области информатизации, т.е. нашей сегодняшней темы, я особенно горжусь двумя проектами, в которые вложил почти всю жизнь … 40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641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295360" y="125280"/>
            <a:ext cx="6705720" cy="5032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04920" y="4941720"/>
            <a:ext cx="914400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АРМ АСОРВ, которая позволила перейти от среднестатистической терапии к индивидуальной. 1975 г. В клинических изданиях и сейчас печатаются принципиально новые результаты, полученные при использовании АСОРв. Более 300 публикаций в профессиональных издательств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8" descr="Рис"/>
          <p:cNvPicPr/>
          <p:nvPr/>
        </p:nvPicPr>
        <p:blipFill>
          <a:blip r:embed="rId2"/>
          <a:stretch/>
        </p:blipFill>
        <p:spPr>
          <a:xfrm>
            <a:off x="324000" y="1628640"/>
            <a:ext cx="180000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79280" y="4076640"/>
            <a:ext cx="8785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й проект - «Стратегия здоровья». Приоритетный национальный проект «Здоровье». В 1993 году по моему докладу на Президиуме РАМН было принято решение разработать такой проект. Была организованна ПК «Фундаментальные основы здоровья». Было несколько энтузиастов. Можно по пальцам пересчитать - И. Гундаров,  В. Крутько, Д. Венедиктов,  Д. Газизова, Г. Курае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876920" y="35244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71360" y="260280"/>
            <a:ext cx="4705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9640" y="2708280"/>
            <a:ext cx="86043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ё вокруг нас дышал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кептицизмом и неверие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Медицина занимается болезнями. Причём здесь здоровье?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написали 5 монографий, сотню статей, десяток газетных призывов и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многочисленные обращения в Прави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2004 году В.В. Путин объявил национальный приоритетный проект «Здоровье». Первый из национальных. Признал депопуляцию. Это признание требовало большого мужества. Поверьте, я участвовал во всё этом, …пока не пошли деньги и общеизвестная потасовка за их разворовы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от я и перешёл 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малоприятном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ainpic" descr="дъЯвол"/>
          <p:cNvPicPr/>
          <p:nvPr/>
        </p:nvPicPr>
        <p:blipFill>
          <a:blip r:embed="rId1"/>
          <a:stretch/>
        </p:blipFill>
        <p:spPr>
          <a:xfrm>
            <a:off x="2411280" y="189000"/>
            <a:ext cx="46087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6000" y="155520"/>
            <a:ext cx="8893080" cy="6586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 rot="20839200">
            <a:off x="254160" y="2919240"/>
            <a:ext cx="8564400" cy="1373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сё далее изложенное неоднократно обсуждалось на клинических и технических профессиональны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не рекламных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фору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8680" cy="136540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179280" y="549360"/>
            <a:ext cx="8785440" cy="58323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1197000"/>
            <a:ext cx="864072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. Лучше поздно, чем никогда.  Хотя эта пословица верна не всегда. И сейчас уже сильно позд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ё же для успеха дела должна быть как можно скорее проведе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крытая, научная разработка проекта ИМ профессиональными, не зависящими от государственного финансирования, опытными коллективам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азработка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оекта И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, а не концепции, проектов с периферии на конкурсы и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39640" y="1176480"/>
            <a:ext cx="856944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Цель создания «Единой государственной информационной системы в сфере здравоохранения» должна быть заменена цел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  <a:ea typeface="Arial"/>
              </a:rPr>
              <a:t>информатизации всей медицины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ключая частные клиники, разработчиков и поставщиков ИКТ, лекарств и принадлежностей, медтехники, медвузы  и т.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16000" y="936720"/>
            <a:ext cx="87120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оследнее время много говорится о гражданах России. Целью же остаётся МЗСР. Даже не вр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перейти от разговоров к решениям, признаем и узакони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истемообразующей целью информатизации медици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объективно является и должно быть принято официально  - удовлетворение информационных потребностей граждан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знаниях и методах улучшения здоровья, включая сведения и возможности диагностики, лечения, профилактики и продления акти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24000" y="1055520"/>
            <a:ext cx="8820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В современных условиях, пока средства, методы и программы для граждан только разрабатываю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актуальной целью информатизации клинической медицины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по факту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является и должно быть официально принято удовлетворение профессиональных потребностей врач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Нуж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приоритеты концепций,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отразить это положение в методических рекомендациях, реализовать закупками, разработками и направленностью конкур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001-003"/>
          <p:cNvPicPr/>
          <p:nvPr/>
        </p:nvPicPr>
        <p:blipFill>
          <a:blip r:embed="rId1"/>
          <a:stretch/>
        </p:blipFill>
        <p:spPr>
          <a:xfrm>
            <a:off x="4405320" y="189000"/>
            <a:ext cx="4630680" cy="648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9280" y="1125360"/>
            <a:ext cx="439272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ючевые цели информа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и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нансирова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гда ч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Что будет определят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спех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оек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468360" y="1012680"/>
            <a:ext cx="82803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. Если не обеспечить потребности МЗ, то это приведёт к разобщённости, несогласованности работы врачей и всей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эт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предлагаем рассчитывать приоритеты и адаптировать их к реальной обстанов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на бирже, но при игре в одни ворота – болез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95280" y="1052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936720"/>
            <a:ext cx="828036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Класическое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вертикальное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управление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информатизацие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мое сейчас МЗСР и для МЗСР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необходимо заменить адаптивным управлением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с горизонтально-вертикальной структур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к адаптивной организации управления должен быть осуществлён во всех ведомствах и структурах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торые не обеспечивают общегосударствен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95280" y="1052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11280" y="673200"/>
            <a:ext cx="8281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ые корпорации, состоящие из многотысячных автономных коллекти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вропы, Азии, Африки и т.п., постоянно след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эффективностью и меняют централизованное управление на автономное выживание региональных подраздел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 участвов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практика последних 50 лет. Описана в проф. лит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, зачем нам прокрустово лож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же живые! Или чиновник МЗ лучше зн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лечить, чем врач, или лучше программирует и проектирует, чем ИТ-специал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844560" y="165888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. Чтобы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рекомендации по лечению и диагностик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 ES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выполня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не выполняются более чем в 20% от всех пролеченных больных с осложнениями)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необходимо предусмотреть включение их официальных текстов в МИСа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АРМа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с ежемесячным редактированием и комментар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93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11280" y="122868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. Артериальное давление используется как критерий терапии более чем у 25% осложнённых больных. Поддерживается среднестатистическая или исходная величина, при этом АД не соответствует виду и тяжести патологии.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Необходи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в соответствии с контролем больного, 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предусмотреть автоматическую подсказку критерия терапии и сигнализацию о несовпадении рекомендаций и реальной терапии</a:t>
            </a:r>
            <a:r>
              <a:rPr b="0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4360" y="1550880"/>
            <a:ext cx="7920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. Более чем 30% больных с осложнениями протекают с выраженной (более 30%) перегрузкой сердца. Это ведёт к истощению резервов миокар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Автоматический расчёт МИС и/или АРМ с аудио и видео представлением нагрузок на патологически заинтересованные органы - актуальная иннов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120680"/>
            <a:ext cx="7777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. Усреднение измерений за клинически необоснованное время относится ко всем медицинским измерителям и параметрам: АД, ЧСС, МОК и т.п. Эта информация поступает в МИС как первичн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Согласование времени и точности измерений с контролируемыми патологическими процессами вполне реальная, но не реализуемая сейчас функ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11280" y="1228680"/>
            <a:ext cx="8064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. Суть аппаратной обработки не отражается в инструкциях АРМ (ни в бумажных, ни в электронных), что приводит к неверным оценкам состояния больного, вариабельным и не привязанным ко времени показателям, отсюда их несравним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Эти данные поступают в М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Нет разумных причин, чтобы не исправить это пол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84360" y="905040"/>
            <a:ext cx="79214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 Рекомендации, основанные на ошибочных размерностях, встречались реже, чем до 2005 г., но всё же недопустимо час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РМ и МИС отражают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чтобы получить ИОПС, ОПС не умножают, а делят на площадь тела. Делят по аналогии с вычислением индексам М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Необходим автоматический контроль размерностей и сигнализация при их несоблюден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68360" y="1658880"/>
            <a:ext cx="8136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 Использование абсолютных величин вместо индексов продолжает иметь мес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ЦК, кровопотеря, КДО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064"/>
                </a:solidFill>
                <a:latin typeface="Arial"/>
                <a:ea typeface="Arial"/>
              </a:rPr>
              <a:t>МИС и/или АРМ должны автоматически вычислять относительные величины и представлять их пользовате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59785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bea"/>
                </a:solidFill>
                <a:latin typeface="Arial"/>
                <a:ea typeface="Arial"/>
              </a:rPr>
              <a:t>Утверждение концепции «ЕГИС»</a:t>
            </a:r>
            <a:br>
              <a:rPr sz="2400"/>
            </a:br>
            <a:r>
              <a:rPr b="1" lang="ru-RU" sz="2400" spc="-1" strike="noStrike">
                <a:solidFill>
                  <a:srgbClr val="008bea"/>
                </a:solidFill>
                <a:latin typeface="Arial"/>
                <a:ea typeface="Arial"/>
              </a:rPr>
              <a:t> - достижение и заслуга Шифрина, Симакова, Дубинина, Казака, Стародубова, Лебедева, Столбова, Зингермана и немногих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416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На особом положе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Михаил  Михайлович  Эльянов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Как интеллектуа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ила,  постоянный мотор , зада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темп и направление дви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льше я буду говорить о малоприят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 для тех, кто хочет ограничи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койным, устойчивым финансирова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Поэтому прошу вас сделать сейч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приятное дело. Поздравить энтузиас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оздания ЕГИС, особенно Михаи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Михайловича, … … громк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аплодисментами! От сердца, от душ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84326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поздравляю, не скупяс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597040" cy="281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elementy.ru/images/eltpub/shifrin_290.jpg"/>
          <p:cNvPicPr/>
          <p:nvPr/>
        </p:nvPicPr>
        <p:blipFill>
          <a:blip r:embed="rId2"/>
          <a:stretch/>
        </p:blipFill>
        <p:spPr>
          <a:xfrm>
            <a:off x="6156360" y="189000"/>
            <a:ext cx="2535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42920" y="1137240"/>
            <a:ext cx="748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. Разброс показателей больных без осложнений имеет те же пределы, что и при осложнениях. Поэтому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использование единичных измерений не позволяет определить причины ослож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Необходимо использовать трен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МИС или АРМ должны автоматом строить, представлять и усреднять в соответствии с клиническими критериями тренды контр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611280" y="612720"/>
            <a:ext cx="8136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. Терапия - сложная процеду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жнее, чем запуск межконтинентальной ракеты. Если, конечно,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цель - не л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леченный больной), а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изл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этому </a:t>
            </a:r>
            <a:r>
              <a:rPr b="1" lang="ru-RU" sz="2400" spc="-1" strike="noStrike">
                <a:solidFill>
                  <a:srgbClr val="00cc99"/>
                </a:solidFill>
                <a:latin typeface="Arial"/>
                <a:ea typeface="Arial"/>
              </a:rPr>
              <a:t>для МИС должны разрабатываться столь же системные, детальные и документированные проекты как для полёта робота на луну или для Бурана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ются другие ошибки и предложения по их исправлению. Невозможно все перечислить в одном докла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т телефон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-916-693-79-73,  Шевченко Григорий Владиленович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0064"/>
                </a:solidFill>
                <a:latin typeface="Arial"/>
                <a:ea typeface="Arial"/>
              </a:rPr>
              <a:t>Но самое главно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0064"/>
                </a:solidFill>
                <a:latin typeface="Arial"/>
                <a:ea typeface="Arial"/>
              </a:rPr>
              <a:t>Не болейте, оставайтесь здоровыми, берегите себя и семью. Успехов и счастья вам. Спасиб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IMG_0847"/>
          <p:cNvPicPr/>
          <p:nvPr/>
        </p:nvPicPr>
        <p:blipFill>
          <a:blip r:embed="rId1"/>
          <a:stretch/>
        </p:blipFill>
        <p:spPr>
          <a:xfrm>
            <a:off x="1073160" y="1457280"/>
            <a:ext cx="70772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932360" y="217440"/>
            <a:ext cx="4095720" cy="2419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08000" y="115920"/>
            <a:ext cx="9036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ерь первый пунк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Но сначала я представлюсь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Во время прошлого доклада  кто-то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делал мне комплимент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 Мол, нужно сначала сделать что-нибудь, а потом говорить об ошибках. Есть мол концепция, вот и осваивайте деньг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рьте, не в деньгах счастье, и не в том, сколько и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Счастье в том, что вы скажете детям и внукам, когда они спрося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не словами, а глазами, поведением, отношением к вам, позой… Особенно в ответ на наставление «Учись!», «Слушайся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!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«Деда, ты кто, как жил, учился, работал?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Что сделал…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?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2360" y="4653000"/>
            <a:ext cx="864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уть-чуть расскажу, чтобы Вы к моей крити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еприятной и ненужной по сегодняшним рекомендация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тнеслись</a:t>
            </a:r>
            <a:r>
              <a:rPr b="0" lang="ru-RU" sz="2800" spc="-1" strike="noStrike">
                <a:solidFill>
                  <a:srgbClr val="00cc99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 доброму и с вним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626436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2700360" y="3716280"/>
            <a:ext cx="6264360" cy="649440"/>
          </a:xfrm>
          <a:prstGeom prst="rect">
            <a:avLst/>
          </a:prstGeom>
          <a:solidFill>
            <a:srgbClr val="009973">
              <a:alpha val="60000"/>
            </a:srgbClr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771640" y="378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97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333000"/>
            <a:ext cx="3313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 вот 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что же я </a:t>
            </a:r>
            <a:br>
              <a:rPr sz="2800"/>
            </a:br>
            <a:r>
              <a:rPr b="0" lang="ru-RU" sz="3000" spc="-1" strike="noStrike">
                <a:solidFill>
                  <a:srgbClr val="ff0066"/>
                </a:solidFill>
                <a:latin typeface="Arial"/>
                <a:ea typeface="Arial"/>
              </a:rPr>
              <a:t>сделал?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876920" y="3716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ароокситермокам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324000" y="4046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сделал первую и вторую АИБ в СССР </a:t>
            </a:r>
            <a:r>
              <a:rPr b="0" i="1" lang="ru-RU" sz="2400" spc="-1" strike="noStrike">
                <a:solidFill>
                  <a:srgbClr val="595959"/>
                </a:solidFill>
                <a:latin typeface="Arial"/>
                <a:ea typeface="Arial"/>
              </a:rPr>
              <a:t>и в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было в Киеве. 1964 год. ЭВМ – Урал-2. Руководил Н.М. Амосов. Замечательный учёный, хирург, академик, писатель, новат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3238200" cy="2870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50920" y="3321000"/>
            <a:ext cx="86421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был его замом. Публикации шли. А АИБ взяла и не пошла. Медленно работала. Сбои. Ошибки. Но главное,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не было от неё толку врач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Квалифицированный врач знает и помнит всё, что нужно. Это всё, что нужно – общее, относящееся ко всем больным по его специальности. Персонального очень мало и проверяется оно многократно. Потому и не пошла АИС сердечно-сосудистой клиники и Института Кибернетики У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4537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ИБ, которая «пошла», был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делана под руководство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адемика В.И. Бураковского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дрейший человек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стоящий лидер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юбимый коллективом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 да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941360"/>
            <a:ext cx="86407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то время я - ответственный исполнитель, заведующ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делом кибернетики и лабораторией математическ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М - сеть Микронов. Это - 1978–1980  гг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IsRe_13   Бураковский"/>
          <p:cNvPicPr/>
          <p:nvPr/>
        </p:nvPicPr>
        <p:blipFill>
          <a:blip r:embed="rId1"/>
          <a:stretch/>
        </p:blipFill>
        <p:spPr>
          <a:xfrm>
            <a:off x="4789440" y="333360"/>
            <a:ext cx="412740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8"/>
          <p:cNvGraphicFramePr/>
          <p:nvPr/>
        </p:nvGraphicFramePr>
        <p:xfrm>
          <a:off x="4716360" y="3213000"/>
          <a:ext cx="442764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213000"/>
                    <a:ext cx="442764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6"/>
          <p:cNvSpPr/>
          <p:nvPr/>
        </p:nvSpPr>
        <p:spPr>
          <a:xfrm>
            <a:off x="250920" y="189000"/>
            <a:ext cx="48258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жедневно рано утром «доклады-ваются» и обсуждаются все больные, которые вызывают опасения. Их персональные особенности. Не рекомендации по нозологиям, а индивидуальность, приведшая к осложнениям.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Вот тут распечатки АИБ в режиме реального времени принципиально необходи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леи и проекторы в конференц-зале ещё не висят. Возле коек уже есть. На обходе до конференции очень удобно увидеть всю сводку, все «кривы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, что проект был разработан и затем утверждён МЗ. Выполнялся по пертплану, за идею которого Канторович в своё время получил Ленинскую и Нобелевскую прем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5148360" y="312840"/>
            <a:ext cx="367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56908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0" y="591984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йчас в мире признана ведущая роль контроля сигнал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м. стрел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7668720" y="836640"/>
            <a:ext cx="1079640" cy="15843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7:11:52Z</dcterms:created>
  <dc:creator>Lischouk Vladimir Alexandrovi</dc:creator>
  <dc:description/>
  <dc:language>en-US</dc:language>
  <cp:lastModifiedBy>Михаил</cp:lastModifiedBy>
  <dcterms:modified xsi:type="dcterms:W3CDTF">2012-04-23T08:15:41Z</dcterms:modified>
  <cp:revision>402</cp:revision>
  <dc:subject/>
  <dc:title>Презентация PowerPoint</dc:title>
</cp:coreProperties>
</file>