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7.wmf" ContentType="image/x-wmf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24.wmf" ContentType="image/x-wmf"/>
  <Override PartName="/ppt/media/image22.wmf" ContentType="image/x-wmf"/>
  <Override PartName="/ppt/media/image1.jpeg" ContentType="image/jpeg"/>
  <Override PartName="/ppt/media/image5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914A-023D-4267-89F6-7ED105263E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F0B3-B073-45B2-98E3-03AF6FC210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C05F-C275-49DA-8F1C-4B3D2CD84F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164B-0C5E-4B5F-A44F-363ADA0881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65AB-5924-409C-BC3D-0A02785A73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8AC1-2A8C-4CDF-842D-0F1D6DA08F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5F1B-8B03-4D67-BDE6-1A088EA94E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52D3-87BB-468A-AB84-C590B58067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A938-94FB-45C3-A329-5FE2AC57A7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9453-E8B8-4996-9A5A-5DA1474632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2C5D-5EB8-4A67-91AA-55B92539E0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742E-7B26-42C3-9439-D436254E59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461F-2CC7-49D4-BF7B-E841A2EF26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E7BE-7000-4376-BB3E-F9089A1ED1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8F16-6109-4D59-AEDF-D38FF898C77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8FA4-DF31-4963-8BE3-B75BFE7DF0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2A0A-AE2A-487E-980E-2543A6C99E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A76A-9C5C-4118-989A-FF45F46F9B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1FA1-70D1-48C3-A2AF-7562CA3F51D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B121-85AC-47ED-B9CE-C5407D3ED60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4C38-1636-4B0A-B212-F1A0575156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8F1E-6B61-4ECE-A7F0-BFDBC706B81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7AE6-6B88-440F-8656-939B0F57BB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551-9129-4D62-B63D-4479C592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D03-AB3A-4396-8759-FAEF8E72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AD1-C39D-4DEB-B9BE-58BF010C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519-C984-44DD-AF75-6A0B26A6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3F3-60EB-4BBF-8C2B-C3BA9AEC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C7A7-4619-4622-9066-1AC06058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560-EE29-4D6F-B34D-4B2B0F16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794-7075-40EF-A568-553A4A11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7F6-E519-427D-B0A2-E37C5875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D93F-CDB7-420D-BAA7-929A2EBD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126-435C-4632-9367-1B538F14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156-912E-4C19-B9E1-189A55C8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C3C1-BFD3-4434-BC61-7BEE7CBA1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image" Target="../media/image3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image" Target="../media/image3.jpeg"/><Relationship Id="rId8" Type="http://schemas.openxmlformats.org/officeDocument/2006/relationships/image" Target="../media/image1.jpeg"/><Relationship Id="rId9" Type="http://schemas.openxmlformats.org/officeDocument/2006/relationships/package" Target="../embeddings/oleObject4.xlsx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3.jpeg"/><Relationship Id="rId4" Type="http://schemas.openxmlformats.org/officeDocument/2006/relationships/image" Target="../media/image1.jpeg"/><Relationship Id="rId5" Type="http://schemas.openxmlformats.org/officeDocument/2006/relationships/package" Target="../embeddings/oleObject2.xlsx"/><Relationship Id="rId6" Type="http://schemas.openxmlformats.org/officeDocument/2006/relationships/image" Target="../media/image23.wmf"/><Relationship Id="rId7" Type="http://schemas.openxmlformats.org/officeDocument/2006/relationships/package" Target="../embeddings/oleObject3.xlsx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2.jpeg"/><Relationship Id="rId8" Type="http://schemas.openxmlformats.org/officeDocument/2006/relationships/image" Target="../media/image1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Опыт создания и использования МИС на СПО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3276360"/>
            <a:ext cx="83059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.В. Уш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ный врач ОГАУЗ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ркутский областной клинический консультативно-диагностический центр», к.м.н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идент диагностической медицинской ассоциации России и С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сква, 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Sof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, 18 апреля 2012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102200" y="3956040"/>
          <a:ext cx="971280" cy="747720"/>
        </p:xfrm>
        <a:graphic>
          <a:graphicData uri="http://schemas.openxmlformats.org/drawingml/2006/table">
            <a:tbl>
              <a:tblPr/>
              <a:tblGrid>
                <a:gridCol w="216000"/>
                <a:gridCol w="75528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5" descr="logo_en2"/>
          <p:cNvPicPr/>
          <p:nvPr/>
        </p:nvPicPr>
        <p:blipFill>
          <a:blip r:embed="rId1"/>
          <a:stretch/>
        </p:blipFill>
        <p:spPr>
          <a:xfrm>
            <a:off x="228600" y="0"/>
            <a:ext cx="2484360" cy="11286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4"/>
          <p:cNvGrpSpPr/>
          <p:nvPr/>
        </p:nvGrpSpPr>
        <p:grpSpPr>
          <a:xfrm>
            <a:off x="-360" y="6357960"/>
            <a:ext cx="9144360" cy="500040"/>
            <a:chOff x="-360" y="6357960"/>
            <a:chExt cx="9144360" cy="500040"/>
          </a:xfrm>
        </p:grpSpPr>
        <p:pic>
          <p:nvPicPr>
            <p:cNvPr id="53" name="Picture 5" descr="logo_en2"/>
            <p:cNvPicPr/>
            <p:nvPr/>
          </p:nvPicPr>
          <p:blipFill>
            <a:blip r:embed="rId2"/>
            <a:stretch/>
          </p:blipFill>
          <p:spPr>
            <a:xfrm>
              <a:off x="6781680" y="6381720"/>
              <a:ext cx="1371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0" y="6383160"/>
              <a:ext cx="6781680" cy="43200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7"/>
            <p:cNvSpPr/>
            <p:nvPr/>
          </p:nvSpPr>
          <p:spPr>
            <a:xfrm flipH="1" flipV="1">
              <a:off x="8153280" y="6815160"/>
              <a:ext cx="99072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"/>
            <p:cNvSpPr/>
            <p:nvPr/>
          </p:nvSpPr>
          <p:spPr>
            <a:xfrm flipH="1" flipV="1">
              <a:off x="0" y="6357960"/>
              <a:ext cx="914400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8153280" y="6384960"/>
              <a:ext cx="990720" cy="4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0"/>
            <p:cNvSpPr/>
            <p:nvPr/>
          </p:nvSpPr>
          <p:spPr>
            <a:xfrm flipH="1" flipV="1">
              <a:off x="-360" y="6814800"/>
              <a:ext cx="6730920" cy="61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652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ючевые характеристики менеджмент ориентированной медицинской информационной системы ИД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ческая обработка достоверных  данных, в том числе финансово-экономических, за любой промежуток времени, по любым заданным или фиксированным параметрам, любого объема в режиме реального време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договорами, заявками, складами, запасами, финансовыми потоками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ы - «электронная библиотека врача»,  «тайм – менеджмент», «бизнес - аналитика», «электронный документооборот»  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можность быстрой интеграции в систему любых сторонних программных продук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-360" y="6357960"/>
            <a:ext cx="9144360" cy="500040"/>
            <a:chOff x="-360" y="6357960"/>
            <a:chExt cx="9144360" cy="500040"/>
          </a:xfrm>
        </p:grpSpPr>
        <p:pic>
          <p:nvPicPr>
            <p:cNvPr id="157" name="Picture 5" descr="logo_en2"/>
            <p:cNvPicPr/>
            <p:nvPr/>
          </p:nvPicPr>
          <p:blipFill>
            <a:blip r:embed="rId1"/>
            <a:stretch/>
          </p:blipFill>
          <p:spPr>
            <a:xfrm>
              <a:off x="6781680" y="6381720"/>
              <a:ext cx="1371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6"/>
            <p:cNvSpPr/>
            <p:nvPr/>
          </p:nvSpPr>
          <p:spPr>
            <a:xfrm>
              <a:off x="0" y="6383160"/>
              <a:ext cx="6781680" cy="43200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 flipH="1" flipV="1">
              <a:off x="8153280" y="6815160"/>
              <a:ext cx="99072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8"/>
            <p:cNvSpPr/>
            <p:nvPr/>
          </p:nvSpPr>
          <p:spPr>
            <a:xfrm flipH="1" flipV="1">
              <a:off x="0" y="6357960"/>
              <a:ext cx="914400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8153280" y="6384960"/>
              <a:ext cx="990720" cy="4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0"/>
            <p:cNvSpPr/>
            <p:nvPr/>
          </p:nvSpPr>
          <p:spPr>
            <a:xfrm flipH="1" flipV="1">
              <a:off x="-360" y="6814800"/>
              <a:ext cx="6730920" cy="61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5" descr="logo_en2"/>
          <p:cNvPicPr/>
          <p:nvPr/>
        </p:nvPicPr>
        <p:blipFill>
          <a:blip r:embed="rId2"/>
          <a:stretch/>
        </p:blipFill>
        <p:spPr>
          <a:xfrm>
            <a:off x="304920" y="228600"/>
            <a:ext cx="2516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6652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лайн серви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лектронный кабинет ЛПУ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лайн проверка готовности результатов исследов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Личный кабинет пациента ИДЦ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-360" y="6357960"/>
            <a:ext cx="9144360" cy="500040"/>
            <a:chOff x="-360" y="6357960"/>
            <a:chExt cx="9144360" cy="500040"/>
          </a:xfrm>
        </p:grpSpPr>
        <p:pic>
          <p:nvPicPr>
            <p:cNvPr id="167" name="Picture 5" descr="logo_en2"/>
            <p:cNvPicPr/>
            <p:nvPr/>
          </p:nvPicPr>
          <p:blipFill>
            <a:blip r:embed="rId1"/>
            <a:stretch/>
          </p:blipFill>
          <p:spPr>
            <a:xfrm>
              <a:off x="6781680" y="6381720"/>
              <a:ext cx="1371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Rectangle 6"/>
            <p:cNvSpPr/>
            <p:nvPr/>
          </p:nvSpPr>
          <p:spPr>
            <a:xfrm>
              <a:off x="0" y="6383160"/>
              <a:ext cx="6781680" cy="43200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7"/>
            <p:cNvSpPr/>
            <p:nvPr/>
          </p:nvSpPr>
          <p:spPr>
            <a:xfrm flipH="1" flipV="1">
              <a:off x="8153280" y="6815160"/>
              <a:ext cx="99072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8"/>
            <p:cNvSpPr/>
            <p:nvPr/>
          </p:nvSpPr>
          <p:spPr>
            <a:xfrm flipH="1" flipV="1">
              <a:off x="0" y="6357960"/>
              <a:ext cx="914400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9"/>
            <p:cNvSpPr/>
            <p:nvPr/>
          </p:nvSpPr>
          <p:spPr>
            <a:xfrm>
              <a:off x="8153280" y="6384960"/>
              <a:ext cx="990720" cy="4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10"/>
            <p:cNvSpPr/>
            <p:nvPr/>
          </p:nvSpPr>
          <p:spPr>
            <a:xfrm flipH="1" flipV="1">
              <a:off x="-360" y="6814800"/>
              <a:ext cx="6730920" cy="61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5" descr="logo_en2"/>
          <p:cNvPicPr/>
          <p:nvPr/>
        </p:nvPicPr>
        <p:blipFill>
          <a:blip r:embed="rId2"/>
          <a:stretch/>
        </p:blipFill>
        <p:spPr>
          <a:xfrm>
            <a:off x="304920" y="228600"/>
            <a:ext cx="2516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43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line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ка готовности результата через сай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c.baika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logo_en2"/>
          <p:cNvPicPr/>
          <p:nvPr/>
        </p:nvPicPr>
        <p:blipFill>
          <a:blip r:embed="rId1"/>
          <a:stretch/>
        </p:blipFill>
        <p:spPr>
          <a:xfrm>
            <a:off x="228600" y="0"/>
            <a:ext cx="2484360" cy="11286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4"/>
          <p:cNvGrpSpPr/>
          <p:nvPr/>
        </p:nvGrpSpPr>
        <p:grpSpPr>
          <a:xfrm>
            <a:off x="-360" y="6357960"/>
            <a:ext cx="9144360" cy="500040"/>
            <a:chOff x="-360" y="6357960"/>
            <a:chExt cx="9144360" cy="500040"/>
          </a:xfrm>
        </p:grpSpPr>
        <p:pic>
          <p:nvPicPr>
            <p:cNvPr id="177" name="Picture 5" descr="logo_en2"/>
            <p:cNvPicPr/>
            <p:nvPr/>
          </p:nvPicPr>
          <p:blipFill>
            <a:blip r:embed="rId2"/>
            <a:stretch/>
          </p:blipFill>
          <p:spPr>
            <a:xfrm>
              <a:off x="6781680" y="6381720"/>
              <a:ext cx="1371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6"/>
            <p:cNvSpPr/>
            <p:nvPr/>
          </p:nvSpPr>
          <p:spPr>
            <a:xfrm>
              <a:off x="0" y="6383160"/>
              <a:ext cx="6781680" cy="43200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 flipH="1" flipV="1">
              <a:off x="8153280" y="6815160"/>
              <a:ext cx="99072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H="1" flipV="1">
              <a:off x="0" y="6357960"/>
              <a:ext cx="914400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8153280" y="6384960"/>
              <a:ext cx="990720" cy="4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 flipH="1" flipV="1">
              <a:off x="-360" y="6814800"/>
              <a:ext cx="6730920" cy="61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Рисунок 1" descr="http://www.dc.baikal.ru/img/list.png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4320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-line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ка готовности результата через сай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c.baikal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logo_en2"/>
          <p:cNvPicPr/>
          <p:nvPr/>
        </p:nvPicPr>
        <p:blipFill>
          <a:blip r:embed="rId1"/>
          <a:stretch/>
        </p:blipFill>
        <p:spPr>
          <a:xfrm>
            <a:off x="228600" y="0"/>
            <a:ext cx="2484360" cy="11286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4"/>
          <p:cNvGrpSpPr/>
          <p:nvPr/>
        </p:nvGrpSpPr>
        <p:grpSpPr>
          <a:xfrm>
            <a:off x="-360" y="6357960"/>
            <a:ext cx="9144360" cy="500040"/>
            <a:chOff x="-360" y="6357960"/>
            <a:chExt cx="9144360" cy="500040"/>
          </a:xfrm>
        </p:grpSpPr>
        <p:pic>
          <p:nvPicPr>
            <p:cNvPr id="187" name="Picture 5" descr="logo_en2"/>
            <p:cNvPicPr/>
            <p:nvPr/>
          </p:nvPicPr>
          <p:blipFill>
            <a:blip r:embed="rId2"/>
            <a:stretch/>
          </p:blipFill>
          <p:spPr>
            <a:xfrm>
              <a:off x="6781680" y="6381720"/>
              <a:ext cx="1371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Rectangle 6"/>
            <p:cNvSpPr/>
            <p:nvPr/>
          </p:nvSpPr>
          <p:spPr>
            <a:xfrm>
              <a:off x="0" y="6383160"/>
              <a:ext cx="6781680" cy="43200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7"/>
            <p:cNvSpPr/>
            <p:nvPr/>
          </p:nvSpPr>
          <p:spPr>
            <a:xfrm flipH="1" flipV="1">
              <a:off x="8153280" y="6815160"/>
              <a:ext cx="99072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 flipH="1" flipV="1">
              <a:off x="0" y="6357960"/>
              <a:ext cx="914400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9"/>
            <p:cNvSpPr/>
            <p:nvPr/>
          </p:nvSpPr>
          <p:spPr>
            <a:xfrm>
              <a:off x="8153280" y="6384960"/>
              <a:ext cx="990720" cy="4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0"/>
            <p:cNvSpPr/>
            <p:nvPr/>
          </p:nvSpPr>
          <p:spPr>
            <a:xfrm flipH="1" flipV="1">
              <a:off x="-360" y="6814800"/>
              <a:ext cx="6730920" cy="61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Рисунок 3" descr="http://www.dc.baikal.ru/img/qr_howto.png"/>
          <p:cNvPicPr/>
          <p:nvPr/>
        </p:nvPicPr>
        <p:blipFill>
          <a:blip r:embed="rId3"/>
          <a:stretch/>
        </p:blipFill>
        <p:spPr>
          <a:xfrm>
            <a:off x="152280" y="2590920"/>
            <a:ext cx="8991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ивность МОМ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3"/>
          <p:cNvGraphicFramePr/>
          <p:nvPr/>
        </p:nvGraphicFramePr>
        <p:xfrm>
          <a:off x="225360" y="2671920"/>
          <a:ext cx="3930840" cy="37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2671920"/>
                    <a:ext cx="393084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4"/>
          <p:cNvSpPr/>
          <p:nvPr/>
        </p:nvSpPr>
        <p:spPr>
          <a:xfrm>
            <a:off x="457200" y="1600200"/>
            <a:ext cx="37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Динамика объемов медицинской помощи (е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5"/>
          <p:cNvGraphicFramePr/>
          <p:nvPr/>
        </p:nvGraphicFramePr>
        <p:xfrm>
          <a:off x="4572000" y="2671920"/>
          <a:ext cx="4071960" cy="3693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671920"/>
                    <a:ext cx="4071960" cy="36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6"/>
          <p:cNvSpPr/>
          <p:nvPr/>
        </p:nvSpPr>
        <p:spPr>
          <a:xfrm>
            <a:off x="4800600" y="1600200"/>
            <a:ext cx="41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Показатель качества медицин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Arial"/>
              </a:rPr>
              <a:t>помощи в ИДЦ (УК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-360" y="6357960"/>
            <a:ext cx="9144360" cy="500040"/>
            <a:chOff x="-360" y="6357960"/>
            <a:chExt cx="9144360" cy="500040"/>
          </a:xfrm>
        </p:grpSpPr>
        <p:pic>
          <p:nvPicPr>
            <p:cNvPr id="203" name="Picture 8" descr="logo_en2"/>
            <p:cNvPicPr/>
            <p:nvPr/>
          </p:nvPicPr>
          <p:blipFill>
            <a:blip r:embed="rId5"/>
            <a:stretch/>
          </p:blipFill>
          <p:spPr>
            <a:xfrm>
              <a:off x="6781680" y="6381720"/>
              <a:ext cx="1371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9"/>
            <p:cNvSpPr/>
            <p:nvPr/>
          </p:nvSpPr>
          <p:spPr>
            <a:xfrm>
              <a:off x="0" y="6383160"/>
              <a:ext cx="6781680" cy="43200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0"/>
            <p:cNvSpPr/>
            <p:nvPr/>
          </p:nvSpPr>
          <p:spPr>
            <a:xfrm flipH="1" flipV="1">
              <a:off x="8153280" y="6815160"/>
              <a:ext cx="99072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0" y="6357960"/>
              <a:ext cx="914400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8153280" y="6384960"/>
              <a:ext cx="990720" cy="4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H="1" flipV="1">
              <a:off x="-360" y="6814800"/>
              <a:ext cx="6730920" cy="61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Picture 5" descr="logo_en2"/>
          <p:cNvPicPr/>
          <p:nvPr/>
        </p:nvPicPr>
        <p:blipFill>
          <a:blip r:embed="rId6"/>
          <a:stretch/>
        </p:blipFill>
        <p:spPr>
          <a:xfrm>
            <a:off x="228600" y="0"/>
            <a:ext cx="2484360" cy="11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19520" y="-3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ффективность МОМ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533520" y="1523880"/>
          <a:ext cx="3504960" cy="19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3504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4"/>
          <p:cNvGraphicFramePr/>
          <p:nvPr/>
        </p:nvGraphicFramePr>
        <p:xfrm>
          <a:off x="4876920" y="1523880"/>
          <a:ext cx="3504960" cy="2057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523880"/>
                    <a:ext cx="3504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5"/>
          <p:cNvGraphicFramePr/>
          <p:nvPr/>
        </p:nvGraphicFramePr>
        <p:xfrm>
          <a:off x="380880" y="4114800"/>
          <a:ext cx="3733920" cy="2247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114800"/>
                    <a:ext cx="373392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Rectangle 6"/>
          <p:cNvSpPr/>
          <p:nvPr/>
        </p:nvSpPr>
        <p:spPr>
          <a:xfrm>
            <a:off x="228600" y="1066680"/>
            <a:ext cx="4249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явление онкопатолог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КТ в 0 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тадии 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4648320" y="990720"/>
            <a:ext cx="435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ок ожидания гистологического заключения (дн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-360" y="6357960"/>
            <a:ext cx="9144360" cy="500040"/>
            <a:chOff x="-360" y="6357960"/>
            <a:chExt cx="9144360" cy="500040"/>
          </a:xfrm>
        </p:grpSpPr>
        <p:pic>
          <p:nvPicPr>
            <p:cNvPr id="220" name="Picture 9" descr="logo_en2"/>
            <p:cNvPicPr/>
            <p:nvPr/>
          </p:nvPicPr>
          <p:blipFill>
            <a:blip r:embed="rId7"/>
            <a:stretch/>
          </p:blipFill>
          <p:spPr>
            <a:xfrm>
              <a:off x="6781680" y="6381720"/>
              <a:ext cx="1371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Rectangle 10"/>
            <p:cNvSpPr/>
            <p:nvPr/>
          </p:nvSpPr>
          <p:spPr>
            <a:xfrm>
              <a:off x="0" y="6383160"/>
              <a:ext cx="6781680" cy="43200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 flipV="1">
              <a:off x="8153280" y="6815160"/>
              <a:ext cx="99072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 flipV="1">
              <a:off x="0" y="6357960"/>
              <a:ext cx="914400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8153280" y="6384960"/>
              <a:ext cx="990720" cy="4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 flipH="1" flipV="1">
              <a:off x="-360" y="6814800"/>
              <a:ext cx="6730920" cy="61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5" descr="logo_en2"/>
          <p:cNvPicPr/>
          <p:nvPr/>
        </p:nvPicPr>
        <p:blipFill>
          <a:blip r:embed="rId8"/>
          <a:stretch/>
        </p:blipFill>
        <p:spPr>
          <a:xfrm>
            <a:off x="228600" y="0"/>
            <a:ext cx="248436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Object 16"/>
          <p:cNvGraphicFramePr/>
          <p:nvPr/>
        </p:nvGraphicFramePr>
        <p:xfrm>
          <a:off x="4800600" y="4191120"/>
          <a:ext cx="3733920" cy="21873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28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4191120"/>
                    <a:ext cx="373392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Rectangle 17"/>
          <p:cNvSpPr/>
          <p:nvPr/>
        </p:nvSpPr>
        <p:spPr>
          <a:xfrm>
            <a:off x="762120" y="3581280"/>
            <a:ext cx="37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ля рабочего времени врача, затраченного на работу с пациен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>
            <a:off x="4038480" y="3581280"/>
            <a:ext cx="510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ремя ожидания пациентами исследований, консультаций, лечебно-диагностическ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нипуляций внутри ЛПУ (мин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24080" y="274680"/>
            <a:ext cx="55627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ффективность МОМ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152280" y="1523880"/>
          <a:ext cx="4038840" cy="218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3880"/>
                    <a:ext cx="403884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4"/>
          <p:cNvSpPr/>
          <p:nvPr/>
        </p:nvSpPr>
        <p:spPr>
          <a:xfrm>
            <a:off x="152280" y="1066680"/>
            <a:ext cx="331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Динамика дохода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1 врачебную долж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5"/>
          <p:cNvGrpSpPr/>
          <p:nvPr/>
        </p:nvGrpSpPr>
        <p:grpSpPr>
          <a:xfrm>
            <a:off x="-360" y="6357960"/>
            <a:ext cx="9144360" cy="500040"/>
            <a:chOff x="-360" y="6357960"/>
            <a:chExt cx="9144360" cy="500040"/>
          </a:xfrm>
        </p:grpSpPr>
        <p:pic>
          <p:nvPicPr>
            <p:cNvPr id="236" name="Picture 6" descr="logo_en2"/>
            <p:cNvPicPr/>
            <p:nvPr/>
          </p:nvPicPr>
          <p:blipFill>
            <a:blip r:embed="rId3"/>
            <a:stretch/>
          </p:blipFill>
          <p:spPr>
            <a:xfrm>
              <a:off x="6781680" y="6381720"/>
              <a:ext cx="1371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Rectangle 7"/>
            <p:cNvSpPr/>
            <p:nvPr/>
          </p:nvSpPr>
          <p:spPr>
            <a:xfrm>
              <a:off x="0" y="6383160"/>
              <a:ext cx="6781680" cy="43200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8"/>
            <p:cNvSpPr/>
            <p:nvPr/>
          </p:nvSpPr>
          <p:spPr>
            <a:xfrm flipH="1" flipV="1">
              <a:off x="8153280" y="6815160"/>
              <a:ext cx="99072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9"/>
            <p:cNvSpPr/>
            <p:nvPr/>
          </p:nvSpPr>
          <p:spPr>
            <a:xfrm flipH="1" flipV="1">
              <a:off x="0" y="6357960"/>
              <a:ext cx="914400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8153280" y="6384960"/>
              <a:ext cx="990720" cy="4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1"/>
            <p:cNvSpPr/>
            <p:nvPr/>
          </p:nvSpPr>
          <p:spPr>
            <a:xfrm flipH="1" flipV="1">
              <a:off x="-360" y="6814800"/>
              <a:ext cx="6730920" cy="61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Picture 5" descr="logo_en2"/>
          <p:cNvPicPr/>
          <p:nvPr/>
        </p:nvPicPr>
        <p:blipFill>
          <a:blip r:embed="rId4"/>
          <a:stretch/>
        </p:blipFill>
        <p:spPr>
          <a:xfrm>
            <a:off x="228600" y="0"/>
            <a:ext cx="2484360" cy="11286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3"/>
          <p:cNvSpPr/>
          <p:nvPr/>
        </p:nvSpPr>
        <p:spPr>
          <a:xfrm>
            <a:off x="624240" y="3657600"/>
            <a:ext cx="28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  <a:ea typeface="Arial"/>
              </a:rPr>
              <a:t>Коэффициент фондоот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4648320" y="99072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намика средней зарплаты (2004-2011 г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15"/>
          <p:cNvGraphicFramePr/>
          <p:nvPr/>
        </p:nvGraphicFramePr>
        <p:xfrm>
          <a:off x="152280" y="3962520"/>
          <a:ext cx="3581640" cy="2361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6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3962520"/>
                    <a:ext cx="358164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16"/>
          <p:cNvGraphicFramePr/>
          <p:nvPr/>
        </p:nvGraphicFramePr>
        <p:xfrm>
          <a:off x="4267080" y="1295280"/>
          <a:ext cx="4724640" cy="28195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48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1295280"/>
                    <a:ext cx="47246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Text Box 17"/>
          <p:cNvSpPr/>
          <p:nvPr/>
        </p:nvSpPr>
        <p:spPr>
          <a:xfrm>
            <a:off x="4572000" y="449568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4114800" y="402480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25-30% ежегодно увеличиваются дох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50 млн. руб. в 2010-2011 г. снизились неэффективные расходы и финансовые поте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666520" y="1519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и внедрение МИС на СПО экономически обоснова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МИС должно осуществляться по эффективным рабочим бизнес-процесс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бизнес-процессов возможно только с применением современных технологий менеджмент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ка эффективности МИС должна включать медицинские, социальные и экономические показа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logo_en2"/>
          <p:cNvPicPr/>
          <p:nvPr/>
        </p:nvPicPr>
        <p:blipFill>
          <a:blip r:embed="rId1"/>
          <a:stretch/>
        </p:blipFill>
        <p:spPr>
          <a:xfrm>
            <a:off x="228600" y="0"/>
            <a:ext cx="2484360" cy="112860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5"/>
          <p:cNvGrpSpPr/>
          <p:nvPr/>
        </p:nvGrpSpPr>
        <p:grpSpPr>
          <a:xfrm>
            <a:off x="-360" y="6357960"/>
            <a:ext cx="9144360" cy="500040"/>
            <a:chOff x="-360" y="6357960"/>
            <a:chExt cx="9144360" cy="500040"/>
          </a:xfrm>
        </p:grpSpPr>
        <p:pic>
          <p:nvPicPr>
            <p:cNvPr id="255" name="Picture 6" descr="logo_en2"/>
            <p:cNvPicPr/>
            <p:nvPr/>
          </p:nvPicPr>
          <p:blipFill>
            <a:blip r:embed="rId2"/>
            <a:stretch/>
          </p:blipFill>
          <p:spPr>
            <a:xfrm>
              <a:off x="6781680" y="6381720"/>
              <a:ext cx="1371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7"/>
            <p:cNvSpPr/>
            <p:nvPr/>
          </p:nvSpPr>
          <p:spPr>
            <a:xfrm>
              <a:off x="0" y="6383160"/>
              <a:ext cx="6781680" cy="43200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8"/>
            <p:cNvSpPr/>
            <p:nvPr/>
          </p:nvSpPr>
          <p:spPr>
            <a:xfrm flipH="1" flipV="1">
              <a:off x="8153280" y="6815160"/>
              <a:ext cx="99072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9"/>
            <p:cNvSpPr/>
            <p:nvPr/>
          </p:nvSpPr>
          <p:spPr>
            <a:xfrm flipH="1" flipV="1">
              <a:off x="0" y="6357960"/>
              <a:ext cx="914400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8153280" y="6384960"/>
              <a:ext cx="990720" cy="4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1"/>
            <p:cNvSpPr/>
            <p:nvPr/>
          </p:nvSpPr>
          <p:spPr>
            <a:xfrm flipH="1" flipV="1">
              <a:off x="-360" y="6814800"/>
              <a:ext cx="6730920" cy="61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shakov@dc.baikal.r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-360" y="6357960"/>
            <a:ext cx="9144360" cy="500040"/>
            <a:chOff x="-360" y="6357960"/>
            <a:chExt cx="9144360" cy="500040"/>
          </a:xfrm>
        </p:grpSpPr>
        <p:pic>
          <p:nvPicPr>
            <p:cNvPr id="263" name="Picture 5" descr="logo_en2"/>
            <p:cNvPicPr/>
            <p:nvPr/>
          </p:nvPicPr>
          <p:blipFill>
            <a:blip r:embed="rId1"/>
            <a:stretch/>
          </p:blipFill>
          <p:spPr>
            <a:xfrm>
              <a:off x="6781680" y="6381720"/>
              <a:ext cx="1371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Rectangle 6"/>
            <p:cNvSpPr/>
            <p:nvPr/>
          </p:nvSpPr>
          <p:spPr>
            <a:xfrm>
              <a:off x="0" y="6383160"/>
              <a:ext cx="6781680" cy="43200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"/>
            <p:cNvSpPr/>
            <p:nvPr/>
          </p:nvSpPr>
          <p:spPr>
            <a:xfrm flipH="1" flipV="1">
              <a:off x="8153280" y="6815160"/>
              <a:ext cx="99072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 flipH="1" flipV="1">
              <a:off x="0" y="6357960"/>
              <a:ext cx="914400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"/>
            <p:cNvSpPr/>
            <p:nvPr/>
          </p:nvSpPr>
          <p:spPr>
            <a:xfrm>
              <a:off x="8153280" y="6384960"/>
              <a:ext cx="990720" cy="4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0"/>
            <p:cNvSpPr/>
            <p:nvPr/>
          </p:nvSpPr>
          <p:spPr>
            <a:xfrm flipH="1" flipV="1">
              <a:off x="-360" y="6814800"/>
              <a:ext cx="6730920" cy="61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Picture 5" descr="logo_en2"/>
          <p:cNvPicPr/>
          <p:nvPr/>
        </p:nvPicPr>
        <p:blipFill>
          <a:blip r:embed="rId2"/>
          <a:stretch/>
        </p:blipFill>
        <p:spPr>
          <a:xfrm>
            <a:off x="228600" y="0"/>
            <a:ext cx="2484360" cy="11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-360" y="6357960"/>
            <a:ext cx="9144360" cy="500040"/>
            <a:chOff x="-360" y="6357960"/>
            <a:chExt cx="9144360" cy="500040"/>
          </a:xfrm>
        </p:grpSpPr>
        <p:pic>
          <p:nvPicPr>
            <p:cNvPr id="60" name="Picture 3" descr="logo_en2"/>
            <p:cNvPicPr/>
            <p:nvPr/>
          </p:nvPicPr>
          <p:blipFill>
            <a:blip r:embed="rId1"/>
            <a:stretch/>
          </p:blipFill>
          <p:spPr>
            <a:xfrm>
              <a:off x="6781680" y="6381720"/>
              <a:ext cx="1371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4"/>
            <p:cNvSpPr/>
            <p:nvPr/>
          </p:nvSpPr>
          <p:spPr>
            <a:xfrm>
              <a:off x="0" y="6383160"/>
              <a:ext cx="6781680" cy="43200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5"/>
            <p:cNvSpPr/>
            <p:nvPr/>
          </p:nvSpPr>
          <p:spPr>
            <a:xfrm flipH="1" flipV="1">
              <a:off x="8153280" y="6815160"/>
              <a:ext cx="99072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6"/>
            <p:cNvSpPr/>
            <p:nvPr/>
          </p:nvSpPr>
          <p:spPr>
            <a:xfrm flipH="1" flipV="1">
              <a:off x="0" y="6357960"/>
              <a:ext cx="914400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"/>
            <p:cNvSpPr/>
            <p:nvPr/>
          </p:nvSpPr>
          <p:spPr>
            <a:xfrm>
              <a:off x="8153280" y="6384960"/>
              <a:ext cx="990720" cy="4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8"/>
            <p:cNvSpPr/>
            <p:nvPr/>
          </p:nvSpPr>
          <p:spPr>
            <a:xfrm flipH="1" flipV="1">
              <a:off x="-360" y="6814800"/>
              <a:ext cx="6730920" cy="61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5" descr="logo_en2"/>
          <p:cNvPicPr/>
          <p:nvPr/>
        </p:nvPicPr>
        <p:blipFill>
          <a:blip r:embed="rId2"/>
          <a:stretch/>
        </p:blipFill>
        <p:spPr>
          <a:xfrm>
            <a:off x="304920" y="22860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2743200" y="1522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0" y="1447920"/>
            <a:ext cx="9144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99 г. - принятие решение о создании собственной МИ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0 г.- тестирование эл. регистрат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3 г. - полный отказ от бумажных нос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3 г. - принятие решения о переходе на СП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5 г. - переход на СП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9 г. – «менеджмент ориентированная МИ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52280" y="13712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ие места пользователей – О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Linux CentOS 5.4 +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ложения mozilla на базе технологии xu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вера - Linux CentOS 5.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вер базы данных - Postgree 8.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вера приложений - JBoss, Tomcat, Apach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йком-сервер - DICOM Server DCM4Ch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тика и отчетность - Mondrian OLAP Server, из линейки продуктов Pantah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тайм- менеджмента и управления проектами –eGroupW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фисный пакет – OpenOffi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хранения документов – Alfres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3"/>
          <p:cNvGrpSpPr/>
          <p:nvPr/>
        </p:nvGrpSpPr>
        <p:grpSpPr>
          <a:xfrm>
            <a:off x="-360" y="6357960"/>
            <a:ext cx="9144360" cy="500040"/>
            <a:chOff x="-360" y="6357960"/>
            <a:chExt cx="9144360" cy="500040"/>
          </a:xfrm>
        </p:grpSpPr>
        <p:pic>
          <p:nvPicPr>
            <p:cNvPr id="71" name="Picture 4" descr="logo_en2"/>
            <p:cNvPicPr/>
            <p:nvPr/>
          </p:nvPicPr>
          <p:blipFill>
            <a:blip r:embed="rId1"/>
            <a:stretch/>
          </p:blipFill>
          <p:spPr>
            <a:xfrm>
              <a:off x="6781680" y="6381720"/>
              <a:ext cx="1371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Rectangle 5"/>
            <p:cNvSpPr/>
            <p:nvPr/>
          </p:nvSpPr>
          <p:spPr>
            <a:xfrm>
              <a:off x="0" y="6383160"/>
              <a:ext cx="6781680" cy="43200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"/>
            <p:cNvSpPr/>
            <p:nvPr/>
          </p:nvSpPr>
          <p:spPr>
            <a:xfrm flipH="1" flipV="1">
              <a:off x="8153280" y="6815160"/>
              <a:ext cx="99072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7"/>
            <p:cNvSpPr/>
            <p:nvPr/>
          </p:nvSpPr>
          <p:spPr>
            <a:xfrm flipH="1" flipV="1">
              <a:off x="0" y="6357960"/>
              <a:ext cx="914400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8"/>
            <p:cNvSpPr/>
            <p:nvPr/>
          </p:nvSpPr>
          <p:spPr>
            <a:xfrm>
              <a:off x="8153280" y="6384960"/>
              <a:ext cx="990720" cy="4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9"/>
            <p:cNvSpPr/>
            <p:nvPr/>
          </p:nvSpPr>
          <p:spPr>
            <a:xfrm flipH="1" flipV="1">
              <a:off x="-360" y="6814800"/>
              <a:ext cx="6730920" cy="61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5" descr="logo_en2"/>
          <p:cNvPicPr/>
          <p:nvPr/>
        </p:nvPicPr>
        <p:blipFill>
          <a:blip r:embed="rId2"/>
          <a:stretch/>
        </p:blipFill>
        <p:spPr>
          <a:xfrm>
            <a:off x="304920" y="22860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743200" y="301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яемы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9296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923160" cy="487044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4"/>
          <p:cNvGrpSpPr/>
          <p:nvPr/>
        </p:nvGrpSpPr>
        <p:grpSpPr>
          <a:xfrm>
            <a:off x="-360" y="6248520"/>
            <a:ext cx="9144360" cy="500040"/>
            <a:chOff x="-360" y="6248520"/>
            <a:chExt cx="9144360" cy="500040"/>
          </a:xfrm>
        </p:grpSpPr>
        <p:pic>
          <p:nvPicPr>
            <p:cNvPr id="82" name="Picture 5" descr="logo_en2"/>
            <p:cNvPicPr/>
            <p:nvPr/>
          </p:nvPicPr>
          <p:blipFill>
            <a:blip r:embed="rId2"/>
            <a:stretch/>
          </p:blipFill>
          <p:spPr>
            <a:xfrm>
              <a:off x="6781680" y="6272280"/>
              <a:ext cx="1371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6"/>
            <p:cNvSpPr/>
            <p:nvPr/>
          </p:nvSpPr>
          <p:spPr>
            <a:xfrm>
              <a:off x="0" y="6273720"/>
              <a:ext cx="6781680" cy="43200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7"/>
            <p:cNvSpPr/>
            <p:nvPr/>
          </p:nvSpPr>
          <p:spPr>
            <a:xfrm flipH="1" flipV="1">
              <a:off x="8153280" y="6705720"/>
              <a:ext cx="99072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8"/>
            <p:cNvSpPr/>
            <p:nvPr/>
          </p:nvSpPr>
          <p:spPr>
            <a:xfrm flipH="1" flipV="1">
              <a:off x="0" y="6248520"/>
              <a:ext cx="914400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9"/>
            <p:cNvSpPr/>
            <p:nvPr/>
          </p:nvSpPr>
          <p:spPr>
            <a:xfrm>
              <a:off x="8153280" y="6275520"/>
              <a:ext cx="990720" cy="4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0"/>
            <p:cNvSpPr/>
            <p:nvPr/>
          </p:nvSpPr>
          <p:spPr>
            <a:xfrm flipH="1" flipV="1">
              <a:off x="-360" y="6705360"/>
              <a:ext cx="6730920" cy="61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5" descr="logo_en2"/>
          <p:cNvPicPr/>
          <p:nvPr/>
        </p:nvPicPr>
        <p:blipFill>
          <a:blip r:embed="rId3"/>
          <a:stretch/>
        </p:blipFill>
        <p:spPr>
          <a:xfrm>
            <a:off x="304920" y="228600"/>
            <a:ext cx="2516040" cy="1143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2590920" y="2286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няемы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технологии (трехуровневая архитекту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logo_en2"/>
          <p:cNvPicPr/>
          <p:nvPr/>
        </p:nvPicPr>
        <p:blipFill>
          <a:blip r:embed="rId4"/>
          <a:stretch/>
        </p:blipFill>
        <p:spPr>
          <a:xfrm>
            <a:off x="304920" y="228600"/>
            <a:ext cx="2516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личие  информационной системы  не гарантирует повышение качества медицинских услуг и эффективности  деятельности ЛП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личие сертификата ИСО 9001:2008 не гарантирует высокое качество медицинской помощ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-360" y="6357960"/>
            <a:ext cx="9144360" cy="500040"/>
            <a:chOff x="-360" y="6357960"/>
            <a:chExt cx="9144360" cy="500040"/>
          </a:xfrm>
        </p:grpSpPr>
        <p:pic>
          <p:nvPicPr>
            <p:cNvPr id="93" name="Picture 4" descr="logo_en2"/>
            <p:cNvPicPr/>
            <p:nvPr/>
          </p:nvPicPr>
          <p:blipFill>
            <a:blip r:embed="rId1"/>
            <a:stretch/>
          </p:blipFill>
          <p:spPr>
            <a:xfrm>
              <a:off x="6781680" y="6381720"/>
              <a:ext cx="1371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Rectangle 5"/>
            <p:cNvSpPr/>
            <p:nvPr/>
          </p:nvSpPr>
          <p:spPr>
            <a:xfrm>
              <a:off x="0" y="6383160"/>
              <a:ext cx="6781680" cy="43200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6"/>
            <p:cNvSpPr/>
            <p:nvPr/>
          </p:nvSpPr>
          <p:spPr>
            <a:xfrm flipH="1" flipV="1">
              <a:off x="8153280" y="6815160"/>
              <a:ext cx="99072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7"/>
            <p:cNvSpPr/>
            <p:nvPr/>
          </p:nvSpPr>
          <p:spPr>
            <a:xfrm flipH="1" flipV="1">
              <a:off x="0" y="6357960"/>
              <a:ext cx="914400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8"/>
            <p:cNvSpPr/>
            <p:nvPr/>
          </p:nvSpPr>
          <p:spPr>
            <a:xfrm>
              <a:off x="8153280" y="6384960"/>
              <a:ext cx="990720" cy="4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9"/>
            <p:cNvSpPr/>
            <p:nvPr/>
          </p:nvSpPr>
          <p:spPr>
            <a:xfrm flipH="1" flipV="1">
              <a:off x="-360" y="6814800"/>
              <a:ext cx="6730920" cy="61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Picture 5" descr="logo_en2"/>
          <p:cNvPicPr/>
          <p:nvPr/>
        </p:nvPicPr>
        <p:blipFill>
          <a:blip r:embed="rId2"/>
          <a:stretch/>
        </p:blipFill>
        <p:spPr>
          <a:xfrm>
            <a:off x="304920" y="228600"/>
            <a:ext cx="2516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неджмент ориентированная медицинская информационная система - интеграция медицинских, управленческих и информационных инновационных технолог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-360" y="6357960"/>
            <a:ext cx="9144360" cy="500040"/>
            <a:chOff x="-360" y="6357960"/>
            <a:chExt cx="9144360" cy="500040"/>
          </a:xfrm>
        </p:grpSpPr>
        <p:pic>
          <p:nvPicPr>
            <p:cNvPr id="102" name="Picture 5" descr="logo_en2"/>
            <p:cNvPicPr/>
            <p:nvPr/>
          </p:nvPicPr>
          <p:blipFill>
            <a:blip r:embed="rId1"/>
            <a:stretch/>
          </p:blipFill>
          <p:spPr>
            <a:xfrm>
              <a:off x="6781680" y="6381720"/>
              <a:ext cx="1371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6"/>
            <p:cNvSpPr/>
            <p:nvPr/>
          </p:nvSpPr>
          <p:spPr>
            <a:xfrm>
              <a:off x="0" y="6383160"/>
              <a:ext cx="6781680" cy="43200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7"/>
            <p:cNvSpPr/>
            <p:nvPr/>
          </p:nvSpPr>
          <p:spPr>
            <a:xfrm flipH="1" flipV="1">
              <a:off x="8153280" y="6815160"/>
              <a:ext cx="99072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8"/>
            <p:cNvSpPr/>
            <p:nvPr/>
          </p:nvSpPr>
          <p:spPr>
            <a:xfrm flipH="1" flipV="1">
              <a:off x="0" y="6357960"/>
              <a:ext cx="914400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9"/>
            <p:cNvSpPr/>
            <p:nvPr/>
          </p:nvSpPr>
          <p:spPr>
            <a:xfrm>
              <a:off x="8153280" y="6384960"/>
              <a:ext cx="990720" cy="4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 flipH="1" flipV="1">
              <a:off x="-360" y="6814800"/>
              <a:ext cx="6730920" cy="61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5" descr="logo_en2"/>
          <p:cNvPicPr/>
          <p:nvPr/>
        </p:nvPicPr>
        <p:blipFill>
          <a:blip r:embed="rId2"/>
          <a:stretch/>
        </p:blipFill>
        <p:spPr>
          <a:xfrm>
            <a:off x="304920" y="228600"/>
            <a:ext cx="2516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-360" y="6237360"/>
            <a:ext cx="9142920" cy="497880"/>
            <a:chOff x="-360" y="6237360"/>
            <a:chExt cx="9142920" cy="497880"/>
          </a:xfrm>
        </p:grpSpPr>
        <p:pic>
          <p:nvPicPr>
            <p:cNvPr id="110" name="Picture 3" descr=""/>
            <p:cNvPicPr/>
            <p:nvPr/>
          </p:nvPicPr>
          <p:blipFill>
            <a:blip r:embed="rId1"/>
            <a:stretch/>
          </p:blipFill>
          <p:spPr>
            <a:xfrm>
              <a:off x="6779880" y="6262560"/>
              <a:ext cx="1370880" cy="47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4"/>
            <p:cNvSpPr/>
            <p:nvPr/>
          </p:nvSpPr>
          <p:spPr>
            <a:xfrm>
              <a:off x="1080" y="6264000"/>
              <a:ext cx="6778440" cy="428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5"/>
            <p:cNvSpPr/>
            <p:nvPr/>
          </p:nvSpPr>
          <p:spPr>
            <a:xfrm flipH="1" flipV="1">
              <a:off x="8149320" y="6690960"/>
              <a:ext cx="992880" cy="1080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 flipH="1" flipV="1">
              <a:off x="0" y="6237360"/>
              <a:ext cx="9142560" cy="1080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>
              <a:off x="8150760" y="6265800"/>
              <a:ext cx="990000" cy="42696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8"/>
            <p:cNvSpPr/>
            <p:nvPr/>
          </p:nvSpPr>
          <p:spPr>
            <a:xfrm flipH="1" flipV="1">
              <a:off x="-360" y="6690960"/>
              <a:ext cx="6730920" cy="936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5640" y="188640"/>
            <a:ext cx="6840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Схема создания инновационного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бизнес-процесса  в отделе эндоскоп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logo_en2"/>
          <p:cNvPicPr/>
          <p:nvPr/>
        </p:nvPicPr>
        <p:blipFill>
          <a:blip r:embed="rId2"/>
          <a:stretch/>
        </p:blipFill>
        <p:spPr>
          <a:xfrm>
            <a:off x="250920" y="115920"/>
            <a:ext cx="2484360" cy="1128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1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2"/>
          <p:cNvGraphicFramePr/>
          <p:nvPr/>
        </p:nvGraphicFramePr>
        <p:xfrm>
          <a:off x="444600" y="1488960"/>
          <a:ext cx="8520120" cy="460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600" y="1488960"/>
                    <a:ext cx="852012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520" y="290520"/>
            <a:ext cx="6075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ллектуальный протокол эндоскопического ис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2791080" cy="1605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endopaint"/>
          <p:cNvPicPr/>
          <p:nvPr/>
        </p:nvPicPr>
        <p:blipFill>
          <a:blip r:embed="rId2"/>
          <a:stretch/>
        </p:blipFill>
        <p:spPr>
          <a:xfrm>
            <a:off x="228600" y="2895480"/>
            <a:ext cx="2052720" cy="18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Picture 5" descr=""/>
          <p:cNvPicPr/>
          <p:nvPr/>
        </p:nvPicPr>
        <p:blipFill>
          <a:blip r:embed="rId3"/>
          <a:stretch/>
        </p:blipFill>
        <p:spPr>
          <a:xfrm>
            <a:off x="2666880" y="4419720"/>
            <a:ext cx="3168720" cy="202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5" name="Picture 6" descr="getFile"/>
          <p:cNvPicPr/>
          <p:nvPr/>
        </p:nvPicPr>
        <p:blipFill>
          <a:blip r:embed="rId4"/>
          <a:stretch/>
        </p:blipFill>
        <p:spPr>
          <a:xfrm>
            <a:off x="228600" y="4648320"/>
            <a:ext cx="2089080" cy="15681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2743200" y="1447920"/>
            <a:ext cx="360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мпьютеризация всех этапов процесса предоставления медицинской услуги, включая регистрацию, координацию, непосредственно предоставление услуги, выдачу результатов и экспертизу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6095880" y="4495680"/>
            <a:ext cx="2664000" cy="175752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9" descr=""/>
          <p:cNvPicPr/>
          <p:nvPr/>
        </p:nvPicPr>
        <p:blipFill>
          <a:blip r:embed="rId6"/>
          <a:stretch/>
        </p:blipFill>
        <p:spPr>
          <a:xfrm>
            <a:off x="6553080" y="1371600"/>
            <a:ext cx="2384640" cy="378936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2"/>
          <p:cNvGrpSpPr/>
          <p:nvPr/>
        </p:nvGrpSpPr>
        <p:grpSpPr>
          <a:xfrm>
            <a:off x="-360" y="6359400"/>
            <a:ext cx="9142920" cy="498240"/>
            <a:chOff x="-360" y="6359400"/>
            <a:chExt cx="9142920" cy="498240"/>
          </a:xfrm>
        </p:grpSpPr>
        <p:pic>
          <p:nvPicPr>
            <p:cNvPr id="130" name="Picture 3" descr=""/>
            <p:cNvPicPr/>
            <p:nvPr/>
          </p:nvPicPr>
          <p:blipFill>
            <a:blip r:embed="rId7"/>
            <a:stretch/>
          </p:blipFill>
          <p:spPr>
            <a:xfrm>
              <a:off x="6779880" y="6384600"/>
              <a:ext cx="137088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Rectangle 4"/>
            <p:cNvSpPr/>
            <p:nvPr/>
          </p:nvSpPr>
          <p:spPr>
            <a:xfrm>
              <a:off x="1080" y="6386040"/>
              <a:ext cx="6778440" cy="429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5"/>
            <p:cNvSpPr/>
            <p:nvPr/>
          </p:nvSpPr>
          <p:spPr>
            <a:xfrm flipH="1" flipV="1">
              <a:off x="8149320" y="6813360"/>
              <a:ext cx="992880" cy="1080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6"/>
            <p:cNvSpPr/>
            <p:nvPr/>
          </p:nvSpPr>
          <p:spPr>
            <a:xfrm flipH="1" flipV="1">
              <a:off x="0" y="6359400"/>
              <a:ext cx="9142560" cy="1080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8150760" y="6387840"/>
              <a:ext cx="990000" cy="42732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 flipH="1" flipV="1">
              <a:off x="-360" y="6813360"/>
              <a:ext cx="6730920" cy="936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5" descr="logo_en2"/>
          <p:cNvPicPr/>
          <p:nvPr/>
        </p:nvPicPr>
        <p:blipFill>
          <a:blip r:embed="rId8"/>
          <a:stretch/>
        </p:blipFill>
        <p:spPr>
          <a:xfrm>
            <a:off x="228600" y="0"/>
            <a:ext cx="2484360" cy="112860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2"/>
          <p:cNvGrpSpPr/>
          <p:nvPr/>
        </p:nvGrpSpPr>
        <p:grpSpPr>
          <a:xfrm>
            <a:off x="-360" y="6359400"/>
            <a:ext cx="9142920" cy="498240"/>
            <a:chOff x="-360" y="6359400"/>
            <a:chExt cx="9142920" cy="498240"/>
          </a:xfrm>
        </p:grpSpPr>
        <p:pic>
          <p:nvPicPr>
            <p:cNvPr id="138" name="Picture 3" descr=""/>
            <p:cNvPicPr/>
            <p:nvPr/>
          </p:nvPicPr>
          <p:blipFill>
            <a:blip r:embed="rId9"/>
            <a:stretch/>
          </p:blipFill>
          <p:spPr>
            <a:xfrm>
              <a:off x="6779880" y="6384600"/>
              <a:ext cx="137088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4"/>
            <p:cNvSpPr/>
            <p:nvPr/>
          </p:nvSpPr>
          <p:spPr>
            <a:xfrm>
              <a:off x="1080" y="6386040"/>
              <a:ext cx="6778440" cy="429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5"/>
            <p:cNvSpPr/>
            <p:nvPr/>
          </p:nvSpPr>
          <p:spPr>
            <a:xfrm flipH="1" flipV="1">
              <a:off x="8149320" y="6813360"/>
              <a:ext cx="992880" cy="1080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 flipH="1" flipV="1">
              <a:off x="0" y="6359400"/>
              <a:ext cx="9142560" cy="1080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8150760" y="6387840"/>
              <a:ext cx="990000" cy="42732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8"/>
            <p:cNvSpPr/>
            <p:nvPr/>
          </p:nvSpPr>
          <p:spPr>
            <a:xfrm flipH="1" flipV="1">
              <a:off x="-360" y="6813360"/>
              <a:ext cx="6730920" cy="936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43200" y="301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ючевые характеристики менеджмент ориентированной медицинской информационной системы ИД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требуются лицензионные платежи для П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изированы все рабочие места сотрудников (более 250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цип однократного ввода информаци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азе данных находится вся информация (исследования, консультации, графики, таблицы, снимки, видео и пр.) более чем на 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тысяч пациентов – более 100 млн. записей или около 20 млн. исследований за 10 лет. Доступ к любой медицинской информации за любой период времени в режи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ьютеризированы основные бизнес- процессы,  подвергнутые  улучшению в соответствие с международными стандартами менеджмента качества  ИСО 9001 и реинжиниринг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отказность, высокая скорость работы и защищенность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ллектуальные протоколы исследований и консультаций врач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-360" y="6357960"/>
            <a:ext cx="9144360" cy="500040"/>
            <a:chOff x="-360" y="6357960"/>
            <a:chExt cx="9144360" cy="500040"/>
          </a:xfrm>
        </p:grpSpPr>
        <p:pic>
          <p:nvPicPr>
            <p:cNvPr id="147" name="Picture 5" descr="logo_en2"/>
            <p:cNvPicPr/>
            <p:nvPr/>
          </p:nvPicPr>
          <p:blipFill>
            <a:blip r:embed="rId1"/>
            <a:stretch/>
          </p:blipFill>
          <p:spPr>
            <a:xfrm>
              <a:off x="6781680" y="6381720"/>
              <a:ext cx="13716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6"/>
            <p:cNvSpPr/>
            <p:nvPr/>
          </p:nvSpPr>
          <p:spPr>
            <a:xfrm>
              <a:off x="0" y="6383160"/>
              <a:ext cx="6781680" cy="432000"/>
            </a:xfrm>
            <a:prstGeom prst="rect">
              <a:avLst/>
            </a:prstGeom>
            <a:gradFill rotWithShape="0">
              <a:gsLst>
                <a:gs pos="0">
                  <a:srgbClr val="40a09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 flipH="1" flipV="1">
              <a:off x="8153280" y="6815160"/>
              <a:ext cx="99072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 flipH="1" flipV="1">
              <a:off x="0" y="6357960"/>
              <a:ext cx="9144000" cy="79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9"/>
            <p:cNvSpPr/>
            <p:nvPr/>
          </p:nvSpPr>
          <p:spPr>
            <a:xfrm>
              <a:off x="8153280" y="6384960"/>
              <a:ext cx="990720" cy="43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a0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 flipH="1" flipV="1">
              <a:off x="-360" y="6814800"/>
              <a:ext cx="6730920" cy="6120"/>
            </a:xfrm>
            <a:prstGeom prst="line">
              <a:avLst/>
            </a:prstGeom>
            <a:ln w="38160">
              <a:solidFill>
                <a:srgbClr val="40a0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5" descr="logo_en2"/>
          <p:cNvPicPr/>
          <p:nvPr/>
        </p:nvPicPr>
        <p:blipFill>
          <a:blip r:embed="rId2"/>
          <a:stretch/>
        </p:blipFill>
        <p:spPr>
          <a:xfrm>
            <a:off x="304920" y="228600"/>
            <a:ext cx="2516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хаил</cp:lastModifiedBy>
  <dcterms:modified xsi:type="dcterms:W3CDTF">2012-04-23T10:17:46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