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C19-4B90-411B-A4E5-A55675D8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306-EBCF-472B-B9C0-291ED33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3FA-3938-42A2-877C-69236741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2DA-0606-49DE-8EE2-9130F241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227C-90CB-40B8-8B34-08F2F76F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7CFA-AB65-4855-8925-34854506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5D7B-7020-45DC-AC36-0F726A55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AD07-AC19-4C05-AF3C-A6F0461D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DA0A-9B9D-4792-85D4-CB9F3105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14D8-305A-4ED6-BD40-F3A05812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FB3D-32A3-4818-A14B-D1523FDE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1DF-41BC-41A6-B782-A28DF51F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6647-1976-4CA4-85BE-57FADB7E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47BE-8111-4350-9AEB-CB108670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7712-2B23-4BCE-B5D9-B05D9E6A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1988-B476-46F5-9A68-CEC807D3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098B-47AF-4CCB-B4DB-EA963FBF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9ECAC-9327-415C-88DA-06A9F110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B2D91-7EE3-4707-9D18-1BF94CA5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720E8-A857-4167-B2A1-9E8A5444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B14D1-BC79-496A-8415-FFD44FCD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1E7F1-848B-4D4E-916C-5CD75D34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380-AAB8-4B89-AFCD-4F6A1B17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4D304-D364-4939-862A-627CF6BD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2A1EF-403E-41AF-AFF4-2FF42A76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B5E18-8CCA-4B1A-9623-E541067A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BD23C-B340-4C31-B03D-55301C24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E661E-9EC6-4E7C-B1D8-E4862667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9A4DF-47CB-4AFD-B2C8-178F6D6D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1ABCB-1FAB-4F0E-BF6D-DDFADD55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A925-EBEC-4AD9-B1FA-94A83724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BEE5-6F19-4708-8589-92F2CE24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BC30-117A-4086-A999-D29EB4E3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9A0-2E33-4240-BDE4-4ECB737C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F19C-B8B5-422A-8896-3E8E9D0A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CA08-826C-4E2D-8947-9BFAA2EE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537D-0E53-4E92-989F-53C142A8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60A6-B48F-405D-99A4-E01EB5F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12695-DAA4-4E69-B752-A6C070A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0E9A-C127-4C70-B082-C80EEF77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8444E-3370-4669-A261-05BB0683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AF102-F813-4F4B-B22E-ECF5C321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17CA5-2195-4C6B-BA5C-6FE18C9F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5EC-3D1F-45B3-9909-9BF1DF1A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A08-B35C-4EB2-B96D-871116FD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2DD-E2AB-453F-A17F-646763B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E37-57AF-4553-89AB-EC3D9E0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A3C-A217-43D7-B010-24E29725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E2C7-B574-4A1D-AB53-38497FF44F2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B02C-C489-4E90-A20C-64AEED7FEF7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5045-6F65-4AA5-871E-3ECF8731452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E19F-5556-4C1C-84BE-A5838BAAF8D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image" Target="../media/image10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4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Об основных приоритетах государственной политики в области внедрения информационных технологий в деятельность учреждений здравоохранения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.В. Дубинин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Директор Департамента информатизации МЗСР РФ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76356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Приоритеты информатизации здравоохранени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7500960" y="941400"/>
            <a:ext cx="1463760" cy="1967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8" name="TextBox 14"/>
          <p:cNvSpPr/>
          <p:nvPr/>
        </p:nvSpPr>
        <p:spPr>
          <a:xfrm>
            <a:off x="2192400" y="5850000"/>
            <a:ext cx="41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ышение качества медицинских услу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366840" y="2832120"/>
            <a:ext cx="1960560" cy="192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0" name="TextBox 16"/>
          <p:cNvSpPr/>
          <p:nvPr/>
        </p:nvSpPr>
        <p:spPr>
          <a:xfrm>
            <a:off x="179280" y="19494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формированность насе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6512040" y="4995720"/>
            <a:ext cx="2452680" cy="1708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2" name="TextBox 18"/>
          <p:cNvSpPr/>
          <p:nvPr/>
        </p:nvSpPr>
        <p:spPr>
          <a:xfrm>
            <a:off x="4794840" y="150984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ффективность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прав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Пятно 2 19"/>
          <p:cNvGrpSpPr/>
          <p:nvPr/>
        </p:nvGrpSpPr>
        <p:grpSpPr>
          <a:xfrm>
            <a:off x="2206800" y="2305080"/>
            <a:ext cx="5956200" cy="3510000"/>
            <a:chOff x="2206800" y="2305080"/>
            <a:chExt cx="5956200" cy="3510000"/>
          </a:xfrm>
        </p:grpSpPr>
        <p:pic>
          <p:nvPicPr>
            <p:cNvPr id="224" name="Пятно 2 19" descr=""/>
            <p:cNvPicPr/>
            <p:nvPr/>
          </p:nvPicPr>
          <p:blipFill>
            <a:blip r:embed="rId4"/>
            <a:stretch/>
          </p:blipFill>
          <p:spPr>
            <a:xfrm>
              <a:off x="2206800" y="2305080"/>
              <a:ext cx="5956200" cy="35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718080" y="3343320"/>
              <a:ext cx="250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26" name="TextBox 20"/>
          <p:cNvSpPr/>
          <p:nvPr/>
        </p:nvSpPr>
        <p:spPr>
          <a:xfrm>
            <a:off x="2556000" y="3411360"/>
            <a:ext cx="453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Жизнь в «информационном обществе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8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Архитектура ИС здравоохранени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500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AE9CE9-F38B-4F05-9D3E-56B53F03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8000" y="620640"/>
            <a:ext cx="9252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Методические рекомендации: механизм верификации соответствия Концепции ЕИС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31" name="Группа 27"/>
          <p:cNvGrpSpPr/>
          <p:nvPr/>
        </p:nvGrpSpPr>
        <p:grpSpPr>
          <a:xfrm>
            <a:off x="3203640" y="3573360"/>
            <a:ext cx="2577960" cy="1224000"/>
            <a:chOff x="3203640" y="3573360"/>
            <a:chExt cx="2577960" cy="1224000"/>
          </a:xfrm>
        </p:grpSpPr>
        <p:sp>
          <p:nvSpPr>
            <p:cNvPr id="232" name="Скругленный прямоугольник 10"/>
            <p:cNvSpPr/>
            <p:nvPr/>
          </p:nvSpPr>
          <p:spPr>
            <a:xfrm>
              <a:off x="3203640" y="3573360"/>
              <a:ext cx="2577960" cy="122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233" name="Рисунок 26" descr="logo-new2.gif"/>
            <p:cNvPicPr/>
            <p:nvPr/>
          </p:nvPicPr>
          <p:blipFill>
            <a:blip r:embed="rId1"/>
            <a:stretch/>
          </p:blipFill>
          <p:spPr>
            <a:xfrm>
              <a:off x="3379680" y="3677400"/>
              <a:ext cx="2256840" cy="10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Группа 36"/>
          <p:cNvGrpSpPr/>
          <p:nvPr/>
        </p:nvGrpSpPr>
        <p:grpSpPr>
          <a:xfrm>
            <a:off x="287280" y="1484280"/>
            <a:ext cx="3421080" cy="1944720"/>
            <a:chOff x="287280" y="1484280"/>
            <a:chExt cx="3421080" cy="1944720"/>
          </a:xfrm>
        </p:grpSpPr>
        <p:sp>
          <p:nvSpPr>
            <p:cNvPr id="235" name="Скругленный прямоугольник 18"/>
            <p:cNvSpPr/>
            <p:nvPr/>
          </p:nvSpPr>
          <p:spPr>
            <a:xfrm>
              <a:off x="287280" y="1484280"/>
              <a:ext cx="3421080" cy="194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b3b6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Rectangle 12"/>
            <p:cNvSpPr/>
            <p:nvPr/>
          </p:nvSpPr>
          <p:spPr>
            <a:xfrm>
              <a:off x="380880" y="1560960"/>
              <a:ext cx="2708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rebuchet MS"/>
                </a:rPr>
                <a:t>КОНЦЕПЦИЯ ЕИС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237" name="Picture 10" descr="C:\Users\ManOfTechno\AppData\Local\Microsoft\Windows\Temporary Internet Files\Content.IE5\8ES944QB\MC900297161[1].wmf"/>
            <p:cNvPicPr/>
            <p:nvPr/>
          </p:nvPicPr>
          <p:blipFill>
            <a:blip r:embed="rId2"/>
            <a:stretch/>
          </p:blipFill>
          <p:spPr>
            <a:xfrm>
              <a:off x="2978640" y="1597320"/>
              <a:ext cx="649440" cy="60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Группа 32"/>
          <p:cNvGrpSpPr/>
          <p:nvPr/>
        </p:nvGrpSpPr>
        <p:grpSpPr>
          <a:xfrm>
            <a:off x="252360" y="5430960"/>
            <a:ext cx="1795680" cy="1209600"/>
            <a:chOff x="252360" y="5430960"/>
            <a:chExt cx="1795680" cy="1209600"/>
          </a:xfrm>
        </p:grpSpPr>
        <p:sp>
          <p:nvSpPr>
            <p:cNvPr id="239" name="Скругленный прямоугольник 9"/>
            <p:cNvSpPr/>
            <p:nvPr/>
          </p:nvSpPr>
          <p:spPr>
            <a:xfrm>
              <a:off x="252360" y="5475960"/>
              <a:ext cx="1795680" cy="116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ОГВ 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Субъектов РФ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240" name="Picture 17" descr="C:\Users\ManOfTechno\AppData\Local\Microsoft\Windows\Temporary Internet Files\Content.IE5\8ES944QB\MC900426402[1].wmf"/>
            <p:cNvPicPr/>
            <p:nvPr/>
          </p:nvPicPr>
          <p:blipFill>
            <a:blip r:embed="rId3"/>
            <a:stretch/>
          </p:blipFill>
          <p:spPr>
            <a:xfrm>
              <a:off x="329040" y="5430960"/>
              <a:ext cx="974520" cy="92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Группа 58"/>
          <p:cNvGrpSpPr/>
          <p:nvPr/>
        </p:nvGrpSpPr>
        <p:grpSpPr>
          <a:xfrm>
            <a:off x="5843520" y="1679400"/>
            <a:ext cx="2576520" cy="1788480"/>
            <a:chOff x="5843520" y="1679400"/>
            <a:chExt cx="2576520" cy="1788480"/>
          </a:xfrm>
        </p:grpSpPr>
        <p:sp>
          <p:nvSpPr>
            <p:cNvPr id="242" name="Скругленный прямоугольник 41"/>
            <p:cNvSpPr/>
            <p:nvPr/>
          </p:nvSpPr>
          <p:spPr>
            <a:xfrm>
              <a:off x="5843520" y="1679400"/>
              <a:ext cx="2576520" cy="174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b3b6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243" name="Picture 11" descr="C:\Users\ManOfTechno\AppData\Local\Microsoft\Windows\Temporary Internet Files\Content.IE5\NPD7KWOG\MC900297141[1].wmf"/>
            <p:cNvPicPr/>
            <p:nvPr/>
          </p:nvPicPr>
          <p:blipFill>
            <a:blip r:embed="rId4"/>
            <a:stretch/>
          </p:blipFill>
          <p:spPr>
            <a:xfrm>
              <a:off x="6360480" y="1702440"/>
              <a:ext cx="1459800" cy="9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Rectangle 12"/>
            <p:cNvSpPr/>
            <p:nvPr/>
          </p:nvSpPr>
          <p:spPr>
            <a:xfrm>
              <a:off x="5891760" y="2462040"/>
              <a:ext cx="244548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rebuchet MS"/>
                </a:rPr>
                <a:t>МЕТОДИЧЕСКИЕ РЕКОМЕНДАЦИИ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5" name="Группа 2"/>
          <p:cNvGrpSpPr/>
          <p:nvPr/>
        </p:nvGrpSpPr>
        <p:grpSpPr>
          <a:xfrm>
            <a:off x="933480" y="3357720"/>
            <a:ext cx="771480" cy="701640"/>
            <a:chOff x="933480" y="3357720"/>
            <a:chExt cx="771480" cy="701640"/>
          </a:xfrm>
        </p:grpSpPr>
        <p:sp>
          <p:nvSpPr>
            <p:cNvPr id="246" name="Стрелка вниз 65"/>
            <p:cNvSpPr/>
            <p:nvPr/>
          </p:nvSpPr>
          <p:spPr>
            <a:xfrm>
              <a:off x="933480" y="3357720"/>
              <a:ext cx="553320" cy="60804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ffffff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7" name="Стрелка вниз 89"/>
            <p:cNvSpPr/>
            <p:nvPr/>
          </p:nvSpPr>
          <p:spPr>
            <a:xfrm>
              <a:off x="1150200" y="3451320"/>
              <a:ext cx="554760" cy="608040"/>
            </a:xfrm>
            <a:prstGeom prst="downArrow">
              <a:avLst>
                <a:gd name="adj1" fmla="val 50000"/>
                <a:gd name="adj2" fmla="val 49997"/>
              </a:avLst>
            </a:prstGeom>
            <a:solidFill>
              <a:srgbClr val="ffffff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8" name="Группа 29"/>
          <p:cNvGrpSpPr/>
          <p:nvPr/>
        </p:nvGrpSpPr>
        <p:grpSpPr>
          <a:xfrm>
            <a:off x="2152800" y="4902120"/>
            <a:ext cx="3571560" cy="1335240"/>
            <a:chOff x="2152800" y="4902120"/>
            <a:chExt cx="3571560" cy="1335240"/>
          </a:xfrm>
        </p:grpSpPr>
        <p:sp>
          <p:nvSpPr>
            <p:cNvPr id="249" name="Скругленный прямоугольник 28"/>
            <p:cNvSpPr/>
            <p:nvPr/>
          </p:nvSpPr>
          <p:spPr>
            <a:xfrm>
              <a:off x="2555280" y="5395320"/>
              <a:ext cx="3169080" cy="842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Технические задания (ТЗ) и проекты (П) компонентов федерального и регионального сегментов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250" name="Picture 12" descr="C:\Users\ManOfTechno\AppData\Local\Microsoft\Windows\Temporary Internet Files\Content.IE5\20E4WA0Q\MC900310998[1].wmf"/>
            <p:cNvPicPr/>
            <p:nvPr/>
          </p:nvPicPr>
          <p:blipFill>
            <a:blip r:embed="rId5"/>
            <a:stretch/>
          </p:blipFill>
          <p:spPr>
            <a:xfrm>
              <a:off x="2152800" y="4902120"/>
              <a:ext cx="63432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2" descr="C:\Users\ManOfTechno\AppData\Local\Microsoft\Windows\Temporary Internet Files\Content.IE5\20E4WA0Q\MC900310998[1].wmf"/>
            <p:cNvPicPr/>
            <p:nvPr/>
          </p:nvPicPr>
          <p:blipFill>
            <a:blip r:embed="rId6"/>
            <a:stretch/>
          </p:blipFill>
          <p:spPr>
            <a:xfrm>
              <a:off x="2152800" y="5587200"/>
              <a:ext cx="634320" cy="61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Стрелка вниз 91"/>
          <p:cNvSpPr/>
          <p:nvPr/>
        </p:nvSpPr>
        <p:spPr>
          <a:xfrm rot="13812000">
            <a:off x="5566320" y="3124440"/>
            <a:ext cx="554040" cy="6094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Скругленный прямоугольник 92"/>
          <p:cNvSpPr/>
          <p:nvPr/>
        </p:nvSpPr>
        <p:spPr>
          <a:xfrm>
            <a:off x="5867280" y="3500280"/>
            <a:ext cx="2881440" cy="69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Заблаговременное предоставление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ФОИВ и ОГВ Субъектов РФ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Стрелка вниз 93"/>
          <p:cNvSpPr/>
          <p:nvPr/>
        </p:nvSpPr>
        <p:spPr>
          <a:xfrm rot="2718000">
            <a:off x="2875320" y="4542480"/>
            <a:ext cx="554040" cy="6094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Скругленный прямоугольник 94"/>
          <p:cNvSpPr/>
          <p:nvPr/>
        </p:nvSpPr>
        <p:spPr>
          <a:xfrm>
            <a:off x="3303720" y="4886280"/>
            <a:ext cx="1914480" cy="336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ВЕРИФИКАЦ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6" name="Группа 1"/>
          <p:cNvGrpSpPr/>
          <p:nvPr/>
        </p:nvGrpSpPr>
        <p:grpSpPr>
          <a:xfrm>
            <a:off x="252360" y="4213080"/>
            <a:ext cx="1760760" cy="1162080"/>
            <a:chOff x="252360" y="4213080"/>
            <a:chExt cx="1760760" cy="1162080"/>
          </a:xfrm>
        </p:grpSpPr>
        <p:sp>
          <p:nvSpPr>
            <p:cNvPr id="257" name="Скругленный прямоугольник 25"/>
            <p:cNvSpPr/>
            <p:nvPr/>
          </p:nvSpPr>
          <p:spPr>
            <a:xfrm>
              <a:off x="252360" y="4213080"/>
              <a:ext cx="1760760" cy="1162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ФОИВ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258" name="Picture 18" descr="C:\Users\ManOfTechno\AppData\Local\Microsoft\Windows\Temporary Internet Files\Content.IE5\20E4WA0Q\MC900001013[1].wmf"/>
            <p:cNvPicPr/>
            <p:nvPr/>
          </p:nvPicPr>
          <p:blipFill>
            <a:blip r:embed="rId7"/>
            <a:stretch/>
          </p:blipFill>
          <p:spPr>
            <a:xfrm>
              <a:off x="376920" y="4552920"/>
              <a:ext cx="738720" cy="50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9" name="Picture 2" descr=""/>
          <p:cNvPicPr/>
          <p:nvPr/>
        </p:nvPicPr>
        <p:blipFill>
          <a:blip r:embed="rId8"/>
          <a:stretch/>
        </p:blipFill>
        <p:spPr>
          <a:xfrm>
            <a:off x="4211640" y="3444840"/>
            <a:ext cx="276120" cy="847800"/>
          </a:xfrm>
          <a:prstGeom prst="rect">
            <a:avLst/>
          </a:prstGeom>
          <a:ln w="0">
            <a:noFill/>
          </a:ln>
        </p:spPr>
      </p:pic>
      <p:sp>
        <p:nvSpPr>
          <p:cNvPr id="260" name="Скругленный прямоугольник 39"/>
          <p:cNvSpPr/>
          <p:nvPr/>
        </p:nvSpPr>
        <p:spPr>
          <a:xfrm>
            <a:off x="4284720" y="3798720"/>
            <a:ext cx="1684440" cy="422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Генеральный конструктор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1" name="Группа 29"/>
          <p:cNvGrpSpPr/>
          <p:nvPr/>
        </p:nvGrpSpPr>
        <p:grpSpPr>
          <a:xfrm>
            <a:off x="5938920" y="4973760"/>
            <a:ext cx="2398680" cy="842760"/>
            <a:chOff x="5938920" y="4973760"/>
            <a:chExt cx="2398680" cy="842760"/>
          </a:xfrm>
        </p:grpSpPr>
        <p:sp>
          <p:nvSpPr>
            <p:cNvPr id="262" name="Скругленный прямоугольник 44"/>
            <p:cNvSpPr/>
            <p:nvPr/>
          </p:nvSpPr>
          <p:spPr>
            <a:xfrm>
              <a:off x="6364080" y="4973760"/>
              <a:ext cx="1973520" cy="842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Georgia"/>
                </a:rPr>
                <a:t>Дополнение к соглашению с регионом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263" name="Picture 12" descr="C:\Users\ManOfTechno\AppData\Local\Microsoft\Windows\Temporary Internet Files\Content.IE5\20E4WA0Q\MC900310998[1].wmf"/>
            <p:cNvPicPr/>
            <p:nvPr/>
          </p:nvPicPr>
          <p:blipFill>
            <a:blip r:embed="rId9"/>
            <a:stretch/>
          </p:blipFill>
          <p:spPr>
            <a:xfrm>
              <a:off x="5938920" y="5086800"/>
              <a:ext cx="634320" cy="61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Стрелка вниз 48"/>
          <p:cNvSpPr/>
          <p:nvPr/>
        </p:nvSpPr>
        <p:spPr>
          <a:xfrm rot="18906600">
            <a:off x="5540400" y="4512960"/>
            <a:ext cx="554040" cy="6094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0"/>
          <a:stretch/>
        </p:blipFill>
        <p:spPr>
          <a:xfrm>
            <a:off x="608040" y="1989000"/>
            <a:ext cx="2235240" cy="13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1332000" y="1459080"/>
            <a:ext cx="6478560" cy="50655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2"/>
          <p:cNvSpPr/>
          <p:nvPr/>
        </p:nvSpPr>
        <p:spPr>
          <a:xfrm>
            <a:off x="173160" y="549360"/>
            <a:ext cx="8791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Управление проектом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000" y="706320"/>
            <a:ext cx="89773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Ближайшие дальнейшие шаг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7124760" y="6513480"/>
            <a:ext cx="190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45946D1C-6835-43CC-91E8-86B9A1CB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184320" y="1649880"/>
            <a:ext cx="87087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лях обеспечения выполнения сроков завершения работ, запланированных согласно Концепции на 2011 год, ближайшее время необходимо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о кон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ртала 2011 года: Получить от всех субъектов РФ программу создания фрагментов регионального сегмента Системы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о кон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ртала 2011 года: Запустить работы по созданию федерального компонента систем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До конца 2011 года запустить программу технического дооснащения регион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До конца 2011 года реализовать запуск первого общественно значимого сервиса в составе ЕИС здравоохран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3:27:01Z</dcterms:created>
  <dc:creator>Леонид Кляйман</dc:creator>
  <dc:description/>
  <dc:language>en-US</dc:language>
  <cp:lastModifiedBy>ManOfTechno</cp:lastModifiedBy>
  <dcterms:modified xsi:type="dcterms:W3CDTF">2011-05-18T20:24:37Z</dcterms:modified>
  <cp:revision>21</cp:revision>
  <dc:subject/>
  <dc:title>Об основных приоритетах государственной политики в области внедрения информационных технологий в деятельность учреждений здравоохранения</dc:title>
</cp:coreProperties>
</file>