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15.wmf" ContentType="image/x-wmf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7.png" ContentType="image/png"/>
  <Override PartName="/ppt/media/image42.png" ContentType="image/png"/>
  <Override PartName="/ppt/media/image45.png" ContentType="image/png"/>
  <Override PartName="/ppt/media/image46.jpeg" ContentType="image/jpeg"/>
  <Override PartName="/ppt/media/image50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4.jpeg" ContentType="image/jpeg"/>
  <Override PartName="/ppt/media/image51.png" ContentType="image/png"/>
  <Override PartName="/ppt/media/image43.png" ContentType="image/png"/>
  <Override PartName="/ppt/media/image55.png" ContentType="image/png"/>
  <Override PartName="/ppt/media/image18.png" ContentType="image/png"/>
  <Override PartName="/ppt/media/image31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12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56D8-722B-4809-9EA9-5E4098F02E9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51C1-53C4-447B-AA4E-765F27659055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AE48-4CD5-4E8C-880E-CF5FB65D08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9F2C-343D-40EA-9F12-A5CBF42B5C99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44A5-1EC1-4BA9-B845-36F0A51706C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иерарх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(оператор) в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ор(Главный врач)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министерства/департ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2367-CB15-424A-A9ED-9BB2B981AF81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433A-EA91-4575-B6D4-A5B9121B09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D8FB-8744-4506-9237-8EC29779C53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5AB9-1652-4444-8B05-326DF0F9235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E192-E513-4705-A6AC-484EFE9FC41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70C9-C6E8-4462-84F6-6E55B604783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9122-73FF-45D9-B032-9520BD420021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1548-A9A0-44CC-BADA-98BE0907758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09D2-17A7-4F85-A5BD-14D6454FED4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2A44-6EC5-46AE-82BB-B3FF78BC1F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EFA6-D6EC-4451-8417-1ECCB00CDBD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0CAF-BE8A-41E8-921B-B2134619C37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B2BA-130C-43E7-B1C9-DE116553D15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BBC8-ABDE-47CA-BD6C-9EB9DD664A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К ХОСТ предлагает универсальное решение для автоматизации сбора, консолидации и анализа любых форм отчетности - комплексную информационно-аналитическую систему «Система мониторинга деятельности учреждени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системы позвол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вить органы исполнительной власти от проблем, возникающих при сборе различной отчетности и показателей с подведомственных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ть актуальную информацию о положении дел в каждом подведомственном учрежд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ть аналитическими материалами для оперативного и стратегического план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 ускорить сбор и анализ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ониторинга, а попросту – сбора произвольной отчетности через интернет можно сравнись со средствами малой мех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популярны и эффективны, несмотря на свою простоту(примитив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и тачку можно усовершен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6782-A55E-4D61-8BDA-5F470D468B86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69C0-34F6-4802-9FF5-861428B1EE1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гионе есть несколько уровней сбора отче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2923-A812-4B53-8622-ADABCE6842C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95A1-5665-4D4B-BA76-6CEDE872511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BD94-1D63-4670-9F8A-C6914D5690D5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2553-FB99-40FC-AA22-A883C45232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В – орган государственной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ОД - Центры общественного доступа к информации о деятельности государственных органов и к государственным услугам, предоставляемым электронн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ТО - центр обработки телефонных обращений организаций 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6FAA-C0EB-44E8-9F34-DED97630DC1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6226-87C2-4F09-8F9E-0BBEECA880B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CEED-586B-43B4-9F2B-04867C426D9B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EE72-4317-4944-B405-61356B46E0B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ые муниципальные образования хотят иметь у себя отдельную базу по отчетности и контролировать передачу данных на региональ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же относится и к регионам, передающим данные на федеральный уров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7A8C-7FDB-4E5D-8430-08F52687FC3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20BF-5AC7-4B62-8EEC-01DB7E87163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F8F8-E5D3-4BE0-AC4A-3CC4CE50CBA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473E-7E42-4084-BA4B-B5C71182D8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D2D0-2DA5-4F41-BB49-FD4AA205C25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FCFF-1E1A-4564-932A-3B3D2791CF9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3DC-7D99-48D8-A034-E7385E7E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E38-DF18-4622-9FC1-E5446D0D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E8B-8A5C-4928-B6FC-A1DB8989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4D8-9E58-4FF8-BC15-1929C277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28EF-F205-489B-BE64-15BB1131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7693-7B5B-4CDF-AEC6-364F398B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C081-7EAD-473A-911F-1F9D64F7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37D8-21F7-4E3B-9860-6E33F78B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7BA1-920B-45C6-A6F0-9891943A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BF38-65B7-4A33-AEFA-371B8CB8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2740-649E-48D0-8ED7-535E0A58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97D-32D8-4B9C-9095-7D6CF2F4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AC82-1927-45E8-BDA2-52D2DA80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2063-5F1C-44BD-A48E-3EAA6211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D31B-6E29-4ACD-B24C-3EC29680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EA98-6C4B-47C1-86FC-A918B459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E44D-E350-43BC-8F8F-5C6013BC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D2DD-5740-4E01-BAD9-A04CE294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7CAF9-DB4A-4A6C-A2E2-0418D9D7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E2A54-A364-4BF9-9DC7-93DEE789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B444-6383-4A4F-A2FD-67821E69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EEC0-AA40-459C-8058-A7FDFB74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AF5-D8E4-401F-988A-DBBD69FD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C4615-AF3A-4AA8-88CA-4D135169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A9500-F7BA-49E8-9B37-485411CF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3D88B-BFCA-4026-A3E6-EE6994D1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BE5D0-88B6-41EA-8B5A-E3EA6D50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B11D3-E9D4-41C4-97C4-7DBEABD4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F46DB-BAF2-4F34-B507-7DFEB266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28B92-0656-4AB5-9054-6FADA05D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66625-1432-4C54-9968-4B40EB3E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5A17A-5854-4B1E-AFF3-4726BFF8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91209-2851-43ED-BDAF-E853AD62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5CF-1310-493D-8C5C-ECDB8DEC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FDA49-7F3A-40C4-A9CC-EFADF16F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2BB2A-447C-4EE5-8666-C6CE0CA5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97BC7-61F3-48A4-ACE0-4959F97E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488D8-4AD4-49D7-AA43-51B14C8C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E61D3-5F69-4E68-8CAF-94D583D0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DE9D-812F-4246-91F0-803BA8D8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2D9E0-FF3E-440F-BBC0-8169A0FE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2EA1E-36B1-47AC-B758-351FEA62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4A36C-8AF2-47EF-A2A7-E6A54184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7A7-B99A-4D98-B929-9409B3B2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5A6-AECB-4C8B-B561-35603ACE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A6C-2224-4599-A14A-28FB984E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0D72-F98F-4EBA-B241-6BE8E570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DB0-BD7A-4C06-891B-C7C7299E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9EBB-FEDC-48E6-9153-6B73B14CC0FE}" type="datetime2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209E-6815-4C78-B904-E78B02FB0729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088E-1131-4460-A3C1-E7C3AA521274}" type="datetime2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532A-E929-4E28-A841-3BCE8899E776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FC29-05E7-4793-BE39-A8A7AAC4D6D7}" type="datetime2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1648-6DCA-446E-B0E2-B467C5E85747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19C6-9347-45DD-A5B3-41EE52BB73B4}" type="datetime2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Thursday, 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B6D5-F6B6-4C40-8BED-9E52E2E275DB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hyperlink" Target="http://www.partyzan.net.ua/wp-content/uploads/2009/10/bike.jpg" TargetMode="External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2.png"/><Relationship Id="rId10" Type="http://schemas.openxmlformats.org/officeDocument/2006/relationships/image" Target="../media/image21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Rectangle 2" descr=""/>
          <p:cNvPicPr/>
          <p:nvPr/>
        </p:nvPicPr>
        <p:blipFill>
          <a:blip r:embed="rId2"/>
          <a:stretch/>
        </p:blipFill>
        <p:spPr>
          <a:xfrm>
            <a:off x="285840" y="4389480"/>
            <a:ext cx="8682120" cy="22795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80520" y="34290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f61"/>
                </a:solidFill>
                <a:latin typeface="Franklin Gothic Book"/>
              </a:rPr>
              <a:t>Группа компаний ХОСТ</a:t>
            </a:r>
            <a:endParaRPr b="0" lang="en-US" sz="24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f61"/>
                </a:solidFill>
                <a:latin typeface="Franklin Gothic Book"/>
              </a:rPr>
              <a:t>Суслов Константин Юрьевич</a:t>
            </a:r>
            <a:endParaRPr b="0" lang="en-US" sz="24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3"/>
          <a:stretch/>
        </p:blipFill>
        <p:spPr>
          <a:xfrm>
            <a:off x="5715000" y="6206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5715000" y="3141720"/>
            <a:ext cx="228600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soft-2011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2"/>
          <a:stretch/>
        </p:blipFill>
        <p:spPr>
          <a:xfrm>
            <a:off x="195120" y="212760"/>
            <a:ext cx="8796600" cy="841320"/>
          </a:xfrm>
          <a:prstGeom prst="rect">
            <a:avLst/>
          </a:prstGeom>
          <a:ln w="0">
            <a:noFill/>
          </a:ln>
        </p:spPr>
      </p:pic>
      <p:pic>
        <p:nvPicPr>
          <p:cNvPr id="239" name="Скругленный прямоугольник 33" descr=""/>
          <p:cNvPicPr/>
          <p:nvPr/>
        </p:nvPicPr>
        <p:blipFill>
          <a:blip r:embed="rId3"/>
          <a:stretch/>
        </p:blipFill>
        <p:spPr>
          <a:xfrm>
            <a:off x="3151080" y="3840120"/>
            <a:ext cx="5840640" cy="615960"/>
          </a:xfrm>
          <a:prstGeom prst="rect">
            <a:avLst/>
          </a:prstGeom>
          <a:ln w="0">
            <a:noFill/>
          </a:ln>
        </p:spPr>
      </p:pic>
      <p:pic>
        <p:nvPicPr>
          <p:cNvPr id="240" name="Скругленный прямоугольник 34" descr=""/>
          <p:cNvPicPr/>
          <p:nvPr/>
        </p:nvPicPr>
        <p:blipFill>
          <a:blip r:embed="rId4"/>
          <a:stretch/>
        </p:blipFill>
        <p:spPr>
          <a:xfrm>
            <a:off x="225360" y="3627360"/>
            <a:ext cx="2511360" cy="1163880"/>
          </a:xfrm>
          <a:prstGeom prst="rect">
            <a:avLst/>
          </a:prstGeom>
          <a:ln w="0">
            <a:noFill/>
          </a:ln>
        </p:spPr>
      </p:pic>
      <p:sp>
        <p:nvSpPr>
          <p:cNvPr id="241" name="Скругленный прямоугольник 35"/>
          <p:cNvSpPr/>
          <p:nvPr/>
        </p:nvSpPr>
        <p:spPr>
          <a:xfrm>
            <a:off x="392040" y="6249960"/>
            <a:ext cx="2143080" cy="35712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008dbb"/>
              </a:gs>
              <a:gs pos="100000">
                <a:srgbClr val="00befc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7fb"/>
                </a:solidFill>
                <a:latin typeface="Tahoma"/>
                <a:ea typeface="Tahoma"/>
              </a:rPr>
              <a:t>Пользователи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2" name="Скругленный прямоугольник 36" descr=""/>
          <p:cNvPicPr/>
          <p:nvPr/>
        </p:nvPicPr>
        <p:blipFill>
          <a:blip r:embed="rId5"/>
          <a:stretch/>
        </p:blipFill>
        <p:spPr>
          <a:xfrm>
            <a:off x="225360" y="1627200"/>
            <a:ext cx="2408400" cy="1628640"/>
          </a:xfrm>
          <a:prstGeom prst="rect">
            <a:avLst/>
          </a:prstGeom>
          <a:ln w="0">
            <a:noFill/>
          </a:ln>
        </p:spPr>
      </p:pic>
      <p:pic>
        <p:nvPicPr>
          <p:cNvPr id="243" name="Скругленный прямоугольник 37" descr=""/>
          <p:cNvPicPr/>
          <p:nvPr/>
        </p:nvPicPr>
        <p:blipFill>
          <a:blip r:embed="rId6"/>
          <a:stretch/>
        </p:blipFill>
        <p:spPr>
          <a:xfrm>
            <a:off x="3151080" y="1627200"/>
            <a:ext cx="5840640" cy="652320"/>
          </a:xfrm>
          <a:prstGeom prst="rect">
            <a:avLst/>
          </a:prstGeom>
          <a:ln w="0">
            <a:noFill/>
          </a:ln>
        </p:spPr>
      </p:pic>
      <p:pic>
        <p:nvPicPr>
          <p:cNvPr id="244" name="Скругленный прямоугольник 39" descr=""/>
          <p:cNvPicPr/>
          <p:nvPr/>
        </p:nvPicPr>
        <p:blipFill>
          <a:blip r:embed="rId7"/>
          <a:stretch/>
        </p:blipFill>
        <p:spPr>
          <a:xfrm>
            <a:off x="3151080" y="2206800"/>
            <a:ext cx="5840640" cy="652320"/>
          </a:xfrm>
          <a:prstGeom prst="rect">
            <a:avLst/>
          </a:prstGeom>
          <a:ln w="0">
            <a:noFill/>
          </a:ln>
        </p:spPr>
      </p:pic>
      <p:pic>
        <p:nvPicPr>
          <p:cNvPr id="245" name="Скругленный прямоугольник 41" descr=""/>
          <p:cNvPicPr/>
          <p:nvPr/>
        </p:nvPicPr>
        <p:blipFill>
          <a:blip r:embed="rId8"/>
          <a:stretch/>
        </p:blipFill>
        <p:spPr>
          <a:xfrm>
            <a:off x="3151080" y="4273560"/>
            <a:ext cx="58406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Скругленный прямоугольник 42" descr=""/>
          <p:cNvPicPr/>
          <p:nvPr/>
        </p:nvPicPr>
        <p:blipFill>
          <a:blip r:embed="rId9"/>
          <a:stretch/>
        </p:blipFill>
        <p:spPr>
          <a:xfrm>
            <a:off x="3151080" y="4748040"/>
            <a:ext cx="5840640" cy="615960"/>
          </a:xfrm>
          <a:prstGeom prst="rect">
            <a:avLst/>
          </a:prstGeom>
          <a:ln w="0">
            <a:noFill/>
          </a:ln>
        </p:spPr>
      </p:pic>
      <p:pic>
        <p:nvPicPr>
          <p:cNvPr id="247" name="Скругленный прямоугольник 43" descr=""/>
          <p:cNvPicPr/>
          <p:nvPr/>
        </p:nvPicPr>
        <p:blipFill>
          <a:blip r:embed="rId10"/>
          <a:stretch/>
        </p:blipFill>
        <p:spPr>
          <a:xfrm>
            <a:off x="3151080" y="5254560"/>
            <a:ext cx="5840640" cy="609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11"/>
          <a:stretch/>
        </p:blipFill>
        <p:spPr>
          <a:xfrm>
            <a:off x="750960" y="4749840"/>
            <a:ext cx="1355760" cy="1357200"/>
          </a:xfrm>
          <a:prstGeom prst="rect">
            <a:avLst/>
          </a:prstGeom>
          <a:ln w="0">
            <a:noFill/>
          </a:ln>
        </p:spPr>
      </p:pic>
      <p:sp>
        <p:nvSpPr>
          <p:cNvPr id="249" name="Стрелка вправо 45"/>
          <p:cNvSpPr/>
          <p:nvPr/>
        </p:nvSpPr>
        <p:spPr>
          <a:xfrm>
            <a:off x="2608200" y="2320920"/>
            <a:ext cx="571680" cy="4287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eff37"/>
              </a:gs>
              <a:gs pos="100000">
                <a:srgbClr val="409e00"/>
              </a:gs>
            </a:gsLst>
            <a:lin ang="10800000"/>
          </a:gra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Стрелка вправо 46"/>
          <p:cNvSpPr/>
          <p:nvPr/>
        </p:nvSpPr>
        <p:spPr>
          <a:xfrm rot="2740800">
            <a:off x="2411640" y="3291840"/>
            <a:ext cx="897120" cy="42876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7eff37"/>
              </a:gs>
              <a:gs pos="100000">
                <a:srgbClr val="409e00"/>
              </a:gs>
            </a:gsLst>
            <a:lin ang="8058000"/>
          </a:gra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Стрелка вправо 47"/>
          <p:cNvSpPr/>
          <p:nvPr/>
        </p:nvSpPr>
        <p:spPr>
          <a:xfrm rot="16200000">
            <a:off x="1322280" y="3177720"/>
            <a:ext cx="428760" cy="4287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eff37"/>
              </a:gs>
              <a:gs pos="100000">
                <a:srgbClr val="409e00"/>
              </a:gs>
            </a:gsLst>
            <a:lin ang="16200000"/>
          </a:gra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Прямоугольник 48"/>
          <p:cNvSpPr/>
          <p:nvPr/>
        </p:nvSpPr>
        <p:spPr>
          <a:xfrm>
            <a:off x="3322800" y="1249200"/>
            <a:ext cx="5429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ahoma"/>
                <a:ea typeface="Tahoma"/>
              </a:rPr>
              <a:t>На что можно ограничить доступ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Прямоугольник 49"/>
          <p:cNvSpPr/>
          <p:nvPr/>
        </p:nvSpPr>
        <p:spPr>
          <a:xfrm>
            <a:off x="3322800" y="3463920"/>
            <a:ext cx="5429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ahoma"/>
                <a:ea typeface="Tahoma"/>
              </a:rPr>
              <a:t>Виды ограничени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2"/>
          <a:stretch/>
        </p:blipFill>
        <p:spPr>
          <a:xfrm>
            <a:off x="7743960" y="5854680"/>
            <a:ext cx="14284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2"/>
          <a:stretch/>
        </p:blipFill>
        <p:spPr>
          <a:xfrm>
            <a:off x="195120" y="212760"/>
            <a:ext cx="8796600" cy="841320"/>
          </a:xfrm>
          <a:prstGeom prst="rect">
            <a:avLst/>
          </a:prstGeom>
          <a:ln w="0">
            <a:noFill/>
          </a:ln>
        </p:spPr>
      </p:pic>
      <p:pic>
        <p:nvPicPr>
          <p:cNvPr id="256" name="Схема 5" descr=""/>
          <p:cNvPicPr/>
          <p:nvPr/>
        </p:nvPicPr>
        <p:blipFill>
          <a:blip r:embed="rId3"/>
          <a:stretch/>
        </p:blipFill>
        <p:spPr>
          <a:xfrm>
            <a:off x="517680" y="1146240"/>
            <a:ext cx="8059680" cy="4260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4"/>
          <a:stretch/>
        </p:blipFill>
        <p:spPr>
          <a:xfrm>
            <a:off x="7934400" y="5429160"/>
            <a:ext cx="1209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2"/>
          <a:stretch/>
        </p:blipFill>
        <p:spPr>
          <a:xfrm>
            <a:off x="55440" y="285840"/>
            <a:ext cx="9088560" cy="927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324000" y="1268280"/>
            <a:ext cx="86803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Информация о результатах мероприятий ПНП по направлению ««Оказание медицинской помощи государственными и муниципальными учреждениями здравоохранения женщинам в период беременности, родов, послеродовой период»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8000" indent="-2880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Количество прерываний беременности и заболеваниях, предающихся половым путём, зарегистрированных у несовершеннолетних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8000" indent="-2880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Информация о расходовании денежных средств, полученных в рамках реализации программы родовых сертификатов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8000" indent="-2880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Информация о родах иностранных граждан и детях, оставленных иностранными гражданками в ЛПУ автономного округа за отчетный период (с нарастающим итогом)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8000" indent="-2880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Информация о выдаче родовых сертификатов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8000" indent="-2880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Информация о детях, оставленных в родильных и детских отделениях ЛПУ автономного округа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8000" indent="-2880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Количество единиц медицинского оборудования, приобретенного за счет средств родовых сертификатов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8000" indent="-2880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Паспорт службы родовспоможения 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8000" indent="-2880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5b6f"/>
              </a:solidFill>
              <a:latin typeface="Franklin Gothic Book"/>
            </a:endParaRPr>
          </a:p>
          <a:p>
            <a:pPr marL="288000" indent="-2880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3"/>
          <a:stretch/>
        </p:blipFill>
        <p:spPr>
          <a:xfrm>
            <a:off x="7715160" y="578160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2"/>
          <a:stretch/>
        </p:blipFill>
        <p:spPr>
          <a:xfrm>
            <a:off x="55440" y="285840"/>
            <a:ext cx="9088560" cy="927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324000" y="1268280"/>
            <a:ext cx="86803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Необходимое медицинское оборудование для дооснащения учреждений родовспоможения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Информация о прерывании беременности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Форма отчёта о пролеченных больных с применением вспомогательных репродуктивных технологий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Сведения о медицинской помощи беременным, роженицам и родильницам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Отчет о деятельности ЛПУ по оказанию медицинской помощи беспризорным и безнадзорным несовершеннолетним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Обеспеченность медицинскими кадрами дошкольных образовательных учреждений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Обеспеченность медицинскими кадрами образовательных учреждений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Обеспеченность медицинскими кадрами средних и высших специальных учреждений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Информация о суицидальных попытках среди несовершеннолетних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5b6f"/>
              </a:solidFill>
              <a:latin typeface="Franklin Gothic Book"/>
            </a:endParaRPr>
          </a:p>
          <a:p>
            <a:pPr marL="315360" indent="-31536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3"/>
          <a:stretch/>
        </p:blipFill>
        <p:spPr>
          <a:xfrm>
            <a:off x="7715160" y="578160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7715160" y="57816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2" descr=""/>
          <p:cNvPicPr/>
          <p:nvPr/>
        </p:nvPicPr>
        <p:blipFill>
          <a:blip r:embed="rId3"/>
          <a:stretch/>
        </p:blipFill>
        <p:spPr>
          <a:xfrm>
            <a:off x="55440" y="285840"/>
            <a:ext cx="9088560" cy="927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324000" y="1268280"/>
            <a:ext cx="86803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Анализ младенческой смертности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1160" indent="-2811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Информация о количестве детей, обследованных на нарушение слуха в рамках проведения универсального аудиологического скрининга 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1160" indent="-2811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Карта экспертной оценки причин смерти ребенка (до 1 года)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1160" indent="-2811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Неонатальный скрининг - Информация по обследованию новорожденных детей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1160" indent="-2811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Оценка причин детской смертности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1160" indent="-2811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Отчет об исполнении сметы доходов и расходов по внебюджетным источникам (ОМС)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1160" indent="-2811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Анализ по сети, штатам и контингентам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1160" indent="-2811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Анализ использования трудовых ресурсов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1160" indent="-2811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Анализ использования коечного фонда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1160" indent="-2811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Анализ выполнения плана посещений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1160" indent="-2811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Анализ среднемесячной заработной платы по видам расходов и в разрезе учреждений  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1160" indent="-28116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Сведения по численности работающих в разрезе разрядов ЕТС 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       </a:t>
            </a: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по учреждениям здравоохранения 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2"/>
          <a:stretch/>
        </p:blipFill>
        <p:spPr>
          <a:xfrm>
            <a:off x="55440" y="285840"/>
            <a:ext cx="9088560" cy="927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324000" y="1052280"/>
            <a:ext cx="86803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Анализ по медикаментам на 1 единицу контингента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Анализ  расходов по бесплатному зубопротезированию 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Анализ по питанию на 1 единицу контингента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Анализ расходов по бесплатным молочным смесям и глазному протезированию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Сведения о заболеваемости гриппом A/H1N1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Сведения о заболеваемости гриппом A/H1N1 по лабораторно подтвержденным диагнозам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Сведения о заболеваемости ОРВИ и сезонным гриппом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Сведения о заболеваемости ОРВИ и сезонным гриппом по лабораторно подтвержденным диагнозам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Сведения о заболеваемости вирусными пневмониями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Сведения о заболеваемости вирусными пневмониями по лабораторно подтвержденным диагнозам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Нагрузка на медицинские учреждения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Сведения о запасах лекарственных средств в муниципальном 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       </a:t>
            </a: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образовании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Сведения о закупках лекарственных средств в муниципальном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образовании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>
              <a:spcBef>
                <a:spcPts val="4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5b6f"/>
              </a:solidFill>
              <a:latin typeface="Franklin Gothic Book"/>
            </a:endParaRPr>
          </a:p>
          <a:p>
            <a:pPr marL="250200" indent="-2502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3"/>
          <a:stretch/>
        </p:blipFill>
        <p:spPr>
          <a:xfrm>
            <a:off x="7715160" y="578160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55440" y="285840"/>
            <a:ext cx="9088560" cy="927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324000" y="1197000"/>
            <a:ext cx="86803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b6f"/>
                </a:solidFill>
                <a:latin typeface="Franklin Gothic Book"/>
              </a:rPr>
              <a:t>В рамках нашей системы реализован мониторинг модернизации </a:t>
            </a:r>
            <a:r>
              <a:rPr b="1" lang="ru-RU" sz="2800" spc="-1" strike="noStrike">
                <a:solidFill>
                  <a:srgbClr val="4e5b6f"/>
                </a:solidFill>
                <a:latin typeface="Franklin Gothic Book"/>
              </a:rPr>
              <a:t>реализации мероприятий региональных программ модернизации здравоохранения субъектов Российской Федерации (в соответствии с приказом Министерства здравоохранения и социального развития Российской Федерации от 30 декабря 2010 г. № 1240н).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3"/>
          <a:stretch/>
        </p:blipFill>
        <p:spPr>
          <a:xfrm>
            <a:off x="7461360" y="5516640"/>
            <a:ext cx="1682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5580000" y="4514760"/>
            <a:ext cx="3594240" cy="2417760"/>
          </a:xfrm>
          <a:prstGeom prst="rect">
            <a:avLst/>
          </a:prstGeom>
          <a:ln w="0">
            <a:noFill/>
          </a:ln>
        </p:spPr>
      </p:pic>
      <p:pic>
        <p:nvPicPr>
          <p:cNvPr id="274" name="Rectangle 2" descr=""/>
          <p:cNvPicPr/>
          <p:nvPr/>
        </p:nvPicPr>
        <p:blipFill>
          <a:blip r:embed="rId3"/>
          <a:stretch/>
        </p:blipFill>
        <p:spPr>
          <a:xfrm>
            <a:off x="195120" y="212760"/>
            <a:ext cx="8796600" cy="841320"/>
          </a:xfrm>
          <a:prstGeom prst="rect">
            <a:avLst/>
          </a:prstGeom>
          <a:ln w="0">
            <a:noFill/>
          </a:ln>
        </p:spPr>
      </p:pic>
      <p:pic>
        <p:nvPicPr>
          <p:cNvPr id="275" name="Схема 6" descr=""/>
          <p:cNvPicPr/>
          <p:nvPr/>
        </p:nvPicPr>
        <p:blipFill>
          <a:blip r:embed="rId4"/>
          <a:stretch/>
        </p:blipFill>
        <p:spPr>
          <a:xfrm>
            <a:off x="622440" y="1054080"/>
            <a:ext cx="797868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324000" y="1267920"/>
            <a:ext cx="8686800" cy="48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Поддержка иерархической структуры ОУЗ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Удобство создания, сбора и анализа отчетов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Реализация модели </a:t>
            </a: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SaaS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Использование уже разработанных форм отчетности разными регионами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Возможность многофакторного анализа данных в едином хранилище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Два вариант сбора</a:t>
            </a: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: on-line (</a:t>
            </a: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Портал</a:t>
            </a: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)</a:t>
            </a: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 и </a:t>
            </a: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off-line</a:t>
            </a: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 (файлы </a:t>
            </a: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Excel</a:t>
            </a: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)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278" name="Picture 2" descr="http://im7-tub.yandex.net/i?id=32008082-48-72"/>
          <p:cNvPicPr/>
          <p:nvPr/>
        </p:nvPicPr>
        <p:blipFill>
          <a:blip r:embed="rId3"/>
          <a:stretch/>
        </p:blipFill>
        <p:spPr>
          <a:xfrm>
            <a:off x="7251840" y="5445000"/>
            <a:ext cx="18921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b6f"/>
                </a:solidFill>
                <a:latin typeface="Franklin Gothic Book"/>
              </a:rPr>
              <a:t>Передача данных в федеральные системы сбора отчетности через интернет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281" name="Picture 4" descr="Картинка 2 из 14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88240" y="5075280"/>
            <a:ext cx="22557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Rectangle 2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. 9"/>
          <p:cNvSpPr/>
          <p:nvPr/>
        </p:nvSpPr>
        <p:spPr>
          <a:xfrm>
            <a:off x="395280" y="4668840"/>
            <a:ext cx="83534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Организация мониторинга эффективности деятельности органов власти - важнейшая задача в области государственного управления. Самым трудоемким и затратным процессом является сбор показателей и первичных отчетов с подведомственной сети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98" name="Picture 2" descr="http://www.gfi.com/blog/wp-content/uploads/2009/12/internet-monitoring.jpg"/>
          <p:cNvPicPr/>
          <p:nvPr/>
        </p:nvPicPr>
        <p:blipFill>
          <a:blip r:embed="rId3"/>
          <a:stretch/>
        </p:blipFill>
        <p:spPr>
          <a:xfrm>
            <a:off x="398520" y="1413000"/>
            <a:ext cx="22366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2"/>
          <a:stretch/>
        </p:blipFill>
        <p:spPr>
          <a:xfrm>
            <a:off x="536400" y="1414440"/>
            <a:ext cx="8137800" cy="13222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2" descr=""/>
          <p:cNvPicPr/>
          <p:nvPr/>
        </p:nvPicPr>
        <p:blipFill>
          <a:blip r:embed="rId3"/>
          <a:stretch/>
        </p:blipFill>
        <p:spPr>
          <a:xfrm>
            <a:off x="3203640" y="2492280"/>
            <a:ext cx="2457360" cy="3038400"/>
          </a:xfrm>
          <a:prstGeom prst="rect">
            <a:avLst/>
          </a:prstGeom>
          <a:ln w="9360">
            <a:solidFill>
              <a:srgbClr val="000000">
                <a:alpha val="0"/>
              </a:srgbClr>
            </a:solidFill>
            <a:miter/>
          </a:ln>
        </p:spPr>
      </p:pic>
      <p:pic>
        <p:nvPicPr>
          <p:cNvPr id="284" name="Picture 2" descr=""/>
          <p:cNvPicPr/>
          <p:nvPr/>
        </p:nvPicPr>
        <p:blipFill>
          <a:blip r:embed="rId4"/>
          <a:stretch/>
        </p:blipFill>
        <p:spPr>
          <a:xfrm>
            <a:off x="5219640" y="4638600"/>
            <a:ext cx="39308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Rectangle 2" descr=""/>
          <p:cNvPicPr/>
          <p:nvPr/>
        </p:nvPicPr>
        <p:blipFill>
          <a:blip r:embed="rId2"/>
          <a:stretch/>
        </p:blipFill>
        <p:spPr>
          <a:xfrm>
            <a:off x="195120" y="189000"/>
            <a:ext cx="8815680" cy="858600"/>
          </a:xfrm>
          <a:prstGeom prst="rect">
            <a:avLst/>
          </a:prstGeom>
          <a:ln w="0">
            <a:noFill/>
          </a:ln>
        </p:spPr>
      </p:pic>
      <p:pic>
        <p:nvPicPr>
          <p:cNvPr id="200" name="Схема 10" descr=""/>
          <p:cNvPicPr/>
          <p:nvPr/>
        </p:nvPicPr>
        <p:blipFill>
          <a:blip r:embed="rId3"/>
          <a:stretch/>
        </p:blipFill>
        <p:spPr>
          <a:xfrm>
            <a:off x="396720" y="1085760"/>
            <a:ext cx="8393400" cy="4059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"/>
          <p:cNvPicPr/>
          <p:nvPr/>
        </p:nvPicPr>
        <p:blipFill>
          <a:blip r:embed="rId4"/>
          <a:stretch/>
        </p:blipFill>
        <p:spPr>
          <a:xfrm>
            <a:off x="7020000" y="5146560"/>
            <a:ext cx="225432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96840" y="79200"/>
            <a:ext cx="8821800" cy="1182960"/>
          </a:xfrm>
          <a:prstGeom prst="rect">
            <a:avLst/>
          </a:prstGeom>
          <a:ln w="0">
            <a:noFill/>
          </a:ln>
        </p:spPr>
      </p:pic>
      <p:pic>
        <p:nvPicPr>
          <p:cNvPr id="203" name="Схема 2" descr=""/>
          <p:cNvPicPr/>
          <p:nvPr/>
        </p:nvPicPr>
        <p:blipFill>
          <a:blip r:embed="rId3"/>
          <a:stretch/>
        </p:blipFill>
        <p:spPr>
          <a:xfrm>
            <a:off x="249120" y="1127160"/>
            <a:ext cx="8755200" cy="4060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4"/>
          <a:stretch/>
        </p:blipFill>
        <p:spPr>
          <a:xfrm>
            <a:off x="7273800" y="5227560"/>
            <a:ext cx="19051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Rectangle 2" descr=""/>
          <p:cNvPicPr/>
          <p:nvPr/>
        </p:nvPicPr>
        <p:blipFill>
          <a:blip r:embed="rId2"/>
          <a:stretch/>
        </p:blipFill>
        <p:spPr>
          <a:xfrm>
            <a:off x="176040" y="414360"/>
            <a:ext cx="88156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Объект 2"/>
          <p:cNvGraphicFramePr/>
          <p:nvPr/>
        </p:nvGraphicFramePr>
        <p:xfrm>
          <a:off x="108000" y="593640"/>
          <a:ext cx="9209160" cy="636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593640"/>
                    <a:ext cx="9209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45" descr=""/>
          <p:cNvPicPr/>
          <p:nvPr/>
        </p:nvPicPr>
        <p:blipFill>
          <a:blip r:embed="rId5"/>
          <a:stretch/>
        </p:blipFill>
        <p:spPr>
          <a:xfrm>
            <a:off x="7740720" y="4808520"/>
            <a:ext cx="14032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2"/>
          <a:stretch/>
        </p:blipFill>
        <p:spPr>
          <a:xfrm>
            <a:off x="195120" y="212760"/>
            <a:ext cx="8796600" cy="841320"/>
          </a:xfrm>
          <a:prstGeom prst="rect">
            <a:avLst/>
          </a:prstGeom>
          <a:ln w="0">
            <a:noFill/>
          </a:ln>
        </p:spPr>
      </p:pic>
      <p:pic>
        <p:nvPicPr>
          <p:cNvPr id="210" name="Схема 3" descr=""/>
          <p:cNvPicPr/>
          <p:nvPr/>
        </p:nvPicPr>
        <p:blipFill>
          <a:blip r:embed="rId3"/>
          <a:stretch/>
        </p:blipFill>
        <p:spPr>
          <a:xfrm>
            <a:off x="622440" y="1127160"/>
            <a:ext cx="7978680" cy="4170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4"/>
          <a:stretch/>
        </p:blipFill>
        <p:spPr>
          <a:xfrm>
            <a:off x="7524720" y="527040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Rectangle 2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213" name="Скругленный прямоугольник 7"/>
          <p:cNvSpPr/>
          <p:nvPr/>
        </p:nvSpPr>
        <p:spPr>
          <a:xfrm>
            <a:off x="5019840" y="3894120"/>
            <a:ext cx="3214440" cy="2357280"/>
          </a:xfrm>
          <a:prstGeom prst="roundRect">
            <a:avLst>
              <a:gd name="adj" fmla="val 4190"/>
            </a:avLst>
          </a:prstGeom>
          <a:gradFill rotWithShape="0">
            <a:gsLst>
              <a:gs pos="0">
                <a:srgbClr val="00b0f0"/>
              </a:gs>
              <a:gs pos="100000">
                <a:srgbClr val="0088b8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Скругленный прямоугольник 9"/>
          <p:cNvSpPr/>
          <p:nvPr/>
        </p:nvSpPr>
        <p:spPr>
          <a:xfrm>
            <a:off x="5019840" y="1465200"/>
            <a:ext cx="3214440" cy="2357640"/>
          </a:xfrm>
          <a:prstGeom prst="roundRect">
            <a:avLst>
              <a:gd name="adj" fmla="val 4190"/>
            </a:avLst>
          </a:prstGeom>
          <a:gradFill rotWithShape="0">
            <a:gsLst>
              <a:gs pos="0">
                <a:srgbClr val="ff860d"/>
              </a:gs>
              <a:gs pos="100000">
                <a:srgbClr val="de740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5" name="Picture 5" descr="D:\share\для Ксении\для 2 слайда\db.png"/>
          <p:cNvPicPr/>
          <p:nvPr/>
        </p:nvPicPr>
        <p:blipFill>
          <a:blip r:embed="rId3"/>
          <a:stretch/>
        </p:blipFill>
        <p:spPr>
          <a:xfrm>
            <a:off x="5711760" y="16081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D:\share\для Ксении\для 2 слайда\db.png"/>
          <p:cNvPicPr/>
          <p:nvPr/>
        </p:nvPicPr>
        <p:blipFill>
          <a:blip r:embed="rId4"/>
          <a:stretch/>
        </p:blipFill>
        <p:spPr>
          <a:xfrm>
            <a:off x="6354720" y="16081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D:\share\для Ксении\для 2 слайда\db.png"/>
          <p:cNvPicPr/>
          <p:nvPr/>
        </p:nvPicPr>
        <p:blipFill>
          <a:blip r:embed="rId5"/>
          <a:stretch/>
        </p:blipFill>
        <p:spPr>
          <a:xfrm>
            <a:off x="6997680" y="16081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D:\share\для Ксении\для 2 слайда\db.png"/>
          <p:cNvPicPr/>
          <p:nvPr/>
        </p:nvPicPr>
        <p:blipFill>
          <a:blip r:embed="rId6"/>
          <a:stretch/>
        </p:blipFill>
        <p:spPr>
          <a:xfrm>
            <a:off x="6340320" y="25369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D:\share\для Ксении\для 2 слайда\right.png"/>
          <p:cNvPicPr/>
          <p:nvPr/>
        </p:nvPicPr>
        <p:blipFill>
          <a:blip r:embed="rId7"/>
          <a:stretch/>
        </p:blipFill>
        <p:spPr>
          <a:xfrm rot="3406800">
            <a:off x="6037200" y="225216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D:\share\для Ксении\для 2 слайда\right.png"/>
          <p:cNvPicPr/>
          <p:nvPr/>
        </p:nvPicPr>
        <p:blipFill>
          <a:blip r:embed="rId8"/>
          <a:stretch/>
        </p:blipFill>
        <p:spPr>
          <a:xfrm>
            <a:off x="6521400" y="2171880"/>
            <a:ext cx="378000" cy="379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D:\share\для Ксении\для 2 слайда\right.png"/>
          <p:cNvPicPr/>
          <p:nvPr/>
        </p:nvPicPr>
        <p:blipFill>
          <a:blip r:embed="rId9"/>
          <a:stretch/>
        </p:blipFill>
        <p:spPr>
          <a:xfrm rot="7197000">
            <a:off x="7009560" y="2225880"/>
            <a:ext cx="379440" cy="3780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6"/>
          <p:cNvSpPr/>
          <p:nvPr/>
        </p:nvSpPr>
        <p:spPr>
          <a:xfrm>
            <a:off x="7257960" y="2179800"/>
            <a:ext cx="91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3f7fb"/>
                </a:solidFill>
                <a:latin typeface="Tahoma"/>
                <a:ea typeface="Tahoma"/>
              </a:rPr>
              <a:t>Импорт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3f7fb"/>
                </a:solidFill>
                <a:latin typeface="Tahoma"/>
                <a:ea typeface="Tahoma"/>
              </a:rPr>
              <a:t>экспорт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5292720" y="3179880"/>
            <a:ext cx="26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3f7fb"/>
                </a:solidFill>
                <a:latin typeface="Tahoma"/>
                <a:ea typeface="Tahoma"/>
              </a:rPr>
              <a:t>Отдельные экземпляры БД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Picture 5" descr="D:\share\для Ксении\для 2 слайда\db.png"/>
          <p:cNvPicPr/>
          <p:nvPr/>
        </p:nvPicPr>
        <p:blipFill>
          <a:blip r:embed="rId10"/>
          <a:stretch/>
        </p:blipFill>
        <p:spPr>
          <a:xfrm>
            <a:off x="5305320" y="4276800"/>
            <a:ext cx="974880" cy="974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D:\clipart\ICONSSS\dif48ficons\Network and security\shadow\server_lock.png"/>
          <p:cNvPicPr/>
          <p:nvPr/>
        </p:nvPicPr>
        <p:blipFill>
          <a:blip r:embed="rId11"/>
          <a:stretch/>
        </p:blipFill>
        <p:spPr>
          <a:xfrm>
            <a:off x="7020000" y="4365720"/>
            <a:ext cx="885600" cy="885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D:\share\для Ксении\для 2 слайда\up_down.png"/>
          <p:cNvPicPr/>
          <p:nvPr/>
        </p:nvPicPr>
        <p:blipFill>
          <a:blip r:embed="rId12"/>
          <a:stretch/>
        </p:blipFill>
        <p:spPr>
          <a:xfrm>
            <a:off x="6234120" y="4363920"/>
            <a:ext cx="744480" cy="7444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7"/>
          <p:cNvSpPr/>
          <p:nvPr/>
        </p:nvSpPr>
        <p:spPr>
          <a:xfrm>
            <a:off x="5019840" y="5537160"/>
            <a:ext cx="32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3f7fb"/>
                </a:solidFill>
                <a:latin typeface="Tahoma"/>
                <a:ea typeface="Tahoma"/>
              </a:rPr>
              <a:t>Единый сервер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468360" y="194004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Классический вариан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468360" y="450540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ариант на базе методологии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aa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3"/>
          <a:stretch/>
        </p:blipFill>
        <p:spPr>
          <a:xfrm>
            <a:off x="0" y="5514840"/>
            <a:ext cx="205092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2"/>
          <a:stretch/>
        </p:blipFill>
        <p:spPr>
          <a:xfrm>
            <a:off x="195120" y="139680"/>
            <a:ext cx="8796600" cy="1103400"/>
          </a:xfrm>
          <a:prstGeom prst="rect">
            <a:avLst/>
          </a:prstGeom>
          <a:ln w="0">
            <a:noFill/>
          </a:ln>
        </p:spPr>
      </p:pic>
      <p:pic>
        <p:nvPicPr>
          <p:cNvPr id="232" name="Схема 12" descr=""/>
          <p:cNvPicPr/>
          <p:nvPr/>
        </p:nvPicPr>
        <p:blipFill>
          <a:blip r:embed="rId3"/>
          <a:stretch/>
        </p:blipFill>
        <p:spPr>
          <a:xfrm>
            <a:off x="682560" y="1054080"/>
            <a:ext cx="7888320" cy="4389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4"/>
          <a:stretch/>
        </p:blipFill>
        <p:spPr>
          <a:xfrm>
            <a:off x="6732720" y="5292720"/>
            <a:ext cx="24001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2"/>
          <a:stretch/>
        </p:blipFill>
        <p:spPr>
          <a:xfrm>
            <a:off x="195120" y="212760"/>
            <a:ext cx="8796600" cy="8413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42920" y="5500800"/>
            <a:ext cx="8786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ahoma"/>
                <a:ea typeface="Tahoma"/>
              </a:rPr>
              <a:t>Форма готова к эксплуатации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6" name="Схема 9" descr=""/>
          <p:cNvPicPr/>
          <p:nvPr/>
        </p:nvPicPr>
        <p:blipFill>
          <a:blip r:embed="rId3"/>
          <a:stretch/>
        </p:blipFill>
        <p:spPr>
          <a:xfrm>
            <a:off x="517680" y="1146240"/>
            <a:ext cx="8150040" cy="4260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4"/>
          <a:stretch/>
        </p:blipFill>
        <p:spPr>
          <a:xfrm>
            <a:off x="7812000" y="5184720"/>
            <a:ext cx="13320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6:28:43Z</dcterms:created>
  <dc:creator/>
  <dc:description/>
  <dc:language>en-US</dc:language>
  <cp:lastModifiedBy/>
  <dcterms:modified xsi:type="dcterms:W3CDTF">2011-05-30T06:22:02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851999990</vt:lpwstr>
  </property>
</Properties>
</file>