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90920" y="380520"/>
            <a:ext cx="6324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90920" y="380520"/>
            <a:ext cx="6324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19720" y="380520"/>
            <a:ext cx="45720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9720" y="380520"/>
            <a:ext cx="45720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ыт использования модели  SaaS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внедрении медицинской информационной системы</a:t>
            </a:r>
            <a:br>
              <a:rPr sz="24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q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1972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.Бах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сква – 19.05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2"/>
          <p:cNvPicPr/>
          <p:nvPr/>
        </p:nvPicPr>
        <p:blipFill>
          <a:blip r:embed="rId2"/>
          <a:stretch/>
        </p:blipFill>
        <p:spPr>
          <a:xfrm>
            <a:off x="1295280" y="1752480"/>
            <a:ext cx="6672240" cy="44960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2101680" y="3160800"/>
            <a:ext cx="141480" cy="141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369040" y="5060880"/>
            <a:ext cx="141120" cy="139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958000" y="42670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H="1">
            <a:off x="5486040" y="4619520"/>
            <a:ext cx="420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907240" y="4618080"/>
            <a:ext cx="12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2209680" y="3276360"/>
            <a:ext cx="50184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709720" y="3700440"/>
            <a:ext cx="15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986200" y="33526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70520" y="3124080"/>
            <a:ext cx="973080" cy="5205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в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4080" y="5335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блемы внедрения 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еть нужна, но сколько нужно рабочих ме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где разместить дата-центр, какой сделать запас ресурс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редства на одномоментное приобретение лиценз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Эксплу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бъединение разнородных Б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децентрализованное ведение 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децентрализованное обновление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А если изменились задачи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124080" y="3352680"/>
            <a:ext cx="533520" cy="533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24080" y="4648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24080" y="5791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24080" y="3352680"/>
            <a:ext cx="533520" cy="533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648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5791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8862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4038480" y="5334120"/>
            <a:ext cx="2308320" cy="1255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838080" cy="804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3352680"/>
            <a:ext cx="533520" cy="533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5791320"/>
            <a:ext cx="533520" cy="533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"/>
          <p:cNvSpPr/>
          <p:nvPr/>
        </p:nvSpPr>
        <p:spPr>
          <a:xfrm>
            <a:off x="838080" y="3124080"/>
            <a:ext cx="5181840" cy="34718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91160" cy="2276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66880" y="533520"/>
            <a:ext cx="62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модел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aS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0384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граммное обеспечение МИС «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M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 развертывается в едином центре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(дата-центре) в виде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единого программного ядра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 которым работают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се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медицинские учреж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оступ к программному обеспечению МИС «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M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 осуществляется через Интер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опровождение и поддержка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программного обеспечения МИС «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M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 выполняе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централизованно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граммное обеспечение МИС «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M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 предоставляе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 условиях аренды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и предполагает только периодические платеж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тоимость сопровождения и поддержки включается в стоимость арендной пла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учение пользователей возможно через Интер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0574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аци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35268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ТМО, фил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791320"/>
            <a:ext cx="2376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9323" t="34876" r="43503" b="39605"/>
          <a:stretch/>
        </p:blipFill>
        <p:spPr>
          <a:xfrm>
            <a:off x="3429000" y="3048120"/>
            <a:ext cx="2592360" cy="152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6400800" y="1736640"/>
            <a:ext cx="2293920" cy="1366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19492" t="20440" r="7853" b="3023"/>
          <a:stretch/>
        </p:blipFill>
        <p:spPr>
          <a:xfrm>
            <a:off x="6477120" y="4267080"/>
            <a:ext cx="2209680" cy="145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17136" t="21730" r="12291" b="16836"/>
          <a:stretch/>
        </p:blipFill>
        <p:spPr>
          <a:xfrm>
            <a:off x="3505320" y="5334120"/>
            <a:ext cx="23079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90920" y="533520"/>
            <a:ext cx="64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имущества модел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a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для Л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стота масштабирования решения: по модел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aS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дицинское учреждение может получить в пользование столько лицензий на программное обеспечение, сколько ему необходимо в настоящий момент, всегда имея возможность  уменьшить или увеличить их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 медицинских учреждений отсутствует необходимость приобретения  и содержания сервера и сервер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 медицинских учреждений отсутствует необходимость найма и содержания ИТ-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едение единой базы группы лечеб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Централизованное ведение единой нормативно-справоч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2"/>
          <p:cNvPicPr/>
          <p:nvPr/>
        </p:nvPicPr>
        <p:blipFill>
          <a:blip r:embed="rId2"/>
          <a:stretch/>
        </p:blipFill>
        <p:spPr>
          <a:xfrm>
            <a:off x="1295280" y="1752480"/>
            <a:ext cx="6672240" cy="44960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2101680" y="3160800"/>
            <a:ext cx="141480" cy="141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369040" y="5060880"/>
            <a:ext cx="141120" cy="139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958000" y="42670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 flipH="1">
            <a:off x="5486040" y="4619520"/>
            <a:ext cx="420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5907240" y="4618080"/>
            <a:ext cx="12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H="1" flipV="1">
            <a:off x="2209680" y="3276360"/>
            <a:ext cx="50184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2709720" y="3700440"/>
            <a:ext cx="15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2986200" y="33526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33520" cy="513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562720" y="5029200"/>
            <a:ext cx="304560" cy="447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800600" y="5029200"/>
            <a:ext cx="533520" cy="512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09680" y="2590920"/>
            <a:ext cx="3619800" cy="2438280"/>
          </a:xfrm>
          <a:custGeom>
            <a:avLst/>
            <a:gdLst/>
            <a:ahLst/>
            <a:rect l="l" t="t" r="r" b="b"/>
            <a:pathLst>
              <a:path w="2280" h="1712">
                <a:moveTo>
                  <a:pt x="0" y="296"/>
                </a:moveTo>
                <a:cubicBezTo>
                  <a:pt x="352" y="156"/>
                  <a:pt x="704" y="16"/>
                  <a:pt x="1056" y="8"/>
                </a:cubicBezTo>
                <a:cubicBezTo>
                  <a:pt x="1408" y="0"/>
                  <a:pt x="1944" y="0"/>
                  <a:pt x="2112" y="248"/>
                </a:cubicBezTo>
                <a:cubicBezTo>
                  <a:pt x="2280" y="496"/>
                  <a:pt x="2072" y="1280"/>
                  <a:pt x="2064" y="1496"/>
                </a:cubicBezTo>
                <a:cubicBezTo>
                  <a:pt x="2056" y="1712"/>
                  <a:pt x="2060" y="1628"/>
                  <a:pt x="2064" y="1544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loud"/>
          <p:cNvSpPr/>
          <p:nvPr/>
        </p:nvSpPr>
        <p:spPr>
          <a:xfrm>
            <a:off x="4267080" y="2209680"/>
            <a:ext cx="2743200" cy="18385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2"/>
          <p:cNvPicPr/>
          <p:nvPr/>
        </p:nvPicPr>
        <p:blipFill>
          <a:blip r:embed="rId2"/>
          <a:stretch/>
        </p:blipFill>
        <p:spPr>
          <a:xfrm>
            <a:off x="1295280" y="1752480"/>
            <a:ext cx="6672240" cy="4496040"/>
          </a:xfrm>
          <a:prstGeom prst="rect">
            <a:avLst/>
          </a:prstGeom>
          <a:ln w="0">
            <a:noFill/>
          </a:ln>
        </p:spPr>
      </p:pic>
      <p:sp>
        <p:nvSpPr>
          <p:cNvPr id="217" name="Oval 4"/>
          <p:cNvSpPr/>
          <p:nvPr/>
        </p:nvSpPr>
        <p:spPr>
          <a:xfrm>
            <a:off x="2101680" y="3160800"/>
            <a:ext cx="141480" cy="141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5369040" y="5060880"/>
            <a:ext cx="141120" cy="139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958000" y="42670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5486040" y="4619520"/>
            <a:ext cx="420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5907240" y="4618080"/>
            <a:ext cx="12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 flipV="1">
            <a:off x="2209680" y="3276360"/>
            <a:ext cx="50184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709720" y="3700440"/>
            <a:ext cx="15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986200" y="335268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Клиника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800600" y="5029200"/>
            <a:ext cx="533520" cy="512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09680" y="2590920"/>
            <a:ext cx="3619800" cy="2438280"/>
          </a:xfrm>
          <a:custGeom>
            <a:avLst/>
            <a:gdLst/>
            <a:ahLst/>
            <a:rect l="l" t="t" r="r" b="b"/>
            <a:pathLst>
              <a:path w="2280" h="1712">
                <a:moveTo>
                  <a:pt x="0" y="296"/>
                </a:moveTo>
                <a:cubicBezTo>
                  <a:pt x="352" y="156"/>
                  <a:pt x="704" y="16"/>
                  <a:pt x="1056" y="8"/>
                </a:cubicBezTo>
                <a:cubicBezTo>
                  <a:pt x="1408" y="0"/>
                  <a:pt x="1944" y="0"/>
                  <a:pt x="2112" y="248"/>
                </a:cubicBezTo>
                <a:cubicBezTo>
                  <a:pt x="2280" y="496"/>
                  <a:pt x="2072" y="1280"/>
                  <a:pt x="2064" y="1496"/>
                </a:cubicBezTo>
                <a:cubicBezTo>
                  <a:pt x="2056" y="1712"/>
                  <a:pt x="2060" y="1628"/>
                  <a:pt x="2064" y="1544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4267080" y="2209680"/>
            <a:ext cx="2743200" cy="18385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666880"/>
            <a:ext cx="304920" cy="447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79840" y="5414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держивающ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ак никто не дел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ложность предмет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тандарты, форматы, организатор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дежность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ра ответственности поставщика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налы связи (скорость, защищен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езопасность персональных (медицинских)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лектронный документооборот: аутентификация, авторизация, аудит, немодифицируемость, арбитр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79840" y="5414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мимо непосредственной поддержки работы специалистов ЛПУ  - оптимизация процессы подготовки управленческих решений, как на уровне самого ЛПУ, так и на уровне структур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Камень преткновения» - сложность интеграции разнородных массивов данных, порождаемых различными вариантами МИС, с целью их дальнейшей совместной обработки и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ногочисленные варианты систем информационного взаимодействия ориентируются н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запросы, учитывающие структуры данных взаимодействующих систем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L7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хорошо работают при получении данных об одном человеке (пациенте), которые хранятся в другой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и необходимости обобщения записей тысяч объектов учета с последующим построением по ним произвольных аналитических срезов указанные технологии начинают «буксов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начение пациента к специалисту другой клиники в рамках уже открытого эпизода (обращения) куда пациент первоначально обрат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79840" y="5414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as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реализаци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мещение на одном сервере записей, связанных с работой множества отдельных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бой уровень разграничения доступа к данным, как внутри конкретной организации, так и к массивам «региональной» 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ста специалистов ЛПУ могут быть реализованы в варианте «тонкого клиен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работка всех транзакций (запросов) обеспечивается ресурсами центрального сервера в режиме «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line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679840" y="5414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полнительные «бонусы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ализация «фонового» процесса обобщения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озможность использования «локальных» настроек (справочники, прайс-листы, источники оплаты, страховые организации, кадровый состав, организационная структура, специалисты и пр.) для каждого конкретного ЛПУ. При отсутствии соответствующих проработок система автоматически ориентируется на описания организации «Образец». Таким образом, каждая медицинская услуга описывается реквизитами именно той организации, которая услугу оказ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Автоматическая актуализация и синхронизация данных по пациентам, независимо от того, к какому ЛПУ они «прикрепле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озможность обработки произвольных аналитических запросов на генеральной выборке данных по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79840" y="5414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ерми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лако, облачная модель, облачные вы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ерминал, терминальный компьютер, терминальные вы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рау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онкий 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ир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46080" y="2971800"/>
            <a:ext cx="387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лагодарю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9377" t="13232" r="7853" b="12377"/>
          <a:stretch/>
        </p:blipFill>
        <p:spPr>
          <a:xfrm>
            <a:off x="2514600" y="2209680"/>
            <a:ext cx="4608360" cy="2590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733920" y="53352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циент – 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029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нные из ЛИС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вязь с электронными справоч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48360" cy="261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9377" t="13232" r="7853" b="12377"/>
          <a:stretch/>
        </p:blipFill>
        <p:spPr>
          <a:xfrm>
            <a:off x="324000" y="2205000"/>
            <a:ext cx="460836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6520" y="508464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оступ «изв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смотр электронных медицинских за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нформационный кио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3352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циент – 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5760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 П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648320"/>
            <a:ext cx="518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лектронная медицинская карт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вление 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вление потоком пац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вление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вление запа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вление финан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7242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533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стема ЛПУ (Т М О, фили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5562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ежкорпоративный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9492" t="20440" r="7853" b="3023"/>
          <a:stretch/>
        </p:blipFill>
        <p:spPr>
          <a:xfrm>
            <a:off x="1981080" y="1676520"/>
            <a:ext cx="55436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гиона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562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ежкорпоративный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886" r="4543" b="3658"/>
          <a:stretch/>
        </p:blipFill>
        <p:spPr>
          <a:xfrm>
            <a:off x="2438280" y="1600200"/>
            <a:ext cx="5105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Picture 2" descr="Фасад_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47920" y="1676520"/>
            <a:ext cx="7010280" cy="4863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7080" y="16765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лини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УЗ ВЦЭРМ им. А.М.Никифорова МЧС России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523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29320" y="16365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линик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153280" y="1447920"/>
            <a:ext cx="784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1-05-30T06:21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