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2475-A7F4-4341-AA0C-092BA63E8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9FD9-088B-465F-A6E3-B87CD8C1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77E3-51DC-4A31-A65A-4F13FE0F1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4991-651C-498C-8190-02E7C38E4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987A-C8E0-45B4-A556-07B91BAF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E320-52A5-44E7-A952-56F84379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C2C0-E300-4DB9-A78A-F73902C1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95D7-3C3B-4D9C-AB5E-67A94E07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E193-AE97-4403-812B-4EF251A2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C4B2-7EDF-472D-91EC-D1E07694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4F5C-1531-4D48-9070-C7B6005F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37E5-3F95-4CA0-9F03-A3E12E3F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B4E5-2A70-4F44-A1FF-A9617DB5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31D3-FB7D-4C17-8F8C-6775E9E9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5CDE-D0DF-4EBC-AF1E-FBB23A92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DE6D-2F14-42AD-845A-50C0C51A4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C07E-4268-4969-8937-B3C763873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6A311-C189-4B49-A2A1-10D6395B8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C15FC-BCE6-4F7D-822E-832A1DD4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B06AA-93FA-4A42-968F-7862F107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D2049-4362-4030-8A3A-AC84FD31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613E5-05C4-4847-984F-A049DB1C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9D33-8A23-402C-B0C8-AF0E586B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2E196-C2C8-4BB1-A7ED-D06039A3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46937-2FCC-4292-8717-DFE42974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AFEBE-7CDA-4FBB-9910-2D431B89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EF9C0-ED21-421E-A7C1-F045E65F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FB54A-F6EE-4A76-8AE6-D3B7CAB8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8212A-71BB-48A0-AE7D-558DD9384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A0930-6C69-47DA-972D-3506E6CAD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3DC1D-DE2F-4A87-BF56-233919F6B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FBE75-FD3A-4A6F-BB91-DB0AFCA0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A7B7C-ED16-454F-A24E-AA729B64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23A6-4B0D-4DCC-8B32-FA5C673A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74B3A-AD44-4906-B25E-DA772385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671D4-0013-4C03-99D9-AA1C7891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0A520-8A6D-4EBD-BE5E-E3A323EC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B19D3-2D28-43E5-AE1D-4013D182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ECE7C-9ED8-4F76-BFEC-670B6213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F62A2-07A6-4712-816A-21D70890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4BEB5-6DF0-4FD4-8696-F98AF4F2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9394D-2961-410A-89D3-227A00F3E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389B9-E93B-430C-ABA9-9CA79BB99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1762-CE13-43BB-BEA8-496A39BF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CBFA-8BA9-43ED-A1B0-A6D7B22B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E787-9279-4B6F-86EA-5D381874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5407-F8DB-4AA9-886C-30A97635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FF0A-A14E-4263-8A3C-0CF17993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9E3F-CD0A-4FBC-9726-029BA94AA3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C586-F0A1-485D-A257-EA551F58A1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0F2E-9289-4F1F-9878-7C2CC87448E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8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8CD0-7F08-4E6F-9ACF-537D108C5CA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24 миллиарда на развитие медицинских ИКТ </a:t>
            </a: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оддержат российский рынок или добьют его?</a:t>
            </a: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Москва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edSoft-2011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. 19 мая 2011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52280" y="4723920"/>
            <a:ext cx="8763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хаил Эльяно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зидент АРМИТ, к.т.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99) 200-10-6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info@armit.ru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ww.armit.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Структура парка компьютерных систем ЛПУ(в %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176560" y="6041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051840" y="56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264960" y="982800"/>
          <a:ext cx="8562960" cy="57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960" y="982800"/>
                    <a:ext cx="8562960" cy="57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"/>
          <p:cNvGraphicFramePr/>
          <p:nvPr/>
        </p:nvGraphicFramePr>
        <p:xfrm>
          <a:off x="179280" y="836640"/>
          <a:ext cx="8964720" cy="60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36640"/>
                    <a:ext cx="896472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Структура парка компьютерных систем ЛПУ(в шт.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76560" y="6041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051840" y="56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Таким образом: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ПК используется в качестве пишущих машинок или не используется вообще (большинство их этих ПК 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ntium III, IV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). </a:t>
            </a:r>
            <a:r>
              <a:rPr b="0" lang="ru-RU" sz="3200" spc="-1" strike="noStrike">
                <a:solidFill>
                  <a:srgbClr val="cccc00"/>
                </a:solidFill>
                <a:latin typeface="Times New Roman"/>
              </a:rPr>
              <a:t>Это почти в 4 (!) раза больше числа медицинских АРМ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долю менее 8% персонала приходится более 80% вычислительных ресурсов ЛП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71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Современное состояние парка компьютерных систем: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803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поминает конструктор ЛЕГО: огромное число разработанных модулей - компьютерных систем для всего спектра медицинских применений, имеющих сходную архитектур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о в отличие от ЛЕГО: отсутствует стандартизированная система сопряжения модул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Вбрасывание бюджетных средств на неподготовленную «региональную» почву неизбежно приведет: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2205000"/>
            <a:ext cx="89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 нерациональному использованию этих средст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 вероятному разрушению существующей информационной инфраструктур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 разрастанию зоопарка МИС и др. сист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 появлению через два года множества несовместимых региональных систем информатизации, интеграция которых может потребовать больших средств, чем разработка с «нуля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22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Почему это неизбежно? Последствия отсутствия единых требований к информатизации регистратур и приемных отделений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0" y="2276640"/>
            <a:ext cx="914400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работка собственной (уникальной) компьютерной регистратуры ЛПУ на основе базы данных пациентов собственного (уникального) форма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 следствие - создание уникальных МИС и системы уникальных подключений «клинических» систем; т.е. стыковка «каждого» с «каждым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избежный (и практически неустранимый «мирными» средствами) «зоопарк» в масштабах страны (а возможно, и субъекта РФ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На идее создания РЕАЛЬНОЙ единой государственной информационной системы в сфере здравоохранения можно будет ставить КРЕС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Типовые компьютерные систем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 отечественной интерпретаци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место четко сформулированных требований не очень понятная система предпочте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Бесплатность» типовых систем – «бесплатность» сыра в мышеловке: основные деньги придется платить за сопровожд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рганизации – разработчики типовых систем обладают инфраструктурой для обслуживания своих продуктов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 все просчеты платить придется ЛП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286920"/>
            <a:ext cx="91440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За два года существования Департамента информатизации МЗСР не решена ни одна из ключевых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IT-</a:t>
            </a: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проблем: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0" y="2349360"/>
            <a:ext cx="91440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определен статус электронных документов в здравоохранен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актически ничего не сделано в плане стан-дартизации и информационной совместим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определены «правила игры» в сфере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поддержки медучрежде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рана продолжает расплачиваться за невеже-ство медчиновников в сфере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В большинстве случаев их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компетенция ниже нул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79280" y="286920"/>
            <a:ext cx="8785440" cy="39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У многих руководителей и специалистов здравоохранения формируется стойкая ненависть или предубеждение и  к информатизации и к тем, кто ее «навязывает»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0" y="4292640"/>
            <a:ext cx="91440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3040" y="188640"/>
            <a:ext cx="75106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1-й выпуск Каталог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4248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70 компьютерных сист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52 организации-разработч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2 разделов, более 100 рубри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80%-90% рынка российских компьютерных сист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 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регионов Росс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5065560" y="1484280"/>
            <a:ext cx="3614760" cy="51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Из перечня поручений по итогам заседания Совета по развитию информационного общества в России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79280" y="2133360"/>
            <a:ext cx="8785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вместно с высшими органами исполнительной власти субъектов Российской Федерации обеспечить создание и внедрение в деятельность учреждений здравоохранени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едицинских информационно-справочных систем, в том числе в целя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дения электронной истории болезни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втоматизации работы регистратур и приёмных отделений, включая использование систем записи на приём к врачу через интернет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елемедицинских технологи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истемы непрерывного дистанционного обучения врач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820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онкурсы Минздравсоцразвит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748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2009-2010 г.г. Минздравсоцразвития провел конкурсы по тематике «ИКТ для здравоохранения» на общую сумму 658.800.000 руб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 эти деньги многие проблемы могли быть реализованы в течение двух ле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о 91%  средств направлены на нужды чиновников, 9% - медучреждени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820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онкурсы Минздравсоцразвит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9647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курсы проводились в условиях отсутствия четкого плана работ по развитию ИКТ для здравоохран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и один из членов комиссии не является специалистом в вопросах мед. ИК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алый бизнес оттирается от участия в конкурсах административными метод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ногие конкурсы абсолютно не обоснованы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реди победителей практических нет организаций, известных в мире медицинских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8200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Цена закона о персональных данных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7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редняя цена по приведению ЛПУ в соотв. с законом: 50-100 тыс. руб. на АР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олько для ЛПУ системы Департамента здравоохранения Москвы г. этой обойдется: 75.000 * 46.200 ПК = 3.465.000.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78920" y="277560"/>
            <a:ext cx="87138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офессиональное сообщество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856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ощущает себя реальной сило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имеет четкой программы действ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общено и с трудом консолидируется для решения общих зада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287280"/>
            <a:ext cx="91440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оздание концепции информатизации здравоохранения России ??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23640" y="3284640"/>
            <a:ext cx="85690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8496000" cy="35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лавная проблема – заказчик (государство) не может сформулировать, чего хочет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23640" y="4581360"/>
            <a:ext cx="856908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Resum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23640" y="1676520"/>
            <a:ext cx="8569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ез определения и обязательного выполнения правил игры в сфере создания электронного общества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место обычного беспредела мы получим беспредел электронны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6421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ервые результаты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 фирм-разработчиков срываются договора с ЛПУ: зачем платить деньги, если завтра все дадут даром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яд МИАЦ не приехали на «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Soft-201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», т.к. им рекомендовали не «высовываться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трудничество с </a:t>
            </a: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Экспертно-консультативной группой (ЭКГ) Совета при Президенте РФ по развитию информационного общества в РФ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9144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астие в работе Президиума Совета (Москва, Кремль; 08.06.2010, 22.12.2010, 14.04.201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комендации по созданию регионального фрагмента Единой информационной системы в сфере здравоохран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.к. в нынешнем виде многие наши (АРМИТ) исследования, рекомендации и т.п. никакого практического веса для чиновников не имеют, то предлагается их оформлять в виде Методических рекомендаций или просто Рекомендаций. После всестороннего обсуждения эти документы можно выпускать в свет за подписью ЭКГ и АРМИ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Что мы получим в результате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ухой остаток исследований (опросов и т.д.), на который можно ссылаться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анк подготовленных материалов вместо скороспелых, сделанных «на коленке» в последний момент под запросы «сверху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кумент, полезный для медучреждений - у них появляются критерии при выборе предлагаемых (навязываемых) им систе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кумент, полезный для чиновников – хоть будут понимать, что делаю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кумент, полезный для разработчиков - задается «планк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MedSoft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- самая большая специализированная выставк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0" y="1415880"/>
          <a:ext cx="9067680" cy="52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5880"/>
                    <a:ext cx="9067680" cy="52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Разработка требований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К электронной регистратуре ЛП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 лабораторным информационным системам (ЛИС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 системам обработки и хранения изображений (PA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 административно-хозяйственным система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 электронным медицинским карта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 медицинским информационным система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Разработка рекомендаци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 созданию регионального фрагмента Единой информационной системы в сфере здравоохран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андартизация и информационная совместимость - программа-миниму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лачные вычисления. Возможности. ЗА и ПРОТИВ. Границы применим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дель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aS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(программное обеспечение как услуга) в Росс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IT-служба ЛП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Благодарю за внимание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Желающие принять участие в мероприятиях Ассоциации и регулярно получать информацию о мире медицинских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IT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– обращайтесь: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152280" y="3789360"/>
            <a:ext cx="876312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хаил Эльяно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зидент Ассоциации Развития Медицински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формационных Технологий (АРМИТ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99) 200-10-6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info@armit.ru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ww.armit.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Число членов АРМИ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95280" y="1077840"/>
          <a:ext cx="8280360" cy="564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077840"/>
                    <a:ext cx="8280360" cy="56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3040" y="188640"/>
            <a:ext cx="75106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1-й выпуск Каталог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4248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70 компьютерных сист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52 организации-разработч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2 разделов, более 100 рубри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80%-90% рынка российских компьютерных сист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 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регионов Росс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065560" y="1484280"/>
            <a:ext cx="3614760" cy="51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64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Постоянное сокращение числа фирм – разработчиков компьютерных систем (по данным каталога «Медицинские информационные технологии»)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0" y="2708280"/>
          <a:ext cx="9144000" cy="4443480"/>
        </p:xfrm>
        <a:graphic>
          <a:graphicData uri="http://schemas.openxmlformats.org/drawingml/2006/table">
            <a:tbl>
              <a:tblPr/>
              <a:tblGrid>
                <a:gridCol w="2152800"/>
                <a:gridCol w="804600"/>
                <a:gridCol w="762120"/>
                <a:gridCol w="735120"/>
                <a:gridCol w="853920"/>
                <a:gridCol w="763560"/>
                <a:gridCol w="763560"/>
                <a:gridCol w="833400"/>
                <a:gridCol w="738360"/>
                <a:gridCol w="736560"/>
              </a:tblGrid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Число фир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обавлено в каталог за го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ключено из каталога за го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4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eec94"/>
                          </a:solidFill>
                          <a:latin typeface="Times New Roman"/>
                          <a:ea typeface="Times New Roman"/>
                        </a:rPr>
                        <a:t>Всего фир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eec94"/>
                          </a:solidFill>
                          <a:latin typeface="Times New Roman"/>
                          <a:ea typeface="Times New Roman"/>
                        </a:rPr>
                        <a:t>4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eec94"/>
                          </a:solidFill>
                          <a:latin typeface="Times New Roman"/>
                          <a:ea typeface="Times New Roman"/>
                        </a:rPr>
                        <a:t>39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eec94"/>
                          </a:solidFill>
                          <a:latin typeface="Times New Roman"/>
                          <a:ea typeface="Times New Roman"/>
                        </a:rPr>
                        <a:t>34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eec94"/>
                          </a:solidFill>
                          <a:latin typeface="Times New Roman"/>
                          <a:ea typeface="Times New Roman"/>
                        </a:rPr>
                        <a:t>3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eec94"/>
                          </a:solidFill>
                          <a:latin typeface="Times New Roman"/>
                          <a:ea typeface="Arial"/>
                        </a:rPr>
                        <a:t>2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eec94"/>
                          </a:solidFill>
                          <a:latin typeface="Times New Roman"/>
                          <a:ea typeface="Arial"/>
                        </a:rPr>
                        <a:t>2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eec94"/>
                          </a:solidFill>
                          <a:latin typeface="Times New Roman"/>
                          <a:ea typeface="Arial"/>
                        </a:rPr>
                        <a:t>28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eec94"/>
                          </a:solidFill>
                          <a:latin typeface="Times New Roman"/>
                          <a:ea typeface="Arial"/>
                        </a:rPr>
                        <a:t>2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eec94"/>
                          </a:solidFill>
                          <a:latin typeface="Times New Roman"/>
                          <a:ea typeface="Arial"/>
                        </a:rPr>
                        <a:t>2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«Зоопарк» МИС живет и побеждает: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доля МИС в общем числе систем возросла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с 5.8% до 12.2% - более, чем вдвое !!!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0" y="1600200"/>
          <a:ext cx="442764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44276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4788000" y="1603440"/>
          <a:ext cx="3971880" cy="524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1603440"/>
                    <a:ext cx="3971880" cy="52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4572000" y="1608120"/>
          <a:ext cx="4572000" cy="5243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1608120"/>
                    <a:ext cx="4572000" cy="52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МИС: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7854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ъективная потребность расте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андартов не было и не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 35 регионов, представленных в каталоге «Медицинские информационные технологии – 2011», в 25 (!)  разработаны собственные МИ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Мы стоим перед альтернативой -   цели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IT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в здравоохранении:</a:t>
            </a:r>
            <a:br>
              <a:rPr sz="40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Сценарий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1                     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Сценарий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464328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лавная цель: информатизация статистики и системы взаиморасче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мпьютеры – «кассовые аппараты»,  калькуляторы и пишущие машин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очечная компьютеризация на усмотрение руководител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минирование бумажных носителе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43280" y="2060280"/>
            <a:ext cx="450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Главная цель: сокращение числа врачебных и управленческих ошибо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Анализ эффективности (в т.ч. финансовой) проводимых мероприятий (напр., диспансеризации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Переход к статистике, основанной на анализе искл. первичных данны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Переход к ЭДО и ведению ЭМ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sha</cp:lastModifiedBy>
  <dcterms:modified xsi:type="dcterms:W3CDTF">2011-05-19T06:14:47Z</dcterms:modified>
  <cp:revision>513</cp:revision>
  <dc:subject/>
  <dc:title>PowerPoint Presentation</dc:title>
</cp:coreProperties>
</file>