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80625" cy="7559675"/>
  <p:notesSz cx="6940550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F691-9BD7-4D96-B067-6D60B8A87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8254-53BB-42AE-B1A4-F600289B5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7C6E-6B13-41D7-AEC5-1607189AB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C708-27A2-4832-8360-133BA5D6A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5C24-D55E-48F0-81EF-23C4C3E0A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3CCF-FF01-4F9C-932E-8DF663862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A12F-1872-4758-B1B1-EE696EEC6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111C-9970-419A-BC65-8B438D3EF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8BCD-137A-432D-AB89-271182EBC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B52F-A24B-487C-86B7-36E548B0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3DE3-5257-4CE7-9A53-55F2EB6E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95E0-3CB1-42C6-ADE2-D35462C1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184D43-DD13-486D-9BBE-BAC28BD7D97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sc.ru/" TargetMode="External"/><Relationship Id="rId2" Type="http://schemas.openxmlformats.org/officeDocument/2006/relationships/hyperlink" Target="mailto:info@esc.ru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717200"/>
            <a:ext cx="10080720" cy="270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РГАНИЗАЦИЯ ЗАЯВОЧНОЙ КОМПАНИИ НА ЛЕКАРСТВЕННЫЕ СРЕДСТВА ДЛЯ ЛЬГОТНЫХ КАТЕГОРИЙ ГРАЖДАН В ЭЛЕКТРОННОМ ВИД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459640" y="7115040"/>
            <a:ext cx="1440000" cy="27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87120"/>
            <a:ext cx="907092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правление заявочной компани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459640" y="7115040"/>
            <a:ext cx="1440000" cy="277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20720" y="825480"/>
            <a:ext cx="88153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158840" y="1143000"/>
            <a:ext cx="7300800" cy="56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правление выпиской лекарственных средст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459640" y="7115040"/>
            <a:ext cx="1440000" cy="277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58920" y="1582560"/>
            <a:ext cx="84978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Ввод всех данных по рецепту в систему, с выполнением автоматических проверок на соответствие действующим в регионе справочникам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6000" y="2374920"/>
            <a:ext cx="266544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1240" indent="-28404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Lucida Sans Unicode"/>
              </a:rPr>
              <a:t>Серия-номер рецепт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Lucida Sans Unicode"/>
              </a:rPr>
              <a:t>СНИЛС пациент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Lucida Sans Unicode"/>
              </a:rPr>
              <a:t>Код ЛПУ, код врач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Lucida Sans Unicode"/>
              </a:rPr>
              <a:t>Диагноз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Lucida Sans Unicode"/>
              </a:rPr>
              <a:t>Дата выписки, срок действия рецепта соответственно типу ЛС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Lucida Sans Unicode"/>
              </a:rPr>
              <a:t>Категория льготности (ПФР, МЗ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Lucida Sans Unicode"/>
              </a:rPr>
              <a:t>Лекарственное средство (МНН, торг. наименование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Lucida Sans Unicode"/>
              </a:rPr>
              <a:t>Учет отпуска товара из разных партий, по разным ценам, с разными сроками годности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5040" y="1114560"/>
            <a:ext cx="88153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121200" y="2340000"/>
            <a:ext cx="609588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хема взаимодействия с ЛП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82560" y="6462720"/>
            <a:ext cx="381636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Контроль поддержания СЗ в ГУП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1. Контроль поддержания СЗ в аптек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2. Контроль ценообразова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3. Контроль сроков годност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19280" y="6408720"/>
            <a:ext cx="719928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260360" y="938160"/>
            <a:ext cx="7826400" cy="48211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967280" y="6624720"/>
            <a:ext cx="3600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7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4. Контроль качества (Забракованные серии)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5. Персонифицированный учет отпуска ЛС по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Региональной льгот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300720" y="6119640"/>
            <a:ext cx="25192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7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ФУНКЦИИ АСУ «М-АПТЕКА плюс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5040" y="824040"/>
            <a:ext cx="88153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8459640" y="7115040"/>
            <a:ext cx="1440000" cy="27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1079640"/>
            <a:ext cx="90709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00000" y="1800360"/>
            <a:ext cx="80996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95320" y="2124000"/>
            <a:ext cx="858204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Генеральный директор ООО «Фирма «ЭСКЕЙП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Аносов Алексей Владимирови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123308 г. Москва, 2-й Силикатный проезд, д.9, стр.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айт: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esc.ru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-mail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info@esc.ru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8459640" y="7115040"/>
            <a:ext cx="1440000" cy="277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09:00:53Z</dcterms:created>
  <dc:creator>Андрей Макарушин</dc:creator>
  <dc:description/>
  <dc:language>en-US</dc:language>
  <cp:lastModifiedBy>Михаил</cp:lastModifiedBy>
  <dcterms:modified xsi:type="dcterms:W3CDTF">2011-05-30T06:10:04Z</dcterms:modified>
  <cp:revision>109</cp:revision>
  <dc:subject/>
  <dc:title>Комплекс мероприятий в помощь руководителю по управлению лекарственным обеспечением субъекта РФ</dc:title>
</cp:coreProperties>
</file>