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5.png" ContentType="image/png"/>
  <Override PartName="/ppt/media/image24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0E1-B6C0-4B6F-AEEC-378AE477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65A-3326-406B-904B-98CAF77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005-AD5F-4F1B-A338-F4397D0D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595-EFB4-4277-9BE8-E96F246D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BBE-001B-4BD6-A89E-A26663F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A49-E07C-450D-B3EC-BF51235A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368-6CBC-4042-943C-5FA0AFA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3F4-DBB3-4986-9760-AF6ED99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FB6-CF81-4C26-8666-4E77DE49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862-AA86-4F12-9BAA-9086946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48E-1068-4217-ACE4-DD5AEAD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6B5-94AC-4F55-B529-5DD59B0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5386-6843-43E5-B57E-520ED7D01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елгородский государст-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енный университет</a:t>
            </a:r>
            <a:br>
              <a:rPr sz="4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Кафедра пропедевтики внутренних болезней и клинических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нформационных технологий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ПРОБЛЕМНАЯ КОМИССИЯ ХРОНОБИОЛОГ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И ХРОНОМЕДИЦИНА РА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БИОТЕХНИЧЕСКИЕ СИСТЕМЫ ЦВЕТОСТИМ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6880" y="0"/>
            <a:ext cx="125712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797360"/>
            <a:ext cx="91440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д.м.н.,проф.Ф.А. Пятак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д.м.н,проф.Т.И.Якунченк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д.м.н.,проф.К.Ф. Маккон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961920"/>
            <a:ext cx="8018640" cy="585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" y="0"/>
            <a:ext cx="9036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СТРУКТУРА ОКНА РЕЖИМА ЦВЕТОСТИМУЛЯ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116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480" y="66600"/>
            <a:ext cx="9110520" cy="6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СТРУКТУРА ОКНА РЕЖИМА ЦВЕТОСТИМУЛЯЦИИ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В ФОРМЕ РЕШЕТО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труктурная схема модели цветовосприятия зрительного анализатора чело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68560" y="1066680"/>
            <a:ext cx="4267080" cy="553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376920" algn="just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Фоторецепторы сетчатки должны получать меняющееся световое воздействие. Поэтому для успешной работы системы распознавания зрительных образов очень важны движения глаз. Глаза непрерывно совершают микродвижения. Во первых – это тремор с частотой от 30 до 150 Гц. Амплитуда тремора ничтожно мала и составляет 20-40 угловых секунд. Во вторых – дрейф в виде медленных плавных смещений взора от 3 до 30 угловых минут. Дрейф сменяется небольшими скачками- микросаккадами. Период микросаккад такой же как и период дрейфа. Период микросаккад каждые 0,03-2,0 секунды сменяется большим скачком частотой четыре герца. Спроецированный на сетчатку зрительный образ воспринимается концентрическими рецептивными полями, имеющими возбудительный и тормозной центры. Все пространство сетчатки разбито нейронами коры на множество пространственно-частотных полей, и изображение анализируется по «полосатости» каждого кусочка. Зрительная кора и наружное коленчатое тело (НКТ) организованы в топографическом плане соответственно сетчатке – ретинотопически. Сигналы зрительного объекта с частотой саккадических подергиваний глазного яблока из сетчатки передаются  в область наружных коленчатых тел (НКТ), где превращаются в пульсирующие поля. Поля относят к врожденным структурам. Сразу после скачка диаметр поля весьма велик, затем он уменьшается, и через 0,04-0,07 секунды стягивается в маленькую точку. Эта точка существует 0,02-0.03 секунды и начинает расшир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Такой циклический механизм восприятия обеспечивает способность выделять контуры изобра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560" y="3733920"/>
            <a:ext cx="381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4608360" cy="547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86200" y="37339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7339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СХЕМА ВЗАИМОСВЯЗИ МЕЖДУ МОЛЕКУЛЯРНЫМИ МЕХАНИЗМАМИ ЧАСОВЫХ ГЕНОВ И СТРУКТУРАМИ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9760" y="-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19240" y="914400"/>
            <a:ext cx="4838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СТРУКТУРА БИОТЕХНИЧЕСКОЙ СИСТЕМЫ КОМПЬЮТЕРО-УПРАВЛЯЕМОЙ ЦВЕТОСТИМ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8000" y="1268280"/>
            <a:ext cx="8856720" cy="5473800"/>
            <a:chOff x="108000" y="1268280"/>
            <a:chExt cx="8856720" cy="5473800"/>
          </a:xfrm>
        </p:grpSpPr>
        <p:graphicFrame>
          <p:nvGraphicFramePr>
            <p:cNvPr id="76" name=""/>
            <p:cNvGraphicFramePr/>
            <p:nvPr/>
          </p:nvGraphicFramePr>
          <p:xfrm>
            <a:off x="108000" y="1268280"/>
            <a:ext cx="8856720" cy="547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000" y="1268280"/>
                      <a:ext cx="8856720" cy="547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1044360" y="16286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Ц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7440" y="16286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О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43240" y="510048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ЭКР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3952800"/>
              <a:ext cx="649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В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160" y="1557360"/>
              <a:ext cx="70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ТАЙМ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1080" y="1413000"/>
              <a:ext cx="35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Д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6160" y="263700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ЛОКАЛЬНАЯ Ш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6280" y="261288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СИСТЕМНАЯ Ш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69520" y="28670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УУПС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3480" y="39258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БСП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0080" y="6459480"/>
              <a:ext cx="43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КЛА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79440" y="5335560"/>
              <a:ext cx="58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УП КЛА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3080" y="511164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ДИ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РУКТУРНАЯ СХЕМА БИОУПРАВЛЕНИЯ В КОМПЬЮТЕРНОЙ СИСТЕМЕ ЦВЕТОРИТМ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680000" cy="51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Биологическая обратная связь включает сердечно-сосудистую и дыхательную систему, датчик пульса, драйвер связи в виде управляющей программы, блок формирования цветостимулов, содержащий информационный файл с таблицей цветов, видеоконтроллер и три программных модуля: первый для реализации моделей «релаксации», второй для реализации мод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активации и стабилизации» и третий для реализации управления формулами принудительного дых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8360" y="1646280"/>
            <a:ext cx="4237200" cy="4602240"/>
            <a:chOff x="4878360" y="1646280"/>
            <a:chExt cx="4237200" cy="4602240"/>
          </a:xfrm>
        </p:grpSpPr>
        <p:sp>
          <p:nvSpPr>
            <p:cNvPr id="94" name=""/>
            <p:cNvSpPr/>
            <p:nvPr/>
          </p:nvSpPr>
          <p:spPr>
            <a:xfrm>
              <a:off x="8070840" y="5927760"/>
              <a:ext cx="1044720" cy="31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81720" y="5958000"/>
              <a:ext cx="72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атчик  пульс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34240" y="5140440"/>
              <a:ext cx="627120" cy="312480"/>
            </a:xfrm>
            <a:custGeom>
              <a:avLst/>
              <a:gdLst/>
              <a:ahLst/>
              <a:rect l="l" t="t" r="r" b="b"/>
              <a:pathLst>
                <a:path w="791" h="396">
                  <a:moveTo>
                    <a:pt x="0" y="396"/>
                  </a:moveTo>
                  <a:lnTo>
                    <a:pt x="23" y="383"/>
                  </a:lnTo>
                  <a:lnTo>
                    <a:pt x="23" y="389"/>
                  </a:lnTo>
                  <a:lnTo>
                    <a:pt x="34" y="389"/>
                  </a:lnTo>
                  <a:lnTo>
                    <a:pt x="34" y="364"/>
                  </a:lnTo>
                  <a:lnTo>
                    <a:pt x="40" y="364"/>
                  </a:lnTo>
                  <a:lnTo>
                    <a:pt x="40" y="359"/>
                  </a:lnTo>
                  <a:lnTo>
                    <a:pt x="46" y="359"/>
                  </a:lnTo>
                  <a:lnTo>
                    <a:pt x="46" y="352"/>
                  </a:lnTo>
                  <a:lnTo>
                    <a:pt x="52" y="352"/>
                  </a:lnTo>
                  <a:lnTo>
                    <a:pt x="52" y="345"/>
                  </a:lnTo>
                  <a:lnTo>
                    <a:pt x="58" y="345"/>
                  </a:lnTo>
                  <a:lnTo>
                    <a:pt x="58" y="340"/>
                  </a:lnTo>
                  <a:lnTo>
                    <a:pt x="69" y="340"/>
                  </a:lnTo>
                  <a:lnTo>
                    <a:pt x="69" y="334"/>
                  </a:lnTo>
                  <a:lnTo>
                    <a:pt x="81" y="334"/>
                  </a:lnTo>
                  <a:lnTo>
                    <a:pt x="81" y="327"/>
                  </a:lnTo>
                  <a:lnTo>
                    <a:pt x="91" y="320"/>
                  </a:lnTo>
                  <a:lnTo>
                    <a:pt x="120" y="320"/>
                  </a:lnTo>
                  <a:lnTo>
                    <a:pt x="120" y="327"/>
                  </a:lnTo>
                  <a:lnTo>
                    <a:pt x="125" y="327"/>
                  </a:lnTo>
                  <a:lnTo>
                    <a:pt x="125" y="334"/>
                  </a:lnTo>
                  <a:lnTo>
                    <a:pt x="131" y="334"/>
                  </a:lnTo>
                  <a:lnTo>
                    <a:pt x="131" y="345"/>
                  </a:lnTo>
                  <a:lnTo>
                    <a:pt x="137" y="352"/>
                  </a:lnTo>
                  <a:lnTo>
                    <a:pt x="137" y="359"/>
                  </a:lnTo>
                  <a:lnTo>
                    <a:pt x="149" y="359"/>
                  </a:lnTo>
                  <a:lnTo>
                    <a:pt x="149" y="364"/>
                  </a:lnTo>
                  <a:lnTo>
                    <a:pt x="160" y="364"/>
                  </a:lnTo>
                  <a:lnTo>
                    <a:pt x="160" y="371"/>
                  </a:lnTo>
                  <a:lnTo>
                    <a:pt x="166" y="371"/>
                  </a:lnTo>
                  <a:lnTo>
                    <a:pt x="166" y="376"/>
                  </a:lnTo>
                  <a:lnTo>
                    <a:pt x="183" y="376"/>
                  </a:lnTo>
                  <a:lnTo>
                    <a:pt x="183" y="383"/>
                  </a:lnTo>
                  <a:lnTo>
                    <a:pt x="206" y="383"/>
                  </a:lnTo>
                  <a:lnTo>
                    <a:pt x="206" y="376"/>
                  </a:lnTo>
                  <a:lnTo>
                    <a:pt x="212" y="376"/>
                  </a:lnTo>
                  <a:lnTo>
                    <a:pt x="218" y="371"/>
                  </a:lnTo>
                  <a:lnTo>
                    <a:pt x="218" y="364"/>
                  </a:lnTo>
                  <a:lnTo>
                    <a:pt x="241" y="340"/>
                  </a:lnTo>
                  <a:lnTo>
                    <a:pt x="241" y="334"/>
                  </a:lnTo>
                  <a:lnTo>
                    <a:pt x="245" y="327"/>
                  </a:lnTo>
                  <a:lnTo>
                    <a:pt x="251" y="315"/>
                  </a:lnTo>
                  <a:lnTo>
                    <a:pt x="251" y="309"/>
                  </a:lnTo>
                  <a:lnTo>
                    <a:pt x="264" y="296"/>
                  </a:lnTo>
                  <a:lnTo>
                    <a:pt x="264" y="278"/>
                  </a:lnTo>
                  <a:lnTo>
                    <a:pt x="274" y="266"/>
                  </a:lnTo>
                  <a:lnTo>
                    <a:pt x="274" y="260"/>
                  </a:lnTo>
                  <a:lnTo>
                    <a:pt x="280" y="247"/>
                  </a:lnTo>
                  <a:lnTo>
                    <a:pt x="286" y="241"/>
                  </a:lnTo>
                  <a:lnTo>
                    <a:pt x="286" y="222"/>
                  </a:lnTo>
                  <a:lnTo>
                    <a:pt x="292" y="216"/>
                  </a:lnTo>
                  <a:lnTo>
                    <a:pt x="303" y="167"/>
                  </a:lnTo>
                  <a:lnTo>
                    <a:pt x="309" y="155"/>
                  </a:lnTo>
                  <a:lnTo>
                    <a:pt x="315" y="117"/>
                  </a:lnTo>
                  <a:lnTo>
                    <a:pt x="332" y="99"/>
                  </a:lnTo>
                  <a:lnTo>
                    <a:pt x="332" y="87"/>
                  </a:lnTo>
                  <a:lnTo>
                    <a:pt x="338" y="76"/>
                  </a:lnTo>
                  <a:lnTo>
                    <a:pt x="343" y="76"/>
                  </a:lnTo>
                  <a:lnTo>
                    <a:pt x="343" y="62"/>
                  </a:lnTo>
                  <a:lnTo>
                    <a:pt x="349" y="50"/>
                  </a:lnTo>
                  <a:lnTo>
                    <a:pt x="355" y="44"/>
                  </a:lnTo>
                  <a:lnTo>
                    <a:pt x="367" y="32"/>
                  </a:lnTo>
                  <a:lnTo>
                    <a:pt x="373" y="25"/>
                  </a:lnTo>
                  <a:lnTo>
                    <a:pt x="373" y="20"/>
                  </a:lnTo>
                  <a:lnTo>
                    <a:pt x="378" y="20"/>
                  </a:lnTo>
                  <a:lnTo>
                    <a:pt x="384" y="13"/>
                  </a:lnTo>
                  <a:lnTo>
                    <a:pt x="384" y="7"/>
                  </a:lnTo>
                  <a:lnTo>
                    <a:pt x="395" y="7"/>
                  </a:lnTo>
                  <a:lnTo>
                    <a:pt x="401" y="0"/>
                  </a:lnTo>
                  <a:lnTo>
                    <a:pt x="423" y="0"/>
                  </a:lnTo>
                  <a:lnTo>
                    <a:pt x="423" y="13"/>
                  </a:lnTo>
                  <a:lnTo>
                    <a:pt x="430" y="13"/>
                  </a:lnTo>
                  <a:lnTo>
                    <a:pt x="430" y="20"/>
                  </a:lnTo>
                  <a:lnTo>
                    <a:pt x="440" y="20"/>
                  </a:lnTo>
                  <a:lnTo>
                    <a:pt x="440" y="25"/>
                  </a:lnTo>
                  <a:lnTo>
                    <a:pt x="446" y="25"/>
                  </a:lnTo>
                  <a:lnTo>
                    <a:pt x="446" y="44"/>
                  </a:lnTo>
                  <a:lnTo>
                    <a:pt x="452" y="44"/>
                  </a:lnTo>
                  <a:lnTo>
                    <a:pt x="452" y="50"/>
                  </a:lnTo>
                  <a:lnTo>
                    <a:pt x="458" y="55"/>
                  </a:lnTo>
                  <a:lnTo>
                    <a:pt x="458" y="69"/>
                  </a:lnTo>
                  <a:lnTo>
                    <a:pt x="465" y="69"/>
                  </a:lnTo>
                  <a:lnTo>
                    <a:pt x="465" y="81"/>
                  </a:lnTo>
                  <a:lnTo>
                    <a:pt x="469" y="81"/>
                  </a:lnTo>
                  <a:lnTo>
                    <a:pt x="469" y="106"/>
                  </a:lnTo>
                  <a:lnTo>
                    <a:pt x="475" y="111"/>
                  </a:lnTo>
                  <a:lnTo>
                    <a:pt x="475" y="117"/>
                  </a:lnTo>
                  <a:lnTo>
                    <a:pt x="481" y="130"/>
                  </a:lnTo>
                  <a:lnTo>
                    <a:pt x="481" y="141"/>
                  </a:lnTo>
                  <a:lnTo>
                    <a:pt x="487" y="141"/>
                  </a:lnTo>
                  <a:lnTo>
                    <a:pt x="487" y="155"/>
                  </a:lnTo>
                  <a:lnTo>
                    <a:pt x="492" y="160"/>
                  </a:lnTo>
                  <a:lnTo>
                    <a:pt x="492" y="167"/>
                  </a:lnTo>
                  <a:lnTo>
                    <a:pt x="504" y="167"/>
                  </a:lnTo>
                  <a:lnTo>
                    <a:pt x="504" y="155"/>
                  </a:lnTo>
                  <a:lnTo>
                    <a:pt x="510" y="155"/>
                  </a:lnTo>
                  <a:lnTo>
                    <a:pt x="510" y="148"/>
                  </a:lnTo>
                  <a:lnTo>
                    <a:pt x="515" y="148"/>
                  </a:lnTo>
                  <a:lnTo>
                    <a:pt x="515" y="124"/>
                  </a:lnTo>
                  <a:lnTo>
                    <a:pt x="527" y="124"/>
                  </a:lnTo>
                  <a:lnTo>
                    <a:pt x="527" y="117"/>
                  </a:lnTo>
                  <a:lnTo>
                    <a:pt x="538" y="117"/>
                  </a:lnTo>
                  <a:lnTo>
                    <a:pt x="538" y="130"/>
                  </a:lnTo>
                  <a:lnTo>
                    <a:pt x="562" y="155"/>
                  </a:lnTo>
                  <a:lnTo>
                    <a:pt x="562" y="167"/>
                  </a:lnTo>
                  <a:lnTo>
                    <a:pt x="567" y="167"/>
                  </a:lnTo>
                  <a:lnTo>
                    <a:pt x="567" y="173"/>
                  </a:lnTo>
                  <a:lnTo>
                    <a:pt x="573" y="180"/>
                  </a:lnTo>
                  <a:lnTo>
                    <a:pt x="579" y="185"/>
                  </a:lnTo>
                  <a:lnTo>
                    <a:pt x="579" y="192"/>
                  </a:lnTo>
                  <a:lnTo>
                    <a:pt x="583" y="199"/>
                  </a:lnTo>
                  <a:lnTo>
                    <a:pt x="583" y="211"/>
                  </a:lnTo>
                  <a:lnTo>
                    <a:pt x="589" y="216"/>
                  </a:lnTo>
                  <a:lnTo>
                    <a:pt x="596" y="216"/>
                  </a:lnTo>
                  <a:lnTo>
                    <a:pt x="596" y="229"/>
                  </a:lnTo>
                  <a:lnTo>
                    <a:pt x="602" y="241"/>
                  </a:lnTo>
                  <a:lnTo>
                    <a:pt x="606" y="241"/>
                  </a:lnTo>
                  <a:lnTo>
                    <a:pt x="606" y="253"/>
                  </a:lnTo>
                  <a:lnTo>
                    <a:pt x="612" y="260"/>
                  </a:lnTo>
                  <a:lnTo>
                    <a:pt x="612" y="266"/>
                  </a:lnTo>
                  <a:lnTo>
                    <a:pt x="625" y="266"/>
                  </a:lnTo>
                  <a:lnTo>
                    <a:pt x="625" y="271"/>
                  </a:lnTo>
                  <a:lnTo>
                    <a:pt x="631" y="278"/>
                  </a:lnTo>
                  <a:lnTo>
                    <a:pt x="631" y="285"/>
                  </a:lnTo>
                  <a:lnTo>
                    <a:pt x="664" y="290"/>
                  </a:lnTo>
                  <a:lnTo>
                    <a:pt x="670" y="303"/>
                  </a:lnTo>
                  <a:lnTo>
                    <a:pt x="670" y="309"/>
                  </a:lnTo>
                  <a:lnTo>
                    <a:pt x="681" y="315"/>
                  </a:lnTo>
                  <a:lnTo>
                    <a:pt x="687" y="320"/>
                  </a:lnTo>
                  <a:lnTo>
                    <a:pt x="693" y="334"/>
                  </a:lnTo>
                  <a:lnTo>
                    <a:pt x="699" y="340"/>
                  </a:lnTo>
                  <a:lnTo>
                    <a:pt x="710" y="340"/>
                  </a:lnTo>
                  <a:lnTo>
                    <a:pt x="710" y="345"/>
                  </a:lnTo>
                  <a:lnTo>
                    <a:pt x="720" y="345"/>
                  </a:lnTo>
                  <a:lnTo>
                    <a:pt x="720" y="352"/>
                  </a:lnTo>
                  <a:lnTo>
                    <a:pt x="727" y="352"/>
                  </a:lnTo>
                  <a:lnTo>
                    <a:pt x="733" y="359"/>
                  </a:lnTo>
                  <a:lnTo>
                    <a:pt x="739" y="359"/>
                  </a:lnTo>
                  <a:lnTo>
                    <a:pt x="739" y="364"/>
                  </a:lnTo>
                  <a:lnTo>
                    <a:pt x="768" y="364"/>
                  </a:lnTo>
                  <a:lnTo>
                    <a:pt x="778" y="371"/>
                  </a:lnTo>
                  <a:lnTo>
                    <a:pt x="784" y="376"/>
                  </a:lnTo>
                  <a:lnTo>
                    <a:pt x="791" y="376"/>
                  </a:lnTo>
                  <a:lnTo>
                    <a:pt x="791" y="383"/>
                  </a:lnTo>
                  <a:lnTo>
                    <a:pt x="270" y="383"/>
                  </a:lnTo>
                  <a:lnTo>
                    <a:pt x="270" y="376"/>
                  </a:lnTo>
                  <a:lnTo>
                    <a:pt x="222" y="376"/>
                  </a:lnTo>
                  <a:lnTo>
                    <a:pt x="218" y="371"/>
                  </a:lnTo>
                  <a:lnTo>
                    <a:pt x="171" y="371"/>
                  </a:lnTo>
                  <a:lnTo>
                    <a:pt x="171" y="376"/>
                  </a:lnTo>
                  <a:lnTo>
                    <a:pt x="166" y="376"/>
                  </a:lnTo>
                  <a:lnTo>
                    <a:pt x="160" y="383"/>
                  </a:lnTo>
                  <a:lnTo>
                    <a:pt x="155" y="389"/>
                  </a:lnTo>
                  <a:lnTo>
                    <a:pt x="6" y="389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8abefc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666200" y="5584320"/>
              <a:ext cx="487080" cy="251280"/>
              <a:chOff x="7666200" y="5584320"/>
              <a:chExt cx="487080" cy="2512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804080" y="5584320"/>
                <a:ext cx="180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04080" y="5584680"/>
                <a:ext cx="2113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13600" y="5584680"/>
                <a:ext cx="1800" cy="250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13600" y="5834160"/>
                <a:ext cx="1396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666200" y="5834160"/>
                <a:ext cx="6984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7736040" y="5834160"/>
                <a:ext cx="6984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7594560" y="5437080"/>
              <a:ext cx="97488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523360" y="5454720"/>
              <a:ext cx="95040" cy="504720"/>
              <a:chOff x="8523360" y="5454720"/>
              <a:chExt cx="95040" cy="504720"/>
            </a:xfrm>
          </p:grpSpPr>
          <p:sp>
            <p:nvSpPr>
              <p:cNvPr id="106" name=""/>
              <p:cNvSpPr/>
              <p:nvPr/>
            </p:nvSpPr>
            <p:spPr>
              <a:xfrm>
                <a:off x="8550360" y="5454720"/>
                <a:ext cx="39600" cy="420480"/>
              </a:xfrm>
              <a:custGeom>
                <a:avLst/>
                <a:gdLst/>
                <a:ahLst/>
                <a:rect l="l" t="t" r="r" b="b"/>
                <a:pathLst>
                  <a:path w="50" h="531">
                    <a:moveTo>
                      <a:pt x="49" y="0"/>
                    </a:moveTo>
                    <a:lnTo>
                      <a:pt x="0" y="0"/>
                    </a:lnTo>
                    <a:lnTo>
                      <a:pt x="2" y="531"/>
                    </a:lnTo>
                    <a:lnTo>
                      <a:pt x="50" y="53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523360" y="5873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0" y="0"/>
                    </a:moveTo>
                    <a:lnTo>
                      <a:pt x="59" y="108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6900840" y="5956200"/>
              <a:ext cx="903240" cy="29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6000" y="598644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райвер связ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19840" y="5961240"/>
              <a:ext cx="1046160" cy="272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9480" y="5991120"/>
              <a:ext cx="82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Видеоконтролл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03880" y="5981760"/>
              <a:ext cx="558720" cy="252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7440" y="601488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Times New Roman"/>
                </a:rPr>
                <a:t>Б Ф Ц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762600" y="6072120"/>
              <a:ext cx="138240" cy="85680"/>
              <a:chOff x="6762600" y="6072120"/>
              <a:chExt cx="138240" cy="85680"/>
            </a:xfrm>
          </p:grpSpPr>
          <p:sp>
            <p:nvSpPr>
              <p:cNvPr id="115" name=""/>
              <p:cNvSpPr/>
              <p:nvPr/>
            </p:nvSpPr>
            <p:spPr>
              <a:xfrm>
                <a:off x="6850080" y="6093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64" y="42"/>
                    </a:moveTo>
                    <a:lnTo>
                      <a:pt x="57" y="0"/>
                    </a:lnTo>
                    <a:lnTo>
                      <a:pt x="0" y="7"/>
                    </a:lnTo>
                    <a:lnTo>
                      <a:pt x="6" y="49"/>
                    </a:lnTo>
                    <a:lnTo>
                      <a:pt x="64" y="4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62600" y="6072120"/>
                <a:ext cx="101880" cy="8568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112" y="0"/>
                    </a:moveTo>
                    <a:lnTo>
                      <a:pt x="0" y="68"/>
                    </a:lnTo>
                    <a:lnTo>
                      <a:pt x="128" y="10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807320" y="6067440"/>
              <a:ext cx="277920" cy="85680"/>
              <a:chOff x="7807320" y="6067440"/>
              <a:chExt cx="277920" cy="85680"/>
            </a:xfrm>
          </p:grpSpPr>
          <p:sp>
            <p:nvSpPr>
              <p:cNvPr id="118" name=""/>
              <p:cNvSpPr/>
              <p:nvPr/>
            </p:nvSpPr>
            <p:spPr>
              <a:xfrm>
                <a:off x="7899480" y="6091200"/>
                <a:ext cx="185760" cy="36720"/>
              </a:xfrm>
              <a:custGeom>
                <a:avLst/>
                <a:gdLst/>
                <a:ahLst/>
                <a:rect l="l" t="t" r="r" b="b"/>
                <a:pathLst>
                  <a:path w="235" h="45">
                    <a:moveTo>
                      <a:pt x="235" y="43"/>
                    </a:moveTo>
                    <a:lnTo>
                      <a:pt x="235" y="0"/>
                    </a:lnTo>
                    <a:lnTo>
                      <a:pt x="0" y="1"/>
                    </a:lnTo>
                    <a:lnTo>
                      <a:pt x="0" y="45"/>
                    </a:lnTo>
                    <a:lnTo>
                      <a:pt x="235" y="4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807320" y="606744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0"/>
                    </a:moveTo>
                    <a:lnTo>
                      <a:pt x="0" y="54"/>
                    </a:lnTo>
                    <a:lnTo>
                      <a:pt x="121" y="108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066000" y="6066000"/>
              <a:ext cx="137880" cy="87120"/>
              <a:chOff x="6066000" y="6066000"/>
              <a:chExt cx="137880" cy="87120"/>
            </a:xfrm>
          </p:grpSpPr>
          <p:sp>
            <p:nvSpPr>
              <p:cNvPr id="121" name=""/>
              <p:cNvSpPr/>
              <p:nvPr/>
            </p:nvSpPr>
            <p:spPr>
              <a:xfrm>
                <a:off x="6157800" y="6091200"/>
                <a:ext cx="46080" cy="3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66000" y="6066000"/>
                <a:ext cx="96840" cy="87120"/>
              </a:xfrm>
              <a:custGeom>
                <a:avLst/>
                <a:gdLst/>
                <a:ahLst/>
                <a:rect l="l" t="t" r="r" b="b"/>
                <a:pathLst>
                  <a:path w="122" h="109">
                    <a:moveTo>
                      <a:pt x="120" y="0"/>
                    </a:moveTo>
                    <a:lnTo>
                      <a:pt x="0" y="57"/>
                    </a:lnTo>
                    <a:lnTo>
                      <a:pt x="122" y="109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878360" y="3243240"/>
              <a:ext cx="34920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7268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5800" y="3243240"/>
              <a:ext cx="35064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780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4840" y="3243240"/>
              <a:ext cx="34920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5360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7880" y="3605040"/>
              <a:ext cx="90504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040360" y="3371760"/>
              <a:ext cx="95040" cy="249480"/>
              <a:chOff x="5040360" y="3371760"/>
              <a:chExt cx="95040" cy="24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5068800" y="3454560"/>
                <a:ext cx="38160" cy="166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40360" y="3371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1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46840" y="3371760"/>
              <a:ext cx="95040" cy="249480"/>
              <a:chOff x="5946840" y="3371760"/>
              <a:chExt cx="95040" cy="249480"/>
            </a:xfrm>
          </p:grpSpPr>
          <p:sp>
            <p:nvSpPr>
              <p:cNvPr id="134" name=""/>
              <p:cNvSpPr/>
              <p:nvPr/>
            </p:nvSpPr>
            <p:spPr>
              <a:xfrm>
                <a:off x="5973840" y="3454560"/>
                <a:ext cx="39600" cy="166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6840" y="3371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0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448240" y="3668760"/>
              <a:ext cx="95400" cy="2292480"/>
              <a:chOff x="5448240" y="3668760"/>
              <a:chExt cx="95400" cy="22924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75240" y="3753000"/>
                <a:ext cx="39600" cy="2208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48240" y="3668760"/>
                <a:ext cx="95400" cy="87120"/>
              </a:xfrm>
              <a:custGeom>
                <a:avLst/>
                <a:gdLst/>
                <a:ahLst/>
                <a:rect l="l" t="t" r="r" b="b"/>
                <a:pathLst>
                  <a:path w="120" h="109">
                    <a:moveTo>
                      <a:pt x="120" y="109"/>
                    </a:moveTo>
                    <a:lnTo>
                      <a:pt x="59" y="0"/>
                    </a:lnTo>
                    <a:lnTo>
                      <a:pt x="0" y="109"/>
                    </a:lnTo>
                    <a:lnTo>
                      <a:pt x="120" y="1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459400" y="3371760"/>
              <a:ext cx="95400" cy="249480"/>
              <a:chOff x="5459400" y="3371760"/>
              <a:chExt cx="95400" cy="24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5484960" y="3454560"/>
                <a:ext cx="41040" cy="166680"/>
              </a:xfrm>
              <a:custGeom>
                <a:avLst/>
                <a:gdLst/>
                <a:ahLst/>
                <a:rect l="l" t="t" r="r" b="b"/>
                <a:pathLst>
                  <a:path w="50" h="210">
                    <a:moveTo>
                      <a:pt x="0" y="210"/>
                    </a:moveTo>
                    <a:lnTo>
                      <a:pt x="49" y="210"/>
                    </a:lnTo>
                    <a:lnTo>
                      <a:pt x="50" y="0"/>
                    </a:lnTo>
                    <a:lnTo>
                      <a:pt x="2" y="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59400" y="33717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1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484960" y="2928960"/>
              <a:ext cx="41040" cy="314280"/>
            </a:xfrm>
            <a:custGeom>
              <a:avLst/>
              <a:gdLst/>
              <a:ahLst/>
              <a:rect l="l" t="t" r="r" b="b"/>
              <a:pathLst>
                <a:path w="50" h="395">
                  <a:moveTo>
                    <a:pt x="0" y="395"/>
                  </a:moveTo>
                  <a:lnTo>
                    <a:pt x="49" y="395"/>
                  </a:lnTo>
                  <a:lnTo>
                    <a:pt x="50" y="0"/>
                  </a:lnTo>
                  <a:lnTo>
                    <a:pt x="2" y="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98960" y="2928960"/>
              <a:ext cx="38160" cy="31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4000" y="2928960"/>
              <a:ext cx="38160" cy="31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018040" y="2882880"/>
              <a:ext cx="1116000" cy="92160"/>
              <a:chOff x="5018040" y="2882880"/>
              <a:chExt cx="1116000" cy="92160"/>
            </a:xfrm>
          </p:grpSpPr>
          <p:sp>
            <p:nvSpPr>
              <p:cNvPr id="146" name=""/>
              <p:cNvSpPr/>
              <p:nvPr/>
            </p:nvSpPr>
            <p:spPr>
              <a:xfrm>
                <a:off x="5018040" y="2909880"/>
                <a:ext cx="1014480" cy="38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29280" y="288288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0" y="116"/>
                    </a:moveTo>
                    <a:lnTo>
                      <a:pt x="131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132600" y="1646280"/>
              <a:ext cx="118404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67520" y="167652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Электронные пуш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5080" y="193032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x = 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2440" y="193032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6040" y="1920960"/>
              <a:ext cx="7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6680" y="1987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57560" y="1930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23800" y="1930320"/>
              <a:ext cx="39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( i =1...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711840" y="2273400"/>
              <a:ext cx="95400" cy="501480"/>
              <a:chOff x="6711840" y="2273400"/>
              <a:chExt cx="95400" cy="501480"/>
            </a:xfrm>
          </p:grpSpPr>
          <p:sp>
            <p:nvSpPr>
              <p:cNvPr id="157" name=""/>
              <p:cNvSpPr/>
              <p:nvPr/>
            </p:nvSpPr>
            <p:spPr>
              <a:xfrm>
                <a:off x="6738840" y="2273400"/>
                <a:ext cx="39960" cy="417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11840" y="26892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0" y="0"/>
                    </a:moveTo>
                    <a:lnTo>
                      <a:pt x="61" y="108"/>
                    </a:lnTo>
                    <a:lnTo>
                      <a:pt x="1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32600" y="2774880"/>
              <a:ext cx="1190520" cy="1819440"/>
              <a:chOff x="6132600" y="2774880"/>
              <a:chExt cx="1190520" cy="1819440"/>
            </a:xfrm>
          </p:grpSpPr>
          <p:sp>
            <p:nvSpPr>
              <p:cNvPr id="160" name=""/>
              <p:cNvSpPr/>
              <p:nvPr/>
            </p:nvSpPr>
            <p:spPr>
              <a:xfrm>
                <a:off x="6138720" y="2774880"/>
                <a:ext cx="1184400" cy="62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24040" y="2805120"/>
                <a:ext cx="355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0000ff"/>
                    </a:solidFill>
                    <a:latin typeface="Times New Roman"/>
                  </a:rPr>
                  <a:t>Управл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2200" y="2805120"/>
                <a:ext cx="541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.  пластины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0880" y="3056040"/>
                <a:ext cx="819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Интенсивность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94400" y="3179880"/>
                <a:ext cx="31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Q = T 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79960" y="317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18120" y="3238560"/>
                <a:ext cx="45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ff"/>
                    </a:solidFill>
                    <a:latin typeface="Times New Roman"/>
                  </a:rPr>
                  <a:t>и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718320" y="3400560"/>
                <a:ext cx="95400" cy="253800"/>
                <a:chOff x="6718320" y="3400560"/>
                <a:chExt cx="95400" cy="2538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745320" y="3400560"/>
                  <a:ext cx="3816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18320" y="356724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20" h="110">
                      <a:moveTo>
                        <a:pt x="0" y="0"/>
                      </a:moveTo>
                      <a:lnTo>
                        <a:pt x="59" y="110"/>
                      </a:lnTo>
                      <a:lnTo>
                        <a:pt x="1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718320" y="4280040"/>
                <a:ext cx="95400" cy="314280"/>
                <a:chOff x="6718320" y="4280040"/>
                <a:chExt cx="95400" cy="314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745320" y="4280040"/>
                  <a:ext cx="38160" cy="2300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718320" y="4506840"/>
                  <a:ext cx="95400" cy="87480"/>
                </a:xfrm>
                <a:custGeom>
                  <a:avLst/>
                  <a:gdLst/>
                  <a:ahLst/>
                  <a:rect l="l" t="t" r="r" b="b"/>
                  <a:pathLst>
                    <a:path w="120" h="110">
                      <a:moveTo>
                        <a:pt x="0" y="0"/>
                      </a:moveTo>
                      <a:lnTo>
                        <a:pt x="59" y="110"/>
                      </a:lnTo>
                      <a:lnTo>
                        <a:pt x="1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132600" y="2944800"/>
                <a:ext cx="1184040" cy="36360"/>
              </a:xfrm>
              <a:custGeom>
                <a:avLst/>
                <a:gdLst/>
                <a:ahLst/>
                <a:rect l="l" t="t" r="r" b="b"/>
                <a:pathLst>
                  <a:path w="1491" h="45">
                    <a:moveTo>
                      <a:pt x="0" y="0"/>
                    </a:moveTo>
                    <a:lnTo>
                      <a:pt x="0" y="43"/>
                    </a:lnTo>
                    <a:lnTo>
                      <a:pt x="1491" y="45"/>
                    </a:lnTo>
                    <a:lnTo>
                      <a:pt x="149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132600" y="1816200"/>
              <a:ext cx="1184040" cy="36360"/>
            </a:xfrm>
            <a:custGeom>
              <a:avLst/>
              <a:gdLst/>
              <a:ahLst/>
              <a:rect l="l" t="t" r="r" b="b"/>
              <a:pathLst>
                <a:path w="1491" h="45">
                  <a:moveTo>
                    <a:pt x="0" y="0"/>
                  </a:moveTo>
                  <a:lnTo>
                    <a:pt x="0" y="43"/>
                  </a:lnTo>
                  <a:lnTo>
                    <a:pt x="1491" y="45"/>
                  </a:lnTo>
                  <a:lnTo>
                    <a:pt x="149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23080" y="4575240"/>
              <a:ext cx="1673280" cy="1193760"/>
              <a:chOff x="5923080" y="4575240"/>
              <a:chExt cx="1673280" cy="1193760"/>
            </a:xfrm>
          </p:grpSpPr>
          <p:sp>
            <p:nvSpPr>
              <p:cNvPr id="176" name=""/>
              <p:cNvSpPr/>
              <p:nvPr/>
            </p:nvSpPr>
            <p:spPr>
              <a:xfrm>
                <a:off x="5923080" y="5311800"/>
                <a:ext cx="1671480" cy="3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23080" y="4575240"/>
                <a:ext cx="1673280" cy="1193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14600" y="4606920"/>
                <a:ext cx="1132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Зрительный анализатор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22160" y="4730760"/>
                <a:ext cx="39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Паттерн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94480" y="4730760"/>
                <a:ext cx="704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0000ff"/>
                    </a:solidFill>
                    <a:latin typeface="Times New Roman"/>
                  </a:rPr>
                  <a:t>цветостимулов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373800" y="4856040"/>
                <a:ext cx="671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ЖЗ+ЖС+ЖЗС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04040" y="4979880"/>
                <a:ext cx="622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Паттерн ЭЭГ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2280" y="5099040"/>
                <a:ext cx="159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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87920" y="5111640"/>
                <a:ext cx="115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ff"/>
                    </a:solidFill>
                    <a:latin typeface="Times New Roman"/>
                  </a:rPr>
                  <a:t>+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13560" y="5099040"/>
                <a:ext cx="17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45040" y="5111640"/>
                <a:ext cx="115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ff"/>
                    </a:solidFill>
                    <a:latin typeface="Times New Roman"/>
                  </a:rPr>
                  <a:t>+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70680" y="5099040"/>
                <a:ext cx="247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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93880" y="5376960"/>
                <a:ext cx="1021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Дыхательная система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68560" y="5527800"/>
                <a:ext cx="33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ff"/>
                    </a:solidFill>
                    <a:latin typeface="Times New Roman"/>
                  </a:rPr>
                  <a:t>Сердце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3080" y="4764240"/>
                <a:ext cx="1671480" cy="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23080" y="5319720"/>
                <a:ext cx="1671480" cy="20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662440" y="3624120"/>
              <a:ext cx="103320" cy="1624320"/>
              <a:chOff x="5662440" y="3624120"/>
              <a:chExt cx="103320" cy="1624320"/>
            </a:xfrm>
          </p:grpSpPr>
          <p:sp>
            <p:nvSpPr>
              <p:cNvPr id="193" name=""/>
              <p:cNvSpPr/>
              <p:nvPr/>
            </p:nvSpPr>
            <p:spPr>
              <a:xfrm>
                <a:off x="5692680" y="3713040"/>
                <a:ext cx="42840" cy="153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62440" y="362412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129" h="116">
                    <a:moveTo>
                      <a:pt x="129" y="116"/>
                    </a:moveTo>
                    <a:lnTo>
                      <a:pt x="65" y="0"/>
                    </a:lnTo>
                    <a:lnTo>
                      <a:pt x="0" y="116"/>
                    </a:lnTo>
                    <a:lnTo>
                      <a:pt x="129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5713560" y="5245200"/>
              <a:ext cx="209520" cy="39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68880" y="3652920"/>
              <a:ext cx="139392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52200" y="3683160"/>
              <a:ext cx="72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Экран  диспле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068880" y="3892680"/>
              <a:ext cx="1392480" cy="325440"/>
              <a:chOff x="6068880" y="3892680"/>
              <a:chExt cx="1392480" cy="325440"/>
            </a:xfrm>
          </p:grpSpPr>
          <p:sp>
            <p:nvSpPr>
              <p:cNvPr id="199" name=""/>
              <p:cNvSpPr/>
              <p:nvPr/>
            </p:nvSpPr>
            <p:spPr>
              <a:xfrm>
                <a:off x="6068880" y="3892680"/>
                <a:ext cx="1392480" cy="1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973920" y="3987720"/>
                <a:ext cx="349200" cy="187560"/>
                <a:chOff x="6973920" y="3987720"/>
                <a:chExt cx="349200" cy="1875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973920" y="3987720"/>
                  <a:ext cx="349200" cy="18756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03260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10244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194600" y="3987720"/>
                  <a:ext cx="205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26264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203880" y="3902040"/>
                <a:ext cx="625680" cy="316080"/>
                <a:chOff x="6203880" y="3902040"/>
                <a:chExt cx="625680" cy="31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346800" y="4091040"/>
                  <a:ext cx="71640" cy="1440"/>
                </a:xfrm>
                <a:prstGeom prst="ellipse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6203880" y="3987720"/>
                  <a:ext cx="349200" cy="187560"/>
                  <a:chOff x="6203880" y="3987720"/>
                  <a:chExt cx="349200" cy="1875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6203880" y="3987720"/>
                    <a:ext cx="34920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262560" y="3987720"/>
                    <a:ext cx="22320" cy="1857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332400" y="3987720"/>
                    <a:ext cx="22320" cy="1857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423120" y="3987720"/>
                    <a:ext cx="21960" cy="1857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492960" y="3987720"/>
                    <a:ext cx="22320" cy="1857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6757920" y="3902040"/>
                  <a:ext cx="71640" cy="31608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757920" y="4087800"/>
                  <a:ext cx="71640" cy="130320"/>
                </a:xfrm>
                <a:prstGeom prst="rect">
                  <a:avLst/>
                </a:prstGeom>
                <a:solidFill>
                  <a:srgbClr val="0000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8070840" y="5927760"/>
              <a:ext cx="1044720" cy="31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81720" y="5958000"/>
              <a:ext cx="72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атчик  пульс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34240" y="5140440"/>
              <a:ext cx="627120" cy="312480"/>
            </a:xfrm>
            <a:custGeom>
              <a:avLst/>
              <a:gdLst/>
              <a:ahLst/>
              <a:rect l="l" t="t" r="r" b="b"/>
              <a:pathLst>
                <a:path w="791" h="396">
                  <a:moveTo>
                    <a:pt x="0" y="396"/>
                  </a:moveTo>
                  <a:lnTo>
                    <a:pt x="23" y="383"/>
                  </a:lnTo>
                  <a:lnTo>
                    <a:pt x="23" y="389"/>
                  </a:lnTo>
                  <a:lnTo>
                    <a:pt x="34" y="389"/>
                  </a:lnTo>
                  <a:lnTo>
                    <a:pt x="34" y="364"/>
                  </a:lnTo>
                  <a:lnTo>
                    <a:pt x="40" y="364"/>
                  </a:lnTo>
                  <a:lnTo>
                    <a:pt x="40" y="359"/>
                  </a:lnTo>
                  <a:lnTo>
                    <a:pt x="46" y="359"/>
                  </a:lnTo>
                  <a:lnTo>
                    <a:pt x="46" y="352"/>
                  </a:lnTo>
                  <a:lnTo>
                    <a:pt x="52" y="352"/>
                  </a:lnTo>
                  <a:lnTo>
                    <a:pt x="52" y="345"/>
                  </a:lnTo>
                  <a:lnTo>
                    <a:pt x="58" y="345"/>
                  </a:lnTo>
                  <a:lnTo>
                    <a:pt x="58" y="340"/>
                  </a:lnTo>
                  <a:lnTo>
                    <a:pt x="69" y="340"/>
                  </a:lnTo>
                  <a:lnTo>
                    <a:pt x="69" y="334"/>
                  </a:lnTo>
                  <a:lnTo>
                    <a:pt x="81" y="334"/>
                  </a:lnTo>
                  <a:lnTo>
                    <a:pt x="81" y="327"/>
                  </a:lnTo>
                  <a:lnTo>
                    <a:pt x="91" y="320"/>
                  </a:lnTo>
                  <a:lnTo>
                    <a:pt x="120" y="320"/>
                  </a:lnTo>
                  <a:lnTo>
                    <a:pt x="120" y="327"/>
                  </a:lnTo>
                  <a:lnTo>
                    <a:pt x="125" y="327"/>
                  </a:lnTo>
                  <a:lnTo>
                    <a:pt x="125" y="334"/>
                  </a:lnTo>
                  <a:lnTo>
                    <a:pt x="131" y="334"/>
                  </a:lnTo>
                  <a:lnTo>
                    <a:pt x="131" y="345"/>
                  </a:lnTo>
                  <a:lnTo>
                    <a:pt x="137" y="352"/>
                  </a:lnTo>
                  <a:lnTo>
                    <a:pt x="137" y="359"/>
                  </a:lnTo>
                  <a:lnTo>
                    <a:pt x="149" y="359"/>
                  </a:lnTo>
                  <a:lnTo>
                    <a:pt x="149" y="364"/>
                  </a:lnTo>
                  <a:lnTo>
                    <a:pt x="160" y="364"/>
                  </a:lnTo>
                  <a:lnTo>
                    <a:pt x="160" y="371"/>
                  </a:lnTo>
                  <a:lnTo>
                    <a:pt x="166" y="371"/>
                  </a:lnTo>
                  <a:lnTo>
                    <a:pt x="166" y="376"/>
                  </a:lnTo>
                  <a:lnTo>
                    <a:pt x="183" y="376"/>
                  </a:lnTo>
                  <a:lnTo>
                    <a:pt x="183" y="383"/>
                  </a:lnTo>
                  <a:lnTo>
                    <a:pt x="206" y="383"/>
                  </a:lnTo>
                  <a:lnTo>
                    <a:pt x="206" y="376"/>
                  </a:lnTo>
                  <a:lnTo>
                    <a:pt x="212" y="376"/>
                  </a:lnTo>
                  <a:lnTo>
                    <a:pt x="218" y="371"/>
                  </a:lnTo>
                  <a:lnTo>
                    <a:pt x="218" y="364"/>
                  </a:lnTo>
                  <a:lnTo>
                    <a:pt x="241" y="340"/>
                  </a:lnTo>
                  <a:lnTo>
                    <a:pt x="241" y="334"/>
                  </a:lnTo>
                  <a:lnTo>
                    <a:pt x="245" y="327"/>
                  </a:lnTo>
                  <a:lnTo>
                    <a:pt x="251" y="315"/>
                  </a:lnTo>
                  <a:lnTo>
                    <a:pt x="251" y="309"/>
                  </a:lnTo>
                  <a:lnTo>
                    <a:pt x="264" y="296"/>
                  </a:lnTo>
                  <a:lnTo>
                    <a:pt x="264" y="278"/>
                  </a:lnTo>
                  <a:lnTo>
                    <a:pt x="274" y="266"/>
                  </a:lnTo>
                  <a:lnTo>
                    <a:pt x="274" y="260"/>
                  </a:lnTo>
                  <a:lnTo>
                    <a:pt x="280" y="247"/>
                  </a:lnTo>
                  <a:lnTo>
                    <a:pt x="286" y="241"/>
                  </a:lnTo>
                  <a:lnTo>
                    <a:pt x="286" y="222"/>
                  </a:lnTo>
                  <a:lnTo>
                    <a:pt x="292" y="216"/>
                  </a:lnTo>
                  <a:lnTo>
                    <a:pt x="303" y="167"/>
                  </a:lnTo>
                  <a:lnTo>
                    <a:pt x="309" y="155"/>
                  </a:lnTo>
                  <a:lnTo>
                    <a:pt x="315" y="117"/>
                  </a:lnTo>
                  <a:lnTo>
                    <a:pt x="332" y="99"/>
                  </a:lnTo>
                  <a:lnTo>
                    <a:pt x="332" y="87"/>
                  </a:lnTo>
                  <a:lnTo>
                    <a:pt x="338" y="76"/>
                  </a:lnTo>
                  <a:lnTo>
                    <a:pt x="343" y="76"/>
                  </a:lnTo>
                  <a:lnTo>
                    <a:pt x="343" y="62"/>
                  </a:lnTo>
                  <a:lnTo>
                    <a:pt x="349" y="50"/>
                  </a:lnTo>
                  <a:lnTo>
                    <a:pt x="355" y="44"/>
                  </a:lnTo>
                  <a:lnTo>
                    <a:pt x="367" y="32"/>
                  </a:lnTo>
                  <a:lnTo>
                    <a:pt x="373" y="25"/>
                  </a:lnTo>
                  <a:lnTo>
                    <a:pt x="373" y="20"/>
                  </a:lnTo>
                  <a:lnTo>
                    <a:pt x="378" y="20"/>
                  </a:lnTo>
                  <a:lnTo>
                    <a:pt x="384" y="13"/>
                  </a:lnTo>
                  <a:lnTo>
                    <a:pt x="384" y="7"/>
                  </a:lnTo>
                  <a:lnTo>
                    <a:pt x="395" y="7"/>
                  </a:lnTo>
                  <a:lnTo>
                    <a:pt x="401" y="0"/>
                  </a:lnTo>
                  <a:lnTo>
                    <a:pt x="423" y="0"/>
                  </a:lnTo>
                  <a:lnTo>
                    <a:pt x="423" y="13"/>
                  </a:lnTo>
                  <a:lnTo>
                    <a:pt x="430" y="13"/>
                  </a:lnTo>
                  <a:lnTo>
                    <a:pt x="430" y="20"/>
                  </a:lnTo>
                  <a:lnTo>
                    <a:pt x="440" y="20"/>
                  </a:lnTo>
                  <a:lnTo>
                    <a:pt x="440" y="25"/>
                  </a:lnTo>
                  <a:lnTo>
                    <a:pt x="446" y="25"/>
                  </a:lnTo>
                  <a:lnTo>
                    <a:pt x="446" y="44"/>
                  </a:lnTo>
                  <a:lnTo>
                    <a:pt x="452" y="44"/>
                  </a:lnTo>
                  <a:lnTo>
                    <a:pt x="452" y="50"/>
                  </a:lnTo>
                  <a:lnTo>
                    <a:pt x="458" y="55"/>
                  </a:lnTo>
                  <a:lnTo>
                    <a:pt x="458" y="69"/>
                  </a:lnTo>
                  <a:lnTo>
                    <a:pt x="465" y="69"/>
                  </a:lnTo>
                  <a:lnTo>
                    <a:pt x="465" y="81"/>
                  </a:lnTo>
                  <a:lnTo>
                    <a:pt x="469" y="81"/>
                  </a:lnTo>
                  <a:lnTo>
                    <a:pt x="469" y="106"/>
                  </a:lnTo>
                  <a:lnTo>
                    <a:pt x="475" y="111"/>
                  </a:lnTo>
                  <a:lnTo>
                    <a:pt x="475" y="117"/>
                  </a:lnTo>
                  <a:lnTo>
                    <a:pt x="481" y="130"/>
                  </a:lnTo>
                  <a:lnTo>
                    <a:pt x="481" y="141"/>
                  </a:lnTo>
                  <a:lnTo>
                    <a:pt x="487" y="141"/>
                  </a:lnTo>
                  <a:lnTo>
                    <a:pt x="487" y="155"/>
                  </a:lnTo>
                  <a:lnTo>
                    <a:pt x="492" y="160"/>
                  </a:lnTo>
                  <a:lnTo>
                    <a:pt x="492" y="167"/>
                  </a:lnTo>
                  <a:lnTo>
                    <a:pt x="504" y="167"/>
                  </a:lnTo>
                  <a:lnTo>
                    <a:pt x="504" y="155"/>
                  </a:lnTo>
                  <a:lnTo>
                    <a:pt x="510" y="155"/>
                  </a:lnTo>
                  <a:lnTo>
                    <a:pt x="510" y="148"/>
                  </a:lnTo>
                  <a:lnTo>
                    <a:pt x="515" y="148"/>
                  </a:lnTo>
                  <a:lnTo>
                    <a:pt x="515" y="124"/>
                  </a:lnTo>
                  <a:lnTo>
                    <a:pt x="527" y="124"/>
                  </a:lnTo>
                  <a:lnTo>
                    <a:pt x="527" y="117"/>
                  </a:lnTo>
                  <a:lnTo>
                    <a:pt x="538" y="117"/>
                  </a:lnTo>
                  <a:lnTo>
                    <a:pt x="538" y="130"/>
                  </a:lnTo>
                  <a:lnTo>
                    <a:pt x="562" y="155"/>
                  </a:lnTo>
                  <a:lnTo>
                    <a:pt x="562" y="167"/>
                  </a:lnTo>
                  <a:lnTo>
                    <a:pt x="567" y="167"/>
                  </a:lnTo>
                  <a:lnTo>
                    <a:pt x="567" y="173"/>
                  </a:lnTo>
                  <a:lnTo>
                    <a:pt x="573" y="180"/>
                  </a:lnTo>
                  <a:lnTo>
                    <a:pt x="579" y="185"/>
                  </a:lnTo>
                  <a:lnTo>
                    <a:pt x="579" y="192"/>
                  </a:lnTo>
                  <a:lnTo>
                    <a:pt x="583" y="199"/>
                  </a:lnTo>
                  <a:lnTo>
                    <a:pt x="583" y="211"/>
                  </a:lnTo>
                  <a:lnTo>
                    <a:pt x="589" y="216"/>
                  </a:lnTo>
                  <a:lnTo>
                    <a:pt x="596" y="216"/>
                  </a:lnTo>
                  <a:lnTo>
                    <a:pt x="596" y="229"/>
                  </a:lnTo>
                  <a:lnTo>
                    <a:pt x="602" y="241"/>
                  </a:lnTo>
                  <a:lnTo>
                    <a:pt x="606" y="241"/>
                  </a:lnTo>
                  <a:lnTo>
                    <a:pt x="606" y="253"/>
                  </a:lnTo>
                  <a:lnTo>
                    <a:pt x="612" y="260"/>
                  </a:lnTo>
                  <a:lnTo>
                    <a:pt x="612" y="266"/>
                  </a:lnTo>
                  <a:lnTo>
                    <a:pt x="625" y="266"/>
                  </a:lnTo>
                  <a:lnTo>
                    <a:pt x="625" y="271"/>
                  </a:lnTo>
                  <a:lnTo>
                    <a:pt x="631" y="278"/>
                  </a:lnTo>
                  <a:lnTo>
                    <a:pt x="631" y="285"/>
                  </a:lnTo>
                  <a:lnTo>
                    <a:pt x="664" y="290"/>
                  </a:lnTo>
                  <a:lnTo>
                    <a:pt x="670" y="303"/>
                  </a:lnTo>
                  <a:lnTo>
                    <a:pt x="670" y="309"/>
                  </a:lnTo>
                  <a:lnTo>
                    <a:pt x="681" y="315"/>
                  </a:lnTo>
                  <a:lnTo>
                    <a:pt x="687" y="320"/>
                  </a:lnTo>
                  <a:lnTo>
                    <a:pt x="693" y="334"/>
                  </a:lnTo>
                  <a:lnTo>
                    <a:pt x="699" y="340"/>
                  </a:lnTo>
                  <a:lnTo>
                    <a:pt x="710" y="340"/>
                  </a:lnTo>
                  <a:lnTo>
                    <a:pt x="710" y="345"/>
                  </a:lnTo>
                  <a:lnTo>
                    <a:pt x="720" y="345"/>
                  </a:lnTo>
                  <a:lnTo>
                    <a:pt x="720" y="352"/>
                  </a:lnTo>
                  <a:lnTo>
                    <a:pt x="727" y="352"/>
                  </a:lnTo>
                  <a:lnTo>
                    <a:pt x="733" y="359"/>
                  </a:lnTo>
                  <a:lnTo>
                    <a:pt x="739" y="359"/>
                  </a:lnTo>
                  <a:lnTo>
                    <a:pt x="739" y="364"/>
                  </a:lnTo>
                  <a:lnTo>
                    <a:pt x="768" y="364"/>
                  </a:lnTo>
                  <a:lnTo>
                    <a:pt x="778" y="371"/>
                  </a:lnTo>
                  <a:lnTo>
                    <a:pt x="784" y="376"/>
                  </a:lnTo>
                  <a:lnTo>
                    <a:pt x="791" y="376"/>
                  </a:lnTo>
                  <a:lnTo>
                    <a:pt x="791" y="383"/>
                  </a:lnTo>
                  <a:lnTo>
                    <a:pt x="270" y="383"/>
                  </a:lnTo>
                  <a:lnTo>
                    <a:pt x="270" y="376"/>
                  </a:lnTo>
                  <a:lnTo>
                    <a:pt x="222" y="376"/>
                  </a:lnTo>
                  <a:lnTo>
                    <a:pt x="218" y="371"/>
                  </a:lnTo>
                  <a:lnTo>
                    <a:pt x="171" y="371"/>
                  </a:lnTo>
                  <a:lnTo>
                    <a:pt x="171" y="376"/>
                  </a:lnTo>
                  <a:lnTo>
                    <a:pt x="166" y="376"/>
                  </a:lnTo>
                  <a:lnTo>
                    <a:pt x="160" y="383"/>
                  </a:lnTo>
                  <a:lnTo>
                    <a:pt x="155" y="389"/>
                  </a:lnTo>
                  <a:lnTo>
                    <a:pt x="6" y="389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8abefc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804080" y="5584320"/>
              <a:ext cx="180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04080" y="5584680"/>
              <a:ext cx="2113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13600" y="5584680"/>
              <a:ext cx="180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13600" y="5834160"/>
              <a:ext cx="1396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666200" y="5834160"/>
              <a:ext cx="698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736040" y="5834160"/>
              <a:ext cx="698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804080" y="5584320"/>
              <a:ext cx="180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04080" y="5584680"/>
              <a:ext cx="2113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13600" y="5584680"/>
              <a:ext cx="1800" cy="25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3600" y="5834160"/>
              <a:ext cx="1396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666200" y="5834160"/>
              <a:ext cx="698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736040" y="5834160"/>
              <a:ext cx="698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94560" y="5437080"/>
              <a:ext cx="97488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8523360" y="5454720"/>
              <a:ext cx="95040" cy="504720"/>
              <a:chOff x="8523360" y="5454720"/>
              <a:chExt cx="95040" cy="504720"/>
            </a:xfrm>
          </p:grpSpPr>
          <p:sp>
            <p:nvSpPr>
              <p:cNvPr id="233" name=""/>
              <p:cNvSpPr/>
              <p:nvPr/>
            </p:nvSpPr>
            <p:spPr>
              <a:xfrm>
                <a:off x="8550360" y="5454720"/>
                <a:ext cx="39600" cy="420480"/>
              </a:xfrm>
              <a:custGeom>
                <a:avLst/>
                <a:gdLst/>
                <a:ahLst/>
                <a:rect l="l" t="t" r="r" b="b"/>
                <a:pathLst>
                  <a:path w="50" h="531">
                    <a:moveTo>
                      <a:pt x="49" y="0"/>
                    </a:moveTo>
                    <a:lnTo>
                      <a:pt x="0" y="0"/>
                    </a:lnTo>
                    <a:lnTo>
                      <a:pt x="2" y="531"/>
                    </a:lnTo>
                    <a:lnTo>
                      <a:pt x="50" y="53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23360" y="5873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0" y="0"/>
                    </a:moveTo>
                    <a:lnTo>
                      <a:pt x="59" y="108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900840" y="5956200"/>
              <a:ext cx="903240" cy="29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66000" y="598644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райвер связ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9840" y="5961240"/>
              <a:ext cx="1046160" cy="272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9480" y="5991120"/>
              <a:ext cx="82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Видеоконтролл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03880" y="5981760"/>
              <a:ext cx="558720" cy="252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7440" y="601488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Times New Roman"/>
                </a:rPr>
                <a:t>Б Ф Ц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762600" y="6072120"/>
              <a:ext cx="138240" cy="85680"/>
              <a:chOff x="6762600" y="6072120"/>
              <a:chExt cx="138240" cy="85680"/>
            </a:xfrm>
          </p:grpSpPr>
          <p:sp>
            <p:nvSpPr>
              <p:cNvPr id="242" name=""/>
              <p:cNvSpPr/>
              <p:nvPr/>
            </p:nvSpPr>
            <p:spPr>
              <a:xfrm>
                <a:off x="6850080" y="6093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64" y="42"/>
                    </a:moveTo>
                    <a:lnTo>
                      <a:pt x="57" y="0"/>
                    </a:lnTo>
                    <a:lnTo>
                      <a:pt x="0" y="7"/>
                    </a:lnTo>
                    <a:lnTo>
                      <a:pt x="6" y="49"/>
                    </a:lnTo>
                    <a:lnTo>
                      <a:pt x="64" y="4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62600" y="6072120"/>
                <a:ext cx="101880" cy="8568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112" y="0"/>
                    </a:moveTo>
                    <a:lnTo>
                      <a:pt x="0" y="68"/>
                    </a:lnTo>
                    <a:lnTo>
                      <a:pt x="128" y="108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807320" y="6067440"/>
              <a:ext cx="277920" cy="85680"/>
              <a:chOff x="7807320" y="6067440"/>
              <a:chExt cx="277920" cy="85680"/>
            </a:xfrm>
          </p:grpSpPr>
          <p:sp>
            <p:nvSpPr>
              <p:cNvPr id="245" name=""/>
              <p:cNvSpPr/>
              <p:nvPr/>
            </p:nvSpPr>
            <p:spPr>
              <a:xfrm>
                <a:off x="7899480" y="6091200"/>
                <a:ext cx="185760" cy="36720"/>
              </a:xfrm>
              <a:custGeom>
                <a:avLst/>
                <a:gdLst/>
                <a:ahLst/>
                <a:rect l="l" t="t" r="r" b="b"/>
                <a:pathLst>
                  <a:path w="235" h="45">
                    <a:moveTo>
                      <a:pt x="235" y="43"/>
                    </a:moveTo>
                    <a:lnTo>
                      <a:pt x="235" y="0"/>
                    </a:lnTo>
                    <a:lnTo>
                      <a:pt x="0" y="1"/>
                    </a:lnTo>
                    <a:lnTo>
                      <a:pt x="0" y="45"/>
                    </a:lnTo>
                    <a:lnTo>
                      <a:pt x="235" y="4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07320" y="606744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0"/>
                    </a:moveTo>
                    <a:lnTo>
                      <a:pt x="0" y="54"/>
                    </a:lnTo>
                    <a:lnTo>
                      <a:pt x="121" y="108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066000" y="6066000"/>
              <a:ext cx="137880" cy="87120"/>
              <a:chOff x="6066000" y="6066000"/>
              <a:chExt cx="137880" cy="87120"/>
            </a:xfrm>
          </p:grpSpPr>
          <p:sp>
            <p:nvSpPr>
              <p:cNvPr id="248" name=""/>
              <p:cNvSpPr/>
              <p:nvPr/>
            </p:nvSpPr>
            <p:spPr>
              <a:xfrm>
                <a:off x="6157800" y="6091200"/>
                <a:ext cx="46080" cy="3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66000" y="6066000"/>
                <a:ext cx="96840" cy="87120"/>
              </a:xfrm>
              <a:custGeom>
                <a:avLst/>
                <a:gdLst/>
                <a:ahLst/>
                <a:rect l="l" t="t" r="r" b="b"/>
                <a:pathLst>
                  <a:path w="122" h="109">
                    <a:moveTo>
                      <a:pt x="120" y="0"/>
                    </a:moveTo>
                    <a:lnTo>
                      <a:pt x="0" y="57"/>
                    </a:lnTo>
                    <a:lnTo>
                      <a:pt x="122" y="109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78360" y="3243240"/>
              <a:ext cx="34920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7268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65800" y="3243240"/>
              <a:ext cx="35064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780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84840" y="3243240"/>
              <a:ext cx="349200" cy="12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53600" y="328140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ПМ 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87880" y="3605040"/>
              <a:ext cx="90504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040360" y="3371760"/>
              <a:ext cx="95040" cy="249480"/>
              <a:chOff x="5040360" y="3371760"/>
              <a:chExt cx="95040" cy="24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5068800" y="3454560"/>
                <a:ext cx="38160" cy="166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40360" y="3371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1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946840" y="3371760"/>
              <a:ext cx="95040" cy="249480"/>
              <a:chOff x="5946840" y="3371760"/>
              <a:chExt cx="95040" cy="24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5973840" y="3454560"/>
                <a:ext cx="39600" cy="166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46840" y="33717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0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435640" y="3573360"/>
              <a:ext cx="144000" cy="2363400"/>
              <a:chOff x="5435640" y="3573360"/>
              <a:chExt cx="144000" cy="2363400"/>
            </a:xfrm>
          </p:grpSpPr>
          <p:sp>
            <p:nvSpPr>
              <p:cNvPr id="264" name=""/>
              <p:cNvSpPr/>
              <p:nvPr/>
            </p:nvSpPr>
            <p:spPr>
              <a:xfrm>
                <a:off x="5476320" y="3660120"/>
                <a:ext cx="59760" cy="2276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35640" y="3573360"/>
                <a:ext cx="144000" cy="89640"/>
              </a:xfrm>
              <a:custGeom>
                <a:avLst/>
                <a:gdLst/>
                <a:ahLst/>
                <a:rect l="l" t="t" r="r" b="b"/>
                <a:pathLst>
                  <a:path w="120" h="109">
                    <a:moveTo>
                      <a:pt x="120" y="109"/>
                    </a:moveTo>
                    <a:lnTo>
                      <a:pt x="59" y="0"/>
                    </a:lnTo>
                    <a:lnTo>
                      <a:pt x="0" y="109"/>
                    </a:lnTo>
                    <a:lnTo>
                      <a:pt x="120" y="1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459400" y="3371760"/>
              <a:ext cx="95400" cy="249480"/>
              <a:chOff x="5459400" y="3371760"/>
              <a:chExt cx="95400" cy="24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484960" y="3454560"/>
                <a:ext cx="41040" cy="166680"/>
              </a:xfrm>
              <a:custGeom>
                <a:avLst/>
                <a:gdLst/>
                <a:ahLst/>
                <a:rect l="l" t="t" r="r" b="b"/>
                <a:pathLst>
                  <a:path w="50" h="210">
                    <a:moveTo>
                      <a:pt x="0" y="210"/>
                    </a:moveTo>
                    <a:lnTo>
                      <a:pt x="49" y="210"/>
                    </a:lnTo>
                    <a:lnTo>
                      <a:pt x="50" y="0"/>
                    </a:lnTo>
                    <a:lnTo>
                      <a:pt x="2" y="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59400" y="33717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21" y="108"/>
                    </a:moveTo>
                    <a:lnTo>
                      <a:pt x="61" y="0"/>
                    </a:lnTo>
                    <a:lnTo>
                      <a:pt x="0" y="108"/>
                    </a:lnTo>
                    <a:lnTo>
                      <a:pt x="121" y="1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484960" y="2928960"/>
              <a:ext cx="41040" cy="314280"/>
            </a:xfrm>
            <a:custGeom>
              <a:avLst/>
              <a:gdLst/>
              <a:ahLst/>
              <a:rect l="l" t="t" r="r" b="b"/>
              <a:pathLst>
                <a:path w="50" h="395">
                  <a:moveTo>
                    <a:pt x="0" y="395"/>
                  </a:moveTo>
                  <a:lnTo>
                    <a:pt x="49" y="395"/>
                  </a:lnTo>
                  <a:lnTo>
                    <a:pt x="50" y="0"/>
                  </a:lnTo>
                  <a:lnTo>
                    <a:pt x="2" y="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98960" y="2928960"/>
              <a:ext cx="38160" cy="31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4000" y="2928960"/>
              <a:ext cx="38160" cy="31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018040" y="2882880"/>
              <a:ext cx="1116000" cy="92160"/>
              <a:chOff x="5018040" y="2882880"/>
              <a:chExt cx="1116000" cy="9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018040" y="2909880"/>
                <a:ext cx="1014480" cy="38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29280" y="288288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0" y="116"/>
                    </a:moveTo>
                    <a:lnTo>
                      <a:pt x="131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132600" y="1646280"/>
              <a:ext cx="118404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67520" y="167652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Электронные пуш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75080" y="193032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x = 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72440" y="193032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56040" y="1920960"/>
              <a:ext cx="7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36680" y="19875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57560" y="1930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23800" y="1930320"/>
              <a:ext cx="39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( i =1...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711840" y="2273400"/>
              <a:ext cx="95400" cy="501480"/>
              <a:chOff x="6711840" y="2273400"/>
              <a:chExt cx="95400" cy="501480"/>
            </a:xfrm>
          </p:grpSpPr>
          <p:sp>
            <p:nvSpPr>
              <p:cNvPr id="284" name=""/>
              <p:cNvSpPr/>
              <p:nvPr/>
            </p:nvSpPr>
            <p:spPr>
              <a:xfrm>
                <a:off x="6738840" y="2273400"/>
                <a:ext cx="39960" cy="417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11840" y="26892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0" y="0"/>
                    </a:moveTo>
                    <a:lnTo>
                      <a:pt x="61" y="108"/>
                    </a:lnTo>
                    <a:lnTo>
                      <a:pt x="1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138720" y="2774880"/>
              <a:ext cx="118440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4040" y="280512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Управ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22200" y="2805120"/>
              <a:ext cx="54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.  пласти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0880" y="3056040"/>
              <a:ext cx="81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Интенсивность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94400" y="317988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Q = T 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9960" y="3179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18120" y="3238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718320" y="3400560"/>
              <a:ext cx="95400" cy="253800"/>
              <a:chOff x="6718320" y="3400560"/>
              <a:chExt cx="95400" cy="253800"/>
            </a:xfrm>
          </p:grpSpPr>
          <p:sp>
            <p:nvSpPr>
              <p:cNvPr id="294" name=""/>
              <p:cNvSpPr/>
              <p:nvPr/>
            </p:nvSpPr>
            <p:spPr>
              <a:xfrm>
                <a:off x="6745320" y="3400560"/>
                <a:ext cx="38160" cy="168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18320" y="3567240"/>
                <a:ext cx="95400" cy="8712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0" y="0"/>
                    </a:moveTo>
                    <a:lnTo>
                      <a:pt x="59" y="110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718320" y="4280040"/>
              <a:ext cx="95400" cy="314280"/>
              <a:chOff x="6718320" y="4280040"/>
              <a:chExt cx="95400" cy="314280"/>
            </a:xfrm>
          </p:grpSpPr>
          <p:sp>
            <p:nvSpPr>
              <p:cNvPr id="297" name=""/>
              <p:cNvSpPr/>
              <p:nvPr/>
            </p:nvSpPr>
            <p:spPr>
              <a:xfrm>
                <a:off x="6745320" y="4280040"/>
                <a:ext cx="3816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18320" y="45068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0" y="0"/>
                    </a:moveTo>
                    <a:lnTo>
                      <a:pt x="59" y="110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132600" y="2944800"/>
              <a:ext cx="1184040" cy="36360"/>
            </a:xfrm>
            <a:custGeom>
              <a:avLst/>
              <a:gdLst/>
              <a:ahLst/>
              <a:rect l="l" t="t" r="r" b="b"/>
              <a:pathLst>
                <a:path w="1491" h="45">
                  <a:moveTo>
                    <a:pt x="0" y="0"/>
                  </a:moveTo>
                  <a:lnTo>
                    <a:pt x="0" y="43"/>
                  </a:lnTo>
                  <a:lnTo>
                    <a:pt x="1491" y="45"/>
                  </a:lnTo>
                  <a:lnTo>
                    <a:pt x="149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8720" y="2774880"/>
              <a:ext cx="118440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4040" y="280512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Управ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2200" y="2805120"/>
              <a:ext cx="54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.  пласти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20880" y="3056040"/>
              <a:ext cx="81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Интенсивность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94400" y="317988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Q = T 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79960" y="3179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8120" y="3238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Times New Roman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718320" y="3400560"/>
              <a:ext cx="95400" cy="253800"/>
              <a:chOff x="6718320" y="3400560"/>
              <a:chExt cx="95400" cy="253800"/>
            </a:xfrm>
          </p:grpSpPr>
          <p:sp>
            <p:nvSpPr>
              <p:cNvPr id="308" name=""/>
              <p:cNvSpPr/>
              <p:nvPr/>
            </p:nvSpPr>
            <p:spPr>
              <a:xfrm>
                <a:off x="6745320" y="3400560"/>
                <a:ext cx="38160" cy="168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18320" y="3567240"/>
                <a:ext cx="95400" cy="8712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0" y="0"/>
                    </a:moveTo>
                    <a:lnTo>
                      <a:pt x="59" y="110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718320" y="4280040"/>
              <a:ext cx="95400" cy="314280"/>
              <a:chOff x="6718320" y="4280040"/>
              <a:chExt cx="95400" cy="3142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45320" y="4280040"/>
                <a:ext cx="3816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18320" y="45068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0" y="0"/>
                    </a:moveTo>
                    <a:lnTo>
                      <a:pt x="59" y="110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132600" y="2944800"/>
              <a:ext cx="1184040" cy="36360"/>
            </a:xfrm>
            <a:custGeom>
              <a:avLst/>
              <a:gdLst/>
              <a:ahLst/>
              <a:rect l="l" t="t" r="r" b="b"/>
              <a:pathLst>
                <a:path w="1491" h="45">
                  <a:moveTo>
                    <a:pt x="0" y="0"/>
                  </a:moveTo>
                  <a:lnTo>
                    <a:pt x="0" y="43"/>
                  </a:lnTo>
                  <a:lnTo>
                    <a:pt x="1491" y="45"/>
                  </a:lnTo>
                  <a:lnTo>
                    <a:pt x="149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32600" y="1816200"/>
              <a:ext cx="1184040" cy="36360"/>
            </a:xfrm>
            <a:custGeom>
              <a:avLst/>
              <a:gdLst/>
              <a:ahLst/>
              <a:rect l="l" t="t" r="r" b="b"/>
              <a:pathLst>
                <a:path w="1491" h="45">
                  <a:moveTo>
                    <a:pt x="0" y="0"/>
                  </a:moveTo>
                  <a:lnTo>
                    <a:pt x="0" y="43"/>
                  </a:lnTo>
                  <a:lnTo>
                    <a:pt x="1491" y="45"/>
                  </a:lnTo>
                  <a:lnTo>
                    <a:pt x="149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23080" y="5311800"/>
              <a:ext cx="167148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23080" y="4575240"/>
              <a:ext cx="1673280" cy="1193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4600" y="4606920"/>
              <a:ext cx="1132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Зрительный анализ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22160" y="4730760"/>
              <a:ext cx="39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Паттер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4480" y="47307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цветостимул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3800" y="485604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ЖЗ+ЖС+ЖЗ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04040" y="4979880"/>
              <a:ext cx="62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Паттерн ЭЭ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72280" y="5099040"/>
              <a:ext cx="15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7920" y="5111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+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3560" y="5099040"/>
              <a:ext cx="17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5040" y="5111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+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70680" y="509904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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93880" y="5376960"/>
              <a:ext cx="102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ыхательная систем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68560" y="5527800"/>
              <a:ext cx="33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Сердц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23080" y="4764240"/>
              <a:ext cx="1671480" cy="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23080" y="5319720"/>
              <a:ext cx="1671480" cy="20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23080" y="5311800"/>
              <a:ext cx="1671480" cy="3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23080" y="4575240"/>
              <a:ext cx="1673280" cy="1193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4600" y="4606920"/>
              <a:ext cx="1132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Зрительный анализ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22160" y="4730760"/>
              <a:ext cx="39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Паттер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94480" y="473076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ff"/>
                  </a:solidFill>
                  <a:latin typeface="Times New Roman"/>
                </a:rPr>
                <a:t>цветостимул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3800" y="485604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ЖЗ+ЖС+ЖЗ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04040" y="4979880"/>
              <a:ext cx="62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Паттерн ЭЭ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72280" y="5099040"/>
              <a:ext cx="15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87920" y="5111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+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13560" y="5099040"/>
              <a:ext cx="17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45040" y="5111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+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0680" y="509904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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93880" y="5376960"/>
              <a:ext cx="102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Дыхательная систем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8560" y="5527800"/>
              <a:ext cx="33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Сердц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3080" y="4764240"/>
              <a:ext cx="1671480" cy="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3080" y="5319720"/>
              <a:ext cx="1671480" cy="20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662440" y="3624120"/>
              <a:ext cx="103320" cy="1624320"/>
              <a:chOff x="5662440" y="3624120"/>
              <a:chExt cx="103320" cy="1624320"/>
            </a:xfrm>
          </p:grpSpPr>
          <p:sp>
            <p:nvSpPr>
              <p:cNvPr id="348" name=""/>
              <p:cNvSpPr/>
              <p:nvPr/>
            </p:nvSpPr>
            <p:spPr>
              <a:xfrm>
                <a:off x="5692680" y="3713040"/>
                <a:ext cx="42840" cy="153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62440" y="362412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129" h="116">
                    <a:moveTo>
                      <a:pt x="129" y="116"/>
                    </a:moveTo>
                    <a:lnTo>
                      <a:pt x="65" y="0"/>
                    </a:lnTo>
                    <a:lnTo>
                      <a:pt x="0" y="116"/>
                    </a:lnTo>
                    <a:lnTo>
                      <a:pt x="129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713560" y="5245200"/>
              <a:ext cx="209520" cy="39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8880" y="3652920"/>
              <a:ext cx="1393920" cy="628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52200" y="3683160"/>
              <a:ext cx="72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</a:rPr>
                <a:t>Экран  диспле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68880" y="3892680"/>
              <a:ext cx="13924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973920" y="3987720"/>
              <a:ext cx="349200" cy="187560"/>
              <a:chOff x="6973920" y="3987720"/>
              <a:chExt cx="349200" cy="187560"/>
            </a:xfrm>
          </p:grpSpPr>
          <p:sp>
            <p:nvSpPr>
              <p:cNvPr id="355" name=""/>
              <p:cNvSpPr/>
              <p:nvPr/>
            </p:nvSpPr>
            <p:spPr>
              <a:xfrm>
                <a:off x="6973920" y="3987720"/>
                <a:ext cx="349200" cy="1875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3260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0244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94600" y="3987720"/>
                <a:ext cx="205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6264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203880" y="3902040"/>
              <a:ext cx="625680" cy="316080"/>
              <a:chOff x="6203880" y="3902040"/>
              <a:chExt cx="625680" cy="31608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6800" y="4091040"/>
                <a:ext cx="71640" cy="14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6203880" y="3987720"/>
                <a:ext cx="349200" cy="187560"/>
                <a:chOff x="6203880" y="3987720"/>
                <a:chExt cx="349200" cy="187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203880" y="3987720"/>
                  <a:ext cx="349200" cy="18756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6256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3240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423120" y="3987720"/>
                  <a:ext cx="2196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92960" y="3987720"/>
                  <a:ext cx="22320" cy="18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6757920" y="3902040"/>
                <a:ext cx="71640" cy="3160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57920" y="4087800"/>
                <a:ext cx="71640" cy="130320"/>
              </a:xfrm>
              <a:prstGeom prst="rect">
                <a:avLst/>
              </a:prstGeom>
              <a:solidFill>
                <a:srgbClr val="0000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068880" y="3892680"/>
              <a:ext cx="13924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73920" y="3987720"/>
              <a:ext cx="349200" cy="187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3260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0244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94600" y="3987720"/>
              <a:ext cx="205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6264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73920" y="3987720"/>
              <a:ext cx="349200" cy="187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260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0244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94600" y="3987720"/>
              <a:ext cx="205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62640" y="3987720"/>
              <a:ext cx="2232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46800" y="4091040"/>
              <a:ext cx="71640" cy="14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203880" y="3987720"/>
              <a:ext cx="349200" cy="187560"/>
              <a:chOff x="6203880" y="3987720"/>
              <a:chExt cx="349200" cy="18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203880" y="3987720"/>
                <a:ext cx="349200" cy="1875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625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3240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23120" y="3987720"/>
                <a:ext cx="2196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929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757920" y="3902040"/>
              <a:ext cx="71640" cy="3160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57920" y="4087800"/>
              <a:ext cx="71640" cy="130320"/>
            </a:xfrm>
            <a:prstGeom prst="rect">
              <a:avLst/>
            </a:prstGeom>
            <a:solidFill>
              <a:srgbClr val="0000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6800" y="4091040"/>
              <a:ext cx="71640" cy="14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203880" y="3902040"/>
              <a:ext cx="625680" cy="316080"/>
              <a:chOff x="6203880" y="3902040"/>
              <a:chExt cx="625680" cy="316080"/>
            </a:xfrm>
          </p:grpSpPr>
          <p:sp>
            <p:nvSpPr>
              <p:cNvPr id="392" name=""/>
              <p:cNvSpPr/>
              <p:nvPr/>
            </p:nvSpPr>
            <p:spPr>
              <a:xfrm>
                <a:off x="6203880" y="3987720"/>
                <a:ext cx="349200" cy="1875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625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3240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23120" y="3987720"/>
                <a:ext cx="2196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29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03880" y="3987720"/>
                <a:ext cx="349200" cy="1875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625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3240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3120" y="3987720"/>
                <a:ext cx="2196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2960" y="3987720"/>
                <a:ext cx="22320" cy="185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57920" y="3902040"/>
                <a:ext cx="71640" cy="3160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57920" y="4087800"/>
                <a:ext cx="71640" cy="130320"/>
              </a:xfrm>
              <a:prstGeom prst="rect">
                <a:avLst/>
              </a:prstGeom>
              <a:solidFill>
                <a:srgbClr val="0000ff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53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286000"/>
            <a:ext cx="38102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редъявляемым объектом являются два квадрата в виде решеток, мигающих с частотой паттерна релаксации или активации, и вторым объектом является прямоугольный столбик, заливае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ый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синим цветом в такт с резонансным дыханием пациента. Такой вид биоуправляемого воз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действия определен как директивная цветостимуляц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457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55760" y="392040"/>
            <a:ext cx="71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4716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РУКТУРА БИОТЕХНИЧЕСКОЙ СИСТЕМЫ КОМПЬЮТЕРО-УПРАВЛЯЕМОЙ ЦВЕТОСТИМ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24000" y="2224080"/>
            <a:ext cx="4701960" cy="3097080"/>
            <a:chOff x="324000" y="2224080"/>
            <a:chExt cx="4701960" cy="3097080"/>
          </a:xfrm>
        </p:grpSpPr>
        <p:sp>
          <p:nvSpPr>
            <p:cNvPr id="410" name=""/>
            <p:cNvSpPr/>
            <p:nvPr/>
          </p:nvSpPr>
          <p:spPr>
            <a:xfrm flipH="1">
              <a:off x="2411280" y="5155920"/>
              <a:ext cx="495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897280" y="2224080"/>
              <a:ext cx="2128680" cy="3097080"/>
              <a:chOff x="2897280" y="2224080"/>
              <a:chExt cx="2128680" cy="3097080"/>
            </a:xfrm>
          </p:grpSpPr>
          <p:sp>
            <p:nvSpPr>
              <p:cNvPr id="412" name=""/>
              <p:cNvSpPr/>
              <p:nvPr/>
            </p:nvSpPr>
            <p:spPr>
              <a:xfrm>
                <a:off x="3386160" y="2842920"/>
                <a:ext cx="1128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ff"/>
                    </a:solidFill>
                    <a:latin typeface="Times New Roman"/>
                  </a:rPr>
                  <a:t>Экран дисплея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22480" y="2730240"/>
                <a:ext cx="2103480" cy="2590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13120" y="3209760"/>
                <a:ext cx="371520" cy="271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ff"/>
                    </a:solidFill>
                    <a:latin typeface="Times New Roman"/>
                  </a:rPr>
                  <a:t>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49560" y="3814560"/>
                <a:ext cx="92160" cy="574920"/>
                <a:chOff x="3949560" y="3814560"/>
                <a:chExt cx="92160" cy="5749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49560" y="3814560"/>
                  <a:ext cx="92160" cy="57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949560" y="4151160"/>
                  <a:ext cx="92160" cy="2379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070080" y="3581280"/>
                <a:ext cx="735120" cy="814320"/>
                <a:chOff x="3070080" y="3581280"/>
                <a:chExt cx="735120" cy="814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070080" y="3581280"/>
                  <a:ext cx="161280" cy="814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13720" y="3581280"/>
                  <a:ext cx="158760" cy="814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68160" y="3581280"/>
                  <a:ext cx="153720" cy="8143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504240" y="3581280"/>
                  <a:ext cx="159840" cy="8143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646440" y="3581280"/>
                  <a:ext cx="158760" cy="8143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172040" y="3581280"/>
                <a:ext cx="734400" cy="814320"/>
                <a:chOff x="4172040" y="3581280"/>
                <a:chExt cx="734400" cy="8143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172040" y="3581280"/>
                  <a:ext cx="161280" cy="814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15320" y="3581280"/>
                  <a:ext cx="158400" cy="814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469760" y="3581280"/>
                  <a:ext cx="153720" cy="8143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605840" y="3581280"/>
                  <a:ext cx="159840" cy="8143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48040" y="3581280"/>
                  <a:ext cx="158400" cy="8143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2922480" y="3187440"/>
                <a:ext cx="21034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3046320" y="4790880"/>
                <a:ext cx="1782720" cy="378000"/>
                <a:chOff x="3046320" y="4790880"/>
                <a:chExt cx="1782720" cy="3780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3046320" y="4790880"/>
                  <a:ext cx="357480" cy="378000"/>
                  <a:chOff x="3046320" y="4790880"/>
                  <a:chExt cx="357480" cy="3780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3046320" y="516816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31651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165120" y="479088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28428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84280" y="516816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402360" y="4790880"/>
                  <a:ext cx="357480" cy="378000"/>
                  <a:chOff x="3402360" y="4790880"/>
                  <a:chExt cx="357480" cy="378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402360" y="516816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352116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521160" y="479088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6403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640320" y="5168160"/>
                    <a:ext cx="11952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759120" y="4790880"/>
                  <a:ext cx="594000" cy="378000"/>
                  <a:chOff x="3759120" y="4790880"/>
                  <a:chExt cx="594000" cy="3780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3759120" y="5168160"/>
                    <a:ext cx="19800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>
                    <a:off x="39571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957120" y="4790880"/>
                    <a:ext cx="19800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41551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155120" y="5168160"/>
                    <a:ext cx="19800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4353480" y="4790880"/>
                  <a:ext cx="237600" cy="378000"/>
                  <a:chOff x="4353480" y="4790880"/>
                  <a:chExt cx="237600" cy="3780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4353480" y="516816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44323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32320" y="479088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51152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511520" y="516816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4590720" y="4790880"/>
                  <a:ext cx="238320" cy="378000"/>
                  <a:chOff x="4590720" y="4790880"/>
                  <a:chExt cx="238320" cy="3780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4590720" y="516816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V="1">
                    <a:off x="467100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671000" y="479088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749480" y="4790880"/>
                    <a:ext cx="360" cy="37800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749480" y="5168160"/>
                    <a:ext cx="79560" cy="72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2" name=""/>
              <p:cNvSpPr/>
              <p:nvPr/>
            </p:nvSpPr>
            <p:spPr>
              <a:xfrm>
                <a:off x="3541680" y="4405320"/>
                <a:ext cx="988920" cy="306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ff"/>
                    </a:solidFill>
                    <a:latin typeface="Times New Roman"/>
                  </a:rPr>
                  <a:t>Q</a:t>
                </a:r>
                <a:r>
                  <a:rPr b="1" lang="ru-RU" sz="1000" spc="-1" strike="noStrike">
                    <a:solidFill>
                      <a:srgbClr val="0000ff"/>
                    </a:solidFill>
                    <a:latin typeface="Times New Roman"/>
                  </a:rPr>
                  <a:t>=T/tu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52880" y="2825640"/>
                <a:ext cx="1731960" cy="306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ЭКРАН ДИСПЛЕ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97280" y="2224080"/>
                <a:ext cx="208764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Arial"/>
                  </a:rPr>
                  <a:t>ГЛАЗ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24360" y="258588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flipH="1">
              <a:off x="2421000" y="2441520"/>
              <a:ext cx="495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4000" y="2225520"/>
              <a:ext cx="2103120" cy="3095640"/>
              <a:chOff x="324000" y="2225520"/>
              <a:chExt cx="2103120" cy="30956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4000" y="2801880"/>
                <a:ext cx="2087280" cy="718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4000" y="2225520"/>
                <a:ext cx="20872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Модификация Ф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4000" y="4240080"/>
                <a:ext cx="2103120" cy="576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Резонансный механиз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усвоения цветостимул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24000" y="3665520"/>
                <a:ext cx="210312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Трансформация ЭЭГ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314360" y="4096800"/>
                <a:ext cx="0" cy="142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1314360" y="3520800"/>
                <a:ext cx="0" cy="144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1314360" y="26571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75" name=""/>
              <p:cNvGraphicFramePr/>
              <p:nvPr/>
            </p:nvGraphicFramePr>
            <p:xfrm>
              <a:off x="430200" y="2896920"/>
              <a:ext cx="1773360" cy="528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30200" y="2896920"/>
                        <a:ext cx="1773360" cy="528840"/>
                      </a:xfrm>
                      <a:prstGeom prst="rect">
                        <a:avLst/>
                      </a:prstGeom>
                      <a:ln w="9360">
                        <a:solidFill>
                          <a:srgbClr val="0000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477" name=""/>
              <p:cNvSpPr/>
              <p:nvPr/>
            </p:nvSpPr>
            <p:spPr>
              <a:xfrm>
                <a:off x="324000" y="4965480"/>
                <a:ext cx="2103120" cy="355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Затылочная кора мозг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1332000" y="481752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ПРЕЪЯВЛЯЕМЫЙ СВЕТОВОЙ ОБЪЕКТ В ВИДЕ ФРАКТАЛА «ЖУЛИ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64832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СТРУКТУРА МОДУЛЯ БИОТЕХНИЧЕСКОЙ СИСТЕМЫ ПОСТРОЕНИЯ ФРАКТАЛА «ЖУЛИ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Датчик пульса и дыхания. 2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порт. 3.Промежуточный буфер. 4. Массив данных. 5.Блок вычисления энтропии. 6.Программа биоуправления интенсивностью свечения и сменой цветности фрактала. 7.Программное средство построения фрактала. 8.Первичная поверхность (экранная). 9.Переключатель видеопамяти. 10.Вторичная поверхность (заэкранная). 11.Первичный буфер видеоконтроллера 12.Видеоконтроллер. 13. Вторичный буфер видеоконтроллера. 14. Дисп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79280" y="1197000"/>
            <a:ext cx="8785440" cy="3384360"/>
            <a:chOff x="179280" y="1197000"/>
            <a:chExt cx="8785440" cy="3384360"/>
          </a:xfrm>
        </p:grpSpPr>
        <p:sp>
          <p:nvSpPr>
            <p:cNvPr id="485" name=""/>
            <p:cNvSpPr/>
            <p:nvPr/>
          </p:nvSpPr>
          <p:spPr>
            <a:xfrm>
              <a:off x="198360" y="119700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25720" y="12103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51640" y="12103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77920" y="12103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03840" y="12103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95120" y="30877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21040" y="3295080"/>
              <a:ext cx="146088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7320" y="308772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70400" y="15836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86600" y="15836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12520" y="15836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38800" y="151092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38800" y="16250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08200" y="34372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280" y="307728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73240" y="3105360"/>
              <a:ext cx="146088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21040" y="4031640"/>
              <a:ext cx="146088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21040" y="2548440"/>
              <a:ext cx="146088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25560" y="4207680"/>
              <a:ext cx="10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418440" y="3834360"/>
              <a:ext cx="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24200" y="1967400"/>
              <a:ext cx="0" cy="3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735280" y="2330640"/>
              <a:ext cx="547812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5640" y="2340720"/>
              <a:ext cx="0" cy="74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9720" y="1956960"/>
              <a:ext cx="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9280" y="4581360"/>
              <a:ext cx="36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909720" y="3824280"/>
              <a:ext cx="0" cy="74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57400" y="4031640"/>
              <a:ext cx="146088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7240" y="2527560"/>
              <a:ext cx="1460880" cy="37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77760" y="2911320"/>
              <a:ext cx="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715120" y="3844800"/>
              <a:ext cx="0" cy="37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500720" y="291096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4612680" y="29314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4500720" y="365760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612680" y="366804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551480" y="4394520"/>
              <a:ext cx="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2360" y="42285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81920" y="27453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СТРУКТУРНАЯ СХЕМА КОМПЬЮТЕРО-УПРАВЛЯЕМОЙ БИОТЕХНИЧЕСКОЙ СИСТЕМЫ СВЕТОДИОДНОЙ ЦВЕТОСТИМ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104840" y="1335240"/>
            <a:ext cx="5943600" cy="5121000"/>
            <a:chOff x="1104840" y="1335240"/>
            <a:chExt cx="5943600" cy="5121000"/>
          </a:xfrm>
        </p:grpSpPr>
        <p:sp>
          <p:nvSpPr>
            <p:cNvPr id="524" name=""/>
            <p:cNvSpPr/>
            <p:nvPr/>
          </p:nvSpPr>
          <p:spPr>
            <a:xfrm>
              <a:off x="6226200" y="1335240"/>
              <a:ext cx="639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С В 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51520" y="3594240"/>
              <a:ext cx="1096920" cy="28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97000" y="1335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ГЕНЕРАТО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3920" y="13352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П З 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0840" y="1335240"/>
              <a:ext cx="14637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ОГЛАС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7120" y="1335240"/>
              <a:ext cx="10047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МОДУЛЯТО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49760" y="2496960"/>
              <a:ext cx="1195200" cy="11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регист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свечени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ветодио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04840" y="4535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атчик пуль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04840" y="55418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атч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ых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36720" y="2496960"/>
              <a:ext cx="1584360" cy="79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РЕГИСТ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ЦВ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48040" y="4508640"/>
              <a:ext cx="1273320" cy="19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Ф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формироват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ш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93920" y="5514840"/>
              <a:ext cx="1371600" cy="9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ОГЛАС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93920" y="4508640"/>
              <a:ext cx="1371600" cy="91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ОГЛАС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6560" y="1506600"/>
              <a:ext cx="45720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00720" y="1989000"/>
              <a:ext cx="45720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11400" y="17924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08320" y="17924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54600" y="17924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41880" y="160956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41880" y="197496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44960" y="304632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5676840" y="2249280"/>
              <a:ext cx="0" cy="79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751120" y="22492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19240" y="5884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21360" y="4782960"/>
              <a:ext cx="822240" cy="486000"/>
            </a:xfrm>
            <a:prstGeom prst="rightArrow">
              <a:avLst>
                <a:gd name="adj1" fmla="val 50000"/>
                <a:gd name="adj2" fmla="val 42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21360" y="5240160"/>
              <a:ext cx="830160" cy="486000"/>
            </a:xfrm>
            <a:prstGeom prst="leftArrow">
              <a:avLst>
                <a:gd name="adj1" fmla="val 50000"/>
                <a:gd name="adj2" fmla="val 427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19240" y="50576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65520" y="4965840"/>
              <a:ext cx="182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65520" y="5881680"/>
              <a:ext cx="182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51120" y="4143240"/>
              <a:ext cx="3200400" cy="2746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97400" y="3778200"/>
              <a:ext cx="1554120" cy="273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22720" y="359424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84280" y="3292560"/>
              <a:ext cx="549360" cy="1125360"/>
            </a:xfrm>
            <a:prstGeom prst="upArrow">
              <a:avLst>
                <a:gd name="adj1" fmla="val 50000"/>
                <a:gd name="adj2" fmla="val 512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стоящее исследование выполнено в соответствии с планами проблемной комиссии по хронобиологии и хрономедицине РАМН, а также при поддержке аналитической ведомственной целевой программы «Развитие научного потенциала высшей школы (2006-2011 годы)» по проектам: РНПВШ.2.2.3.3.3301 и РНПВШ.№2.2.3.3/9477  «Разработка моделей и алгоритмов на основе биологической обратной связи для сетевой интегрированной системы коррекции нарушений центральной нервной системы и модификации функционального состояния школьников и учащейся молодеж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СТРУКТУРА АППАРАТНОЙ БИОТЕХНИЧЕСКОЙ СИСТЕМЫ СВЕТОДИОДНОЙ ЦВЕТОСТИМ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04760" y="1125360"/>
            <a:ext cx="8964720" cy="5543640"/>
            <a:chOff x="104760" y="1125360"/>
            <a:chExt cx="8964720" cy="5543640"/>
          </a:xfrm>
        </p:grpSpPr>
        <p:grpSp>
          <p:nvGrpSpPr>
            <p:cNvPr id="559" name=""/>
            <p:cNvGrpSpPr/>
            <p:nvPr/>
          </p:nvGrpSpPr>
          <p:grpSpPr>
            <a:xfrm>
              <a:off x="104760" y="1125360"/>
              <a:ext cx="8964720" cy="5543640"/>
              <a:chOff x="104760" y="1125360"/>
              <a:chExt cx="8964720" cy="5543640"/>
            </a:xfrm>
          </p:grpSpPr>
          <p:sp>
            <p:nvSpPr>
              <p:cNvPr id="560" name=""/>
              <p:cNvSpPr/>
              <p:nvPr/>
            </p:nvSpPr>
            <p:spPr>
              <a:xfrm>
                <a:off x="104760" y="1717560"/>
                <a:ext cx="635040" cy="45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71520" y="1730520"/>
                <a:ext cx="63828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27320" y="1730520"/>
                <a:ext cx="63504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64440" y="1730520"/>
                <a:ext cx="63468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080" y="1730520"/>
                <a:ext cx="63684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7320" y="2489040"/>
                <a:ext cx="63792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52560" y="2489040"/>
                <a:ext cx="63648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49240" y="2489040"/>
                <a:ext cx="6350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44840" y="2489040"/>
                <a:ext cx="6350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7320" y="4308480"/>
                <a:ext cx="63792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89040" y="4308480"/>
                <a:ext cx="63828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7320" y="4913280"/>
                <a:ext cx="63792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89040" y="4913280"/>
                <a:ext cx="63828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49240" y="5973840"/>
                <a:ext cx="63504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52560" y="5973840"/>
                <a:ext cx="63648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7320" y="5973840"/>
                <a:ext cx="63792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434440" y="3549600"/>
                <a:ext cx="6350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19880" y="2641680"/>
                <a:ext cx="635040" cy="45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19880" y="3549600"/>
                <a:ext cx="6350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434440" y="2641680"/>
                <a:ext cx="635040" cy="45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64440" y="4610160"/>
                <a:ext cx="63468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10080" y="3549600"/>
                <a:ext cx="6368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10080" y="2641680"/>
                <a:ext cx="636840" cy="45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49880" y="4610160"/>
                <a:ext cx="636480" cy="45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5240" y="4610160"/>
                <a:ext cx="79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240" y="5216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95240" y="5065560"/>
                <a:ext cx="79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00360" y="293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81600" y="4005360"/>
                <a:ext cx="0" cy="45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75120" y="1873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794880" y="612612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588680" y="6126120"/>
                <a:ext cx="16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909800" y="1884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909800" y="1884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57320" y="3400560"/>
                <a:ext cx="637920" cy="45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22560" y="1125360"/>
                <a:ext cx="63648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364440" y="2641680"/>
                <a:ext cx="634680" cy="45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364440" y="3549600"/>
                <a:ext cx="63468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54640" y="3549600"/>
                <a:ext cx="635040" cy="45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81600" y="4460760"/>
                <a:ext cx="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81600" y="5065560"/>
                <a:ext cx="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89680" y="370188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46920" y="294480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46920" y="370188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95240" y="188424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909800" y="188424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62360" y="1884240"/>
                <a:ext cx="254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79880" y="2792520"/>
                <a:ext cx="223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681600" y="3094200"/>
                <a:ext cx="0" cy="45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6046920" y="188424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727600" y="2185920"/>
                <a:ext cx="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03880" y="1884240"/>
                <a:ext cx="0" cy="90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046920" y="279252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998760" y="27925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954920" y="2792520"/>
                <a:ext cx="3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273880" y="279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8273880" y="27925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998760" y="370188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954920" y="370188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340080" y="158112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62360" y="3094200"/>
                <a:ext cx="0" cy="30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384280" y="6126120"/>
                <a:ext cx="47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59040" y="1884240"/>
                <a:ext cx="0" cy="439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2227320" y="46101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2227320" y="50655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95240" y="370188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271520" y="2944440"/>
                <a:ext cx="0" cy="7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862360" y="2944800"/>
                <a:ext cx="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5240" y="272088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589040" y="2720880"/>
                <a:ext cx="16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84280" y="272088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27600" y="5524560"/>
                <a:ext cx="2170080" cy="114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383920" y="6242040"/>
                <a:ext cx="12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86360" y="4726080"/>
                <a:ext cx="47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6045120" y="5524560"/>
                <a:ext cx="1450080" cy="930240"/>
                <a:chOff x="6045120" y="5524560"/>
                <a:chExt cx="1450080" cy="9302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6045120" y="5824440"/>
                  <a:ext cx="319320" cy="303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159680" y="5824440"/>
                  <a:ext cx="317520" cy="303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681600" y="5524560"/>
                  <a:ext cx="0" cy="45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6364080" y="5977080"/>
                  <a:ext cx="31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681600" y="5977080"/>
                  <a:ext cx="47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079320" y="6194520"/>
                  <a:ext cx="296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3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198560" y="6208560"/>
                  <a:ext cx="296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3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 flipH="1">
              <a:off x="736200" y="18828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УПРАВЛЕНИЕ УРОВНЕМ ГЛУБИНЫ МОДУЛЯЦИ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23640" y="1547640"/>
            <a:ext cx="8480160" cy="4987080"/>
            <a:chOff x="323640" y="1547640"/>
            <a:chExt cx="8480160" cy="4987080"/>
          </a:xfrm>
        </p:grpSpPr>
        <p:sp>
          <p:nvSpPr>
            <p:cNvPr id="645" name=""/>
            <p:cNvSpPr/>
            <p:nvPr/>
          </p:nvSpPr>
          <p:spPr>
            <a:xfrm>
              <a:off x="323640" y="1547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77080" y="63820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4000" y="3144960"/>
              <a:ext cx="8479800" cy="156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4000" y="3144960"/>
              <a:ext cx="8479800" cy="156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1"/>
            <a:stretch/>
          </p:blipFill>
          <p:spPr>
            <a:xfrm>
              <a:off x="471600" y="3200400"/>
              <a:ext cx="8183520" cy="14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8653680" y="45324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8160" y="2196720"/>
              <a:ext cx="3727800" cy="4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8160" y="2196720"/>
              <a:ext cx="3727800" cy="42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0800" y="22413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дыхания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34680" y="22413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например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2000" y="224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07920" y="224136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% 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54960" y="224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53960" y="224136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% :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36800" y="224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33280" y="2241360"/>
              <a:ext cx="13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%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64760" y="2241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17320" y="1590480"/>
              <a:ext cx="3757680" cy="98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17320" y="1590480"/>
              <a:ext cx="3757680" cy="9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1565640" y="1646280"/>
              <a:ext cx="3477240" cy="88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5042880" y="2395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4000" y="1558440"/>
              <a:ext cx="8479800" cy="16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4000" y="1558440"/>
              <a:ext cx="8479800" cy="160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" descr=""/>
            <p:cNvPicPr/>
            <p:nvPr/>
          </p:nvPicPr>
          <p:blipFill>
            <a:blip r:embed="rId3"/>
            <a:stretch/>
          </p:blipFill>
          <p:spPr>
            <a:xfrm>
              <a:off x="488160" y="1614240"/>
              <a:ext cx="8166960" cy="15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8653680" y="2990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49080" y="1702080"/>
              <a:ext cx="6327720" cy="11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49080" y="1702080"/>
              <a:ext cx="6327720" cy="113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1697760" y="1757160"/>
              <a:ext cx="6143760" cy="103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7841160" y="2659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49520" y="2836440"/>
              <a:ext cx="606024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49520" y="2836440"/>
              <a:ext cx="6060240" cy="98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78920" y="2879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00" y="4707720"/>
              <a:ext cx="8479800" cy="151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4000" y="4707720"/>
              <a:ext cx="8479800" cy="151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5"/>
            <a:stretch/>
          </p:blipFill>
          <p:spPr>
            <a:xfrm>
              <a:off x="471600" y="4763520"/>
              <a:ext cx="8183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8653680" y="6051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8160" y="5137920"/>
              <a:ext cx="797040" cy="40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8160" y="5137920"/>
              <a:ext cx="797040" cy="406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8000" y="51937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7360" y="519372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54720" y="51721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85400" y="51937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8000" y="5292000"/>
              <a:ext cx="63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7360" y="529200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120" y="5292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8840" y="529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8360" y="53906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53560" y="53906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69120" y="53906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85400" y="53906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86680" y="5489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БИОУПРАВЛЯЕМЫЙ СВЕТОДИОДНЫЙ ЦВЕТОСТИМУЛЯ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Динамика изменения остроты зрения больных амблиопией детей в процессе разовой и курсовой светодиодной цветостимуля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34920" y="830160"/>
          <a:ext cx="9108720" cy="6021360"/>
        </p:xfrm>
        <a:graphic>
          <a:graphicData uri="http://schemas.openxmlformats.org/drawingml/2006/table">
            <a:tbl>
              <a:tblPr/>
              <a:tblGrid>
                <a:gridCol w="1753560"/>
                <a:gridCol w="1069920"/>
                <a:gridCol w="1493640"/>
                <a:gridCol w="1340640"/>
                <a:gridCol w="1055880"/>
                <a:gridCol w="1193400"/>
                <a:gridCol w="1201680"/>
              </a:tblGrid>
              <a:tr h="429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Courier New"/>
                        </a:rPr>
                        <a:t>    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Острота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зр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ЕЖИМ ВОЗДЕЙСТВ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МОДУЛЬ РАЗ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Ф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разо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Ц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Кур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Ц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Р</a:t>
                      </a:r>
                      <a:r>
                        <a:rPr b="1" lang="en-US" sz="2200" spc="-1" strike="noStrike" baseline="-25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10-0,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30-0,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9900"/>
                          </a:solidFill>
                          <a:latin typeface="Arial Narrow"/>
                          <a:ea typeface="Times New Roman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50-0,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9900"/>
                          </a:solidFill>
                          <a:latin typeface="Arial Narrow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70-0,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90-1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Сумма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: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∑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∑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|P</a:t>
                      </a:r>
                      <a:r>
                        <a:rPr b="1" lang="en-US" sz="22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1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– P</a:t>
                      </a:r>
                      <a:r>
                        <a:rPr b="1" lang="en-US" sz="22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2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|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D(x</a:t>
                      </a:r>
                      <a:r>
                        <a:rPr b="1" lang="ru-RU" sz="22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</a:t>
                      </a:r>
                      <a:r>
                        <a:rPr b="1" lang="ru-RU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)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&l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&l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Динамика показателей вегетативного гомеостаза больных неврозами в ответ на биоуправляемую светодиодную цветостимуля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08000" y="1125360"/>
          <a:ext cx="8928000" cy="5394600"/>
        </p:xfrm>
        <a:graphic>
          <a:graphicData uri="http://schemas.openxmlformats.org/drawingml/2006/table">
            <a:tbl>
              <a:tblPr/>
              <a:tblGrid>
                <a:gridCol w="2087640"/>
                <a:gridCol w="1152360"/>
                <a:gridCol w="1473120"/>
                <a:gridCol w="1217880"/>
                <a:gridCol w="974520"/>
                <a:gridCol w="1154160"/>
                <a:gridCol w="8683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Вегет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проф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Период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цветостиму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Модуль раз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-р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Курс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V РВП С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II ВП С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Narrow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I УП С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 Narrow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 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V УП ПС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VI ВП ПС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∑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∑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|P</a:t>
                      </a:r>
                      <a:r>
                        <a:rPr b="1" lang="en-US" sz="18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1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P</a:t>
                      </a:r>
                      <a:r>
                        <a:rPr b="1" lang="en-US" sz="18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D(x</a:t>
                      </a:r>
                      <a:r>
                        <a:rPr b="1" lang="ru-RU" sz="18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)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Знач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азли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&lt;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&lt;0,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Р&lt;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ПАТЕНТЫ, 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313440" cy="45259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53920" y="1600200"/>
            <a:ext cx="32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ИПЛОМЫ, НАГ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457200" y="1344600"/>
            <a:ext cx="40384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5346720" y="1368360"/>
            <a:ext cx="3166920" cy="5400720"/>
            <a:chOff x="5346720" y="1368360"/>
            <a:chExt cx="3166920" cy="5400720"/>
          </a:xfrm>
        </p:grpSpPr>
        <p:pic>
          <p:nvPicPr>
            <p:cNvPr id="708" name="" descr=""/>
            <p:cNvPicPr/>
            <p:nvPr/>
          </p:nvPicPr>
          <p:blipFill>
            <a:blip r:embed="rId2"/>
            <a:stretch/>
          </p:blipFill>
          <p:spPr>
            <a:xfrm>
              <a:off x="5346720" y="4035240"/>
              <a:ext cx="3166920" cy="27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3"/>
            <a:stretch/>
          </p:blipFill>
          <p:spPr>
            <a:xfrm>
              <a:off x="5346720" y="1368360"/>
              <a:ext cx="309564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5219640" y="404640"/>
            <a:ext cx="3467160" cy="5184720"/>
            <a:chOff x="5219640" y="404640"/>
            <a:chExt cx="3467160" cy="5184720"/>
          </a:xfrm>
        </p:grpSpPr>
        <p:grpSp>
          <p:nvGrpSpPr>
            <p:cNvPr id="711" name=""/>
            <p:cNvGrpSpPr/>
            <p:nvPr/>
          </p:nvGrpSpPr>
          <p:grpSpPr>
            <a:xfrm>
              <a:off x="5219640" y="404640"/>
              <a:ext cx="3467160" cy="5184720"/>
              <a:chOff x="5219640" y="404640"/>
              <a:chExt cx="3467160" cy="5184720"/>
            </a:xfrm>
          </p:grpSpPr>
          <p:sp>
            <p:nvSpPr>
              <p:cNvPr id="712" name=""/>
              <p:cNvSpPr/>
              <p:nvPr/>
            </p:nvSpPr>
            <p:spPr>
              <a:xfrm>
                <a:off x="5219640" y="404640"/>
                <a:ext cx="3467160" cy="518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51320" y="660600"/>
                <a:ext cx="3378240" cy="131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</a:rPr>
                  <a:t>X МОСКОВСКИЙ МЕЖДУНАРОДНЫ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</a:rPr>
                  <a:t>САЛОН ИННОВАЦИЙ И ИНВЕСТИЦИ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</a:rPr>
                  <a:t>ДИПЛО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308200" y="2580840"/>
                <a:ext cx="328932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308200" y="2904840"/>
                <a:ext cx="3289320" cy="9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</a:rPr>
                  <a:t>СЕРЕБРЯНОЙ МЕДАЛЬЮ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08200" y="3228840"/>
                <a:ext cx="3200400" cy="27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ff"/>
                    </a:solidFill>
                    <a:latin typeface="Times New Roman"/>
                  </a:rPr>
                  <a:t>Белгородский государственный университе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1720" y="3477600"/>
                <a:ext cx="2489040" cy="76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ff"/>
                    </a:solidFill>
                    <a:latin typeface="Times New Roman"/>
                  </a:rPr>
                  <a:t>За натуральный образец: «Биоуправляемый аркадный игровой модуль с использованием субсенсорных моделей оптимизации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378040" y="4344120"/>
                <a:ext cx="3111480" cy="64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ff"/>
                    </a:solidFill>
                    <a:latin typeface="Times New Roman"/>
                  </a:rPr>
                  <a:t>Министр образования и наук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ff"/>
                    </a:solidFill>
                    <a:latin typeface="Times New Roman"/>
                  </a:rPr>
                  <a:t>Российской Федерации                                   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ff"/>
                    </a:solidFill>
                    <a:latin typeface="Times New Roman"/>
                  </a:rPr>
                  <a:t>А.А. Фурсенк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8480" y="4933800"/>
                <a:ext cx="1955880" cy="57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ff"/>
                    </a:solidFill>
                    <a:latin typeface="Times New Roman"/>
                  </a:rPr>
                  <a:t>МОСКВА,ГОСТИНЫЙ ДВОР,сентябрь 2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5361120" y="2319840"/>
              <a:ext cx="3098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вторы: Ф.А.Пятакович, Т.И. Якунченко, М.А.Сур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961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ДАТЧИК ПУЛЬСА И ДЫХ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БИОТЕХНИЧЕСКАЯ СИСТЕМА ГЕНЕРАЦИИ СИГНАЛОВ ПОДОБНЫХ ЭЭ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08560" y="1554120"/>
            <a:ext cx="325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67120" y="1986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3492360" cy="452124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5526000" cy="45259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808200" y="6089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8000" y="5734080"/>
            <a:ext cx="892800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Arial Narrow"/>
              </a:rPr>
              <a:t>Патент №2363506 на «Биоуправляемое устройство для генерации сигналов, подобных ЭЭГ» авторов Ф.А. Пятаковича, К.Ф. Макконен. Дата регистрации в госреестре – 10.08.2009. Заявка № 2002149373, приоритет от 26.12.07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4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Arial Narrow"/>
              </a:rPr>
              <a:t>Еще в конце 50-х годов прошлого столетия Н.П.Бехтеревой были проведены исследования, которые показали наличие перестройки электрической активности мозга под воздействием мелькающего света. Позднее были получены результаты, отражающие улучшение психоэмоционального состояния после проведенной фотостимуляции </a:t>
            </a:r>
            <a:r>
              <a:rPr b="1" lang="en-US" sz="3100" spc="-1" strike="noStrike">
                <a:solidFill>
                  <a:srgbClr val="0000ff"/>
                </a:solidFill>
                <a:latin typeface="Arial Narrow"/>
              </a:rPr>
              <a:t>[</a:t>
            </a:r>
            <a:r>
              <a:rPr b="1" lang="ru-RU" sz="3100" spc="-1" strike="noStrike">
                <a:solidFill>
                  <a:srgbClr val="0000ff"/>
                </a:solidFill>
                <a:latin typeface="Arial Narrow"/>
              </a:rPr>
              <a:t>Федотчев А.И., Бондарь А.Г.,1990,1996</a:t>
            </a:r>
            <a:r>
              <a:rPr b="1" lang="en-US" sz="3100" spc="-1" strike="noStrike">
                <a:solidFill>
                  <a:srgbClr val="0000ff"/>
                </a:solidFill>
                <a:latin typeface="Arial Narrow"/>
              </a:rPr>
              <a:t>]</a:t>
            </a:r>
            <a:r>
              <a:rPr b="1" lang="ru-RU" sz="31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Baltica"/>
                <a:ea typeface="Times New Roman"/>
              </a:rPr>
              <a:t>В 1994 году нами были опубликованы, научно обоснованные рекомендации по разработке биотехнических систем цветостимуляции, в которых биотропные параметры цветового воздействия, как по частоте, так и  по интенсивности могут быть автоматически согласованы с параметрами биологической обратной связи посредством датчиков пульса и дыхания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96854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 txBox="1"/>
          <p:nvPr/>
        </p:nvSpPr>
        <p:spPr>
          <a:xfrm>
            <a:off x="684360" y="476280"/>
            <a:ext cx="7920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76320"/>
            <a:ext cx="9144000" cy="62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 Narro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Мы рассматривали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детерминированные модел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паттернов цветостимулов, адекватных паттернам ЭЭГ.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На основании вышеизложенного были сформированы последовательности частот воздействия для режимов релаксации, стимуляции, гармонизации и стабилизации. Каждый режим имел 4-е формулы в зависимости от психологического профиля личности.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В экспериментальных и клинических исследованиях этот подход обеспечивал трансформацию нейродинамической активности мозга и модификацию функционального состояни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H="1">
            <a:off x="1144440" y="4410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5360" y="2847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4280"/>
            <a:ext cx="9036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СОСТАВЛЯЮЩИЕ КОМПОНЕНТЫ ПАТТЕРНА ЦВЕТОСТИМУЛЯЦИИ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Структурный базисный паттерн ЭЭГ δθ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(1 волна дельта- ритма + 1 волна тета-ритма + веретено из 4 волн альфа-ритм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 Narrow"/>
              </a:rPr>
              <a:t>Паттерн световых импульсов</a:t>
            </a: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:</a:t>
            </a: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 (1 импульс желтого света + 1 импульс зеленого света + 4 импульса синего све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Временной паттерн</a:t>
            </a:r>
            <a:r>
              <a:rPr b="0" lang="ru-RU" sz="32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световых импульсов</a:t>
            </a: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, состоящий из длительностей импульса и длительностей пау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[1*(0,31+0,02)+1*(0,23+0,02) + 4*(0,08+0,02)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ПАТТЕРНЫ ОСНОВНЫХ РЕЖИМОВ ЦВЕТОСТИМУЛЯЦИ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 Narrow"/>
              </a:rPr>
              <a:t>ПАТТЕРН МЯГКОЙ РЕЛАКС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 Narrow"/>
              </a:rPr>
              <a:t>                </a:t>
            </a:r>
            <a:r>
              <a:rPr b="1" lang="ru-RU" sz="3600" spc="-1" strike="noStrike">
                <a:solidFill>
                  <a:srgbClr val="009999"/>
                </a:solidFill>
                <a:latin typeface="Symbol"/>
                <a:ea typeface="Symbol"/>
              </a:rPr>
              <a:t>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 Narrow"/>
              </a:rPr>
              <a:t>ПАТТЕРН ИНТЕНСИВНОЙ РЕЛАКСАЦИИ</a:t>
            </a:r>
            <a:r>
              <a:rPr b="1" lang="en-US" sz="3600" spc="-1" strike="noStrike">
                <a:solidFill>
                  <a:srgbClr val="0099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Symbol"/>
                <a:ea typeface="Symbol"/>
              </a:rPr>
              <a:t></a:t>
            </a:r>
            <a:r>
              <a:rPr b="1" lang="ru-RU" sz="36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Arial Narrow"/>
              </a:rPr>
              <a:t>+ </a:t>
            </a:r>
            <a:r>
              <a:rPr b="1" lang="ru-RU" sz="3600" spc="-1" strike="noStrike">
                <a:solidFill>
                  <a:srgbClr val="009900"/>
                </a:solidFill>
                <a:latin typeface="Symbol"/>
                <a:ea typeface="Symbol"/>
              </a:rPr>
              <a:t></a:t>
            </a:r>
            <a:r>
              <a:rPr b="1" lang="ru-RU" sz="3600" spc="-1" strike="noStrike">
                <a:solidFill>
                  <a:srgbClr val="009900"/>
                </a:solidFill>
                <a:latin typeface="Arial Narrow"/>
              </a:rPr>
              <a:t> + </a:t>
            </a:r>
            <a:r>
              <a:rPr b="1" lang="ru-RU" sz="3600" spc="-1" strike="noStrike">
                <a:solidFill>
                  <a:srgbClr val="009900"/>
                </a:solidFill>
                <a:latin typeface="Symbol"/>
                <a:ea typeface="Symbol"/>
              </a:rPr>
              <a:t>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 Narrow"/>
              </a:rPr>
              <a:t>ПАТТЕРН МЯГКОЙ  СТИМУЛЯ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f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66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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 Narrow"/>
              </a:rPr>
              <a:t>ПАТТЕРН ИНТЕНСИВНОЙ СТИМУЛЯ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Symbol"/>
                <a:ea typeface="Symbol"/>
              </a:rPr>
              <a:t></a:t>
            </a:r>
            <a:r>
              <a:rPr b="1" lang="el-GR" sz="3600" spc="-1" strike="noStrike">
                <a:solidFill>
                  <a:srgbClr val="cc3300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cc3300"/>
                </a:solidFill>
                <a:latin typeface="Arial Narrow"/>
              </a:rPr>
              <a:t> +</a:t>
            </a: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l-GR" sz="3600" spc="-1" strike="noStrike">
                <a:solidFill>
                  <a:srgbClr val="cc3300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1" lang="ru-RU" sz="3600" spc="-1" strike="noStrike">
                <a:solidFill>
                  <a:srgbClr val="cc3300"/>
                </a:solidFill>
                <a:latin typeface="Arial Narrow"/>
              </a:rPr>
              <a:t> + </a:t>
            </a:r>
            <a:r>
              <a:rPr b="1" lang="el-GR" sz="3600" spc="-1" strike="noStrike">
                <a:solidFill>
                  <a:srgbClr val="cc3300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cc3300"/>
                </a:solidFill>
                <a:latin typeface="Symbol"/>
                <a:ea typeface="Symbol"/>
              </a:rPr>
              <a:t>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ПАТТЕРН ГАРМ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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+ + 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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 + 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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 + 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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+ </a:t>
            </a:r>
            <a:r>
              <a:rPr b="1" lang="el-GR" sz="3600" spc="-1" strike="noStrike">
                <a:solidFill>
                  <a:srgbClr val="ff00ff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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+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r>
              <a:rPr b="1" lang="el-GR" sz="3600" spc="-1" strike="noStrike">
                <a:solidFill>
                  <a:srgbClr val="ff00ff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 +</a:t>
            </a:r>
            <a:r>
              <a:rPr b="1" lang="en-US" sz="3600" spc="-1" strike="noStrike">
                <a:solidFill>
                  <a:srgbClr val="ff00ff"/>
                </a:solidFill>
                <a:latin typeface="Arial Narrow"/>
              </a:rPr>
              <a:t> </a:t>
            </a:r>
            <a:r>
              <a:rPr b="1" lang="el-GR" sz="3600" spc="-1" strike="noStrike">
                <a:solidFill>
                  <a:srgbClr val="ff00ff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</a:t>
            </a:r>
            <a:r>
              <a:rPr b="1" lang="ru-RU" sz="3600" spc="-1" strike="noStrike">
                <a:solidFill>
                  <a:srgbClr val="ff00ff"/>
                </a:solidFill>
                <a:latin typeface="Arial Narrow"/>
              </a:rPr>
              <a:t> + </a:t>
            </a:r>
            <a:r>
              <a:rPr b="1" lang="el-GR" sz="3600" spc="-1" strike="noStrike">
                <a:solidFill>
                  <a:srgbClr val="ff00ff"/>
                </a:solidFill>
                <a:latin typeface="Arial Narrow"/>
                <a:ea typeface="Arial"/>
              </a:rPr>
              <a:t>β</a:t>
            </a:r>
            <a:r>
              <a:rPr b="1" lang="ru-RU" sz="3600" spc="-1" strike="noStrike">
                <a:solidFill>
                  <a:srgbClr val="ff00ff"/>
                </a:solidFill>
                <a:latin typeface="Symbol"/>
                <a:ea typeface="Symbol"/>
              </a:rPr>
              <a:t>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равнительный анализ смоделированных паттернов ЭЭ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836640"/>
          <a:ext cx="9144000" cy="6070680"/>
        </p:xfrm>
        <a:graphic>
          <a:graphicData uri="http://schemas.openxmlformats.org/drawingml/2006/table">
            <a:tbl>
              <a:tblPr/>
              <a:tblGrid>
                <a:gridCol w="1349280"/>
                <a:gridCol w="2422800"/>
                <a:gridCol w="2720880"/>
                <a:gridCol w="2651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паз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Э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ОДЕЛИ  ЦВЕТОСТИМУ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ЛАКС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КТИ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БИ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ль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α/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равнительный анализ информационных параметров модельных паттернов ЭЭ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268280"/>
          <a:ext cx="9144000" cy="5427720"/>
        </p:xfrm>
        <a:graphic>
          <a:graphicData uri="http://schemas.openxmlformats.org/drawingml/2006/table">
            <a:tbl>
              <a:tblPr/>
              <a:tblGrid>
                <a:gridCol w="1452600"/>
                <a:gridCol w="2562120"/>
                <a:gridCol w="2430360"/>
                <a:gridCol w="2698920"/>
              </a:tblGrid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Энтро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ОДЕЛИ  ЦВЕТОСТИМУ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ЛАКС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КТИ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БИ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 Narrow"/>
                          <a:ea typeface="Times New Roman"/>
                        </a:rPr>
                        <a:t>0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 Narrow"/>
                          <a:ea typeface="Times New Roman"/>
                        </a:rPr>
                        <a:t>4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 Narrow"/>
                          <a:ea typeface="Times New Roman"/>
                        </a:rPr>
                        <a:t>3,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 Narrow"/>
                          <a:ea typeface="Times New Roman"/>
                        </a:rPr>
                        <a:t>3,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+R=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+R=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h+R=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240" y="1552680"/>
          <a:ext cx="9036000" cy="5300640"/>
        </p:xfrm>
        <a:graphic>
          <a:graphicData uri="http://schemas.openxmlformats.org/drawingml/2006/table">
            <a:tbl>
              <a:tblPr/>
              <a:tblGrid>
                <a:gridCol w="1895400"/>
                <a:gridCol w="1079640"/>
                <a:gridCol w="1274760"/>
                <a:gridCol w="1414440"/>
                <a:gridCol w="1695240"/>
                <a:gridCol w="167652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Возбуждаем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Ритм ЭЭ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Част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Период импульса с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Коли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т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Время реализ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Импуль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Пау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br>
                        <a:rPr sz="2400"/>
                      </a:b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Аль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0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Сумма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-27000"/>
            <a:ext cx="9107640" cy="14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Narrow"/>
              </a:rPr>
              <a:t>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модель оптимизации управления световым воздействием с изменением скважности сиг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8:03:17Z</dcterms:created>
  <dc:creator>1</dc:creator>
  <dc:description/>
  <dc:language>en-US</dc:language>
  <cp:lastModifiedBy>Михаил</cp:lastModifiedBy>
  <dcterms:modified xsi:type="dcterms:W3CDTF">2011-05-27T06:18:08Z</dcterms:modified>
  <cp:revision>181</cp:revision>
  <dc:subject/>
  <dc:title>Диагностические модели и алгоритмы управления в мультимедийной электронной системе обучения и контроля знаний по дисциплине «Медицинская информатика» </dc:title>
</cp:coreProperties>
</file>