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george" initials="g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05-16T17:21:54.317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3FA0-DCC4-4819-8840-E753422939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м сообщением мы представляем вашему вниманию не только новый продукт на рынке медицинского программного обеспечения, но и новую компанию – «Брегис», которая образовалась на базе отдела информационных систем ЗАО «БиоХимМак» и входит в группу компаний «БиоХимМак». Новая ЛИС «Ариадна» разработана по нашему техническому заданию компанией «Решение» из Санкт-Петербурга, специализирующейся на разработке, внедрении и сопровождении МИС «Ариадна». Новая система воплотила опыт внедрения 51 крупной системы и 59 компактных систем и автономных рабочих мест ЛИС МЕДАП в различных медучреждениях России, Украины и Казахст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D74D-3F54-4081-8D5A-B987AF3084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каждого рабочего места можно настроить свои формы ввода результатов. Также можно вводить результаты по материалам и по измер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на печать можно отобрать по пациенту, заказчику, врачу, рабочему месту, учитывая при этом факторы срочности исследования, а также предыдущей печати и выдачи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озволяет задать любой порядок следования результатов как в формах ручного ввода, так и в форме бланка-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ИС Ариадна организована полноценная обработка статистических дан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тор ЛИС может иметь доступ к большому количеству стандартных отчетов и выбор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ых отчетов может выполняться, как специалистами фирмы, так и специалистами АСУ учреждения. Для это они должны знать структуру базы данных, уметь писать запросы к ней. После отбора необходимых данных они выводятся в форматах Microsoft Office и OpenOffice, где пользователи сами могут совершенствовать форму предст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едение основных списков информационной системы, к которым относятся: Список приложений, список прав на выполнение ответственных действий, список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начение прав и паролей пользо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едение протокола действий, выполненных пользова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426D-C615-43C8-83A5-1F28AADFA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необходимости ведения лабораторией собственной хозяйственной деятельности АРМ Экономист позволяет осуществлять следующие фун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договоров с различными организ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отдельных прейскурантов для конкретных догов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страховых программ по договор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списков услуг, разрешенных или запрещенных в рамках договора или в рамках отдельной страховой программы по договор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списков пациентов, обслуживаемых в рамках договора или в рамках отдельной страховой программы по догов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особых условий обслуживания в рамках договора или отдельной страховой программы с указанием сроков действия данных условий: прикрепление прейскуранта к дате, назначение лимитов страховых сумм на пациентов и договоры, назначение и отслеживание авансов, ведение абонентского обслу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начение скидок как на отдельные услуги, так и на группы услуг - по выбранному подразделению или выбранному разделу прейскура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начение скидок (надбавок) посредством коэффициентов, процентов или в абсолютном выраж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начение разных скидок для одной и той же услуги, в зависимости от того, как она будет оказана – амбулаторно или стациона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произвольных сроков действия скидок, начиная от 1 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11F8-D870-43AD-A365-3E488FC3F5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списка услуг с группировкой по разделам прейскура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начение соответствий между услугами клиники и простыми услугам Минзд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себестоимости услуги по различным показателям (по справочник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сложных услуг, имеющих в своем составе набор простых услуг - водительские комиссии профосмотр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справочника условных единиц трудозатрат (УЕТ) Для врача, для лабора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нескольких типов цен, например, обычная цена, цена CITO, цена для иностранцев и т.д.  Ведение для каждого типа цены трех вариантов значений - цены для наличного расчета, цены для безналичного расчета, себестои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1026-C20F-4AB8-9DEB-E48F4DA7F5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М Финансы осуществляет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счетов по пациентам и страховым компа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рование процесса выставления услуг в оплату и их включения в сч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финансовых отч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FCBF-C6CF-4663-AEED-64FD04A323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М Склад Реагентов осуществляет оперативный контроль наличия реагентов на складе с историей поступления и рас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B538-668B-4530-B27C-4AAF5D253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ормление поступления реагентов как с центрального склада, так и изв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FAC4-89AA-46F9-A52D-8A2ED3EADA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108000"/>
            <a:ext cx="3870360" cy="29019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89000" y="3059280"/>
            <a:ext cx="6480000" cy="60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временные КДЛ характеризуются высоким  уровнем развития технологии производства исследован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арк высокопроизводительных анализаторов может измеряться десятками, хотя и традиционные ручные методики, особенно в области морфологии, также остаются актуальны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ысокая конкуренция на рынке лабораторных исследований заставляет искать пути повышения эффективности без потери качеств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ИС, как важнейший инструмент управления рабочими процессами, должен соответствовать задачам, которые ставит современная тенденция развития лабораторной диагности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скольку на первый план выходит задача повышения эффективности, ЛИС должна обеспечить фиксацию каждой манипуляции и обеспечить динамическую связь экономического и технологического блока. Такая связь позволит обеспечить полный учет, как рабочего времени, так и материальных и финансовых средст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хнологии внутренней работы ЛИС должны обеспечивать максимальную гибкость и многовариантность адаптации любого рабочего процесс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акже немаловажной является задача обеспечения взаимодействия лаборатории с структурами страховых организаций, то есть обеспечение отсутствия потерь при выставлении счетов и получении средств за выполненные исследо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ктор платных услуг в настоящее время также имеет достаточно большое значение. ЛИС должна обеспечивать возможность создания распределенных баз данных и сетевых структур, которые позволят автоматизировать работу заборных пунктов, лабораторий-партнеров, аутсорсинг исследован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тупление в силу ФЗ 152 и сертификации лабораторий по ISO и ГОСТ также предъявляет новый ряд требований к свойствам ЛИ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е эти задачи решались нами при создании нового поколения ЛИС – ЛИС «Ариадна», которую представляет на рынке ООО "Брегис", входящее в группу компаний ЗАО БиоХимМа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так, посмотрим, как в ЛИС Ариадна решаются упомянутые задач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до отметить, что все модули ЛИС имеют общую информационную структуру и политику построения интерфейс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ы не будем останавливаться на той функциональности, которая была реализована в ЛИС "Медап" и которую все пользователи современных ЛИС хорошо знают, а рассмотрим новые, с нашей точки зрения, возмож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FE5D-10CB-40D4-82EE-762DC3133C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ации движения реагентов между подразделениями ЛП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8B87-CBFE-4BD8-962E-328A28BFEF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ормление отгрузки реаг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нтар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ческое списание реагентов на выполненные услуги (при заполнении норм расхода реагентов в АРМ Контен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606E-63EB-4F61-A46C-ECAB59007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данных мер позволяет существенно снизить вероятность НСД в ЛИ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ные модули администрирования и механизмы доступа и защиты данных в настоящее время сертифицируются на соответствие требованиям ФЗ 152 «О Персональных данных», что позволит использовать систему после вступления закона в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437D-96CE-4D3B-B413-3915C2AE46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02BB-AE7F-4473-8620-732D051149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Боле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350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ведущих поставщиков услуг здравоохранения используют приложени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20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з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20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крупнейших компаний страховой медицины США работают на приложениях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10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з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1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крупнейших компаний медицины п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Fortune Global 500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спользуют приложени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70%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крупнейших медицинских компаний Европы работают на приложениях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67FE-7E2E-4CDC-9A7B-6618B22A52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51A1-D8AF-4515-96C2-C8154201A3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A4EC-0C4A-4BA5-8F75-777AF727FA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88640" y="4343400"/>
            <a:ext cx="6553080" cy="41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в структуре ЛИС сущности "работы" позволило решить следующие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механизма для подсчета себестоимости услуги, норм времени п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методиках, учет трудозатрат персонал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управлять структурой технологического процесса исследования чере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фейс программ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ческое создание С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можно учесть все работы, от произведения измерения анализатором, д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рания стола и и не только в общем объеме, но персонально, что позвол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ь достаточно точный расчет заработной пл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услуга может иметь сколь угодное количество вариантов исследований и п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м производится полный автоматический уч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Рабочие процессы могут быть любой сложности. Например, линейными,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последовательным или  параллельным (как на данном слайде) выполн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ых рабо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836640" y="539640"/>
            <a:ext cx="5329080" cy="367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3881520" y="868680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3200"/>
                <a:tab algn="l" pos="1967040"/>
                <a:tab algn="l" pos="2360520"/>
                <a:tab algn="l" pos="2754360"/>
                <a:tab algn="l" pos="31478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8040"/>
                <a:tab algn="l" pos="7481880"/>
                <a:tab algn="l" pos="7875720"/>
                <a:tab algn="l" pos="8229600"/>
                <a:tab algn="l" pos="9144000"/>
                <a:tab algn="l" pos="10058400"/>
              </a:tabLst>
            </a:pPr>
            <a:fld id="{A4D98463-997E-4D8E-9AFA-9F1678CDEA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Рабочие процессы могут представлять из себя схему с выполнением те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или иных работ по выполнению различных услови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Это ча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тся в случаях, когда услуга может быть выполнена на раз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анализаторах или когда требуется череда повторных измерений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едением образца, зависимых от полученног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3881520" y="868680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3200"/>
                <a:tab algn="l" pos="1967040"/>
                <a:tab algn="l" pos="2360520"/>
                <a:tab algn="l" pos="2754360"/>
                <a:tab algn="l" pos="31478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8040"/>
                <a:tab algn="l" pos="7481880"/>
                <a:tab algn="l" pos="7875720"/>
                <a:tab algn="l" pos="8229600"/>
                <a:tab algn="l" pos="9144000"/>
                <a:tab algn="l" pos="10058400"/>
              </a:tabLst>
            </a:pPr>
            <a:fld id="{BB1FE9FA-C04F-44AC-9C0C-7C0B06FD8B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622840" cy="410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Рабочий процесс может включать в себя работ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носящиеся к раз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а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. Подобный рабочий процесс присущ «комплексным услугам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Самые часто встречаемые примеры комплексных услуг — «проба Реберг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и «сахарная крива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900B-3855-4B08-B408-B0AA6C9A95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Рабочий процесс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е является статичной схемой – он может корректирова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льзователем в соответствии с изменяющимися реалиями работы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В него мож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обавить работы и условия их выполнения. Для условия выполнения той или и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боты можно выбрать различные критерии ветвления – пример выбора критери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 на данном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Может быть настроено как автоматическое управление потоком, так и руч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В последнем случае зад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на исследование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будет задержан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системе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д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нятия решения опера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3881520" y="868680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3200"/>
                <a:tab algn="l" pos="1967040"/>
                <a:tab algn="l" pos="2360520"/>
                <a:tab algn="l" pos="2754360"/>
                <a:tab algn="l" pos="31478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8040"/>
                <a:tab algn="l" pos="7481880"/>
                <a:tab algn="l" pos="7875720"/>
                <a:tab algn="l" pos="8229600"/>
                <a:tab algn="l" pos="9144000"/>
                <a:tab algn="l" pos="10058400"/>
              </a:tabLst>
            </a:pPr>
            <a:fld id="{50AB04D9-42E7-4C39-A0AC-82583982D3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рабочего дня в лаборатории могут происходить самые раз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ытия, которые могут повлиять на изменение технологии оказания 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иной услуги. Это может быть отказ анализатора, недостаток реагент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специалист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Диспетчер работ предназначен для управления потоками 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между взаимозаменяемыми приборами, что обеспечивает их равномерну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загруз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а также позволяет изменять технологические процессы вручн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 стадии выполнения исследований: перенаправить зад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ннулировать задание, повторить задание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В случае проблем с одним анализатором, можно быстро перенапра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работы на друг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Логика направления настраивается в разделе рабочи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Может быть настроено как автоматическое управление поток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так и ручное. В последнем случае задание будет задержано до выб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ужной ветви процесса опера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озволяет описать вычисляемые значения и индексы в специальном разделе карточки результ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кер материалов позволяет отбирать данные для просмотра с помощью различных параметрических фильтров, а также в любой момент времени контролировать состояние каждого материала по 11 параметрам. При необходимости можно ввести комментарий как к каждому конкретному результату, так и к материалу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2F6-0AA9-4AA4-BC79-3057175C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819-579A-47E4-ACAA-428498AA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93F-ECC7-4505-B527-F7A304CA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E38-573E-474F-852F-DD2A3BFC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42F-85E5-4445-AD32-94AD4C71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2C47-24CA-4650-B146-131A3D1B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082-7A0B-44E0-9C84-254F728A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910-E837-4FEF-8507-C6E5DE57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C26-4C97-4A12-966C-F507775D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289-E6E1-450B-A2C4-FE26BE05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1CF-EF1C-4291-8201-9E6F19B8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F90-B26C-4A4E-A7C1-0F64613A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20A8-F0AE-491A-A6E9-BEA2ED283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60280"/>
            <a:ext cx="9144000" cy="865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2324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7030a0"/>
                </a:solidFill>
                <a:latin typeface="Century Gothic"/>
              </a:rPr>
              <a:t>__________________________________    </a:t>
            </a:r>
            <a:r>
              <a:rPr b="1" lang="ru-RU" sz="2300" spc="-1" strike="noStrike">
                <a:solidFill>
                  <a:srgbClr val="7030a0"/>
                </a:solidFill>
                <a:latin typeface="Century Gothic"/>
              </a:rPr>
              <a:t>Новые возможности</a:t>
            </a:r>
            <a:br>
              <a:rPr sz="2300"/>
            </a:br>
            <a:r>
              <a:rPr b="1" lang="ru-RU" sz="2300" spc="-1" strike="noStrike">
                <a:solidFill>
                  <a:srgbClr val="7030a0"/>
                </a:solidFill>
                <a:latin typeface="Century Gothic"/>
              </a:rPr>
              <a:t>информационной поддержки рабочих процессов КД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6021000"/>
            <a:ext cx="640080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ООО «Бреги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Медсофт, 18 мая 201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826920" y="1890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ЛИС</a:t>
            </a:r>
            <a:r>
              <a:rPr b="1" lang="en-US" sz="3200" spc="-1" strike="noStrike">
                <a:solidFill>
                  <a:srgbClr val="7030a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«Ариад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splashes"/>
          <p:cNvPicPr/>
          <p:nvPr/>
        </p:nvPicPr>
        <p:blipFill>
          <a:blip r:embed="rId2"/>
          <a:stretch/>
        </p:blipFill>
        <p:spPr>
          <a:xfrm>
            <a:off x="1260360" y="1508040"/>
            <a:ext cx="676764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7" descr="res_workplace_cenz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4211640" y="0"/>
            <a:ext cx="4932360" cy="692280"/>
          </a:xfrm>
          <a:prstGeom prst="rect">
            <a:avLst/>
          </a:prstGeom>
          <a:solidFill>
            <a:srgbClr val="aad1da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762"/>
                </a:solidFill>
                <a:latin typeface="Century Gothic"/>
              </a:rPr>
              <a:t>Ручной ввод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7" descr="result_print_cenz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4211640" y="0"/>
            <a:ext cx="4932360" cy="692280"/>
          </a:xfrm>
          <a:prstGeom prst="rect">
            <a:avLst/>
          </a:prstGeom>
          <a:solidFill>
            <a:srgbClr val="aad1da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762"/>
                </a:solidFill>
                <a:latin typeface="Century Gothic"/>
              </a:rPr>
              <a:t>Отбор результатов для печ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одержимое 5" descr="res_sequenc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4211640" y="0"/>
            <a:ext cx="4932360" cy="692280"/>
          </a:xfrm>
          <a:prstGeom prst="rect">
            <a:avLst/>
          </a:prstGeom>
          <a:solidFill>
            <a:srgbClr val="aad1da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762"/>
                </a:solidFill>
                <a:latin typeface="Century Gothic"/>
              </a:rPr>
              <a:t>Настройка следования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124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entury Gothic"/>
              </a:rPr>
              <a:t>Статистическая обработка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5261040" y="1413000"/>
          <a:ext cx="384804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61040" y="1413000"/>
                    <a:ext cx="384804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Box 4"/>
          <p:cNvSpPr/>
          <p:nvPr/>
        </p:nvSpPr>
        <p:spPr>
          <a:xfrm>
            <a:off x="971640" y="1484280"/>
            <a:ext cx="424800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зовые отч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енные измерения по исполнител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енные работы по исполнител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енные услуги по заказчикам (общ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енные услуги по врачам (заказ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енные лабораторией услуги (с учетом утвержденно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енные лабораторией услуги с учетом источника финанс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енные услуги по заказчикам с учетом источника финанс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выполненных измерений по заказчик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ациентов и материалов по заказчик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для регистратуры: выполненные услуги по пациен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т нагрузки на регистра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по услугам: назначенные и выполн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енные услуги по рабочим местам / отде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енные измерения по рабочим местам / отде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Содержимое 5" descr="admin_cenz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5651640" y="0"/>
            <a:ext cx="3492360" cy="549360"/>
          </a:xfrm>
          <a:prstGeom prst="rect">
            <a:avLst/>
          </a:prstGeom>
          <a:solidFill>
            <a:srgbClr val="ffcc99"/>
          </a:solidFill>
          <a:ln w="190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762"/>
                </a:solidFill>
                <a:latin typeface="Century Gothic"/>
              </a:rPr>
              <a:t>АРМ «Администрат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5" descr="econom_cenz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5651640" y="0"/>
            <a:ext cx="3492360" cy="549360"/>
          </a:xfrm>
          <a:prstGeom prst="rect">
            <a:avLst/>
          </a:prstGeom>
          <a:solidFill>
            <a:srgbClr val="ffcc99"/>
          </a:solidFill>
          <a:ln w="190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762"/>
                </a:solidFill>
                <a:latin typeface="Century Gothic"/>
              </a:rPr>
              <a:t>АРМ «Экономис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5" descr="09_Econom_Servic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5651640" y="0"/>
            <a:ext cx="3492360" cy="549360"/>
          </a:xfrm>
          <a:prstGeom prst="rect">
            <a:avLst/>
          </a:prstGeom>
          <a:solidFill>
            <a:srgbClr val="ffcc99"/>
          </a:solidFill>
          <a:ln w="190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762"/>
                </a:solidFill>
                <a:latin typeface="Century Gothic"/>
              </a:rPr>
              <a:t>АРМ «Экономис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10_Financ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651640" y="0"/>
            <a:ext cx="3492360" cy="549360"/>
          </a:xfrm>
          <a:prstGeom prst="rect">
            <a:avLst/>
          </a:prstGeom>
          <a:solidFill>
            <a:srgbClr val="ffcc99"/>
          </a:solidFill>
          <a:ln w="190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762"/>
                </a:solidFill>
                <a:latin typeface="Century Gothic"/>
              </a:rPr>
              <a:t>АРМ «Финанс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ArmSklad.png"/>
          <p:cNvPicPr/>
          <p:nvPr/>
        </p:nvPicPr>
        <p:blipFill>
          <a:blip r:embed="rId2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5292720" y="0"/>
            <a:ext cx="3851280" cy="692280"/>
          </a:xfrm>
          <a:prstGeom prst="rect">
            <a:avLst/>
          </a:prstGeom>
          <a:solidFill>
            <a:srgbClr val="ffcc99"/>
          </a:solidFill>
          <a:ln w="190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762"/>
                </a:solidFill>
                <a:latin typeface="Century Gothic"/>
              </a:rPr>
              <a:t>АРМ «Склад реаген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Reagents_for 15 fram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5651640" y="0"/>
            <a:ext cx="3492360" cy="549360"/>
          </a:xfrm>
          <a:prstGeom prst="rect">
            <a:avLst/>
          </a:prstGeom>
          <a:solidFill>
            <a:srgbClr val="ffcc99"/>
          </a:solidFill>
          <a:ln w="190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762"/>
                </a:solidFill>
                <a:latin typeface="Century Gothic"/>
              </a:rPr>
              <a:t>АРМ «Склад реаген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13840" y="1928880"/>
            <a:ext cx="86439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4" descr="shema_new-3.jpg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1139040" y="189000"/>
            <a:ext cx="770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entury Gothic"/>
              </a:rPr>
              <a:t>Клинико-диагностическ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entury Gothic"/>
              </a:rPr>
              <a:t>сего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5651640" y="0"/>
            <a:ext cx="3492360" cy="549360"/>
          </a:xfrm>
          <a:prstGeom prst="rect">
            <a:avLst/>
          </a:prstGeom>
          <a:solidFill>
            <a:srgbClr val="ffcc99"/>
          </a:solidFill>
          <a:ln w="190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762"/>
                </a:solidFill>
                <a:latin typeface="Century Gothic"/>
              </a:rPr>
              <a:t>АРМ «Склад реаген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Y:\ANK\DOKUMENT\Ариадна склад\Расход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5651640" y="0"/>
            <a:ext cx="3492360" cy="549360"/>
          </a:xfrm>
          <a:prstGeom prst="rect">
            <a:avLst/>
          </a:prstGeom>
          <a:solidFill>
            <a:srgbClr val="ffcc99"/>
          </a:solidFill>
          <a:ln w="190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762"/>
                </a:solidFill>
                <a:latin typeface="Century Gothic"/>
              </a:rPr>
              <a:t>АРМ «Склад реаген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Gothic"/>
              </a:rPr>
              <a:t>Меры по обеспечению соответствия ИСПДн К1, реализованные в ЛИС «Ариад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keyboard-padlock"/>
          <p:cNvPicPr/>
          <p:nvPr/>
        </p:nvPicPr>
        <p:blipFill>
          <a:blip r:embed="rId2"/>
          <a:stretch/>
        </p:blipFill>
        <p:spPr>
          <a:xfrm>
            <a:off x="0" y="1413000"/>
            <a:ext cx="2771640" cy="19555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36520" y="3429000"/>
            <a:ext cx="890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Обеспечение целостности программных средств, методом вычисления MD5-слепка в момент регистрации версии при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Идентификация терминалов, технических средств, узлов сети, каналов связи, внешних устройств по логическим именам (реализовано в системе протоколирования действ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Идентификация программ, файлов по именам (система контроля верс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Контроль доступа пользователей к защищаемым ресурсам в соответствии с матрицей доступа (система администрирования, АРМ Администрато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771640" y="1413000"/>
            <a:ext cx="62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Идентификация и проверка подлинности пользователя при входе в систему по паролю условно-постоянного действия длиной не менее шести буквенно-цифровых симво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Регистрация входа (выхода) пользователя в систему (из систем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Регистрация выдачи печатных документов на бумажный носи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33320" y="1483920"/>
            <a:ext cx="6359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42840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Лицензионная и сертифицированная ФСТЭК ОС Windows XP или нов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42840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Антиви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Kaspersky 6.0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</a:rPr>
              <a:t>MP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NOD32 4.0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   и в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Dr.WEB 5.0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42840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В случае доступа рабочей станции к сети Интернет – межсетевой экран (Firewall)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 ViPNet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или а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42840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Опционно могут потребовать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Электронный замок «Собол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СЗИ «Аккорд-АМДС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СЗИ SecretNet 6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или анал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42840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Также можно использовать 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e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ru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)Token для прохождения авторизации как в самой ОС, так и в СУБД 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Oracle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Aladdin eToken SecurLogon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). Использование дополнительных средств шифрования при этом не требу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520640" y="115920"/>
            <a:ext cx="72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entury Gothic"/>
                <a:ea typeface="Times New Roman"/>
              </a:rPr>
              <a:t>Компоненты типовой защиты от Н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entury Gothic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7030a0"/>
                </a:solidFill>
                <a:latin typeface="Century Gothic"/>
                <a:ea typeface="Times New Roman"/>
              </a:rPr>
              <a:t>на рабочих мес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EAV4box"/>
          <p:cNvPicPr/>
          <p:nvPr/>
        </p:nvPicPr>
        <p:blipFill>
          <a:blip r:embed="rId2"/>
          <a:stretch/>
        </p:blipFill>
        <p:spPr>
          <a:xfrm>
            <a:off x="324000" y="1413000"/>
            <a:ext cx="1376280" cy="1893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087dbbb60csky6ap"/>
          <p:cNvPicPr/>
          <p:nvPr/>
        </p:nvPicPr>
        <p:blipFill>
          <a:blip r:embed="rId3"/>
          <a:stretch/>
        </p:blipFill>
        <p:spPr>
          <a:xfrm>
            <a:off x="1258920" y="234936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Dr"/>
          <p:cNvPicPr/>
          <p:nvPr/>
        </p:nvPicPr>
        <p:blipFill>
          <a:blip r:embed="rId4"/>
          <a:stretch/>
        </p:blipFill>
        <p:spPr>
          <a:xfrm>
            <a:off x="250920" y="1700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digi-token_0"/>
          <p:cNvPicPr/>
          <p:nvPr/>
        </p:nvPicPr>
        <p:blipFill>
          <a:blip r:embed="rId5"/>
          <a:stretch/>
        </p:blipFill>
        <p:spPr>
          <a:xfrm>
            <a:off x="1979640" y="5157720"/>
            <a:ext cx="93348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5" descr="Warning Shield"/>
          <p:cNvPicPr/>
          <p:nvPr/>
        </p:nvPicPr>
        <p:blipFill>
          <a:blip r:embed="rId6"/>
          <a:stretch/>
        </p:blipFill>
        <p:spPr>
          <a:xfrm>
            <a:off x="2124000" y="2781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2" descr="keys"/>
          <p:cNvPicPr/>
          <p:nvPr/>
        </p:nvPicPr>
        <p:blipFill>
          <a:blip r:embed="rId7"/>
          <a:stretch/>
        </p:blipFill>
        <p:spPr>
          <a:xfrm>
            <a:off x="611280" y="3357720"/>
            <a:ext cx="1657080" cy="1657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Windows"/>
          <p:cNvPicPr/>
          <p:nvPr/>
        </p:nvPicPr>
        <p:blipFill>
          <a:blip r:embed="rId8"/>
          <a:stretch/>
        </p:blipFill>
        <p:spPr>
          <a:xfrm>
            <a:off x="1835280" y="1268280"/>
            <a:ext cx="576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8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Gothic"/>
                <a:ea typeface="Times New Roman"/>
              </a:rPr>
              <a:t>Платформа реализации - </a:t>
            </a:r>
            <a:r>
              <a:rPr b="1" lang="en-US" sz="2800" spc="-1" strike="noStrike">
                <a:solidFill>
                  <a:srgbClr val="7030a0"/>
                </a:solidFill>
                <a:latin typeface="Century Gothic"/>
                <a:ea typeface="Times New Roman"/>
              </a:rPr>
              <a:t>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300480" y="1773360"/>
            <a:ext cx="52182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939960" y="1600200"/>
            <a:ext cx="449568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ндартные компон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ртифицированные конфигу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объемлющая 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окая доступ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я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зкая стоимость вла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роенная поддержка предметной области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d-to-end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держка транза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ченная платформа для обеспечения семантического взаимодействия медицинских и административных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еспечивает выполнение задач аналитики и управления на основе реальных медицинских и административных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тые стандар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ube 10"/>
          <p:cNvSpPr/>
          <p:nvPr/>
        </p:nvSpPr>
        <p:spPr>
          <a:xfrm>
            <a:off x="5877000" y="5218200"/>
            <a:ext cx="2727360" cy="8031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MS PGothic"/>
              </a:rPr>
              <a:t>Хранилищ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ube 8"/>
          <p:cNvSpPr/>
          <p:nvPr/>
        </p:nvSpPr>
        <p:spPr>
          <a:xfrm>
            <a:off x="5877000" y="4540320"/>
            <a:ext cx="2727360" cy="8031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MS PGothic"/>
              </a:rPr>
              <a:t>Операционн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MS PGothic"/>
              </a:rPr>
              <a:t>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ube 7"/>
          <p:cNvSpPr/>
          <p:nvPr/>
        </p:nvSpPr>
        <p:spPr>
          <a:xfrm>
            <a:off x="5877000" y="3854520"/>
            <a:ext cx="2727360" cy="8031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MS PGothic"/>
              </a:rPr>
              <a:t>Виртуал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ube 6"/>
          <p:cNvSpPr/>
          <p:nvPr/>
        </p:nvSpPr>
        <p:spPr>
          <a:xfrm>
            <a:off x="5877000" y="3187800"/>
            <a:ext cx="2727360" cy="8031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MS PGothic"/>
              </a:rPr>
              <a:t>База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MS PGothic"/>
              </a:rPr>
              <a:t>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ube 5"/>
          <p:cNvSpPr/>
          <p:nvPr/>
        </p:nvSpPr>
        <p:spPr>
          <a:xfrm>
            <a:off x="5877000" y="2482920"/>
            <a:ext cx="2727360" cy="8031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MS PGothic"/>
              </a:rPr>
              <a:t>Связующее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ube 4"/>
          <p:cNvSpPr/>
          <p:nvPr/>
        </p:nvSpPr>
        <p:spPr>
          <a:xfrm>
            <a:off x="5877000" y="1795320"/>
            <a:ext cx="2727360" cy="8035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MS PGothic"/>
              </a:rPr>
              <a:t>При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6"/>
          <p:cNvSpPr/>
          <p:nvPr/>
        </p:nvSpPr>
        <p:spPr>
          <a:xfrm>
            <a:off x="250920" y="2492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a68"/>
                </a:solidFill>
                <a:latin typeface="Century Gothic"/>
              </a:rPr>
              <a:t>ЛИС «Ариадна» - уверенный взгляд в завтрашни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01_WF_sim_pa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4211640" y="0"/>
            <a:ext cx="4932360" cy="692280"/>
          </a:xfrm>
          <a:prstGeom prst="rect">
            <a:avLst/>
          </a:prstGeom>
          <a:solidFill>
            <a:srgbClr val="aad1da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762"/>
                </a:solidFill>
                <a:latin typeface="Century Gothic"/>
              </a:rPr>
              <a:t>Настройка рабочи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03_WF_usl_lin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4211640" y="0"/>
            <a:ext cx="4932360" cy="692280"/>
          </a:xfrm>
          <a:prstGeom prst="rect">
            <a:avLst/>
          </a:prstGeom>
          <a:solidFill>
            <a:srgbClr val="aad1da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762"/>
                </a:solidFill>
                <a:latin typeface="Century Gothic"/>
              </a:rPr>
              <a:t>Настройка рабочи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WF_Reber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4211640" y="0"/>
            <a:ext cx="4932360" cy="692280"/>
          </a:xfrm>
          <a:prstGeom prst="rect">
            <a:avLst/>
          </a:prstGeom>
          <a:solidFill>
            <a:srgbClr val="aad1da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762"/>
                </a:solidFill>
                <a:latin typeface="Century Gothic"/>
              </a:rPr>
              <a:t>Настройка рабочи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WF_Fe_complex_If_Edi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4211640" y="0"/>
            <a:ext cx="4932360" cy="692280"/>
          </a:xfrm>
          <a:prstGeom prst="rect">
            <a:avLst/>
          </a:prstGeom>
          <a:solidFill>
            <a:srgbClr val="aad1da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762"/>
                </a:solidFill>
                <a:latin typeface="Century Gothic"/>
              </a:rPr>
              <a:t>Настройка рабочи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7" descr="05_Work_Dis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4211640" y="0"/>
            <a:ext cx="4932360" cy="692280"/>
          </a:xfrm>
          <a:prstGeom prst="rect">
            <a:avLst/>
          </a:prstGeom>
          <a:solidFill>
            <a:srgbClr val="aad1da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762"/>
                </a:solidFill>
                <a:latin typeface="Century Gothic"/>
              </a:rPr>
              <a:t>Диспетчер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179280" y="3716280"/>
            <a:ext cx="4103640" cy="6271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В верхней части перечислены услуг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имеющие ветвления в рабочем процессе</a:t>
            </a:r>
            <a:r>
              <a:rPr b="0" lang="en-US" sz="1600" spc="-1" strike="noStrike">
                <a:solidFill>
                  <a:srgbClr val="542a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4932360" y="3716280"/>
            <a:ext cx="3816360" cy="8650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В нижней части отображаются еще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завершенные заказы по выбранной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левом окне рабо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4" descr="06_function 2windows.png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4211640" y="0"/>
            <a:ext cx="4932360" cy="692280"/>
          </a:xfrm>
          <a:prstGeom prst="rect">
            <a:avLst/>
          </a:prstGeom>
          <a:solidFill>
            <a:srgbClr val="aad1da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762"/>
                </a:solidFill>
                <a:latin typeface="Century Gothic"/>
              </a:rPr>
              <a:t>Обработка вычисляемых 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6" descr="tracker_cenz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4211640" y="0"/>
            <a:ext cx="4932360" cy="692280"/>
          </a:xfrm>
          <a:prstGeom prst="rect">
            <a:avLst/>
          </a:prstGeom>
          <a:solidFill>
            <a:srgbClr val="aad1da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762"/>
                </a:solidFill>
                <a:latin typeface="Century Gothic"/>
              </a:rPr>
              <a:t>Трекер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06:13:35Z</dcterms:created>
  <dc:creator>george</dc:creator>
  <dc:description/>
  <dc:language>en-US</dc:language>
  <cp:lastModifiedBy>Михаил</cp:lastModifiedBy>
  <dcterms:modified xsi:type="dcterms:W3CDTF">2011-05-30T06:10:37Z</dcterms:modified>
  <cp:revision>220</cp:revision>
  <dc:subject/>
  <dc:title>Технологические особенности работы ЛИС МЕДАП в лабораториях диагностических центров </dc:title>
</cp:coreProperties>
</file>