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974-1EA4-4CE8-9AF2-070A136F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E27-FC07-47AB-9FFD-0F12C71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04A-AA7D-4730-A6E9-F751BEE5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FA9-0DFF-4E89-8979-419DC0EC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38D-E6F9-49AF-8E81-CDF7E921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4BE-992C-47A9-BCA5-F0390DD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31B6-D5C1-4C53-8143-ED093B0E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231-DD64-466C-80A4-C31A955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689-E181-4D0D-8BC8-6632649F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ADA0-2547-4FC3-9A29-6BDC4592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B4D3-BD64-4629-8FBE-8C89831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286-6612-459F-B1EB-A0CE4E3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5B7-01CD-4850-9F68-9B45970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CF54-7D68-4FAB-98B8-23CBA1D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CFF8-B187-413C-92F7-CA4A64D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95DF-4C71-4160-8C63-187F2E9D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7FA-0A93-46F2-B8B5-DCA9909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DB37-9069-4FBD-BC25-EAC9791C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11F4-BA86-441C-A46F-EC999A8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0AC9-8B9B-463B-B433-5BCF2B9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0BA0-C8F1-48D6-983A-34369331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006F-C62F-48F8-8FE5-2503DAD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097-2A5F-4FCE-9BBE-6785C6A6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5FDC-D44F-48FC-8827-E166315E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6374-8F92-478A-8D9C-013FEE2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AFED-11BC-40B6-A517-E23710F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B9F8-6B1A-4C15-94E3-7A66511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E6FF-7792-4902-9CAA-BBB2383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20B1-8B49-492B-8B17-9D2C7B1E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7255-9383-4A3C-A298-CABC9FF5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7552-EBA4-4591-A424-EA59EB55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09E9-1994-430E-9842-4450927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F193-6D1F-4D22-90CF-5D8E617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901-C942-4C38-8320-283D206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EF59-C547-4032-94A4-78C9F27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42DC-3D5A-4F3D-9F5D-30F00AD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F5AE-4B1E-47C1-9313-F24EB86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6163-36AA-4B63-A260-1A5E441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1061-4F65-40B0-8E60-8A0E514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2BB6-7038-4244-9575-A6460B8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9CAF-DE93-410B-97F4-A5E7A4F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66FD-D9A2-47B7-AA1E-5438D2B0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8048-11FF-4CE5-B05D-9A0AA46D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ADA-9CE8-4791-97C8-8C485D05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398-26B5-49AB-B329-DD7882F9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DCA-DFBA-4BFC-B461-24A332A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500-36D0-47CD-A2A8-15A25B1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3F6-8B68-4CB8-B545-43B9030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67D1-B47F-4F5A-AC72-6E07459798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504-CAB3-4F6F-BE88-F87F5E5BD9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135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135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135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353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3534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1C39-14CD-439E-B177-FBDE720533E0}" type="slidenum">
              <a:rPr b="0" lang="en-US" sz="1400" spc="-1" strike="noStrike">
                <a:solidFill>
                  <a:srgbClr val="3135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1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353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3534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35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C98-B723-4106-9CBD-B74C9DD4FDE5}" type="slidenum">
              <a:rPr b="0" lang="en-US" sz="1400" spc="-1" strike="noStrike">
                <a:solidFill>
                  <a:srgbClr val="3135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1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2000" y="1125360"/>
            <a:ext cx="8820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Медицинская регистратура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5960" y="1890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Soft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20960" y="39337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ченко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05360" y="2421000"/>
            <a:ext cx="6532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матизация – основные концеп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70160" y="604512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од-герой Москва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692280"/>
            <a:ext cx="8207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казы в госпитализации сопровождаются оформлением ТАП, а для плановых направлений на госпитализацию амбулаторное посещение является рекомендуем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этому медицинская регистратура оказывается и местом пересечения служб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57340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3534"/>
                </a:solidFill>
                <a:latin typeface="Arial"/>
              </a:rPr>
              <a:t>скорой и неотложн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12416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3534"/>
                </a:solidFill>
                <a:latin typeface="Arial"/>
              </a:rPr>
              <a:t>амбулато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916520"/>
            <a:ext cx="21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3534"/>
                </a:solidFill>
                <a:latin typeface="Arial"/>
              </a:rPr>
              <a:t>госпит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549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вершение случаев в регистратуре предполагает связь с отделом (кабинетом) статис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4508640"/>
            <a:ext cx="82076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ём платных пациентов предполагает связь с бухгалтерией, ККМ, финансовой службой, наличи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276640"/>
            <a:ext cx="8207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казы в госпитализации сопровождаются оформлением ТАП, а для плановых направлений на госпитализацию амбулаторное посещение является рекомендуем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68360" y="184464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медицинская регистратура представляет собой мини-ЛПУ и даже мини-здравоохранение регион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3716280"/>
            <a:ext cx="73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 средства автоматизации медицинской регистратуры – уменьшенная, но всегда действующая модель «комплексной» М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5280" y="155736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Можно легко представить себе автоматизацию медицинской регистратуры без «комплексной» МИС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4508640"/>
            <a:ext cx="7954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 «комплексную» МИС без автоматизации регистратуры представить нельзя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74560" y="2133720"/>
            <a:ext cx="7993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5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казанное определяет теоретическую базу для формирования функциональных требований к программному обеспечению для медицинской регистратуры в качестве автономного проду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333360"/>
          <a:ext cx="8445240" cy="6346800"/>
        </p:xfrm>
        <a:graphic>
          <a:graphicData uri="http://schemas.openxmlformats.org/drawingml/2006/table">
            <a:tbl>
              <a:tblPr/>
              <a:tblGrid>
                <a:gridCol w="4222440"/>
                <a:gridCol w="422280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ыл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1368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solidFill>
                      <a:srgbClr val="bdc2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1368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solidFill>
                      <a:srgbClr val="bdc2a4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зация ЛПУ без системы регистрации невозможн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должна внедряться в качестве стартового этапа автоматиз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ащение каждого АРМ  собственной подсистемой регистрации неэффектив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должна быть едино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многих ЛПУ критична минимизация стартовых затрат на автоматизацию. Всесторонне обоснованный или просто осмысленный подход к выбору ПО у руководства ЛПУ отсутству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должна иметь невысокую цену, а также иметь бесплатные, пробные и демо-версии. Система регистрации должна быть работоспособна в бесплатных ОС и совместно с бесплатным прикладным П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ачальном этапе автоматизации во многих ЛПУ локальная сеть отсутству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должна быть работоспособна как в локальном, так и в сетевом режима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 потоки медицинской регистратуры охватывают те же или аналогичные сущности, что и в ЛПУ в цело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должна поддерживать проведение лабораторных и инструментальных исследований, проведение первичного осмотра, протоколы операций, обмен данными с ККМ, формирование счетов на оплату и статистический учёт, обмен данными с другими организациями в масштабе территор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регистрации пациентов гетероген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лиморфич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иваемыми способами регистрации, помимо ручного ввода, д.б. регистрация через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нфомат, телефон, ИС скорой помощи, мобильные устройства, кард-ридеры, сканеры штрих-код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5760">
                      <a:solidFill>
                        <a:srgbClr val="313534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95360" indent="-4953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регистрации в любое время может быть заменена либо дополнена до МИС масштаба предприя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13534"/>
                      </a:solidFill>
                    </a:lnL>
                    <a:lnR w="576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13680">
                      <a:solidFill>
                        <a:srgbClr val="3135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БД медицинской регистратуры может осуществляться общедоступными внешними инструментами. Система регистрации должна интегрироваться либо поддерживать обмен данными с другими ИС в наиболее распространённых формата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13534"/>
                      </a:solidFill>
                    </a:lnL>
                    <a:lnR w="13680">
                      <a:solidFill>
                        <a:srgbClr val="313534"/>
                      </a:solidFill>
                    </a:lnR>
                    <a:lnT w="5760">
                      <a:solidFill>
                        <a:srgbClr val="313534"/>
                      </a:solidFill>
                    </a:lnT>
                    <a:lnB w="13680">
                      <a:solidFill>
                        <a:srgbClr val="3135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43280" y="2673360"/>
            <a:ext cx="1685880" cy="274176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w="1242" h="1895">
                <a:moveTo>
                  <a:pt x="1199" y="62"/>
                </a:moveTo>
                <a:lnTo>
                  <a:pt x="284" y="0"/>
                </a:lnTo>
                <a:lnTo>
                  <a:pt x="7" y="320"/>
                </a:lnTo>
                <a:lnTo>
                  <a:pt x="0" y="1431"/>
                </a:lnTo>
                <a:lnTo>
                  <a:pt x="7" y="1895"/>
                </a:lnTo>
                <a:lnTo>
                  <a:pt x="90" y="1852"/>
                </a:lnTo>
                <a:lnTo>
                  <a:pt x="90" y="1776"/>
                </a:lnTo>
                <a:lnTo>
                  <a:pt x="361" y="1643"/>
                </a:lnTo>
                <a:lnTo>
                  <a:pt x="361" y="1710"/>
                </a:lnTo>
                <a:lnTo>
                  <a:pt x="442" y="1676"/>
                </a:lnTo>
                <a:lnTo>
                  <a:pt x="506" y="1684"/>
                </a:lnTo>
                <a:lnTo>
                  <a:pt x="532" y="1617"/>
                </a:lnTo>
                <a:lnTo>
                  <a:pt x="1174" y="1608"/>
                </a:lnTo>
                <a:lnTo>
                  <a:pt x="1242" y="1643"/>
                </a:lnTo>
                <a:close/>
              </a:path>
            </a:pathLst>
          </a:custGeom>
          <a:solidFill>
            <a:srgbClr val="eadc8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45120" y="3651120"/>
            <a:ext cx="514080" cy="601920"/>
          </a:xfrm>
          <a:custGeom>
            <a:avLst/>
            <a:gdLst>
              <a:gd name="textAreaLeft" fmla="*/ 0 w 514080"/>
              <a:gd name="textAreaRight" fmla="*/ 514440 w 514080"/>
              <a:gd name="textAreaTop" fmla="*/ 0 h 601920"/>
              <a:gd name="textAreaBottom" fmla="*/ 601920 h 601920"/>
            </a:gdLst>
            <a:ahLst/>
            <a:rect l="textAreaLeft" t="textAreaTop" r="textAreaRight" b="textAreaBottom"/>
            <a:pathLst>
              <a:path w="379" h="416">
                <a:moveTo>
                  <a:pt x="18" y="231"/>
                </a:moveTo>
                <a:cubicBezTo>
                  <a:pt x="18" y="231"/>
                  <a:pt x="4" y="226"/>
                  <a:pt x="3" y="219"/>
                </a:cubicBezTo>
                <a:cubicBezTo>
                  <a:pt x="0" y="209"/>
                  <a:pt x="11" y="191"/>
                  <a:pt x="14" y="185"/>
                </a:cubicBezTo>
                <a:cubicBezTo>
                  <a:pt x="20" y="177"/>
                  <a:pt x="30" y="169"/>
                  <a:pt x="32" y="161"/>
                </a:cubicBezTo>
                <a:cubicBezTo>
                  <a:pt x="32" y="158"/>
                  <a:pt x="41" y="155"/>
                  <a:pt x="41" y="153"/>
                </a:cubicBezTo>
                <a:cubicBezTo>
                  <a:pt x="36" y="130"/>
                  <a:pt x="36" y="92"/>
                  <a:pt x="34" y="75"/>
                </a:cubicBezTo>
                <a:cubicBezTo>
                  <a:pt x="34" y="72"/>
                  <a:pt x="30" y="52"/>
                  <a:pt x="32" y="46"/>
                </a:cubicBezTo>
                <a:cubicBezTo>
                  <a:pt x="46" y="24"/>
                  <a:pt x="105" y="8"/>
                  <a:pt x="130" y="3"/>
                </a:cubicBezTo>
                <a:cubicBezTo>
                  <a:pt x="141" y="0"/>
                  <a:pt x="170" y="0"/>
                  <a:pt x="181" y="3"/>
                </a:cubicBezTo>
                <a:cubicBezTo>
                  <a:pt x="239" y="20"/>
                  <a:pt x="361" y="88"/>
                  <a:pt x="377" y="149"/>
                </a:cubicBezTo>
                <a:cubicBezTo>
                  <a:pt x="379" y="163"/>
                  <a:pt x="358" y="200"/>
                  <a:pt x="344" y="218"/>
                </a:cubicBezTo>
                <a:cubicBezTo>
                  <a:pt x="332" y="249"/>
                  <a:pt x="290" y="316"/>
                  <a:pt x="263" y="347"/>
                </a:cubicBezTo>
                <a:cubicBezTo>
                  <a:pt x="255" y="358"/>
                  <a:pt x="226" y="385"/>
                  <a:pt x="213" y="389"/>
                </a:cubicBezTo>
                <a:cubicBezTo>
                  <a:pt x="188" y="398"/>
                  <a:pt x="140" y="416"/>
                  <a:pt x="114" y="405"/>
                </a:cubicBezTo>
                <a:cubicBezTo>
                  <a:pt x="70" y="387"/>
                  <a:pt x="14" y="232"/>
                  <a:pt x="14" y="232"/>
                </a:cubicBezTo>
                <a:cubicBezTo>
                  <a:pt x="14" y="231"/>
                  <a:pt x="18" y="232"/>
                  <a:pt x="18" y="231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6320" y="3675240"/>
            <a:ext cx="92160" cy="204480"/>
          </a:xfrm>
          <a:custGeom>
            <a:avLst/>
            <a:gdLst>
              <a:gd name="textAreaLeft" fmla="*/ 0 w 92160"/>
              <a:gd name="textAreaRight" fmla="*/ 92520 w 9216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67" h="142">
                <a:moveTo>
                  <a:pt x="12" y="21"/>
                </a:moveTo>
                <a:cubicBezTo>
                  <a:pt x="12" y="21"/>
                  <a:pt x="45" y="0"/>
                  <a:pt x="46" y="11"/>
                </a:cubicBezTo>
                <a:cubicBezTo>
                  <a:pt x="53" y="34"/>
                  <a:pt x="55" y="94"/>
                  <a:pt x="66" y="129"/>
                </a:cubicBezTo>
                <a:cubicBezTo>
                  <a:pt x="67" y="136"/>
                  <a:pt x="35" y="142"/>
                  <a:pt x="29" y="139"/>
                </a:cubicBezTo>
                <a:cubicBezTo>
                  <a:pt x="8" y="128"/>
                  <a:pt x="0" y="64"/>
                  <a:pt x="4" y="41"/>
                </a:cubicBezTo>
                <a:cubicBezTo>
                  <a:pt x="4" y="38"/>
                  <a:pt x="10" y="30"/>
                  <a:pt x="10" y="30"/>
                </a:cubicBezTo>
                <a:cubicBezTo>
                  <a:pt x="11" y="27"/>
                  <a:pt x="11" y="21"/>
                  <a:pt x="12" y="21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32200" y="5311800"/>
            <a:ext cx="257040" cy="101520"/>
          </a:xfrm>
          <a:custGeom>
            <a:avLst/>
            <a:gdLst>
              <a:gd name="textAreaLeft" fmla="*/ 0 w 257040"/>
              <a:gd name="textAreaRight" fmla="*/ 257400 w 257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89" h="70">
                <a:moveTo>
                  <a:pt x="24" y="0"/>
                </a:moveTo>
                <a:cubicBezTo>
                  <a:pt x="24" y="0"/>
                  <a:pt x="16" y="0"/>
                  <a:pt x="13" y="2"/>
                </a:cubicBezTo>
                <a:cubicBezTo>
                  <a:pt x="9" y="4"/>
                  <a:pt x="2" y="14"/>
                  <a:pt x="1" y="18"/>
                </a:cubicBezTo>
                <a:cubicBezTo>
                  <a:pt x="0" y="22"/>
                  <a:pt x="3" y="32"/>
                  <a:pt x="3" y="37"/>
                </a:cubicBezTo>
                <a:cubicBezTo>
                  <a:pt x="4" y="40"/>
                  <a:pt x="2" y="53"/>
                  <a:pt x="5" y="56"/>
                </a:cubicBezTo>
                <a:cubicBezTo>
                  <a:pt x="11" y="64"/>
                  <a:pt x="34" y="64"/>
                  <a:pt x="45" y="65"/>
                </a:cubicBezTo>
                <a:cubicBezTo>
                  <a:pt x="60" y="66"/>
                  <a:pt x="91" y="70"/>
                  <a:pt x="104" y="70"/>
                </a:cubicBezTo>
                <a:cubicBezTo>
                  <a:pt x="115" y="70"/>
                  <a:pt x="131" y="69"/>
                  <a:pt x="137" y="69"/>
                </a:cubicBezTo>
                <a:cubicBezTo>
                  <a:pt x="137" y="59"/>
                  <a:pt x="189" y="28"/>
                  <a:pt x="184" y="28"/>
                </a:cubicBezTo>
                <a:cubicBezTo>
                  <a:pt x="185" y="22"/>
                  <a:pt x="24" y="2"/>
                  <a:pt x="24" y="2"/>
                </a:cubicBezTo>
                <a:cubicBezTo>
                  <a:pt x="24" y="1"/>
                  <a:pt x="24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00680" y="5210280"/>
            <a:ext cx="626760" cy="233280"/>
          </a:xfrm>
          <a:custGeom>
            <a:avLst/>
            <a:gdLst>
              <a:gd name="textAreaLeft" fmla="*/ 0 w 626760"/>
              <a:gd name="textAreaRight" fmla="*/ 627120 w 6267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61" h="161">
                <a:moveTo>
                  <a:pt x="30" y="107"/>
                </a:moveTo>
                <a:cubicBezTo>
                  <a:pt x="30" y="107"/>
                  <a:pt x="12" y="108"/>
                  <a:pt x="8" y="112"/>
                </a:cubicBezTo>
                <a:cubicBezTo>
                  <a:pt x="5" y="115"/>
                  <a:pt x="2" y="127"/>
                  <a:pt x="2" y="132"/>
                </a:cubicBezTo>
                <a:cubicBezTo>
                  <a:pt x="1" y="137"/>
                  <a:pt x="0" y="151"/>
                  <a:pt x="4" y="155"/>
                </a:cubicBezTo>
                <a:cubicBezTo>
                  <a:pt x="9" y="161"/>
                  <a:pt x="35" y="161"/>
                  <a:pt x="44" y="161"/>
                </a:cubicBezTo>
                <a:cubicBezTo>
                  <a:pt x="56" y="161"/>
                  <a:pt x="93" y="148"/>
                  <a:pt x="111" y="147"/>
                </a:cubicBezTo>
                <a:cubicBezTo>
                  <a:pt x="117" y="147"/>
                  <a:pt x="132" y="149"/>
                  <a:pt x="135" y="148"/>
                </a:cubicBezTo>
                <a:cubicBezTo>
                  <a:pt x="157" y="147"/>
                  <a:pt x="189" y="139"/>
                  <a:pt x="204" y="135"/>
                </a:cubicBezTo>
                <a:cubicBezTo>
                  <a:pt x="212" y="132"/>
                  <a:pt x="234" y="124"/>
                  <a:pt x="242" y="121"/>
                </a:cubicBezTo>
                <a:cubicBezTo>
                  <a:pt x="267" y="112"/>
                  <a:pt x="321" y="97"/>
                  <a:pt x="347" y="90"/>
                </a:cubicBezTo>
                <a:cubicBezTo>
                  <a:pt x="353" y="89"/>
                  <a:pt x="365" y="85"/>
                  <a:pt x="369" y="85"/>
                </a:cubicBezTo>
                <a:cubicBezTo>
                  <a:pt x="369" y="88"/>
                  <a:pt x="369" y="96"/>
                  <a:pt x="369" y="99"/>
                </a:cubicBezTo>
                <a:cubicBezTo>
                  <a:pt x="390" y="96"/>
                  <a:pt x="421" y="78"/>
                  <a:pt x="435" y="68"/>
                </a:cubicBezTo>
                <a:cubicBezTo>
                  <a:pt x="441" y="63"/>
                  <a:pt x="454" y="52"/>
                  <a:pt x="457" y="45"/>
                </a:cubicBezTo>
                <a:cubicBezTo>
                  <a:pt x="461" y="33"/>
                  <a:pt x="461" y="7"/>
                  <a:pt x="448" y="1"/>
                </a:cubicBezTo>
                <a:cubicBezTo>
                  <a:pt x="447" y="0"/>
                  <a:pt x="443" y="7"/>
                  <a:pt x="442" y="7"/>
                </a:cubicBezTo>
                <a:cubicBezTo>
                  <a:pt x="347" y="40"/>
                  <a:pt x="46" y="107"/>
                  <a:pt x="46" y="107"/>
                </a:cubicBezTo>
                <a:cubicBezTo>
                  <a:pt x="46" y="107"/>
                  <a:pt x="30" y="108"/>
                  <a:pt x="30" y="10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62480" y="5016600"/>
            <a:ext cx="155520" cy="158760"/>
          </a:xfrm>
          <a:custGeom>
            <a:avLst/>
            <a:gdLst>
              <a:gd name="textAreaLeft" fmla="*/ 0 w 155520"/>
              <a:gd name="textAreaRight" fmla="*/ 155880 w 155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15" h="110">
                <a:moveTo>
                  <a:pt x="22" y="0"/>
                </a:moveTo>
                <a:cubicBezTo>
                  <a:pt x="22" y="0"/>
                  <a:pt x="17" y="28"/>
                  <a:pt x="20" y="36"/>
                </a:cubicBezTo>
                <a:cubicBezTo>
                  <a:pt x="20" y="38"/>
                  <a:pt x="24" y="40"/>
                  <a:pt x="24" y="44"/>
                </a:cubicBezTo>
                <a:cubicBezTo>
                  <a:pt x="26" y="58"/>
                  <a:pt x="0" y="89"/>
                  <a:pt x="8" y="100"/>
                </a:cubicBezTo>
                <a:cubicBezTo>
                  <a:pt x="17" y="110"/>
                  <a:pt x="55" y="94"/>
                  <a:pt x="68" y="92"/>
                </a:cubicBezTo>
                <a:cubicBezTo>
                  <a:pt x="82" y="91"/>
                  <a:pt x="104" y="92"/>
                  <a:pt x="108" y="83"/>
                </a:cubicBezTo>
                <a:cubicBezTo>
                  <a:pt x="115" y="76"/>
                  <a:pt x="87" y="59"/>
                  <a:pt x="91" y="52"/>
                </a:cubicBezTo>
                <a:cubicBezTo>
                  <a:pt x="86" y="47"/>
                  <a:pt x="92" y="16"/>
                  <a:pt x="91" y="16"/>
                </a:cubicBezTo>
                <a:cubicBezTo>
                  <a:pt x="91" y="15"/>
                  <a:pt x="22" y="12"/>
                  <a:pt x="22" y="12"/>
                </a:cubicBezTo>
                <a:cubicBezTo>
                  <a:pt x="22" y="12"/>
                  <a:pt x="21" y="2"/>
                  <a:pt x="22" y="0"/>
                </a:cubicBezTo>
                <a:close/>
              </a:path>
            </a:pathLst>
          </a:custGeom>
          <a:solidFill>
            <a:srgbClr val="adc9f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6320" y="4971960"/>
            <a:ext cx="108000" cy="209520"/>
          </a:xfrm>
          <a:custGeom>
            <a:avLst/>
            <a:gdLst>
              <a:gd name="textAreaLeft" fmla="*/ 0 w 108000"/>
              <a:gd name="textAreaRight" fmla="*/ 108360 w 1080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9" h="145">
                <a:moveTo>
                  <a:pt x="0" y="23"/>
                </a:moveTo>
                <a:cubicBezTo>
                  <a:pt x="0" y="23"/>
                  <a:pt x="0" y="54"/>
                  <a:pt x="4" y="63"/>
                </a:cubicBezTo>
                <a:cubicBezTo>
                  <a:pt x="5" y="65"/>
                  <a:pt x="11" y="67"/>
                  <a:pt x="11" y="69"/>
                </a:cubicBezTo>
                <a:cubicBezTo>
                  <a:pt x="12" y="78"/>
                  <a:pt x="2" y="100"/>
                  <a:pt x="8" y="107"/>
                </a:cubicBezTo>
                <a:cubicBezTo>
                  <a:pt x="4" y="110"/>
                  <a:pt x="8" y="125"/>
                  <a:pt x="8" y="131"/>
                </a:cubicBezTo>
                <a:cubicBezTo>
                  <a:pt x="20" y="131"/>
                  <a:pt x="56" y="145"/>
                  <a:pt x="71" y="136"/>
                </a:cubicBezTo>
                <a:cubicBezTo>
                  <a:pt x="79" y="127"/>
                  <a:pt x="79" y="98"/>
                  <a:pt x="75" y="87"/>
                </a:cubicBezTo>
                <a:cubicBezTo>
                  <a:pt x="75" y="83"/>
                  <a:pt x="67" y="78"/>
                  <a:pt x="67" y="75"/>
                </a:cubicBezTo>
                <a:cubicBezTo>
                  <a:pt x="64" y="64"/>
                  <a:pt x="77" y="38"/>
                  <a:pt x="75" y="27"/>
                </a:cubicBezTo>
                <a:cubicBezTo>
                  <a:pt x="75" y="21"/>
                  <a:pt x="68" y="9"/>
                  <a:pt x="62" y="7"/>
                </a:cubicBezTo>
                <a:cubicBezTo>
                  <a:pt x="49" y="0"/>
                  <a:pt x="0" y="23"/>
                  <a:pt x="0" y="23"/>
                </a:cubicBezTo>
                <a:close/>
              </a:path>
            </a:pathLst>
          </a:custGeom>
          <a:solidFill>
            <a:srgbClr val="adc9f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14640" y="3665520"/>
            <a:ext cx="1117800" cy="149076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823" h="1030">
                <a:moveTo>
                  <a:pt x="580" y="71"/>
                </a:moveTo>
                <a:cubicBezTo>
                  <a:pt x="580" y="71"/>
                  <a:pt x="536" y="68"/>
                  <a:pt x="542" y="68"/>
                </a:cubicBezTo>
                <a:cubicBezTo>
                  <a:pt x="545" y="69"/>
                  <a:pt x="624" y="78"/>
                  <a:pt x="634" y="80"/>
                </a:cubicBezTo>
                <a:cubicBezTo>
                  <a:pt x="634" y="81"/>
                  <a:pt x="634" y="86"/>
                  <a:pt x="634" y="88"/>
                </a:cubicBezTo>
                <a:cubicBezTo>
                  <a:pt x="643" y="88"/>
                  <a:pt x="658" y="89"/>
                  <a:pt x="661" y="94"/>
                </a:cubicBezTo>
                <a:cubicBezTo>
                  <a:pt x="678" y="100"/>
                  <a:pt x="704" y="105"/>
                  <a:pt x="717" y="115"/>
                </a:cubicBezTo>
                <a:cubicBezTo>
                  <a:pt x="722" y="120"/>
                  <a:pt x="722" y="140"/>
                  <a:pt x="725" y="145"/>
                </a:cubicBezTo>
                <a:cubicBezTo>
                  <a:pt x="727" y="149"/>
                  <a:pt x="738" y="156"/>
                  <a:pt x="740" y="164"/>
                </a:cubicBezTo>
                <a:cubicBezTo>
                  <a:pt x="823" y="357"/>
                  <a:pt x="821" y="810"/>
                  <a:pt x="760" y="1012"/>
                </a:cubicBezTo>
                <a:cubicBezTo>
                  <a:pt x="759" y="1016"/>
                  <a:pt x="749" y="1027"/>
                  <a:pt x="744" y="1029"/>
                </a:cubicBezTo>
                <a:cubicBezTo>
                  <a:pt x="738" y="1030"/>
                  <a:pt x="727" y="1020"/>
                  <a:pt x="721" y="1020"/>
                </a:cubicBezTo>
                <a:cubicBezTo>
                  <a:pt x="707" y="1020"/>
                  <a:pt x="694" y="1029"/>
                  <a:pt x="683" y="1029"/>
                </a:cubicBezTo>
                <a:cubicBezTo>
                  <a:pt x="669" y="1027"/>
                  <a:pt x="651" y="1009"/>
                  <a:pt x="640" y="1004"/>
                </a:cubicBezTo>
                <a:cubicBezTo>
                  <a:pt x="622" y="998"/>
                  <a:pt x="582" y="998"/>
                  <a:pt x="572" y="985"/>
                </a:cubicBezTo>
                <a:cubicBezTo>
                  <a:pt x="567" y="979"/>
                  <a:pt x="548" y="964"/>
                  <a:pt x="545" y="958"/>
                </a:cubicBezTo>
                <a:cubicBezTo>
                  <a:pt x="536" y="939"/>
                  <a:pt x="497" y="929"/>
                  <a:pt x="489" y="909"/>
                </a:cubicBezTo>
                <a:cubicBezTo>
                  <a:pt x="480" y="889"/>
                  <a:pt x="493" y="882"/>
                  <a:pt x="504" y="864"/>
                </a:cubicBezTo>
                <a:cubicBezTo>
                  <a:pt x="504" y="864"/>
                  <a:pt x="510" y="864"/>
                  <a:pt x="510" y="864"/>
                </a:cubicBezTo>
                <a:cubicBezTo>
                  <a:pt x="519" y="829"/>
                  <a:pt x="461" y="752"/>
                  <a:pt x="461" y="745"/>
                </a:cubicBezTo>
                <a:cubicBezTo>
                  <a:pt x="461" y="777"/>
                  <a:pt x="461" y="758"/>
                  <a:pt x="461" y="790"/>
                </a:cubicBezTo>
                <a:cubicBezTo>
                  <a:pt x="461" y="808"/>
                  <a:pt x="467" y="835"/>
                  <a:pt x="468" y="864"/>
                </a:cubicBezTo>
                <a:cubicBezTo>
                  <a:pt x="469" y="882"/>
                  <a:pt x="482" y="907"/>
                  <a:pt x="474" y="927"/>
                </a:cubicBezTo>
                <a:cubicBezTo>
                  <a:pt x="474" y="929"/>
                  <a:pt x="469" y="967"/>
                  <a:pt x="469" y="967"/>
                </a:cubicBezTo>
                <a:cubicBezTo>
                  <a:pt x="482" y="976"/>
                  <a:pt x="399" y="960"/>
                  <a:pt x="397" y="961"/>
                </a:cubicBezTo>
                <a:cubicBezTo>
                  <a:pt x="399" y="958"/>
                  <a:pt x="350" y="945"/>
                  <a:pt x="333" y="945"/>
                </a:cubicBezTo>
                <a:cubicBezTo>
                  <a:pt x="318" y="944"/>
                  <a:pt x="289" y="948"/>
                  <a:pt x="289" y="949"/>
                </a:cubicBezTo>
                <a:cubicBezTo>
                  <a:pt x="289" y="949"/>
                  <a:pt x="288" y="925"/>
                  <a:pt x="289" y="925"/>
                </a:cubicBezTo>
                <a:cubicBezTo>
                  <a:pt x="289" y="926"/>
                  <a:pt x="235" y="931"/>
                  <a:pt x="235" y="933"/>
                </a:cubicBezTo>
                <a:cubicBezTo>
                  <a:pt x="235" y="931"/>
                  <a:pt x="193" y="931"/>
                  <a:pt x="193" y="933"/>
                </a:cubicBezTo>
                <a:cubicBezTo>
                  <a:pt x="193" y="931"/>
                  <a:pt x="140" y="906"/>
                  <a:pt x="140" y="906"/>
                </a:cubicBezTo>
                <a:cubicBezTo>
                  <a:pt x="137" y="906"/>
                  <a:pt x="159" y="804"/>
                  <a:pt x="166" y="764"/>
                </a:cubicBezTo>
                <a:cubicBezTo>
                  <a:pt x="174" y="730"/>
                  <a:pt x="183" y="664"/>
                  <a:pt x="190" y="634"/>
                </a:cubicBezTo>
                <a:cubicBezTo>
                  <a:pt x="194" y="608"/>
                  <a:pt x="211" y="547"/>
                  <a:pt x="219" y="519"/>
                </a:cubicBezTo>
                <a:cubicBezTo>
                  <a:pt x="223" y="496"/>
                  <a:pt x="244" y="417"/>
                  <a:pt x="257" y="399"/>
                </a:cubicBezTo>
                <a:cubicBezTo>
                  <a:pt x="266" y="385"/>
                  <a:pt x="259" y="413"/>
                  <a:pt x="257" y="399"/>
                </a:cubicBezTo>
                <a:cubicBezTo>
                  <a:pt x="254" y="388"/>
                  <a:pt x="239" y="389"/>
                  <a:pt x="230" y="386"/>
                </a:cubicBezTo>
                <a:cubicBezTo>
                  <a:pt x="190" y="378"/>
                  <a:pt x="109" y="346"/>
                  <a:pt x="77" y="319"/>
                </a:cubicBezTo>
                <a:cubicBezTo>
                  <a:pt x="61" y="303"/>
                  <a:pt x="17" y="271"/>
                  <a:pt x="3" y="256"/>
                </a:cubicBezTo>
                <a:cubicBezTo>
                  <a:pt x="0" y="238"/>
                  <a:pt x="5" y="204"/>
                  <a:pt x="5" y="191"/>
                </a:cubicBezTo>
                <a:cubicBezTo>
                  <a:pt x="12" y="166"/>
                  <a:pt x="57" y="123"/>
                  <a:pt x="77" y="108"/>
                </a:cubicBezTo>
                <a:cubicBezTo>
                  <a:pt x="112" y="78"/>
                  <a:pt x="197" y="0"/>
                  <a:pt x="235" y="24"/>
                </a:cubicBezTo>
                <a:cubicBezTo>
                  <a:pt x="244" y="26"/>
                  <a:pt x="236" y="56"/>
                  <a:pt x="237" y="65"/>
                </a:cubicBezTo>
                <a:cubicBezTo>
                  <a:pt x="238" y="68"/>
                  <a:pt x="240" y="84"/>
                  <a:pt x="249" y="88"/>
                </a:cubicBezTo>
                <a:cubicBezTo>
                  <a:pt x="242" y="98"/>
                  <a:pt x="253" y="113"/>
                  <a:pt x="249" y="118"/>
                </a:cubicBezTo>
                <a:cubicBezTo>
                  <a:pt x="255" y="122"/>
                  <a:pt x="263" y="143"/>
                  <a:pt x="260" y="148"/>
                </a:cubicBezTo>
                <a:cubicBezTo>
                  <a:pt x="257" y="160"/>
                  <a:pt x="255" y="159"/>
                  <a:pt x="239" y="167"/>
                </a:cubicBezTo>
                <a:cubicBezTo>
                  <a:pt x="234" y="173"/>
                  <a:pt x="207" y="183"/>
                  <a:pt x="208" y="187"/>
                </a:cubicBezTo>
                <a:cubicBezTo>
                  <a:pt x="211" y="193"/>
                  <a:pt x="214" y="193"/>
                  <a:pt x="226" y="195"/>
                </a:cubicBezTo>
                <a:cubicBezTo>
                  <a:pt x="233" y="196"/>
                  <a:pt x="251" y="207"/>
                  <a:pt x="257" y="216"/>
                </a:cubicBezTo>
                <a:cubicBezTo>
                  <a:pt x="259" y="217"/>
                  <a:pt x="262" y="221"/>
                  <a:pt x="265" y="222"/>
                </a:cubicBezTo>
                <a:cubicBezTo>
                  <a:pt x="273" y="223"/>
                  <a:pt x="296" y="219"/>
                  <a:pt x="305" y="219"/>
                </a:cubicBezTo>
                <a:cubicBezTo>
                  <a:pt x="306" y="223"/>
                  <a:pt x="308" y="238"/>
                  <a:pt x="305" y="246"/>
                </a:cubicBezTo>
                <a:cubicBezTo>
                  <a:pt x="311" y="250"/>
                  <a:pt x="325" y="260"/>
                  <a:pt x="328" y="263"/>
                </a:cubicBezTo>
                <a:cubicBezTo>
                  <a:pt x="333" y="270"/>
                  <a:pt x="332" y="295"/>
                  <a:pt x="337" y="299"/>
                </a:cubicBezTo>
                <a:cubicBezTo>
                  <a:pt x="342" y="305"/>
                  <a:pt x="348" y="310"/>
                  <a:pt x="351" y="315"/>
                </a:cubicBezTo>
                <a:cubicBezTo>
                  <a:pt x="355" y="322"/>
                  <a:pt x="366" y="336"/>
                  <a:pt x="369" y="343"/>
                </a:cubicBezTo>
                <a:cubicBezTo>
                  <a:pt x="371" y="351"/>
                  <a:pt x="391" y="382"/>
                  <a:pt x="390" y="389"/>
                </a:cubicBezTo>
                <a:cubicBezTo>
                  <a:pt x="389" y="395"/>
                  <a:pt x="378" y="410"/>
                  <a:pt x="380" y="413"/>
                </a:cubicBezTo>
                <a:cubicBezTo>
                  <a:pt x="386" y="421"/>
                  <a:pt x="424" y="412"/>
                  <a:pt x="432" y="413"/>
                </a:cubicBezTo>
                <a:cubicBezTo>
                  <a:pt x="451" y="415"/>
                  <a:pt x="473" y="428"/>
                  <a:pt x="489" y="435"/>
                </a:cubicBezTo>
                <a:cubicBezTo>
                  <a:pt x="504" y="444"/>
                  <a:pt x="537" y="468"/>
                  <a:pt x="548" y="479"/>
                </a:cubicBezTo>
                <a:cubicBezTo>
                  <a:pt x="551" y="480"/>
                  <a:pt x="561" y="488"/>
                  <a:pt x="565" y="491"/>
                </a:cubicBezTo>
                <a:cubicBezTo>
                  <a:pt x="567" y="473"/>
                  <a:pt x="538" y="435"/>
                  <a:pt x="527" y="431"/>
                </a:cubicBezTo>
                <a:cubicBezTo>
                  <a:pt x="540" y="412"/>
                  <a:pt x="506" y="352"/>
                  <a:pt x="492" y="326"/>
                </a:cubicBezTo>
                <a:cubicBezTo>
                  <a:pt x="480" y="308"/>
                  <a:pt x="444" y="272"/>
                  <a:pt x="445" y="256"/>
                </a:cubicBezTo>
                <a:cubicBezTo>
                  <a:pt x="446" y="232"/>
                  <a:pt x="480" y="209"/>
                  <a:pt x="492" y="195"/>
                </a:cubicBezTo>
                <a:cubicBezTo>
                  <a:pt x="503" y="183"/>
                  <a:pt x="524" y="151"/>
                  <a:pt x="540" y="151"/>
                </a:cubicBezTo>
                <a:cubicBezTo>
                  <a:pt x="547" y="151"/>
                  <a:pt x="563" y="181"/>
                  <a:pt x="572" y="183"/>
                </a:cubicBezTo>
                <a:cubicBezTo>
                  <a:pt x="574" y="183"/>
                  <a:pt x="579" y="183"/>
                  <a:pt x="580" y="183"/>
                </a:cubicBezTo>
                <a:cubicBezTo>
                  <a:pt x="584" y="181"/>
                  <a:pt x="592" y="153"/>
                  <a:pt x="600" y="145"/>
                </a:cubicBezTo>
                <a:cubicBezTo>
                  <a:pt x="604" y="139"/>
                  <a:pt x="548" y="104"/>
                  <a:pt x="548" y="94"/>
                </a:cubicBezTo>
                <a:cubicBezTo>
                  <a:pt x="547" y="81"/>
                  <a:pt x="583" y="71"/>
                  <a:pt x="583" y="71"/>
                </a:cubicBezTo>
                <a:cubicBezTo>
                  <a:pt x="583" y="72"/>
                  <a:pt x="582" y="71"/>
                  <a:pt x="580" y="7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1000" y="36669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36920" y="5135400"/>
            <a:ext cx="131760" cy="144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6" h="10">
                <a:moveTo>
                  <a:pt x="0" y="10"/>
                </a:moveTo>
                <a:lnTo>
                  <a:pt x="1" y="10"/>
                </a:lnTo>
                <a:lnTo>
                  <a:pt x="2" y="10"/>
                </a:lnTo>
                <a:lnTo>
                  <a:pt x="6" y="9"/>
                </a:lnTo>
                <a:lnTo>
                  <a:pt x="12" y="9"/>
                </a:lnTo>
                <a:lnTo>
                  <a:pt x="17" y="9"/>
                </a:lnTo>
                <a:lnTo>
                  <a:pt x="20" y="9"/>
                </a:lnTo>
                <a:lnTo>
                  <a:pt x="22" y="9"/>
                </a:lnTo>
                <a:lnTo>
                  <a:pt x="26" y="9"/>
                </a:lnTo>
                <a:lnTo>
                  <a:pt x="30" y="9"/>
                </a:lnTo>
                <a:lnTo>
                  <a:pt x="31" y="9"/>
                </a:lnTo>
                <a:lnTo>
                  <a:pt x="35" y="9"/>
                </a:lnTo>
                <a:lnTo>
                  <a:pt x="36" y="9"/>
                </a:lnTo>
                <a:lnTo>
                  <a:pt x="39" y="9"/>
                </a:lnTo>
                <a:lnTo>
                  <a:pt x="40" y="9"/>
                </a:lnTo>
                <a:lnTo>
                  <a:pt x="42" y="9"/>
                </a:lnTo>
                <a:lnTo>
                  <a:pt x="44" y="9"/>
                </a:lnTo>
                <a:lnTo>
                  <a:pt x="46" y="9"/>
                </a:lnTo>
                <a:lnTo>
                  <a:pt x="55" y="9"/>
                </a:lnTo>
                <a:lnTo>
                  <a:pt x="57" y="5"/>
                </a:lnTo>
                <a:lnTo>
                  <a:pt x="60" y="5"/>
                </a:lnTo>
                <a:lnTo>
                  <a:pt x="63" y="5"/>
                </a:lnTo>
                <a:lnTo>
                  <a:pt x="64" y="5"/>
                </a:lnTo>
                <a:lnTo>
                  <a:pt x="67" y="5"/>
                </a:lnTo>
                <a:lnTo>
                  <a:pt x="68" y="5"/>
                </a:lnTo>
                <a:lnTo>
                  <a:pt x="71" y="5"/>
                </a:lnTo>
                <a:lnTo>
                  <a:pt x="75" y="5"/>
                </a:lnTo>
                <a:lnTo>
                  <a:pt x="77" y="5"/>
                </a:lnTo>
                <a:lnTo>
                  <a:pt x="78" y="3"/>
                </a:lnTo>
                <a:lnTo>
                  <a:pt x="80" y="3"/>
                </a:lnTo>
                <a:lnTo>
                  <a:pt x="86" y="1"/>
                </a:lnTo>
                <a:lnTo>
                  <a:pt x="91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338720" y="515952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00640" y="4146480"/>
            <a:ext cx="284040" cy="252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0" h="174">
                <a:moveTo>
                  <a:pt x="27" y="45"/>
                </a:moveTo>
                <a:lnTo>
                  <a:pt x="0" y="0"/>
                </a:lnTo>
                <a:lnTo>
                  <a:pt x="0" y="63"/>
                </a:lnTo>
                <a:lnTo>
                  <a:pt x="20" y="87"/>
                </a:lnTo>
                <a:lnTo>
                  <a:pt x="20" y="103"/>
                </a:lnTo>
                <a:lnTo>
                  <a:pt x="67" y="83"/>
                </a:lnTo>
                <a:lnTo>
                  <a:pt x="107" y="94"/>
                </a:lnTo>
                <a:lnTo>
                  <a:pt x="154" y="126"/>
                </a:lnTo>
                <a:lnTo>
                  <a:pt x="208" y="174"/>
                </a:lnTo>
                <a:lnTo>
                  <a:pt x="210" y="134"/>
                </a:lnTo>
                <a:lnTo>
                  <a:pt x="194" y="110"/>
                </a:lnTo>
                <a:lnTo>
                  <a:pt x="186" y="87"/>
                </a:lnTo>
                <a:lnTo>
                  <a:pt x="140" y="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61040" y="4132440"/>
            <a:ext cx="191880" cy="156960"/>
          </a:xfrm>
          <a:custGeom>
            <a:avLst/>
            <a:gdLst>
              <a:gd name="textAreaLeft" fmla="*/ 0 w 191880"/>
              <a:gd name="textAreaRight" fmla="*/ 192240 w 191880"/>
              <a:gd name="textAreaTop" fmla="*/ 0 h 156960"/>
              <a:gd name="textAreaBottom" fmla="*/ 156960 h 156960"/>
            </a:gdLst>
            <a:ahLst/>
            <a:rect l="textAreaLeft" t="textAreaTop" r="textAreaRight" b="textAreaBottom"/>
            <a:pathLst>
              <a:path w="141" h="109">
                <a:moveTo>
                  <a:pt x="23" y="29"/>
                </a:moveTo>
                <a:lnTo>
                  <a:pt x="41" y="35"/>
                </a:lnTo>
                <a:lnTo>
                  <a:pt x="56" y="55"/>
                </a:lnTo>
                <a:lnTo>
                  <a:pt x="81" y="26"/>
                </a:lnTo>
                <a:lnTo>
                  <a:pt x="100" y="26"/>
                </a:lnTo>
                <a:lnTo>
                  <a:pt x="120" y="0"/>
                </a:lnTo>
                <a:lnTo>
                  <a:pt x="136" y="29"/>
                </a:lnTo>
                <a:lnTo>
                  <a:pt x="133" y="57"/>
                </a:lnTo>
                <a:lnTo>
                  <a:pt x="141" y="91"/>
                </a:lnTo>
                <a:lnTo>
                  <a:pt x="136" y="109"/>
                </a:lnTo>
                <a:lnTo>
                  <a:pt x="69" y="77"/>
                </a:lnTo>
                <a:lnTo>
                  <a:pt x="62" y="73"/>
                </a:lnTo>
                <a:lnTo>
                  <a:pt x="49" y="89"/>
                </a:lnTo>
                <a:lnTo>
                  <a:pt x="13" y="101"/>
                </a:lnTo>
                <a:lnTo>
                  <a:pt x="5" y="67"/>
                </a:lnTo>
                <a:lnTo>
                  <a:pt x="13" y="55"/>
                </a:lnTo>
                <a:lnTo>
                  <a:pt x="0" y="21"/>
                </a:lnTo>
                <a:lnTo>
                  <a:pt x="9" y="29"/>
                </a:lnTo>
                <a:close/>
              </a:path>
            </a:pathLst>
          </a:custGeom>
          <a:solidFill>
            <a:srgbClr val="a0004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2720" y="5114880"/>
            <a:ext cx="530280" cy="258840"/>
          </a:xfrm>
          <a:custGeom>
            <a:avLst/>
            <a:gdLst>
              <a:gd name="textAreaLeft" fmla="*/ 0 w 530280"/>
              <a:gd name="textAreaRight" fmla="*/ 530640 w 530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90" h="179">
                <a:moveTo>
                  <a:pt x="375" y="13"/>
                </a:moveTo>
                <a:cubicBezTo>
                  <a:pt x="375" y="13"/>
                  <a:pt x="366" y="10"/>
                  <a:pt x="364" y="10"/>
                </a:cubicBezTo>
                <a:cubicBezTo>
                  <a:pt x="359" y="10"/>
                  <a:pt x="354" y="15"/>
                  <a:pt x="347" y="15"/>
                </a:cubicBezTo>
                <a:cubicBezTo>
                  <a:pt x="338" y="19"/>
                  <a:pt x="303" y="23"/>
                  <a:pt x="303" y="24"/>
                </a:cubicBezTo>
                <a:cubicBezTo>
                  <a:pt x="303" y="24"/>
                  <a:pt x="285" y="23"/>
                  <a:pt x="284" y="24"/>
                </a:cubicBezTo>
                <a:cubicBezTo>
                  <a:pt x="286" y="23"/>
                  <a:pt x="279" y="13"/>
                  <a:pt x="276" y="12"/>
                </a:cubicBezTo>
                <a:cubicBezTo>
                  <a:pt x="273" y="11"/>
                  <a:pt x="267" y="15"/>
                  <a:pt x="265" y="15"/>
                </a:cubicBezTo>
                <a:cubicBezTo>
                  <a:pt x="257" y="14"/>
                  <a:pt x="244" y="0"/>
                  <a:pt x="241" y="0"/>
                </a:cubicBezTo>
                <a:cubicBezTo>
                  <a:pt x="234" y="0"/>
                  <a:pt x="205" y="17"/>
                  <a:pt x="205" y="24"/>
                </a:cubicBezTo>
                <a:cubicBezTo>
                  <a:pt x="205" y="21"/>
                  <a:pt x="197" y="24"/>
                  <a:pt x="195" y="24"/>
                </a:cubicBezTo>
                <a:cubicBezTo>
                  <a:pt x="199" y="27"/>
                  <a:pt x="180" y="41"/>
                  <a:pt x="168" y="46"/>
                </a:cubicBezTo>
                <a:cubicBezTo>
                  <a:pt x="165" y="48"/>
                  <a:pt x="154" y="50"/>
                  <a:pt x="149" y="54"/>
                </a:cubicBezTo>
                <a:cubicBezTo>
                  <a:pt x="139" y="60"/>
                  <a:pt x="125" y="78"/>
                  <a:pt x="118" y="84"/>
                </a:cubicBezTo>
                <a:cubicBezTo>
                  <a:pt x="109" y="89"/>
                  <a:pt x="85" y="95"/>
                  <a:pt x="73" y="100"/>
                </a:cubicBezTo>
                <a:cubicBezTo>
                  <a:pt x="51" y="108"/>
                  <a:pt x="29" y="124"/>
                  <a:pt x="9" y="134"/>
                </a:cubicBezTo>
                <a:cubicBezTo>
                  <a:pt x="9" y="136"/>
                  <a:pt x="0" y="151"/>
                  <a:pt x="0" y="155"/>
                </a:cubicBezTo>
                <a:cubicBezTo>
                  <a:pt x="0" y="160"/>
                  <a:pt x="9" y="160"/>
                  <a:pt x="10" y="164"/>
                </a:cubicBezTo>
                <a:cubicBezTo>
                  <a:pt x="17" y="168"/>
                  <a:pt x="22" y="169"/>
                  <a:pt x="28" y="173"/>
                </a:cubicBezTo>
                <a:cubicBezTo>
                  <a:pt x="35" y="173"/>
                  <a:pt x="53" y="179"/>
                  <a:pt x="64" y="179"/>
                </a:cubicBezTo>
                <a:cubicBezTo>
                  <a:pt x="76" y="179"/>
                  <a:pt x="100" y="178"/>
                  <a:pt x="113" y="177"/>
                </a:cubicBezTo>
                <a:cubicBezTo>
                  <a:pt x="121" y="176"/>
                  <a:pt x="130" y="171"/>
                  <a:pt x="144" y="171"/>
                </a:cubicBezTo>
                <a:cubicBezTo>
                  <a:pt x="157" y="169"/>
                  <a:pt x="185" y="165"/>
                  <a:pt x="197" y="162"/>
                </a:cubicBezTo>
                <a:cubicBezTo>
                  <a:pt x="245" y="141"/>
                  <a:pt x="374" y="90"/>
                  <a:pt x="388" y="37"/>
                </a:cubicBezTo>
                <a:cubicBezTo>
                  <a:pt x="390" y="29"/>
                  <a:pt x="376" y="10"/>
                  <a:pt x="376" y="10"/>
                </a:cubicBezTo>
                <a:cubicBezTo>
                  <a:pt x="376" y="10"/>
                  <a:pt x="375" y="13"/>
                  <a:pt x="375" y="13"/>
                </a:cubicBez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16520" y="5086440"/>
            <a:ext cx="585720" cy="317520"/>
          </a:xfrm>
          <a:custGeom>
            <a:avLst/>
            <a:gdLst>
              <a:gd name="textAreaLeft" fmla="*/ 0 w 585720"/>
              <a:gd name="textAreaRight" fmla="*/ 586080 w 5857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32" h="219">
                <a:moveTo>
                  <a:pt x="371" y="3"/>
                </a:moveTo>
                <a:cubicBezTo>
                  <a:pt x="371" y="3"/>
                  <a:pt x="354" y="20"/>
                  <a:pt x="352" y="25"/>
                </a:cubicBezTo>
                <a:cubicBezTo>
                  <a:pt x="345" y="29"/>
                  <a:pt x="328" y="36"/>
                  <a:pt x="317" y="38"/>
                </a:cubicBezTo>
                <a:cubicBezTo>
                  <a:pt x="315" y="38"/>
                  <a:pt x="305" y="36"/>
                  <a:pt x="299" y="36"/>
                </a:cubicBezTo>
                <a:cubicBezTo>
                  <a:pt x="297" y="36"/>
                  <a:pt x="287" y="38"/>
                  <a:pt x="281" y="38"/>
                </a:cubicBezTo>
                <a:cubicBezTo>
                  <a:pt x="277" y="38"/>
                  <a:pt x="265" y="30"/>
                  <a:pt x="257" y="32"/>
                </a:cubicBezTo>
                <a:cubicBezTo>
                  <a:pt x="241" y="35"/>
                  <a:pt x="227" y="62"/>
                  <a:pt x="216" y="69"/>
                </a:cubicBezTo>
                <a:cubicBezTo>
                  <a:pt x="201" y="80"/>
                  <a:pt x="165" y="94"/>
                  <a:pt x="154" y="103"/>
                </a:cubicBezTo>
                <a:cubicBezTo>
                  <a:pt x="130" y="114"/>
                  <a:pt x="87" y="137"/>
                  <a:pt x="71" y="150"/>
                </a:cubicBezTo>
                <a:cubicBezTo>
                  <a:pt x="53" y="161"/>
                  <a:pt x="24" y="188"/>
                  <a:pt x="6" y="203"/>
                </a:cubicBezTo>
                <a:cubicBezTo>
                  <a:pt x="5" y="204"/>
                  <a:pt x="0" y="212"/>
                  <a:pt x="1" y="215"/>
                </a:cubicBezTo>
                <a:cubicBezTo>
                  <a:pt x="5" y="219"/>
                  <a:pt x="20" y="217"/>
                  <a:pt x="26" y="217"/>
                </a:cubicBezTo>
                <a:cubicBezTo>
                  <a:pt x="45" y="217"/>
                  <a:pt x="85" y="210"/>
                  <a:pt x="109" y="204"/>
                </a:cubicBezTo>
                <a:cubicBezTo>
                  <a:pt x="125" y="201"/>
                  <a:pt x="170" y="188"/>
                  <a:pt x="192" y="183"/>
                </a:cubicBezTo>
                <a:cubicBezTo>
                  <a:pt x="214" y="177"/>
                  <a:pt x="258" y="165"/>
                  <a:pt x="277" y="159"/>
                </a:cubicBezTo>
                <a:cubicBezTo>
                  <a:pt x="281" y="156"/>
                  <a:pt x="302" y="152"/>
                  <a:pt x="308" y="148"/>
                </a:cubicBezTo>
                <a:cubicBezTo>
                  <a:pt x="310" y="146"/>
                  <a:pt x="320" y="143"/>
                  <a:pt x="325" y="142"/>
                </a:cubicBezTo>
                <a:cubicBezTo>
                  <a:pt x="344" y="133"/>
                  <a:pt x="378" y="136"/>
                  <a:pt x="394" y="132"/>
                </a:cubicBezTo>
                <a:cubicBezTo>
                  <a:pt x="406" y="126"/>
                  <a:pt x="430" y="112"/>
                  <a:pt x="431" y="103"/>
                </a:cubicBezTo>
                <a:cubicBezTo>
                  <a:pt x="432" y="93"/>
                  <a:pt x="417" y="70"/>
                  <a:pt x="410" y="61"/>
                </a:cubicBezTo>
                <a:cubicBezTo>
                  <a:pt x="408" y="56"/>
                  <a:pt x="395" y="45"/>
                  <a:pt x="392" y="38"/>
                </a:cubicBezTo>
                <a:cubicBezTo>
                  <a:pt x="390" y="33"/>
                  <a:pt x="381" y="22"/>
                  <a:pt x="378" y="16"/>
                </a:cubicBezTo>
                <a:cubicBezTo>
                  <a:pt x="376" y="16"/>
                  <a:pt x="373" y="0"/>
                  <a:pt x="373" y="0"/>
                </a:cubicBezTo>
                <a:cubicBezTo>
                  <a:pt x="373" y="0"/>
                  <a:pt x="371" y="3"/>
                  <a:pt x="371" y="3"/>
                </a:cubicBez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30640" y="5149800"/>
            <a:ext cx="44640" cy="6480"/>
          </a:xfrm>
          <a:custGeom>
            <a:avLst/>
            <a:gdLst>
              <a:gd name="textAreaLeft" fmla="*/ 0 w 44640"/>
              <a:gd name="textAreaRight" fmla="*/ 45000 w 446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2" h="5">
                <a:moveTo>
                  <a:pt x="0" y="0"/>
                </a:moveTo>
                <a:cubicBezTo>
                  <a:pt x="0" y="0"/>
                  <a:pt x="18" y="0"/>
                  <a:pt x="22" y="2"/>
                </a:cubicBezTo>
                <a:cubicBezTo>
                  <a:pt x="25" y="2"/>
                  <a:pt x="32" y="5"/>
                  <a:pt x="32" y="5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78440" y="5175360"/>
            <a:ext cx="80640" cy="11160"/>
          </a:xfrm>
          <a:custGeom>
            <a:avLst/>
            <a:gdLst>
              <a:gd name="textAreaLeft" fmla="*/ 0 w 80640"/>
              <a:gd name="textAreaRight" fmla="*/ 81000 w 80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9" h="8">
                <a:moveTo>
                  <a:pt x="0" y="4"/>
                </a:moveTo>
                <a:cubicBezTo>
                  <a:pt x="0" y="4"/>
                  <a:pt x="23" y="0"/>
                  <a:pt x="28" y="1"/>
                </a:cubicBezTo>
                <a:cubicBezTo>
                  <a:pt x="33" y="1"/>
                  <a:pt x="39" y="2"/>
                  <a:pt x="41" y="4"/>
                </a:cubicBezTo>
                <a:cubicBezTo>
                  <a:pt x="46" y="4"/>
                  <a:pt x="59" y="8"/>
                  <a:pt x="59" y="8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19680" y="527040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65" h="28">
                <a:moveTo>
                  <a:pt x="0" y="5"/>
                </a:moveTo>
                <a:cubicBezTo>
                  <a:pt x="0" y="5"/>
                  <a:pt x="4" y="9"/>
                  <a:pt x="9" y="10"/>
                </a:cubicBezTo>
                <a:cubicBezTo>
                  <a:pt x="18" y="11"/>
                  <a:pt x="36" y="0"/>
                  <a:pt x="38" y="6"/>
                </a:cubicBezTo>
                <a:cubicBezTo>
                  <a:pt x="38" y="7"/>
                  <a:pt x="35" y="14"/>
                  <a:pt x="36" y="15"/>
                </a:cubicBezTo>
                <a:cubicBezTo>
                  <a:pt x="33" y="16"/>
                  <a:pt x="36" y="23"/>
                  <a:pt x="36" y="26"/>
                </a:cubicBezTo>
                <a:cubicBezTo>
                  <a:pt x="38" y="26"/>
                  <a:pt x="45" y="28"/>
                  <a:pt x="52" y="27"/>
                </a:cubicBezTo>
                <a:cubicBezTo>
                  <a:pt x="56" y="25"/>
                  <a:pt x="65" y="15"/>
                  <a:pt x="65" y="15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5329080"/>
            <a:ext cx="14400" cy="1116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0" y="5340240"/>
            <a:ext cx="15840" cy="1296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880" y="5346720"/>
            <a:ext cx="11160" cy="936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30640" y="5359320"/>
            <a:ext cx="15840" cy="1116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5342040"/>
            <a:ext cx="15840" cy="1404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5319720"/>
            <a:ext cx="7920" cy="1116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36920" y="5302080"/>
            <a:ext cx="6480" cy="1440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40240" y="5267160"/>
            <a:ext cx="6480" cy="1440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33840" y="5241960"/>
            <a:ext cx="11160" cy="1260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09920" y="519264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" h="6">
                <a:moveTo>
                  <a:pt x="0" y="0"/>
                </a:moveTo>
                <a:cubicBezTo>
                  <a:pt x="0" y="0"/>
                  <a:pt x="11" y="2"/>
                  <a:pt x="14" y="3"/>
                </a:cubicBezTo>
                <a:cubicBezTo>
                  <a:pt x="16" y="3"/>
                  <a:pt x="21" y="5"/>
                  <a:pt x="22" y="6"/>
                </a:cubicBezTo>
                <a:cubicBezTo>
                  <a:pt x="23" y="6"/>
                  <a:pt x="27" y="6"/>
                  <a:pt x="27" y="6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2400" y="5221440"/>
            <a:ext cx="47520" cy="9360"/>
          </a:xfrm>
          <a:custGeom>
            <a:avLst/>
            <a:gdLst>
              <a:gd name="textAreaLeft" fmla="*/ 0 w 47520"/>
              <a:gd name="textAreaRight" fmla="*/ 47880 w 475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5" h="6">
                <a:moveTo>
                  <a:pt x="0" y="0"/>
                </a:moveTo>
                <a:cubicBezTo>
                  <a:pt x="0" y="0"/>
                  <a:pt x="8" y="3"/>
                  <a:pt x="11" y="4"/>
                </a:cubicBezTo>
                <a:cubicBezTo>
                  <a:pt x="17" y="6"/>
                  <a:pt x="35" y="4"/>
                  <a:pt x="35" y="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9400" y="5203800"/>
            <a:ext cx="50760" cy="9720"/>
          </a:xfrm>
          <a:custGeom>
            <a:avLst/>
            <a:gdLst>
              <a:gd name="textAreaLeft" fmla="*/ 0 w 50760"/>
              <a:gd name="textAreaRight" fmla="*/ 51120 w 50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8" h="6">
                <a:moveTo>
                  <a:pt x="0" y="0"/>
                </a:moveTo>
                <a:cubicBezTo>
                  <a:pt x="0" y="0"/>
                  <a:pt x="11" y="4"/>
                  <a:pt x="14" y="5"/>
                </a:cubicBezTo>
                <a:cubicBezTo>
                  <a:pt x="20" y="6"/>
                  <a:pt x="38" y="6"/>
                  <a:pt x="38" y="6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19680" y="3681360"/>
            <a:ext cx="352440" cy="552600"/>
          </a:xfrm>
          <a:custGeom>
            <a:avLst/>
            <a:gdLst>
              <a:gd name="textAreaLeft" fmla="*/ 0 w 352440"/>
              <a:gd name="textAreaRight" fmla="*/ 352800 w 3524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259" h="382">
                <a:moveTo>
                  <a:pt x="181" y="185"/>
                </a:moveTo>
                <a:cubicBezTo>
                  <a:pt x="181" y="185"/>
                  <a:pt x="196" y="181"/>
                  <a:pt x="205" y="177"/>
                </a:cubicBezTo>
                <a:cubicBezTo>
                  <a:pt x="212" y="175"/>
                  <a:pt x="222" y="167"/>
                  <a:pt x="225" y="161"/>
                </a:cubicBezTo>
                <a:cubicBezTo>
                  <a:pt x="231" y="156"/>
                  <a:pt x="248" y="146"/>
                  <a:pt x="254" y="145"/>
                </a:cubicBezTo>
                <a:cubicBezTo>
                  <a:pt x="254" y="140"/>
                  <a:pt x="258" y="132"/>
                  <a:pt x="254" y="130"/>
                </a:cubicBezTo>
                <a:cubicBezTo>
                  <a:pt x="259" y="121"/>
                  <a:pt x="236" y="102"/>
                  <a:pt x="243" y="97"/>
                </a:cubicBezTo>
                <a:cubicBezTo>
                  <a:pt x="239" y="95"/>
                  <a:pt x="246" y="87"/>
                  <a:pt x="243" y="84"/>
                </a:cubicBezTo>
                <a:cubicBezTo>
                  <a:pt x="248" y="76"/>
                  <a:pt x="231" y="58"/>
                  <a:pt x="231" y="54"/>
                </a:cubicBezTo>
                <a:cubicBezTo>
                  <a:pt x="231" y="49"/>
                  <a:pt x="235" y="28"/>
                  <a:pt x="233" y="22"/>
                </a:cubicBezTo>
                <a:cubicBezTo>
                  <a:pt x="232" y="18"/>
                  <a:pt x="222" y="14"/>
                  <a:pt x="223" y="12"/>
                </a:cubicBezTo>
                <a:cubicBezTo>
                  <a:pt x="222" y="12"/>
                  <a:pt x="223" y="0"/>
                  <a:pt x="223" y="0"/>
                </a:cubicBezTo>
                <a:cubicBezTo>
                  <a:pt x="224" y="7"/>
                  <a:pt x="190" y="17"/>
                  <a:pt x="181" y="22"/>
                </a:cubicBezTo>
                <a:cubicBezTo>
                  <a:pt x="169" y="30"/>
                  <a:pt x="146" y="54"/>
                  <a:pt x="135" y="58"/>
                </a:cubicBezTo>
                <a:cubicBezTo>
                  <a:pt x="124" y="66"/>
                  <a:pt x="105" y="79"/>
                  <a:pt x="95" y="90"/>
                </a:cubicBezTo>
                <a:cubicBezTo>
                  <a:pt x="87" y="94"/>
                  <a:pt x="71" y="98"/>
                  <a:pt x="65" y="104"/>
                </a:cubicBezTo>
                <a:cubicBezTo>
                  <a:pt x="60" y="108"/>
                  <a:pt x="58" y="123"/>
                  <a:pt x="54" y="130"/>
                </a:cubicBezTo>
                <a:cubicBezTo>
                  <a:pt x="45" y="135"/>
                  <a:pt x="29" y="144"/>
                  <a:pt x="24" y="153"/>
                </a:cubicBezTo>
                <a:cubicBezTo>
                  <a:pt x="16" y="168"/>
                  <a:pt x="0" y="194"/>
                  <a:pt x="0" y="211"/>
                </a:cubicBezTo>
                <a:cubicBezTo>
                  <a:pt x="0" y="215"/>
                  <a:pt x="2" y="233"/>
                  <a:pt x="8" y="246"/>
                </a:cubicBezTo>
                <a:cubicBezTo>
                  <a:pt x="18" y="258"/>
                  <a:pt x="40" y="288"/>
                  <a:pt x="58" y="298"/>
                </a:cubicBezTo>
                <a:cubicBezTo>
                  <a:pt x="65" y="304"/>
                  <a:pt x="85" y="312"/>
                  <a:pt x="95" y="322"/>
                </a:cubicBezTo>
                <a:cubicBezTo>
                  <a:pt x="98" y="325"/>
                  <a:pt x="103" y="333"/>
                  <a:pt x="106" y="335"/>
                </a:cubicBezTo>
                <a:cubicBezTo>
                  <a:pt x="114" y="340"/>
                  <a:pt x="135" y="343"/>
                  <a:pt x="143" y="346"/>
                </a:cubicBezTo>
                <a:cubicBezTo>
                  <a:pt x="151" y="347"/>
                  <a:pt x="169" y="351"/>
                  <a:pt x="176" y="353"/>
                </a:cubicBezTo>
                <a:cubicBezTo>
                  <a:pt x="191" y="358"/>
                  <a:pt x="221" y="368"/>
                  <a:pt x="231" y="372"/>
                </a:cubicBezTo>
                <a:cubicBezTo>
                  <a:pt x="234" y="374"/>
                  <a:pt x="251" y="382"/>
                  <a:pt x="251" y="3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05160" y="3948120"/>
            <a:ext cx="44640" cy="19080"/>
          </a:xfrm>
          <a:custGeom>
            <a:avLst/>
            <a:gdLst>
              <a:gd name="textAreaLeft" fmla="*/ 0 w 44640"/>
              <a:gd name="textAreaRight" fmla="*/ 45000 w 44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13">
                <a:moveTo>
                  <a:pt x="0" y="0"/>
                </a:moveTo>
                <a:cubicBezTo>
                  <a:pt x="0" y="0"/>
                  <a:pt x="17" y="12"/>
                  <a:pt x="21" y="13"/>
                </a:cubicBezTo>
                <a:cubicBezTo>
                  <a:pt x="22" y="13"/>
                  <a:pt x="33" y="9"/>
                  <a:pt x="33" y="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95720" y="4240080"/>
            <a:ext cx="325440" cy="770040"/>
          </a:xfrm>
          <a:custGeom>
            <a:avLst/>
            <a:gdLst>
              <a:gd name="textAreaLeft" fmla="*/ 0 w 325440"/>
              <a:gd name="textAreaRight" fmla="*/ 325800 w 32544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240" h="532">
                <a:moveTo>
                  <a:pt x="240" y="41"/>
                </a:moveTo>
                <a:cubicBezTo>
                  <a:pt x="240" y="41"/>
                  <a:pt x="222" y="28"/>
                  <a:pt x="219" y="27"/>
                </a:cubicBezTo>
                <a:cubicBezTo>
                  <a:pt x="218" y="25"/>
                  <a:pt x="211" y="24"/>
                  <a:pt x="207" y="22"/>
                </a:cubicBezTo>
                <a:cubicBezTo>
                  <a:pt x="199" y="20"/>
                  <a:pt x="182" y="5"/>
                  <a:pt x="178" y="4"/>
                </a:cubicBezTo>
                <a:cubicBezTo>
                  <a:pt x="164" y="0"/>
                  <a:pt x="135" y="0"/>
                  <a:pt x="124" y="8"/>
                </a:cubicBezTo>
                <a:cubicBezTo>
                  <a:pt x="119" y="15"/>
                  <a:pt x="111" y="28"/>
                  <a:pt x="106" y="34"/>
                </a:cubicBezTo>
                <a:cubicBezTo>
                  <a:pt x="101" y="54"/>
                  <a:pt x="94" y="94"/>
                  <a:pt x="89" y="108"/>
                </a:cubicBezTo>
                <a:cubicBezTo>
                  <a:pt x="79" y="141"/>
                  <a:pt x="57" y="211"/>
                  <a:pt x="51" y="243"/>
                </a:cubicBezTo>
                <a:cubicBezTo>
                  <a:pt x="47" y="261"/>
                  <a:pt x="46" y="304"/>
                  <a:pt x="42" y="326"/>
                </a:cubicBezTo>
                <a:cubicBezTo>
                  <a:pt x="39" y="352"/>
                  <a:pt x="11" y="406"/>
                  <a:pt x="26" y="424"/>
                </a:cubicBezTo>
                <a:cubicBezTo>
                  <a:pt x="24" y="426"/>
                  <a:pt x="21" y="455"/>
                  <a:pt x="16" y="458"/>
                </a:cubicBezTo>
                <a:cubicBezTo>
                  <a:pt x="24" y="467"/>
                  <a:pt x="0" y="498"/>
                  <a:pt x="5" y="510"/>
                </a:cubicBezTo>
                <a:cubicBezTo>
                  <a:pt x="11" y="520"/>
                  <a:pt x="34" y="525"/>
                  <a:pt x="46" y="528"/>
                </a:cubicBezTo>
                <a:cubicBezTo>
                  <a:pt x="57" y="531"/>
                  <a:pt x="81" y="532"/>
                  <a:pt x="93" y="532"/>
                </a:cubicBezTo>
                <a:cubicBezTo>
                  <a:pt x="104" y="532"/>
                  <a:pt x="159" y="532"/>
                  <a:pt x="159" y="53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08480" y="4278240"/>
            <a:ext cx="371520" cy="789120"/>
          </a:xfrm>
          <a:custGeom>
            <a:avLst/>
            <a:gdLst>
              <a:gd name="textAreaLeft" fmla="*/ 0 w 371520"/>
              <a:gd name="textAreaRight" fmla="*/ 371880 w 37152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74" h="545">
                <a:moveTo>
                  <a:pt x="269" y="85"/>
                </a:moveTo>
                <a:cubicBezTo>
                  <a:pt x="269" y="85"/>
                  <a:pt x="270" y="82"/>
                  <a:pt x="269" y="82"/>
                </a:cubicBezTo>
                <a:cubicBezTo>
                  <a:pt x="274" y="73"/>
                  <a:pt x="240" y="53"/>
                  <a:pt x="228" y="45"/>
                </a:cubicBezTo>
                <a:cubicBezTo>
                  <a:pt x="217" y="36"/>
                  <a:pt x="198" y="17"/>
                  <a:pt x="180" y="11"/>
                </a:cubicBezTo>
                <a:cubicBezTo>
                  <a:pt x="175" y="6"/>
                  <a:pt x="149" y="0"/>
                  <a:pt x="139" y="1"/>
                </a:cubicBezTo>
                <a:cubicBezTo>
                  <a:pt x="129" y="1"/>
                  <a:pt x="102" y="9"/>
                  <a:pt x="95" y="15"/>
                </a:cubicBezTo>
                <a:cubicBezTo>
                  <a:pt x="91" y="17"/>
                  <a:pt x="82" y="28"/>
                  <a:pt x="78" y="30"/>
                </a:cubicBezTo>
                <a:cubicBezTo>
                  <a:pt x="63" y="46"/>
                  <a:pt x="57" y="85"/>
                  <a:pt x="51" y="108"/>
                </a:cubicBezTo>
                <a:cubicBezTo>
                  <a:pt x="47" y="117"/>
                  <a:pt x="39" y="147"/>
                  <a:pt x="36" y="160"/>
                </a:cubicBezTo>
                <a:cubicBezTo>
                  <a:pt x="28" y="186"/>
                  <a:pt x="28" y="235"/>
                  <a:pt x="24" y="262"/>
                </a:cubicBezTo>
                <a:cubicBezTo>
                  <a:pt x="24" y="294"/>
                  <a:pt x="8" y="364"/>
                  <a:pt x="7" y="398"/>
                </a:cubicBezTo>
                <a:cubicBezTo>
                  <a:pt x="5" y="426"/>
                  <a:pt x="15" y="483"/>
                  <a:pt x="10" y="510"/>
                </a:cubicBezTo>
                <a:cubicBezTo>
                  <a:pt x="10" y="515"/>
                  <a:pt x="0" y="525"/>
                  <a:pt x="3" y="529"/>
                </a:cubicBezTo>
                <a:cubicBezTo>
                  <a:pt x="8" y="537"/>
                  <a:pt x="37" y="521"/>
                  <a:pt x="47" y="521"/>
                </a:cubicBezTo>
                <a:cubicBezTo>
                  <a:pt x="53" y="521"/>
                  <a:pt x="64" y="523"/>
                  <a:pt x="71" y="525"/>
                </a:cubicBezTo>
                <a:cubicBezTo>
                  <a:pt x="84" y="527"/>
                  <a:pt x="103" y="542"/>
                  <a:pt x="118" y="544"/>
                </a:cubicBezTo>
                <a:cubicBezTo>
                  <a:pt x="126" y="545"/>
                  <a:pt x="140" y="544"/>
                  <a:pt x="148" y="544"/>
                </a:cubicBezTo>
                <a:cubicBezTo>
                  <a:pt x="159" y="544"/>
                  <a:pt x="174" y="544"/>
                  <a:pt x="179" y="544"/>
                </a:cubicBezTo>
                <a:cubicBezTo>
                  <a:pt x="179" y="538"/>
                  <a:pt x="179" y="526"/>
                  <a:pt x="179" y="521"/>
                </a:cubicBezTo>
                <a:cubicBezTo>
                  <a:pt x="179" y="513"/>
                  <a:pt x="184" y="494"/>
                  <a:pt x="179" y="488"/>
                </a:cubicBezTo>
                <a:cubicBezTo>
                  <a:pt x="202" y="466"/>
                  <a:pt x="170" y="399"/>
                  <a:pt x="170" y="372"/>
                </a:cubicBezTo>
                <a:cubicBezTo>
                  <a:pt x="171" y="362"/>
                  <a:pt x="176" y="341"/>
                  <a:pt x="177" y="327"/>
                </a:cubicBezTo>
                <a:cubicBezTo>
                  <a:pt x="177" y="314"/>
                  <a:pt x="166" y="281"/>
                  <a:pt x="174" y="272"/>
                </a:cubicBezTo>
                <a:cubicBezTo>
                  <a:pt x="156" y="254"/>
                  <a:pt x="174" y="171"/>
                  <a:pt x="174" y="17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52920" y="4751280"/>
            <a:ext cx="57240" cy="152640"/>
          </a:xfrm>
          <a:custGeom>
            <a:avLst/>
            <a:gdLst>
              <a:gd name="textAreaLeft" fmla="*/ 0 w 57240"/>
              <a:gd name="textAreaRight" fmla="*/ 57600 w 57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42" h="105">
                <a:moveTo>
                  <a:pt x="0" y="0"/>
                </a:moveTo>
                <a:cubicBezTo>
                  <a:pt x="0" y="0"/>
                  <a:pt x="20" y="31"/>
                  <a:pt x="24" y="42"/>
                </a:cubicBezTo>
                <a:cubicBezTo>
                  <a:pt x="27" y="51"/>
                  <a:pt x="35" y="63"/>
                  <a:pt x="36" y="71"/>
                </a:cubicBezTo>
                <a:cubicBezTo>
                  <a:pt x="38" y="78"/>
                  <a:pt x="42" y="105"/>
                  <a:pt x="42" y="10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3772080"/>
            <a:ext cx="449280" cy="1398240"/>
          </a:xfrm>
          <a:custGeom>
            <a:avLst/>
            <a:gdLst>
              <a:gd name="textAreaLeft" fmla="*/ 0 w 449280"/>
              <a:gd name="textAreaRight" fmla="*/ 449640 w 449280"/>
              <a:gd name="textAreaTop" fmla="*/ 0 h 1398240"/>
              <a:gd name="textAreaBottom" fmla="*/ 1398240 h 1398240"/>
            </a:gdLst>
            <a:ahLst/>
            <a:rect l="textAreaLeft" t="textAreaTop" r="textAreaRight" b="textAreaBottom"/>
            <a:pathLst>
              <a:path w="331" h="967">
                <a:moveTo>
                  <a:pt x="89" y="392"/>
                </a:moveTo>
                <a:cubicBezTo>
                  <a:pt x="89" y="392"/>
                  <a:pt x="97" y="428"/>
                  <a:pt x="89" y="435"/>
                </a:cubicBezTo>
                <a:cubicBezTo>
                  <a:pt x="95" y="441"/>
                  <a:pt x="72" y="465"/>
                  <a:pt x="80" y="471"/>
                </a:cubicBezTo>
                <a:cubicBezTo>
                  <a:pt x="64" y="487"/>
                  <a:pt x="100" y="553"/>
                  <a:pt x="80" y="574"/>
                </a:cubicBezTo>
                <a:cubicBezTo>
                  <a:pt x="104" y="594"/>
                  <a:pt x="71" y="673"/>
                  <a:pt x="65" y="706"/>
                </a:cubicBezTo>
                <a:cubicBezTo>
                  <a:pt x="64" y="721"/>
                  <a:pt x="49" y="746"/>
                  <a:pt x="44" y="759"/>
                </a:cubicBezTo>
                <a:cubicBezTo>
                  <a:pt x="40" y="768"/>
                  <a:pt x="30" y="783"/>
                  <a:pt x="27" y="789"/>
                </a:cubicBezTo>
                <a:cubicBezTo>
                  <a:pt x="23" y="799"/>
                  <a:pt x="0" y="817"/>
                  <a:pt x="4" y="831"/>
                </a:cubicBezTo>
                <a:cubicBezTo>
                  <a:pt x="6" y="840"/>
                  <a:pt x="27" y="852"/>
                  <a:pt x="33" y="860"/>
                </a:cubicBezTo>
                <a:cubicBezTo>
                  <a:pt x="48" y="869"/>
                  <a:pt x="68" y="888"/>
                  <a:pt x="80" y="896"/>
                </a:cubicBezTo>
                <a:cubicBezTo>
                  <a:pt x="88" y="902"/>
                  <a:pt x="101" y="916"/>
                  <a:pt x="104" y="920"/>
                </a:cubicBezTo>
                <a:cubicBezTo>
                  <a:pt x="122" y="927"/>
                  <a:pt x="184" y="949"/>
                  <a:pt x="200" y="956"/>
                </a:cubicBezTo>
                <a:cubicBezTo>
                  <a:pt x="210" y="962"/>
                  <a:pt x="224" y="946"/>
                  <a:pt x="239" y="949"/>
                </a:cubicBezTo>
                <a:cubicBezTo>
                  <a:pt x="254" y="954"/>
                  <a:pt x="258" y="967"/>
                  <a:pt x="268" y="956"/>
                </a:cubicBezTo>
                <a:cubicBezTo>
                  <a:pt x="325" y="909"/>
                  <a:pt x="310" y="768"/>
                  <a:pt x="321" y="677"/>
                </a:cubicBezTo>
                <a:cubicBezTo>
                  <a:pt x="331" y="543"/>
                  <a:pt x="300" y="266"/>
                  <a:pt x="276" y="131"/>
                </a:cubicBezTo>
                <a:cubicBezTo>
                  <a:pt x="271" y="118"/>
                  <a:pt x="263" y="94"/>
                  <a:pt x="260" y="86"/>
                </a:cubicBezTo>
                <a:cubicBezTo>
                  <a:pt x="258" y="80"/>
                  <a:pt x="245" y="72"/>
                  <a:pt x="243" y="70"/>
                </a:cubicBezTo>
                <a:cubicBezTo>
                  <a:pt x="240" y="66"/>
                  <a:pt x="242" y="48"/>
                  <a:pt x="239" y="45"/>
                </a:cubicBezTo>
                <a:cubicBezTo>
                  <a:pt x="228" y="36"/>
                  <a:pt x="209" y="27"/>
                  <a:pt x="195" y="27"/>
                </a:cubicBezTo>
                <a:cubicBezTo>
                  <a:pt x="189" y="26"/>
                  <a:pt x="180" y="31"/>
                  <a:pt x="175" y="31"/>
                </a:cubicBezTo>
                <a:cubicBezTo>
                  <a:pt x="168" y="27"/>
                  <a:pt x="162" y="10"/>
                  <a:pt x="152" y="8"/>
                </a:cubicBezTo>
                <a:cubicBezTo>
                  <a:pt x="144" y="2"/>
                  <a:pt x="104" y="0"/>
                  <a:pt x="1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59200" y="4789440"/>
            <a:ext cx="160560" cy="66600"/>
          </a:xfrm>
          <a:custGeom>
            <a:avLst/>
            <a:gdLst>
              <a:gd name="textAreaLeft" fmla="*/ 0 w 160560"/>
              <a:gd name="textAreaRight" fmla="*/ 160920 w 160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7" h="46">
                <a:moveTo>
                  <a:pt x="0" y="0"/>
                </a:moveTo>
                <a:cubicBezTo>
                  <a:pt x="0" y="0"/>
                  <a:pt x="23" y="19"/>
                  <a:pt x="31" y="25"/>
                </a:cubicBezTo>
                <a:cubicBezTo>
                  <a:pt x="38" y="28"/>
                  <a:pt x="60" y="29"/>
                  <a:pt x="69" y="30"/>
                </a:cubicBezTo>
                <a:cubicBezTo>
                  <a:pt x="74" y="32"/>
                  <a:pt x="81" y="43"/>
                  <a:pt x="87" y="45"/>
                </a:cubicBezTo>
                <a:cubicBezTo>
                  <a:pt x="98" y="46"/>
                  <a:pt x="117" y="45"/>
                  <a:pt x="117" y="4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2160" y="3884760"/>
            <a:ext cx="399960" cy="55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95" h="381">
                <a:moveTo>
                  <a:pt x="225" y="133"/>
                </a:moveTo>
                <a:cubicBezTo>
                  <a:pt x="225" y="133"/>
                  <a:pt x="214" y="105"/>
                  <a:pt x="206" y="92"/>
                </a:cubicBezTo>
                <a:cubicBezTo>
                  <a:pt x="197" y="87"/>
                  <a:pt x="182" y="85"/>
                  <a:pt x="177" y="81"/>
                </a:cubicBezTo>
                <a:cubicBezTo>
                  <a:pt x="168" y="74"/>
                  <a:pt x="153" y="49"/>
                  <a:pt x="150" y="40"/>
                </a:cubicBezTo>
                <a:cubicBezTo>
                  <a:pt x="145" y="34"/>
                  <a:pt x="130" y="28"/>
                  <a:pt x="119" y="20"/>
                </a:cubicBezTo>
                <a:cubicBezTo>
                  <a:pt x="116" y="15"/>
                  <a:pt x="113" y="4"/>
                  <a:pt x="110" y="3"/>
                </a:cubicBezTo>
                <a:cubicBezTo>
                  <a:pt x="97" y="0"/>
                  <a:pt x="73" y="29"/>
                  <a:pt x="66" y="34"/>
                </a:cubicBezTo>
                <a:cubicBezTo>
                  <a:pt x="59" y="43"/>
                  <a:pt x="50" y="60"/>
                  <a:pt x="37" y="70"/>
                </a:cubicBezTo>
                <a:cubicBezTo>
                  <a:pt x="34" y="76"/>
                  <a:pt x="3" y="85"/>
                  <a:pt x="1" y="99"/>
                </a:cubicBezTo>
                <a:cubicBezTo>
                  <a:pt x="0" y="103"/>
                  <a:pt x="12" y="108"/>
                  <a:pt x="12" y="110"/>
                </a:cubicBezTo>
                <a:cubicBezTo>
                  <a:pt x="16" y="116"/>
                  <a:pt x="25" y="133"/>
                  <a:pt x="31" y="145"/>
                </a:cubicBezTo>
                <a:cubicBezTo>
                  <a:pt x="37" y="151"/>
                  <a:pt x="65" y="168"/>
                  <a:pt x="72" y="181"/>
                </a:cubicBezTo>
                <a:cubicBezTo>
                  <a:pt x="77" y="192"/>
                  <a:pt x="87" y="226"/>
                  <a:pt x="94" y="237"/>
                </a:cubicBezTo>
                <a:cubicBezTo>
                  <a:pt x="102" y="259"/>
                  <a:pt x="115" y="291"/>
                  <a:pt x="132" y="304"/>
                </a:cubicBezTo>
                <a:cubicBezTo>
                  <a:pt x="141" y="315"/>
                  <a:pt x="164" y="333"/>
                  <a:pt x="177" y="341"/>
                </a:cubicBezTo>
                <a:cubicBezTo>
                  <a:pt x="185" y="344"/>
                  <a:pt x="183" y="349"/>
                  <a:pt x="190" y="354"/>
                </a:cubicBezTo>
                <a:cubicBezTo>
                  <a:pt x="195" y="357"/>
                  <a:pt x="209" y="367"/>
                  <a:pt x="217" y="369"/>
                </a:cubicBezTo>
                <a:cubicBezTo>
                  <a:pt x="227" y="373"/>
                  <a:pt x="228" y="371"/>
                  <a:pt x="237" y="369"/>
                </a:cubicBezTo>
                <a:cubicBezTo>
                  <a:pt x="242" y="368"/>
                  <a:pt x="255" y="356"/>
                  <a:pt x="259" y="357"/>
                </a:cubicBezTo>
                <a:cubicBezTo>
                  <a:pt x="264" y="358"/>
                  <a:pt x="262" y="379"/>
                  <a:pt x="266" y="380"/>
                </a:cubicBezTo>
                <a:cubicBezTo>
                  <a:pt x="270" y="381"/>
                  <a:pt x="295" y="364"/>
                  <a:pt x="295" y="3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51480" y="4211640"/>
            <a:ext cx="48960" cy="34920"/>
          </a:xfrm>
          <a:custGeom>
            <a:avLst/>
            <a:gdLst>
              <a:gd name="textAreaLeft" fmla="*/ 0 w 48960"/>
              <a:gd name="textAreaRight" fmla="*/ 49320 w 489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6" h="24">
                <a:moveTo>
                  <a:pt x="0" y="24"/>
                </a:moveTo>
                <a:cubicBezTo>
                  <a:pt x="0" y="24"/>
                  <a:pt x="20" y="9"/>
                  <a:pt x="25" y="5"/>
                </a:cubicBezTo>
                <a:cubicBezTo>
                  <a:pt x="28" y="3"/>
                  <a:pt x="36" y="0"/>
                  <a:pt x="3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59200" y="3878280"/>
            <a:ext cx="54000" cy="130320"/>
          </a:xfrm>
          <a:custGeom>
            <a:avLst/>
            <a:gdLst>
              <a:gd name="textAreaLeft" fmla="*/ 0 w 54000"/>
              <a:gd name="textAreaRight" fmla="*/ 54360 w 540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9" h="89">
                <a:moveTo>
                  <a:pt x="0" y="89"/>
                </a:moveTo>
                <a:cubicBezTo>
                  <a:pt x="0" y="89"/>
                  <a:pt x="3" y="60"/>
                  <a:pt x="8" y="52"/>
                </a:cubicBezTo>
                <a:cubicBezTo>
                  <a:pt x="12" y="49"/>
                  <a:pt x="23" y="46"/>
                  <a:pt x="27" y="44"/>
                </a:cubicBezTo>
                <a:cubicBezTo>
                  <a:pt x="26" y="38"/>
                  <a:pt x="29" y="31"/>
                  <a:pt x="27" y="24"/>
                </a:cubicBezTo>
                <a:cubicBezTo>
                  <a:pt x="33" y="20"/>
                  <a:pt x="39" y="0"/>
                  <a:pt x="3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90920" y="3508200"/>
            <a:ext cx="365400" cy="422280"/>
          </a:xfrm>
          <a:custGeom>
            <a:avLst/>
            <a:gdLst>
              <a:gd name="textAreaLeft" fmla="*/ 0 w 365400"/>
              <a:gd name="textAreaRight" fmla="*/ 365760 w 3654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69" h="292">
                <a:moveTo>
                  <a:pt x="258" y="270"/>
                </a:moveTo>
                <a:cubicBezTo>
                  <a:pt x="258" y="270"/>
                  <a:pt x="269" y="233"/>
                  <a:pt x="265" y="223"/>
                </a:cubicBezTo>
                <a:cubicBezTo>
                  <a:pt x="263" y="213"/>
                  <a:pt x="229" y="198"/>
                  <a:pt x="225" y="187"/>
                </a:cubicBezTo>
                <a:cubicBezTo>
                  <a:pt x="221" y="173"/>
                  <a:pt x="257" y="135"/>
                  <a:pt x="245" y="119"/>
                </a:cubicBezTo>
                <a:cubicBezTo>
                  <a:pt x="237" y="110"/>
                  <a:pt x="205" y="117"/>
                  <a:pt x="201" y="111"/>
                </a:cubicBezTo>
                <a:cubicBezTo>
                  <a:pt x="201" y="106"/>
                  <a:pt x="227" y="99"/>
                  <a:pt x="232" y="96"/>
                </a:cubicBezTo>
                <a:cubicBezTo>
                  <a:pt x="232" y="94"/>
                  <a:pt x="235" y="83"/>
                  <a:pt x="238" y="81"/>
                </a:cubicBezTo>
                <a:cubicBezTo>
                  <a:pt x="236" y="74"/>
                  <a:pt x="240" y="52"/>
                  <a:pt x="238" y="52"/>
                </a:cubicBezTo>
                <a:cubicBezTo>
                  <a:pt x="238" y="51"/>
                  <a:pt x="217" y="51"/>
                  <a:pt x="208" y="46"/>
                </a:cubicBezTo>
                <a:cubicBezTo>
                  <a:pt x="200" y="42"/>
                  <a:pt x="193" y="27"/>
                  <a:pt x="188" y="24"/>
                </a:cubicBezTo>
                <a:cubicBezTo>
                  <a:pt x="172" y="21"/>
                  <a:pt x="139" y="24"/>
                  <a:pt x="119" y="29"/>
                </a:cubicBezTo>
                <a:cubicBezTo>
                  <a:pt x="116" y="31"/>
                  <a:pt x="102" y="51"/>
                  <a:pt x="98" y="46"/>
                </a:cubicBezTo>
                <a:cubicBezTo>
                  <a:pt x="96" y="43"/>
                  <a:pt x="105" y="30"/>
                  <a:pt x="105" y="24"/>
                </a:cubicBezTo>
                <a:cubicBezTo>
                  <a:pt x="105" y="19"/>
                  <a:pt x="89" y="6"/>
                  <a:pt x="94" y="0"/>
                </a:cubicBezTo>
                <a:cubicBezTo>
                  <a:pt x="84" y="13"/>
                  <a:pt x="78" y="18"/>
                  <a:pt x="68" y="18"/>
                </a:cubicBezTo>
                <a:cubicBezTo>
                  <a:pt x="61" y="18"/>
                  <a:pt x="39" y="24"/>
                  <a:pt x="37" y="19"/>
                </a:cubicBezTo>
                <a:cubicBezTo>
                  <a:pt x="39" y="22"/>
                  <a:pt x="5" y="32"/>
                  <a:pt x="10" y="37"/>
                </a:cubicBezTo>
                <a:cubicBezTo>
                  <a:pt x="7" y="37"/>
                  <a:pt x="1" y="53"/>
                  <a:pt x="0" y="55"/>
                </a:cubicBezTo>
                <a:cubicBezTo>
                  <a:pt x="3" y="59"/>
                  <a:pt x="0" y="74"/>
                  <a:pt x="2" y="81"/>
                </a:cubicBezTo>
                <a:cubicBezTo>
                  <a:pt x="9" y="96"/>
                  <a:pt x="37" y="75"/>
                  <a:pt x="42" y="89"/>
                </a:cubicBezTo>
                <a:cubicBezTo>
                  <a:pt x="45" y="91"/>
                  <a:pt x="43" y="101"/>
                  <a:pt x="45" y="104"/>
                </a:cubicBezTo>
                <a:cubicBezTo>
                  <a:pt x="66" y="126"/>
                  <a:pt x="50" y="137"/>
                  <a:pt x="68" y="156"/>
                </a:cubicBezTo>
                <a:cubicBezTo>
                  <a:pt x="78" y="171"/>
                  <a:pt x="161" y="187"/>
                  <a:pt x="157" y="203"/>
                </a:cubicBezTo>
                <a:cubicBezTo>
                  <a:pt x="156" y="211"/>
                  <a:pt x="158" y="209"/>
                  <a:pt x="161" y="214"/>
                </a:cubicBezTo>
                <a:cubicBezTo>
                  <a:pt x="167" y="222"/>
                  <a:pt x="183" y="254"/>
                  <a:pt x="188" y="260"/>
                </a:cubicBezTo>
                <a:cubicBezTo>
                  <a:pt x="188" y="262"/>
                  <a:pt x="194" y="264"/>
                  <a:pt x="195" y="264"/>
                </a:cubicBezTo>
                <a:cubicBezTo>
                  <a:pt x="205" y="259"/>
                  <a:pt x="201" y="248"/>
                  <a:pt x="214" y="244"/>
                </a:cubicBezTo>
                <a:cubicBezTo>
                  <a:pt x="223" y="238"/>
                  <a:pt x="240" y="236"/>
                  <a:pt x="245" y="249"/>
                </a:cubicBezTo>
                <a:cubicBezTo>
                  <a:pt x="248" y="252"/>
                  <a:pt x="229" y="292"/>
                  <a:pt x="229" y="292"/>
                </a:cubicBezTo>
                <a:cubicBezTo>
                  <a:pt x="229" y="292"/>
                  <a:pt x="256" y="271"/>
                  <a:pt x="258" y="270"/>
                </a:cubicBez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0040" y="3639960"/>
            <a:ext cx="353880" cy="276480"/>
          </a:xfrm>
          <a:custGeom>
            <a:avLst/>
            <a:gdLst>
              <a:gd name="textAreaLeft" fmla="*/ 0 w 353880"/>
              <a:gd name="textAreaRight" fmla="*/ 354240 w 3538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61" h="191">
                <a:moveTo>
                  <a:pt x="0" y="40"/>
                </a:moveTo>
                <a:cubicBezTo>
                  <a:pt x="0" y="40"/>
                  <a:pt x="64" y="5"/>
                  <a:pt x="84" y="0"/>
                </a:cubicBezTo>
                <a:cubicBezTo>
                  <a:pt x="85" y="0"/>
                  <a:pt x="89" y="0"/>
                  <a:pt x="92" y="0"/>
                </a:cubicBezTo>
                <a:cubicBezTo>
                  <a:pt x="98" y="0"/>
                  <a:pt x="105" y="4"/>
                  <a:pt x="109" y="5"/>
                </a:cubicBezTo>
                <a:cubicBezTo>
                  <a:pt x="116" y="5"/>
                  <a:pt x="125" y="9"/>
                  <a:pt x="134" y="10"/>
                </a:cubicBezTo>
                <a:cubicBezTo>
                  <a:pt x="134" y="13"/>
                  <a:pt x="134" y="20"/>
                  <a:pt x="134" y="24"/>
                </a:cubicBezTo>
                <a:cubicBezTo>
                  <a:pt x="158" y="24"/>
                  <a:pt x="201" y="19"/>
                  <a:pt x="229" y="24"/>
                </a:cubicBezTo>
                <a:cubicBezTo>
                  <a:pt x="233" y="24"/>
                  <a:pt x="243" y="28"/>
                  <a:pt x="243" y="35"/>
                </a:cubicBezTo>
                <a:cubicBezTo>
                  <a:pt x="243" y="42"/>
                  <a:pt x="232" y="49"/>
                  <a:pt x="220" y="46"/>
                </a:cubicBezTo>
                <a:cubicBezTo>
                  <a:pt x="218" y="46"/>
                  <a:pt x="233" y="56"/>
                  <a:pt x="236" y="62"/>
                </a:cubicBezTo>
                <a:cubicBezTo>
                  <a:pt x="238" y="69"/>
                  <a:pt x="242" y="84"/>
                  <a:pt x="242" y="91"/>
                </a:cubicBezTo>
                <a:cubicBezTo>
                  <a:pt x="243" y="100"/>
                  <a:pt x="236" y="125"/>
                  <a:pt x="239" y="128"/>
                </a:cubicBezTo>
                <a:cubicBezTo>
                  <a:pt x="242" y="130"/>
                  <a:pt x="254" y="123"/>
                  <a:pt x="258" y="122"/>
                </a:cubicBezTo>
                <a:cubicBezTo>
                  <a:pt x="259" y="125"/>
                  <a:pt x="261" y="133"/>
                  <a:pt x="258" y="136"/>
                </a:cubicBezTo>
                <a:cubicBezTo>
                  <a:pt x="259" y="138"/>
                  <a:pt x="254" y="147"/>
                  <a:pt x="249" y="153"/>
                </a:cubicBezTo>
                <a:cubicBezTo>
                  <a:pt x="237" y="163"/>
                  <a:pt x="201" y="182"/>
                  <a:pt x="187" y="185"/>
                </a:cubicBezTo>
                <a:cubicBezTo>
                  <a:pt x="145" y="191"/>
                  <a:pt x="20" y="142"/>
                  <a:pt x="20" y="142"/>
                </a:cubicBezTo>
                <a:cubicBezTo>
                  <a:pt x="20" y="122"/>
                  <a:pt x="9" y="62"/>
                  <a:pt x="0" y="40"/>
                </a:cubicBezTo>
                <a:close/>
              </a:path>
            </a:pathLst>
          </a:custGeom>
          <a:solidFill>
            <a:srgbClr val="f0c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86160" y="3633840"/>
            <a:ext cx="182520" cy="65160"/>
          </a:xfrm>
          <a:custGeom>
            <a:avLst/>
            <a:gdLst>
              <a:gd name="textAreaLeft" fmla="*/ 0 w 182520"/>
              <a:gd name="textAreaRight" fmla="*/ 182880 w 182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34" h="45">
                <a:moveTo>
                  <a:pt x="0" y="45"/>
                </a:moveTo>
                <a:cubicBezTo>
                  <a:pt x="0" y="45"/>
                  <a:pt x="69" y="0"/>
                  <a:pt x="94" y="3"/>
                </a:cubicBezTo>
                <a:cubicBezTo>
                  <a:pt x="100" y="3"/>
                  <a:pt x="111" y="10"/>
                  <a:pt x="114" y="12"/>
                </a:cubicBezTo>
                <a:cubicBezTo>
                  <a:pt x="117" y="13"/>
                  <a:pt x="134" y="22"/>
                  <a:pt x="134" y="2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3665520"/>
            <a:ext cx="182520" cy="41400"/>
          </a:xfrm>
          <a:custGeom>
            <a:avLst/>
            <a:gdLst>
              <a:gd name="textAreaLeft" fmla="*/ 0 w 182520"/>
              <a:gd name="textAreaRight" fmla="*/ 182880 w 1825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34" h="28">
                <a:moveTo>
                  <a:pt x="0" y="6"/>
                </a:moveTo>
                <a:cubicBezTo>
                  <a:pt x="0" y="6"/>
                  <a:pt x="39" y="6"/>
                  <a:pt x="51" y="6"/>
                </a:cubicBezTo>
                <a:cubicBezTo>
                  <a:pt x="67" y="6"/>
                  <a:pt x="94" y="0"/>
                  <a:pt x="112" y="2"/>
                </a:cubicBezTo>
                <a:cubicBezTo>
                  <a:pt x="119" y="3"/>
                  <a:pt x="133" y="6"/>
                  <a:pt x="134" y="17"/>
                </a:cubicBezTo>
                <a:cubicBezTo>
                  <a:pt x="134" y="22"/>
                  <a:pt x="123" y="27"/>
                  <a:pt x="123" y="28"/>
                </a:cubicBezTo>
                <a:cubicBezTo>
                  <a:pt x="123" y="27"/>
                  <a:pt x="112" y="28"/>
                  <a:pt x="112" y="2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6160" y="3703680"/>
            <a:ext cx="324000" cy="290520"/>
          </a:xfrm>
          <a:custGeom>
            <a:avLst/>
            <a:gdLst>
              <a:gd name="textAreaLeft" fmla="*/ 0 w 324000"/>
              <a:gd name="textAreaRight" fmla="*/ 324360 w 324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38" h="201">
                <a:moveTo>
                  <a:pt x="235" y="86"/>
                </a:moveTo>
                <a:cubicBezTo>
                  <a:pt x="235" y="86"/>
                  <a:pt x="238" y="55"/>
                  <a:pt x="238" y="47"/>
                </a:cubicBezTo>
                <a:cubicBezTo>
                  <a:pt x="237" y="38"/>
                  <a:pt x="234" y="23"/>
                  <a:pt x="231" y="14"/>
                </a:cubicBezTo>
                <a:cubicBezTo>
                  <a:pt x="228" y="10"/>
                  <a:pt x="219" y="3"/>
                  <a:pt x="216" y="2"/>
                </a:cubicBezTo>
                <a:cubicBezTo>
                  <a:pt x="211" y="1"/>
                  <a:pt x="198" y="0"/>
                  <a:pt x="195" y="1"/>
                </a:cubicBezTo>
                <a:cubicBezTo>
                  <a:pt x="193" y="1"/>
                  <a:pt x="188" y="2"/>
                  <a:pt x="188" y="5"/>
                </a:cubicBezTo>
                <a:cubicBezTo>
                  <a:pt x="187" y="10"/>
                  <a:pt x="188" y="18"/>
                  <a:pt x="190" y="23"/>
                </a:cubicBezTo>
                <a:cubicBezTo>
                  <a:pt x="192" y="29"/>
                  <a:pt x="202" y="38"/>
                  <a:pt x="202" y="40"/>
                </a:cubicBezTo>
                <a:cubicBezTo>
                  <a:pt x="202" y="41"/>
                  <a:pt x="198" y="52"/>
                  <a:pt x="196" y="52"/>
                </a:cubicBezTo>
                <a:cubicBezTo>
                  <a:pt x="195" y="54"/>
                  <a:pt x="188" y="43"/>
                  <a:pt x="188" y="42"/>
                </a:cubicBezTo>
                <a:cubicBezTo>
                  <a:pt x="180" y="38"/>
                  <a:pt x="175" y="36"/>
                  <a:pt x="164" y="33"/>
                </a:cubicBezTo>
                <a:cubicBezTo>
                  <a:pt x="155" y="23"/>
                  <a:pt x="119" y="20"/>
                  <a:pt x="119" y="18"/>
                </a:cubicBezTo>
                <a:cubicBezTo>
                  <a:pt x="119" y="21"/>
                  <a:pt x="77" y="18"/>
                  <a:pt x="77" y="16"/>
                </a:cubicBezTo>
                <a:cubicBezTo>
                  <a:pt x="77" y="18"/>
                  <a:pt x="16" y="6"/>
                  <a:pt x="2" y="20"/>
                </a:cubicBezTo>
                <a:cubicBezTo>
                  <a:pt x="0" y="25"/>
                  <a:pt x="0" y="39"/>
                  <a:pt x="2" y="41"/>
                </a:cubicBezTo>
                <a:cubicBezTo>
                  <a:pt x="5" y="44"/>
                  <a:pt x="21" y="52"/>
                  <a:pt x="24" y="52"/>
                </a:cubicBezTo>
                <a:cubicBezTo>
                  <a:pt x="38" y="56"/>
                  <a:pt x="53" y="58"/>
                  <a:pt x="67" y="61"/>
                </a:cubicBezTo>
                <a:cubicBezTo>
                  <a:pt x="77" y="62"/>
                  <a:pt x="98" y="76"/>
                  <a:pt x="108" y="78"/>
                </a:cubicBezTo>
                <a:cubicBezTo>
                  <a:pt x="81" y="74"/>
                  <a:pt x="71" y="74"/>
                  <a:pt x="55" y="76"/>
                </a:cubicBezTo>
                <a:cubicBezTo>
                  <a:pt x="55" y="76"/>
                  <a:pt x="18" y="81"/>
                  <a:pt x="16" y="84"/>
                </a:cubicBezTo>
                <a:cubicBezTo>
                  <a:pt x="15" y="88"/>
                  <a:pt x="6" y="94"/>
                  <a:pt x="10" y="98"/>
                </a:cubicBezTo>
                <a:cubicBezTo>
                  <a:pt x="15" y="106"/>
                  <a:pt x="21" y="117"/>
                  <a:pt x="26" y="117"/>
                </a:cubicBezTo>
                <a:cubicBezTo>
                  <a:pt x="39" y="121"/>
                  <a:pt x="67" y="117"/>
                  <a:pt x="79" y="117"/>
                </a:cubicBezTo>
                <a:cubicBezTo>
                  <a:pt x="84" y="117"/>
                  <a:pt x="107" y="117"/>
                  <a:pt x="107" y="119"/>
                </a:cubicBezTo>
                <a:cubicBezTo>
                  <a:pt x="107" y="122"/>
                  <a:pt x="80" y="123"/>
                  <a:pt x="77" y="129"/>
                </a:cubicBezTo>
                <a:cubicBezTo>
                  <a:pt x="75" y="133"/>
                  <a:pt x="67" y="141"/>
                  <a:pt x="67" y="153"/>
                </a:cubicBezTo>
                <a:cubicBezTo>
                  <a:pt x="67" y="155"/>
                  <a:pt x="73" y="167"/>
                  <a:pt x="76" y="168"/>
                </a:cubicBezTo>
                <a:cubicBezTo>
                  <a:pt x="79" y="172"/>
                  <a:pt x="95" y="173"/>
                  <a:pt x="100" y="173"/>
                </a:cubicBezTo>
                <a:cubicBezTo>
                  <a:pt x="108" y="172"/>
                  <a:pt x="118" y="169"/>
                  <a:pt x="126" y="169"/>
                </a:cubicBezTo>
                <a:cubicBezTo>
                  <a:pt x="126" y="172"/>
                  <a:pt x="130" y="188"/>
                  <a:pt x="129" y="192"/>
                </a:cubicBezTo>
                <a:cubicBezTo>
                  <a:pt x="138" y="193"/>
                  <a:pt x="157" y="201"/>
                  <a:pt x="157" y="20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51240" y="3863880"/>
            <a:ext cx="135000" cy="123840"/>
          </a:xfrm>
          <a:custGeom>
            <a:avLst/>
            <a:gdLst>
              <a:gd name="textAreaLeft" fmla="*/ 0 w 135000"/>
              <a:gd name="textAreaRight" fmla="*/ 135360 w 1350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00" h="85">
                <a:moveTo>
                  <a:pt x="42" y="0"/>
                </a:moveTo>
                <a:cubicBezTo>
                  <a:pt x="42" y="0"/>
                  <a:pt x="26" y="14"/>
                  <a:pt x="24" y="19"/>
                </a:cubicBezTo>
                <a:cubicBezTo>
                  <a:pt x="19" y="26"/>
                  <a:pt x="10" y="41"/>
                  <a:pt x="7" y="45"/>
                </a:cubicBezTo>
                <a:cubicBezTo>
                  <a:pt x="6" y="46"/>
                  <a:pt x="0" y="57"/>
                  <a:pt x="1" y="62"/>
                </a:cubicBezTo>
                <a:cubicBezTo>
                  <a:pt x="2" y="67"/>
                  <a:pt x="7" y="80"/>
                  <a:pt x="10" y="82"/>
                </a:cubicBezTo>
                <a:cubicBezTo>
                  <a:pt x="12" y="84"/>
                  <a:pt x="23" y="85"/>
                  <a:pt x="26" y="85"/>
                </a:cubicBezTo>
                <a:cubicBezTo>
                  <a:pt x="28" y="85"/>
                  <a:pt x="45" y="84"/>
                  <a:pt x="50" y="82"/>
                </a:cubicBezTo>
                <a:cubicBezTo>
                  <a:pt x="52" y="82"/>
                  <a:pt x="57" y="74"/>
                  <a:pt x="59" y="73"/>
                </a:cubicBezTo>
                <a:cubicBezTo>
                  <a:pt x="63" y="71"/>
                  <a:pt x="68" y="74"/>
                  <a:pt x="71" y="73"/>
                </a:cubicBezTo>
                <a:cubicBezTo>
                  <a:pt x="82" y="71"/>
                  <a:pt x="100" y="61"/>
                  <a:pt x="100" y="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05480" y="3811680"/>
            <a:ext cx="31680" cy="50760"/>
          </a:xfrm>
          <a:custGeom>
            <a:avLst/>
            <a:gdLst>
              <a:gd name="textAreaLeft" fmla="*/ 0 w 31680"/>
              <a:gd name="textAreaRight" fmla="*/ 32040 w 31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4" h="35">
                <a:moveTo>
                  <a:pt x="0" y="5"/>
                </a:moveTo>
                <a:cubicBezTo>
                  <a:pt x="0" y="5"/>
                  <a:pt x="16" y="0"/>
                  <a:pt x="19" y="4"/>
                </a:cubicBezTo>
                <a:cubicBezTo>
                  <a:pt x="24" y="4"/>
                  <a:pt x="23" y="18"/>
                  <a:pt x="21" y="24"/>
                </a:cubicBezTo>
                <a:cubicBezTo>
                  <a:pt x="21" y="26"/>
                  <a:pt x="14" y="35"/>
                  <a:pt x="14" y="3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7840" y="3983040"/>
            <a:ext cx="119160" cy="222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87" h="154">
                <a:moveTo>
                  <a:pt x="0" y="0"/>
                </a:moveTo>
                <a:cubicBezTo>
                  <a:pt x="0" y="0"/>
                  <a:pt x="4" y="22"/>
                  <a:pt x="9" y="33"/>
                </a:cubicBezTo>
                <a:cubicBezTo>
                  <a:pt x="14" y="40"/>
                  <a:pt x="33" y="43"/>
                  <a:pt x="37" y="49"/>
                </a:cubicBezTo>
                <a:cubicBezTo>
                  <a:pt x="42" y="56"/>
                  <a:pt x="37" y="79"/>
                  <a:pt x="41" y="83"/>
                </a:cubicBezTo>
                <a:cubicBezTo>
                  <a:pt x="45" y="91"/>
                  <a:pt x="60" y="99"/>
                  <a:pt x="70" y="106"/>
                </a:cubicBezTo>
                <a:cubicBezTo>
                  <a:pt x="76" y="117"/>
                  <a:pt x="87" y="154"/>
                  <a:pt x="87" y="15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40240" y="4049640"/>
            <a:ext cx="61920" cy="73080"/>
          </a:xfrm>
          <a:custGeom>
            <a:avLst/>
            <a:gdLst>
              <a:gd name="textAreaLeft" fmla="*/ 0 w 61920"/>
              <a:gd name="textAreaRight" fmla="*/ 62280 w 61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5" h="50">
                <a:moveTo>
                  <a:pt x="45" y="50"/>
                </a:moveTo>
                <a:cubicBezTo>
                  <a:pt x="45" y="50"/>
                  <a:pt x="37" y="35"/>
                  <a:pt x="34" y="33"/>
                </a:cubicBezTo>
                <a:cubicBezTo>
                  <a:pt x="28" y="29"/>
                  <a:pt x="34" y="10"/>
                  <a:pt x="26" y="6"/>
                </a:cubicBezTo>
                <a:cubicBezTo>
                  <a:pt x="23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1880" y="2673360"/>
            <a:ext cx="557280" cy="2836800"/>
          </a:xfrm>
          <a:custGeom>
            <a:avLst/>
            <a:gdLst>
              <a:gd name="textAreaLeft" fmla="*/ 0 w 557280"/>
              <a:gd name="textAreaRight" fmla="*/ 557640 w 557280"/>
              <a:gd name="textAreaTop" fmla="*/ 0 h 2836800"/>
              <a:gd name="textAreaBottom" fmla="*/ 2837160 h 2836800"/>
            </a:gdLst>
            <a:ahLst/>
            <a:rect l="textAreaLeft" t="textAreaTop" r="textAreaRight" b="textAreaBottom"/>
            <a:pathLst>
              <a:path w="410" h="1960">
                <a:moveTo>
                  <a:pt x="0" y="1304"/>
                </a:moveTo>
                <a:lnTo>
                  <a:pt x="13" y="1960"/>
                </a:lnTo>
                <a:lnTo>
                  <a:pt x="75" y="1918"/>
                </a:lnTo>
                <a:lnTo>
                  <a:pt x="111" y="1895"/>
                </a:lnTo>
                <a:lnTo>
                  <a:pt x="111" y="1802"/>
                </a:lnTo>
                <a:lnTo>
                  <a:pt x="325" y="1643"/>
                </a:lnTo>
                <a:lnTo>
                  <a:pt x="325" y="1701"/>
                </a:lnTo>
                <a:lnTo>
                  <a:pt x="410" y="1643"/>
                </a:lnTo>
                <a:lnTo>
                  <a:pt x="401" y="806"/>
                </a:lnTo>
                <a:lnTo>
                  <a:pt x="410" y="722"/>
                </a:lnTo>
                <a:lnTo>
                  <a:pt x="389" y="0"/>
                </a:lnTo>
                <a:lnTo>
                  <a:pt x="0" y="397"/>
                </a:ln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41760" y="2478240"/>
            <a:ext cx="1803240" cy="72216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1329" h="499">
                <a:moveTo>
                  <a:pt x="1054" y="43"/>
                </a:moveTo>
                <a:cubicBezTo>
                  <a:pt x="1054" y="43"/>
                  <a:pt x="1054" y="43"/>
                  <a:pt x="1054" y="43"/>
                </a:cubicBezTo>
                <a:cubicBezTo>
                  <a:pt x="1038" y="40"/>
                  <a:pt x="1038" y="40"/>
                  <a:pt x="1038" y="40"/>
                </a:cubicBezTo>
                <a:cubicBezTo>
                  <a:pt x="361" y="0"/>
                  <a:pt x="361" y="0"/>
                  <a:pt x="361" y="0"/>
                </a:cubicBezTo>
                <a:cubicBezTo>
                  <a:pt x="327" y="60"/>
                  <a:pt x="327" y="60"/>
                  <a:pt x="327" y="60"/>
                </a:cubicBezTo>
                <a:cubicBezTo>
                  <a:pt x="307" y="82"/>
                  <a:pt x="307" y="82"/>
                  <a:pt x="307" y="82"/>
                </a:cubicBezTo>
                <a:cubicBezTo>
                  <a:pt x="283" y="107"/>
                  <a:pt x="283" y="107"/>
                  <a:pt x="283" y="107"/>
                </a:cubicBezTo>
                <a:cubicBezTo>
                  <a:pt x="257" y="139"/>
                  <a:pt x="257" y="139"/>
                  <a:pt x="257" y="139"/>
                </a:cubicBezTo>
                <a:cubicBezTo>
                  <a:pt x="231" y="180"/>
                  <a:pt x="231" y="180"/>
                  <a:pt x="231" y="180"/>
                </a:cubicBezTo>
                <a:cubicBezTo>
                  <a:pt x="205" y="204"/>
                  <a:pt x="205" y="204"/>
                  <a:pt x="205" y="204"/>
                </a:cubicBezTo>
                <a:cubicBezTo>
                  <a:pt x="168" y="251"/>
                  <a:pt x="168" y="251"/>
                  <a:pt x="168" y="251"/>
                </a:cubicBezTo>
                <a:cubicBezTo>
                  <a:pt x="138" y="298"/>
                  <a:pt x="138" y="298"/>
                  <a:pt x="138" y="298"/>
                </a:cubicBezTo>
                <a:cubicBezTo>
                  <a:pt x="111" y="325"/>
                  <a:pt x="111" y="325"/>
                  <a:pt x="111" y="325"/>
                </a:cubicBezTo>
                <a:cubicBezTo>
                  <a:pt x="62" y="373"/>
                  <a:pt x="62" y="373"/>
                  <a:pt x="62" y="373"/>
                </a:cubicBezTo>
                <a:cubicBezTo>
                  <a:pt x="39" y="396"/>
                  <a:pt x="39" y="396"/>
                  <a:pt x="39" y="396"/>
                </a:cubicBezTo>
                <a:cubicBezTo>
                  <a:pt x="20" y="421"/>
                  <a:pt x="20" y="421"/>
                  <a:pt x="20" y="421"/>
                </a:cubicBezTo>
                <a:cubicBezTo>
                  <a:pt x="0" y="446"/>
                  <a:pt x="0" y="446"/>
                  <a:pt x="0" y="446"/>
                </a:cubicBezTo>
                <a:cubicBezTo>
                  <a:pt x="0" y="446"/>
                  <a:pt x="0" y="446"/>
                  <a:pt x="0" y="446"/>
                </a:cubicBezTo>
                <a:cubicBezTo>
                  <a:pt x="0" y="468"/>
                  <a:pt x="0" y="468"/>
                  <a:pt x="0" y="468"/>
                </a:cubicBezTo>
                <a:cubicBezTo>
                  <a:pt x="126" y="473"/>
                  <a:pt x="126" y="473"/>
                  <a:pt x="126" y="473"/>
                </a:cubicBezTo>
                <a:cubicBezTo>
                  <a:pt x="279" y="473"/>
                  <a:pt x="279" y="473"/>
                  <a:pt x="279" y="473"/>
                </a:cubicBezTo>
                <a:cubicBezTo>
                  <a:pt x="345" y="471"/>
                  <a:pt x="345" y="471"/>
                  <a:pt x="345" y="471"/>
                </a:cubicBezTo>
                <a:cubicBezTo>
                  <a:pt x="399" y="471"/>
                  <a:pt x="399" y="471"/>
                  <a:pt x="399" y="471"/>
                </a:cubicBezTo>
                <a:cubicBezTo>
                  <a:pt x="442" y="472"/>
                  <a:pt x="442" y="472"/>
                  <a:pt x="442" y="472"/>
                </a:cubicBezTo>
                <a:cubicBezTo>
                  <a:pt x="477" y="475"/>
                  <a:pt x="477" y="475"/>
                  <a:pt x="477" y="475"/>
                </a:cubicBezTo>
                <a:cubicBezTo>
                  <a:pt x="546" y="477"/>
                  <a:pt x="546" y="477"/>
                  <a:pt x="546" y="477"/>
                </a:cubicBezTo>
                <a:cubicBezTo>
                  <a:pt x="573" y="474"/>
                  <a:pt x="573" y="474"/>
                  <a:pt x="573" y="474"/>
                </a:cubicBezTo>
                <a:cubicBezTo>
                  <a:pt x="595" y="474"/>
                  <a:pt x="595" y="474"/>
                  <a:pt x="595" y="474"/>
                </a:cubicBezTo>
                <a:cubicBezTo>
                  <a:pt x="667" y="477"/>
                  <a:pt x="667" y="477"/>
                  <a:pt x="667" y="477"/>
                </a:cubicBezTo>
                <a:cubicBezTo>
                  <a:pt x="740" y="479"/>
                  <a:pt x="740" y="479"/>
                  <a:pt x="740" y="479"/>
                </a:cubicBezTo>
                <a:cubicBezTo>
                  <a:pt x="769" y="483"/>
                  <a:pt x="769" y="483"/>
                  <a:pt x="769" y="483"/>
                </a:cubicBezTo>
                <a:cubicBezTo>
                  <a:pt x="843" y="490"/>
                  <a:pt x="843" y="490"/>
                  <a:pt x="843" y="490"/>
                </a:cubicBezTo>
                <a:cubicBezTo>
                  <a:pt x="896" y="492"/>
                  <a:pt x="896" y="492"/>
                  <a:pt x="896" y="492"/>
                </a:cubicBezTo>
                <a:cubicBezTo>
                  <a:pt x="904" y="495"/>
                  <a:pt x="904" y="495"/>
                  <a:pt x="904" y="495"/>
                </a:cubicBezTo>
                <a:cubicBezTo>
                  <a:pt x="935" y="495"/>
                  <a:pt x="935" y="495"/>
                  <a:pt x="935" y="495"/>
                </a:cubicBezTo>
                <a:cubicBezTo>
                  <a:pt x="980" y="499"/>
                  <a:pt x="980" y="499"/>
                  <a:pt x="980" y="499"/>
                </a:cubicBezTo>
                <a:cubicBezTo>
                  <a:pt x="988" y="497"/>
                  <a:pt x="988" y="497"/>
                  <a:pt x="988" y="497"/>
                </a:cubicBezTo>
                <a:cubicBezTo>
                  <a:pt x="996" y="497"/>
                  <a:pt x="996" y="497"/>
                  <a:pt x="996" y="497"/>
                </a:cubicBezTo>
                <a:cubicBezTo>
                  <a:pt x="1005" y="495"/>
                  <a:pt x="1005" y="495"/>
                  <a:pt x="1005" y="495"/>
                </a:cubicBezTo>
                <a:cubicBezTo>
                  <a:pt x="1035" y="474"/>
                  <a:pt x="1035" y="474"/>
                  <a:pt x="1035" y="474"/>
                </a:cubicBezTo>
                <a:cubicBezTo>
                  <a:pt x="1058" y="452"/>
                  <a:pt x="1058" y="452"/>
                  <a:pt x="1058" y="452"/>
                </a:cubicBezTo>
                <a:cubicBezTo>
                  <a:pt x="1081" y="421"/>
                  <a:pt x="1081" y="421"/>
                  <a:pt x="1081" y="421"/>
                </a:cubicBezTo>
                <a:cubicBezTo>
                  <a:pt x="1091" y="412"/>
                  <a:pt x="1091" y="412"/>
                  <a:pt x="1091" y="412"/>
                </a:cubicBezTo>
                <a:cubicBezTo>
                  <a:pt x="1329" y="63"/>
                  <a:pt x="1329" y="63"/>
                  <a:pt x="1329" y="63"/>
                </a:cubicBezTo>
                <a:cubicBezTo>
                  <a:pt x="1250" y="48"/>
                  <a:pt x="1250" y="48"/>
                  <a:pt x="1250" y="48"/>
                </a:cubicBezTo>
                <a:cubicBezTo>
                  <a:pt x="1250" y="48"/>
                  <a:pt x="1250" y="48"/>
                  <a:pt x="1250" y="48"/>
                </a:cubicBezTo>
                <a:cubicBezTo>
                  <a:pt x="1250" y="48"/>
                  <a:pt x="1250" y="48"/>
                  <a:pt x="1250" y="48"/>
                </a:cubicBezTo>
                <a:cubicBezTo>
                  <a:pt x="1169" y="45"/>
                  <a:pt x="1169" y="45"/>
                  <a:pt x="1169" y="45"/>
                </a:cubicBez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84600" y="2570040"/>
            <a:ext cx="1793880" cy="68760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321" h="475">
                <a:moveTo>
                  <a:pt x="0" y="409"/>
                </a:moveTo>
                <a:cubicBezTo>
                  <a:pt x="0" y="409"/>
                  <a:pt x="0" y="409"/>
                  <a:pt x="0" y="409"/>
                </a:cubicBezTo>
                <a:cubicBezTo>
                  <a:pt x="9" y="409"/>
                  <a:pt x="9" y="409"/>
                  <a:pt x="9" y="409"/>
                </a:cubicBezTo>
                <a:cubicBezTo>
                  <a:pt x="9" y="409"/>
                  <a:pt x="46" y="409"/>
                  <a:pt x="56" y="409"/>
                </a:cubicBezTo>
                <a:cubicBezTo>
                  <a:pt x="75" y="409"/>
                  <a:pt x="109" y="407"/>
                  <a:pt x="131" y="407"/>
                </a:cubicBezTo>
                <a:cubicBezTo>
                  <a:pt x="134" y="407"/>
                  <a:pt x="162" y="408"/>
                  <a:pt x="170" y="408"/>
                </a:cubicBezTo>
                <a:cubicBezTo>
                  <a:pt x="185" y="406"/>
                  <a:pt x="213" y="408"/>
                  <a:pt x="228" y="410"/>
                </a:cubicBezTo>
                <a:cubicBezTo>
                  <a:pt x="242" y="410"/>
                  <a:pt x="264" y="410"/>
                  <a:pt x="278" y="410"/>
                </a:cubicBezTo>
                <a:cubicBezTo>
                  <a:pt x="289" y="410"/>
                  <a:pt x="318" y="407"/>
                  <a:pt x="327" y="407"/>
                </a:cubicBezTo>
                <a:cubicBezTo>
                  <a:pt x="342" y="406"/>
                  <a:pt x="410" y="410"/>
                  <a:pt x="425" y="412"/>
                </a:cubicBezTo>
                <a:cubicBezTo>
                  <a:pt x="435" y="412"/>
                  <a:pt x="498" y="414"/>
                  <a:pt x="508" y="414"/>
                </a:cubicBezTo>
                <a:cubicBezTo>
                  <a:pt x="517" y="414"/>
                  <a:pt x="594" y="412"/>
                  <a:pt x="616" y="416"/>
                </a:cubicBezTo>
                <a:cubicBezTo>
                  <a:pt x="629" y="416"/>
                  <a:pt x="730" y="425"/>
                  <a:pt x="743" y="425"/>
                </a:cubicBezTo>
                <a:cubicBezTo>
                  <a:pt x="753" y="425"/>
                  <a:pt x="844" y="429"/>
                  <a:pt x="861" y="429"/>
                </a:cubicBezTo>
                <a:cubicBezTo>
                  <a:pt x="875" y="429"/>
                  <a:pt x="929" y="437"/>
                  <a:pt x="945" y="437"/>
                </a:cubicBezTo>
                <a:cubicBezTo>
                  <a:pt x="950" y="437"/>
                  <a:pt x="968" y="434"/>
                  <a:pt x="973" y="433"/>
                </a:cubicBezTo>
                <a:cubicBezTo>
                  <a:pt x="979" y="433"/>
                  <a:pt x="999" y="416"/>
                  <a:pt x="1006" y="410"/>
                </a:cubicBezTo>
                <a:cubicBezTo>
                  <a:pt x="1011" y="406"/>
                  <a:pt x="1104" y="282"/>
                  <a:pt x="1109" y="271"/>
                </a:cubicBezTo>
                <a:cubicBezTo>
                  <a:pt x="1114" y="262"/>
                  <a:pt x="1146" y="215"/>
                  <a:pt x="1154" y="206"/>
                </a:cubicBezTo>
                <a:cubicBezTo>
                  <a:pt x="1160" y="203"/>
                  <a:pt x="1173" y="180"/>
                  <a:pt x="1173" y="178"/>
                </a:cubicBezTo>
                <a:cubicBezTo>
                  <a:pt x="1179" y="166"/>
                  <a:pt x="1200" y="137"/>
                  <a:pt x="1209" y="127"/>
                </a:cubicBezTo>
                <a:cubicBezTo>
                  <a:pt x="1218" y="116"/>
                  <a:pt x="1240" y="86"/>
                  <a:pt x="1251" y="74"/>
                </a:cubicBezTo>
                <a:cubicBezTo>
                  <a:pt x="1256" y="57"/>
                  <a:pt x="1278" y="45"/>
                  <a:pt x="1282" y="33"/>
                </a:cubicBezTo>
                <a:cubicBezTo>
                  <a:pt x="1287" y="23"/>
                  <a:pt x="1287" y="5"/>
                  <a:pt x="1291" y="1"/>
                </a:cubicBezTo>
                <a:cubicBezTo>
                  <a:pt x="1293" y="0"/>
                  <a:pt x="1304" y="0"/>
                  <a:pt x="1304" y="0"/>
                </a:cubicBezTo>
                <a:cubicBezTo>
                  <a:pt x="1305" y="1"/>
                  <a:pt x="1305" y="1"/>
                  <a:pt x="1305" y="1"/>
                </a:cubicBezTo>
                <a:cubicBezTo>
                  <a:pt x="1321" y="18"/>
                  <a:pt x="1321" y="18"/>
                  <a:pt x="1321" y="18"/>
                </a:cubicBezTo>
                <a:cubicBezTo>
                  <a:pt x="1318" y="69"/>
                  <a:pt x="1318" y="69"/>
                  <a:pt x="1318" y="69"/>
                </a:cubicBezTo>
                <a:cubicBezTo>
                  <a:pt x="1268" y="116"/>
                  <a:pt x="1268" y="116"/>
                  <a:pt x="1268" y="116"/>
                </a:cubicBezTo>
                <a:cubicBezTo>
                  <a:pt x="1229" y="160"/>
                  <a:pt x="1229" y="160"/>
                  <a:pt x="1229" y="160"/>
                </a:cubicBezTo>
                <a:cubicBezTo>
                  <a:pt x="1215" y="180"/>
                  <a:pt x="1215" y="180"/>
                  <a:pt x="1215" y="180"/>
                </a:cubicBezTo>
                <a:cubicBezTo>
                  <a:pt x="1191" y="204"/>
                  <a:pt x="1191" y="204"/>
                  <a:pt x="1191" y="204"/>
                </a:cubicBezTo>
                <a:cubicBezTo>
                  <a:pt x="1167" y="240"/>
                  <a:pt x="1167" y="240"/>
                  <a:pt x="1167" y="240"/>
                </a:cubicBezTo>
                <a:cubicBezTo>
                  <a:pt x="1141" y="262"/>
                  <a:pt x="1141" y="262"/>
                  <a:pt x="1141" y="262"/>
                </a:cubicBezTo>
                <a:cubicBezTo>
                  <a:pt x="1093" y="333"/>
                  <a:pt x="1093" y="333"/>
                  <a:pt x="1093" y="333"/>
                </a:cubicBezTo>
                <a:cubicBezTo>
                  <a:pt x="1062" y="373"/>
                  <a:pt x="1062" y="373"/>
                  <a:pt x="1062" y="373"/>
                </a:cubicBezTo>
                <a:cubicBezTo>
                  <a:pt x="1032" y="420"/>
                  <a:pt x="1032" y="420"/>
                  <a:pt x="1032" y="420"/>
                </a:cubicBezTo>
                <a:cubicBezTo>
                  <a:pt x="993" y="454"/>
                  <a:pt x="993" y="454"/>
                  <a:pt x="993" y="454"/>
                </a:cubicBezTo>
                <a:cubicBezTo>
                  <a:pt x="955" y="475"/>
                  <a:pt x="955" y="475"/>
                  <a:pt x="955" y="475"/>
                </a:cubicBezTo>
                <a:cubicBezTo>
                  <a:pt x="932" y="469"/>
                  <a:pt x="932" y="469"/>
                  <a:pt x="932" y="469"/>
                </a:cubicBezTo>
                <a:cubicBezTo>
                  <a:pt x="932" y="469"/>
                  <a:pt x="932" y="469"/>
                  <a:pt x="932" y="469"/>
                </a:cubicBezTo>
                <a:cubicBezTo>
                  <a:pt x="932" y="469"/>
                  <a:pt x="893" y="469"/>
                  <a:pt x="877" y="469"/>
                </a:cubicBezTo>
                <a:cubicBezTo>
                  <a:pt x="864" y="469"/>
                  <a:pt x="770" y="467"/>
                  <a:pt x="752" y="467"/>
                </a:cubicBezTo>
                <a:cubicBezTo>
                  <a:pt x="742" y="464"/>
                  <a:pt x="712" y="459"/>
                  <a:pt x="699" y="459"/>
                </a:cubicBezTo>
                <a:cubicBezTo>
                  <a:pt x="680" y="459"/>
                  <a:pt x="656" y="459"/>
                  <a:pt x="638" y="459"/>
                </a:cubicBezTo>
                <a:cubicBezTo>
                  <a:pt x="632" y="459"/>
                  <a:pt x="564" y="467"/>
                  <a:pt x="557" y="467"/>
                </a:cubicBezTo>
                <a:cubicBezTo>
                  <a:pt x="550" y="464"/>
                  <a:pt x="487" y="456"/>
                  <a:pt x="482" y="456"/>
                </a:cubicBezTo>
                <a:cubicBezTo>
                  <a:pt x="471" y="454"/>
                  <a:pt x="449" y="456"/>
                  <a:pt x="442" y="456"/>
                </a:cubicBezTo>
                <a:cubicBezTo>
                  <a:pt x="430" y="456"/>
                  <a:pt x="407" y="456"/>
                  <a:pt x="400" y="456"/>
                </a:cubicBezTo>
                <a:cubicBezTo>
                  <a:pt x="391" y="456"/>
                  <a:pt x="363" y="456"/>
                  <a:pt x="349" y="456"/>
                </a:cubicBezTo>
                <a:cubicBezTo>
                  <a:pt x="331" y="456"/>
                  <a:pt x="226" y="459"/>
                  <a:pt x="205" y="459"/>
                </a:cubicBezTo>
                <a:cubicBezTo>
                  <a:pt x="197" y="459"/>
                  <a:pt x="173" y="459"/>
                  <a:pt x="165" y="459"/>
                </a:cubicBezTo>
                <a:cubicBezTo>
                  <a:pt x="150" y="459"/>
                  <a:pt x="120" y="459"/>
                  <a:pt x="97" y="459"/>
                </a:cubicBezTo>
                <a:cubicBezTo>
                  <a:pt x="93" y="459"/>
                  <a:pt x="51" y="467"/>
                  <a:pt x="51" y="467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ubicBezTo>
                  <a:pt x="16" y="469"/>
                  <a:pt x="16" y="469"/>
                  <a:pt x="16" y="469"/>
                </a:cubicBezTo>
                <a:cubicBezTo>
                  <a:pt x="0" y="409"/>
                  <a:pt x="0" y="409"/>
                  <a:pt x="0" y="409"/>
                </a:cubicBezTo>
                <a:close/>
              </a:path>
            </a:pathLst>
          </a:custGeom>
          <a:solidFill>
            <a:srgbClr val="ffffd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98720" y="3149640"/>
            <a:ext cx="493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68920" y="2124000"/>
            <a:ext cx="93600" cy="339840"/>
          </a:xfrm>
          <a:custGeom>
            <a:avLst/>
            <a:gdLst>
              <a:gd name="textAreaLeft" fmla="*/ 0 w 93600"/>
              <a:gd name="textAreaRight" fmla="*/ 93960 w 9360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69" h="235">
                <a:moveTo>
                  <a:pt x="0" y="0"/>
                </a:moveTo>
                <a:lnTo>
                  <a:pt x="15" y="25"/>
                </a:lnTo>
                <a:lnTo>
                  <a:pt x="28" y="78"/>
                </a:lnTo>
                <a:lnTo>
                  <a:pt x="38" y="156"/>
                </a:lnTo>
                <a:lnTo>
                  <a:pt x="49" y="186"/>
                </a:lnTo>
                <a:lnTo>
                  <a:pt x="54" y="212"/>
                </a:lnTo>
                <a:lnTo>
                  <a:pt x="69" y="2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87760" y="1965240"/>
            <a:ext cx="365400" cy="182520"/>
          </a:xfrm>
          <a:custGeom>
            <a:avLst/>
            <a:gdLst>
              <a:gd name="textAreaLeft" fmla="*/ 0 w 365400"/>
              <a:gd name="textAreaRight" fmla="*/ 365760 w 365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70" h="126">
                <a:moveTo>
                  <a:pt x="270" y="56"/>
                </a:moveTo>
                <a:cubicBezTo>
                  <a:pt x="270" y="56"/>
                  <a:pt x="270" y="56"/>
                  <a:pt x="270" y="56"/>
                </a:cubicBezTo>
                <a:cubicBezTo>
                  <a:pt x="209" y="119"/>
                  <a:pt x="209" y="119"/>
                  <a:pt x="209" y="119"/>
                </a:cubicBezTo>
                <a:cubicBezTo>
                  <a:pt x="208" y="119"/>
                  <a:pt x="208" y="119"/>
                  <a:pt x="208" y="119"/>
                </a:cubicBezTo>
                <a:cubicBezTo>
                  <a:pt x="208" y="119"/>
                  <a:pt x="208" y="119"/>
                  <a:pt x="208" y="119"/>
                </a:cubicBezTo>
                <a:cubicBezTo>
                  <a:pt x="201" y="119"/>
                  <a:pt x="201" y="119"/>
                  <a:pt x="201" y="119"/>
                </a:cubicBezTo>
                <a:cubicBezTo>
                  <a:pt x="201" y="119"/>
                  <a:pt x="201" y="119"/>
                  <a:pt x="201" y="119"/>
                </a:cubicBezTo>
                <a:cubicBezTo>
                  <a:pt x="203" y="120"/>
                  <a:pt x="203" y="120"/>
                  <a:pt x="203" y="120"/>
                </a:cubicBezTo>
                <a:cubicBezTo>
                  <a:pt x="197" y="124"/>
                  <a:pt x="197" y="124"/>
                  <a:pt x="197" y="124"/>
                </a:cubicBezTo>
                <a:cubicBezTo>
                  <a:pt x="197" y="124"/>
                  <a:pt x="197" y="124"/>
                  <a:pt x="197" y="124"/>
                </a:cubicBezTo>
                <a:cubicBezTo>
                  <a:pt x="194" y="125"/>
                  <a:pt x="194" y="125"/>
                  <a:pt x="194" y="125"/>
                </a:cubicBezTo>
                <a:cubicBezTo>
                  <a:pt x="193" y="125"/>
                  <a:pt x="193" y="125"/>
                  <a:pt x="193" y="125"/>
                </a:cubicBezTo>
                <a:cubicBezTo>
                  <a:pt x="193" y="125"/>
                  <a:pt x="193" y="125"/>
                  <a:pt x="193" y="125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0" y="115"/>
                  <a:pt x="0" y="115"/>
                  <a:pt x="0" y="115"/>
                </a:cubicBezTo>
                <a:cubicBezTo>
                  <a:pt x="42" y="56"/>
                  <a:pt x="42" y="56"/>
                  <a:pt x="42" y="56"/>
                </a:cubicBezTo>
                <a:cubicBezTo>
                  <a:pt x="47" y="48"/>
                  <a:pt x="47" y="48"/>
                  <a:pt x="47" y="48"/>
                </a:cubicBezTo>
                <a:cubicBezTo>
                  <a:pt x="72" y="39"/>
                  <a:pt x="72" y="39"/>
                  <a:pt x="72" y="39"/>
                </a:cubicBezTo>
                <a:cubicBezTo>
                  <a:pt x="130" y="0"/>
                  <a:pt x="130" y="0"/>
                  <a:pt x="130" y="0"/>
                </a:cubicBezTo>
                <a:cubicBezTo>
                  <a:pt x="228" y="5"/>
                  <a:pt x="228" y="5"/>
                  <a:pt x="228" y="5"/>
                </a:cubicBezTo>
                <a:cubicBezTo>
                  <a:pt x="233" y="12"/>
                  <a:pt x="233" y="12"/>
                  <a:pt x="233" y="12"/>
                </a:cubicBezTo>
                <a:cubicBezTo>
                  <a:pt x="233" y="12"/>
                  <a:pt x="233" y="12"/>
                  <a:pt x="233" y="12"/>
                </a:cubicBezTo>
                <a:cubicBezTo>
                  <a:pt x="262" y="39"/>
                  <a:pt x="262" y="39"/>
                  <a:pt x="262" y="39"/>
                </a:cubicBezTo>
                <a:close/>
              </a:path>
            </a:pathLst>
          </a:custGeom>
          <a:solidFill>
            <a:srgbClr val="dcdc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9440" y="2124000"/>
            <a:ext cx="85680" cy="335160"/>
          </a:xfrm>
          <a:custGeom>
            <a:avLst/>
            <a:gdLst>
              <a:gd name="textAreaLeft" fmla="*/ 0 w 85680"/>
              <a:gd name="textAreaRight" fmla="*/ 86040 w 856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3" h="232">
                <a:moveTo>
                  <a:pt x="63" y="232"/>
                </a:moveTo>
                <a:lnTo>
                  <a:pt x="47" y="160"/>
                </a:lnTo>
                <a:lnTo>
                  <a:pt x="39" y="129"/>
                </a:lnTo>
                <a:lnTo>
                  <a:pt x="34" y="109"/>
                </a:lnTo>
                <a:lnTo>
                  <a:pt x="28" y="87"/>
                </a:lnTo>
                <a:lnTo>
                  <a:pt x="19" y="52"/>
                </a:lnTo>
                <a:lnTo>
                  <a:pt x="16" y="34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52920" y="2065320"/>
            <a:ext cx="15084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2000160"/>
            <a:ext cx="136800" cy="141480"/>
          </a:xfrm>
          <a:custGeom>
            <a:avLst/>
            <a:gdLst>
              <a:gd name="textAreaLeft" fmla="*/ 0 w 136800"/>
              <a:gd name="textAreaRight" fmla="*/ 137160 w 136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00" h="97">
                <a:moveTo>
                  <a:pt x="0" y="54"/>
                </a:moveTo>
                <a:cubicBezTo>
                  <a:pt x="0" y="54"/>
                  <a:pt x="0" y="54"/>
                  <a:pt x="0" y="54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11" y="92"/>
                  <a:pt x="22" y="94"/>
                </a:cubicBezTo>
                <a:cubicBezTo>
                  <a:pt x="28" y="97"/>
                  <a:pt x="56" y="82"/>
                  <a:pt x="57" y="80"/>
                </a:cubicBezTo>
                <a:cubicBezTo>
                  <a:pt x="67" y="63"/>
                  <a:pt x="100" y="49"/>
                  <a:pt x="100" y="34"/>
                </a:cubicBezTo>
                <a:cubicBezTo>
                  <a:pt x="100" y="23"/>
                  <a:pt x="82" y="14"/>
                  <a:pt x="75" y="9"/>
                </a:cubicBezTo>
                <a:cubicBezTo>
                  <a:pt x="73" y="5"/>
                  <a:pt x="67" y="0"/>
                  <a:pt x="67" y="0"/>
                </a:cubicBezTo>
                <a:cubicBezTo>
                  <a:pt x="54" y="5"/>
                  <a:pt x="54" y="5"/>
                  <a:pt x="54" y="5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ubicBezTo>
                  <a:pt x="54" y="5"/>
                  <a:pt x="54" y="5"/>
                  <a:pt x="54" y="5"/>
                </a:cubicBezTo>
                <a:cubicBezTo>
                  <a:pt x="0" y="54"/>
                  <a:pt x="0" y="54"/>
                  <a:pt x="0" y="54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30760" y="1936800"/>
            <a:ext cx="73080" cy="46080"/>
          </a:xfrm>
          <a:custGeom>
            <a:avLst/>
            <a:gdLst>
              <a:gd name="textAreaLeft" fmla="*/ 0 w 73080"/>
              <a:gd name="textAreaRight" fmla="*/ 73440 w 73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4" h="31">
                <a:moveTo>
                  <a:pt x="24" y="0"/>
                </a:moveTo>
                <a:lnTo>
                  <a:pt x="37" y="6"/>
                </a:lnTo>
                <a:lnTo>
                  <a:pt x="44" y="16"/>
                </a:lnTo>
                <a:lnTo>
                  <a:pt x="54" y="31"/>
                </a:lnTo>
                <a:lnTo>
                  <a:pt x="0" y="19"/>
                </a:lnTo>
                <a:lnTo>
                  <a:pt x="0" y="19"/>
                </a:lnTo>
                <a:lnTo>
                  <a:pt x="20" y="4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76640" y="2436840"/>
            <a:ext cx="998640" cy="638280"/>
          </a:xfrm>
          <a:custGeom>
            <a:avLst/>
            <a:gdLst>
              <a:gd name="textAreaLeft" fmla="*/ 0 w 998640"/>
              <a:gd name="textAreaRight" fmla="*/ 999000 w 998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735" h="441">
                <a:moveTo>
                  <a:pt x="38" y="408"/>
                </a:moveTo>
                <a:cubicBezTo>
                  <a:pt x="38" y="408"/>
                  <a:pt x="38" y="408"/>
                  <a:pt x="38" y="408"/>
                </a:cubicBezTo>
                <a:cubicBezTo>
                  <a:pt x="261" y="427"/>
                  <a:pt x="261" y="427"/>
                  <a:pt x="261" y="427"/>
                </a:cubicBezTo>
                <a:cubicBezTo>
                  <a:pt x="321" y="429"/>
                  <a:pt x="321" y="429"/>
                  <a:pt x="321" y="429"/>
                </a:cubicBezTo>
                <a:cubicBezTo>
                  <a:pt x="429" y="441"/>
                  <a:pt x="429" y="441"/>
                  <a:pt x="429" y="441"/>
                </a:cubicBezTo>
                <a:cubicBezTo>
                  <a:pt x="448" y="439"/>
                  <a:pt x="448" y="439"/>
                  <a:pt x="448" y="439"/>
                </a:cubicBezTo>
                <a:cubicBezTo>
                  <a:pt x="463" y="439"/>
                  <a:pt x="463" y="439"/>
                  <a:pt x="463" y="439"/>
                </a:cubicBezTo>
                <a:cubicBezTo>
                  <a:pt x="471" y="439"/>
                  <a:pt x="471" y="439"/>
                  <a:pt x="471" y="439"/>
                </a:cubicBezTo>
                <a:cubicBezTo>
                  <a:pt x="572" y="332"/>
                  <a:pt x="572" y="332"/>
                  <a:pt x="572" y="332"/>
                </a:cubicBezTo>
                <a:cubicBezTo>
                  <a:pt x="619" y="258"/>
                  <a:pt x="619" y="258"/>
                  <a:pt x="619" y="258"/>
                </a:cubicBezTo>
                <a:cubicBezTo>
                  <a:pt x="659" y="218"/>
                  <a:pt x="659" y="218"/>
                  <a:pt x="659" y="218"/>
                </a:cubicBezTo>
                <a:cubicBezTo>
                  <a:pt x="715" y="137"/>
                  <a:pt x="715" y="137"/>
                  <a:pt x="715" y="137"/>
                </a:cubicBezTo>
                <a:cubicBezTo>
                  <a:pt x="735" y="97"/>
                  <a:pt x="735" y="97"/>
                  <a:pt x="735" y="97"/>
                </a:cubicBezTo>
                <a:cubicBezTo>
                  <a:pt x="726" y="37"/>
                  <a:pt x="726" y="37"/>
                  <a:pt x="726" y="37"/>
                </a:cubicBezTo>
                <a:cubicBezTo>
                  <a:pt x="688" y="23"/>
                  <a:pt x="688" y="23"/>
                  <a:pt x="688" y="23"/>
                </a:cubicBezTo>
                <a:cubicBezTo>
                  <a:pt x="675" y="19"/>
                  <a:pt x="675" y="19"/>
                  <a:pt x="675" y="19"/>
                </a:cubicBezTo>
                <a:cubicBezTo>
                  <a:pt x="548" y="12"/>
                  <a:pt x="548" y="12"/>
                  <a:pt x="548" y="12"/>
                </a:cubicBezTo>
                <a:cubicBezTo>
                  <a:pt x="487" y="11"/>
                  <a:pt x="487" y="11"/>
                  <a:pt x="487" y="11"/>
                </a:cubicBezTo>
                <a:cubicBezTo>
                  <a:pt x="403" y="5"/>
                  <a:pt x="403" y="5"/>
                  <a:pt x="403" y="5"/>
                </a:cubicBezTo>
                <a:cubicBezTo>
                  <a:pt x="363" y="3"/>
                  <a:pt x="363" y="3"/>
                  <a:pt x="363" y="3"/>
                </a:cubicBezTo>
                <a:cubicBezTo>
                  <a:pt x="328" y="0"/>
                  <a:pt x="328" y="0"/>
                  <a:pt x="328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15" y="21"/>
                  <a:pt x="215" y="21"/>
                  <a:pt x="215" y="21"/>
                </a:cubicBezTo>
                <a:cubicBezTo>
                  <a:pt x="193" y="55"/>
                  <a:pt x="193" y="55"/>
                  <a:pt x="193" y="55"/>
                </a:cubicBezTo>
                <a:cubicBezTo>
                  <a:pt x="187" y="62"/>
                  <a:pt x="187" y="62"/>
                  <a:pt x="187" y="62"/>
                </a:cubicBezTo>
                <a:cubicBezTo>
                  <a:pt x="134" y="136"/>
                  <a:pt x="134" y="136"/>
                  <a:pt x="134" y="136"/>
                </a:cubicBezTo>
                <a:cubicBezTo>
                  <a:pt x="75" y="199"/>
                  <a:pt x="75" y="199"/>
                  <a:pt x="75" y="199"/>
                </a:cubicBezTo>
                <a:cubicBezTo>
                  <a:pt x="24" y="270"/>
                  <a:pt x="24" y="270"/>
                  <a:pt x="24" y="270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43"/>
                  <a:pt x="0" y="343"/>
                  <a:pt x="0" y="343"/>
                </a:cubicBezTo>
                <a:cubicBezTo>
                  <a:pt x="0" y="367"/>
                  <a:pt x="0" y="367"/>
                  <a:pt x="0" y="367"/>
                </a:cubicBezTo>
                <a:cubicBezTo>
                  <a:pt x="3" y="410"/>
                  <a:pt x="3" y="410"/>
                  <a:pt x="3" y="410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38" y="408"/>
                  <a:pt x="38" y="408"/>
                  <a:pt x="38" y="408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38" y="408"/>
                  <a:pt x="38" y="408"/>
                  <a:pt x="38" y="408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38" y="408"/>
                  <a:pt x="38" y="408"/>
                  <a:pt x="38" y="408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38" y="408"/>
                  <a:pt x="38" y="408"/>
                  <a:pt x="38" y="408"/>
                </a:cubicBezTo>
                <a:close/>
              </a:path>
            </a:pathLst>
          </a:custGeom>
          <a:solidFill>
            <a:srgbClr val="dcdc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91160" y="2575080"/>
            <a:ext cx="125280" cy="234720"/>
          </a:xfrm>
          <a:custGeom>
            <a:avLst/>
            <a:gdLst>
              <a:gd name="textAreaLeft" fmla="*/ 0 w 125280"/>
              <a:gd name="textAreaRight" fmla="*/ 125640 w 1252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93" h="162">
                <a:moveTo>
                  <a:pt x="0" y="162"/>
                </a:moveTo>
                <a:lnTo>
                  <a:pt x="12" y="133"/>
                </a:lnTo>
                <a:lnTo>
                  <a:pt x="35" y="115"/>
                </a:lnTo>
                <a:lnTo>
                  <a:pt x="54" y="78"/>
                </a:lnTo>
                <a:lnTo>
                  <a:pt x="74" y="45"/>
                </a:lnTo>
                <a:lnTo>
                  <a:pt x="92" y="5"/>
                </a:lnTo>
                <a:lnTo>
                  <a:pt x="9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07000" y="2494080"/>
            <a:ext cx="357120" cy="546120"/>
          </a:xfrm>
          <a:custGeom>
            <a:avLst/>
            <a:gdLst>
              <a:gd name="textAreaLeft" fmla="*/ 0 w 357120"/>
              <a:gd name="textAreaRight" fmla="*/ 357480 w 3571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63" h="377">
                <a:moveTo>
                  <a:pt x="180" y="99"/>
                </a:moveTo>
                <a:cubicBezTo>
                  <a:pt x="180" y="99"/>
                  <a:pt x="180" y="99"/>
                  <a:pt x="180" y="9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08" y="186"/>
                  <a:pt x="108" y="186"/>
                  <a:pt x="108" y="186"/>
                </a:cubicBezTo>
                <a:cubicBezTo>
                  <a:pt x="39" y="267"/>
                  <a:pt x="39" y="267"/>
                  <a:pt x="39" y="267"/>
                </a:cubicBezTo>
                <a:cubicBezTo>
                  <a:pt x="12" y="295"/>
                  <a:pt x="12" y="295"/>
                  <a:pt x="12" y="295"/>
                </a:cubicBezTo>
                <a:cubicBezTo>
                  <a:pt x="5" y="296"/>
                  <a:pt x="5" y="296"/>
                  <a:pt x="5" y="296"/>
                </a:cubicBezTo>
                <a:cubicBezTo>
                  <a:pt x="5" y="296"/>
                  <a:pt x="0" y="370"/>
                  <a:pt x="13" y="372"/>
                </a:cubicBezTo>
                <a:cubicBezTo>
                  <a:pt x="29" y="377"/>
                  <a:pt x="58" y="334"/>
                  <a:pt x="71" y="322"/>
                </a:cubicBezTo>
                <a:cubicBezTo>
                  <a:pt x="78" y="308"/>
                  <a:pt x="102" y="292"/>
                  <a:pt x="113" y="284"/>
                </a:cubicBezTo>
                <a:cubicBezTo>
                  <a:pt x="115" y="271"/>
                  <a:pt x="119" y="251"/>
                  <a:pt x="124" y="247"/>
                </a:cubicBezTo>
                <a:cubicBezTo>
                  <a:pt x="140" y="230"/>
                  <a:pt x="157" y="213"/>
                  <a:pt x="168" y="202"/>
                </a:cubicBezTo>
                <a:cubicBezTo>
                  <a:pt x="184" y="184"/>
                  <a:pt x="213" y="150"/>
                  <a:pt x="224" y="138"/>
                </a:cubicBezTo>
                <a:cubicBezTo>
                  <a:pt x="229" y="130"/>
                  <a:pt x="238" y="107"/>
                  <a:pt x="248" y="99"/>
                </a:cubicBezTo>
                <a:cubicBezTo>
                  <a:pt x="251" y="92"/>
                  <a:pt x="258" y="73"/>
                  <a:pt x="258" y="66"/>
                </a:cubicBezTo>
                <a:cubicBezTo>
                  <a:pt x="262" y="61"/>
                  <a:pt x="263" y="46"/>
                  <a:pt x="263" y="34"/>
                </a:cubicBezTo>
                <a:cubicBezTo>
                  <a:pt x="263" y="26"/>
                  <a:pt x="260" y="8"/>
                  <a:pt x="253" y="3"/>
                </a:cubicBezTo>
                <a:cubicBezTo>
                  <a:pt x="251" y="0"/>
                  <a:pt x="238" y="8"/>
                  <a:pt x="238" y="10"/>
                </a:cubicBezTo>
                <a:cubicBezTo>
                  <a:pt x="237" y="11"/>
                  <a:pt x="224" y="37"/>
                  <a:pt x="224" y="37"/>
                </a:cubicBezTo>
                <a:cubicBezTo>
                  <a:pt x="224" y="37"/>
                  <a:pt x="224" y="37"/>
                  <a:pt x="224" y="37"/>
                </a:cubicBezTo>
                <a:cubicBezTo>
                  <a:pt x="227" y="32"/>
                  <a:pt x="227" y="32"/>
                  <a:pt x="227" y="32"/>
                </a:cubicBezTo>
                <a:cubicBezTo>
                  <a:pt x="224" y="37"/>
                  <a:pt x="224" y="37"/>
                  <a:pt x="224" y="37"/>
                </a:cubicBezTo>
                <a:cubicBezTo>
                  <a:pt x="227" y="32"/>
                  <a:pt x="227" y="32"/>
                  <a:pt x="227" y="32"/>
                </a:cubicBezTo>
                <a:cubicBezTo>
                  <a:pt x="224" y="37"/>
                  <a:pt x="224" y="37"/>
                  <a:pt x="224" y="37"/>
                </a:cubicBezTo>
                <a:cubicBezTo>
                  <a:pt x="227" y="32"/>
                  <a:pt x="227" y="32"/>
                  <a:pt x="227" y="32"/>
                </a:cubicBezTo>
                <a:cubicBezTo>
                  <a:pt x="224" y="37"/>
                  <a:pt x="224" y="37"/>
                  <a:pt x="224" y="37"/>
                </a:cubicBezTo>
                <a:cubicBezTo>
                  <a:pt x="227" y="32"/>
                  <a:pt x="227" y="32"/>
                  <a:pt x="227" y="32"/>
                </a:cubicBezTo>
                <a:cubicBezTo>
                  <a:pt x="224" y="37"/>
                  <a:pt x="224" y="37"/>
                  <a:pt x="224" y="37"/>
                </a:cubicBezTo>
                <a:cubicBezTo>
                  <a:pt x="197" y="70"/>
                  <a:pt x="197" y="70"/>
                  <a:pt x="197" y="7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1560" y="2887560"/>
            <a:ext cx="593640" cy="30240"/>
          </a:xfrm>
          <a:custGeom>
            <a:avLst/>
            <a:gdLst>
              <a:gd name="textAreaLeft" fmla="*/ 0 w 593640"/>
              <a:gd name="textAreaRight" fmla="*/ 594000 w 593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38" h="21">
                <a:moveTo>
                  <a:pt x="0" y="0"/>
                </a:moveTo>
                <a:lnTo>
                  <a:pt x="77" y="6"/>
                </a:lnTo>
                <a:lnTo>
                  <a:pt x="110" y="13"/>
                </a:lnTo>
                <a:lnTo>
                  <a:pt x="149" y="9"/>
                </a:lnTo>
                <a:lnTo>
                  <a:pt x="196" y="13"/>
                </a:lnTo>
                <a:lnTo>
                  <a:pt x="233" y="15"/>
                </a:lnTo>
                <a:lnTo>
                  <a:pt x="284" y="19"/>
                </a:lnTo>
                <a:lnTo>
                  <a:pt x="325" y="20"/>
                </a:lnTo>
                <a:lnTo>
                  <a:pt x="354" y="20"/>
                </a:lnTo>
                <a:lnTo>
                  <a:pt x="407" y="21"/>
                </a:lnTo>
                <a:lnTo>
                  <a:pt x="438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60760" y="2532240"/>
            <a:ext cx="343080" cy="33120"/>
          </a:xfrm>
          <a:custGeom>
            <a:avLst/>
            <a:gdLst>
              <a:gd name="textAreaLeft" fmla="*/ 0 w 343080"/>
              <a:gd name="textAreaRight" fmla="*/ 343440 w 3430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2" h="23">
                <a:moveTo>
                  <a:pt x="252" y="23"/>
                </a:moveTo>
                <a:lnTo>
                  <a:pt x="190" y="12"/>
                </a:lnTo>
                <a:lnTo>
                  <a:pt x="149" y="12"/>
                </a:lnTo>
                <a:lnTo>
                  <a:pt x="102" y="6"/>
                </a:lnTo>
                <a:lnTo>
                  <a:pt x="61" y="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14960" y="2560680"/>
            <a:ext cx="115920" cy="190440"/>
          </a:xfrm>
          <a:custGeom>
            <a:avLst/>
            <a:gdLst>
              <a:gd name="textAreaLeft" fmla="*/ 0 w 115920"/>
              <a:gd name="textAreaRight" fmla="*/ 116280 w 115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6" h="132">
                <a:moveTo>
                  <a:pt x="86" y="0"/>
                </a:moveTo>
                <a:lnTo>
                  <a:pt x="57" y="39"/>
                </a:lnTo>
                <a:lnTo>
                  <a:pt x="31" y="80"/>
                </a:lnTo>
                <a:lnTo>
                  <a:pt x="0" y="1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13160" y="2800440"/>
            <a:ext cx="362160" cy="30240"/>
          </a:xfrm>
          <a:custGeom>
            <a:avLst/>
            <a:gdLst>
              <a:gd name="textAreaLeft" fmla="*/ 0 w 362160"/>
              <a:gd name="textAreaRight" fmla="*/ 362520 w 362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6" h="20">
                <a:moveTo>
                  <a:pt x="255" y="20"/>
                </a:moveTo>
                <a:cubicBezTo>
                  <a:pt x="255" y="20"/>
                  <a:pt x="266" y="20"/>
                  <a:pt x="266" y="20"/>
                </a:cubicBezTo>
                <a:cubicBezTo>
                  <a:pt x="266" y="18"/>
                  <a:pt x="196" y="15"/>
                  <a:pt x="172" y="13"/>
                </a:cubicBezTo>
                <a:cubicBezTo>
                  <a:pt x="155" y="12"/>
                  <a:pt x="120" y="5"/>
                  <a:pt x="96" y="5"/>
                </a:cubicBezTo>
                <a:cubicBezTo>
                  <a:pt x="91" y="4"/>
                  <a:pt x="60" y="4"/>
                  <a:pt x="54" y="4"/>
                </a:cubicBezTo>
                <a:cubicBezTo>
                  <a:pt x="41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200480" y="3246480"/>
            <a:ext cx="14400" cy="43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7320" y="620640"/>
            <a:ext cx="2889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88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091440"/>
                <a:tab algn="l" pos="9487080"/>
                <a:tab algn="l" pos="9882360"/>
                <a:tab algn="l" pos="10277640"/>
                <a:tab algn="l" pos="10672920"/>
              </a:tabLst>
            </a:pPr>
            <a:r>
              <a:rPr b="0" lang="ru-RU" sz="6300" spc="-1" strike="noStrike">
                <a:solidFill>
                  <a:srgbClr val="c0c0c0"/>
                </a:solidFill>
                <a:latin typeface="Times New Roman CYR"/>
                <a:ea typeface="Arial Unicode MS"/>
              </a:rPr>
              <a:t>The End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0280" y="6249960"/>
            <a:ext cx="870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8902800"/>
                <a:tab algn="l" pos="9091440"/>
                <a:tab algn="l" pos="9487080"/>
                <a:tab algn="l" pos="9882360"/>
                <a:tab algn="l" pos="10277640"/>
                <a:tab algn="l" pos="10672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Cyr"/>
                <a:ea typeface="Arial Unicode MS"/>
              </a:rPr>
              <a:t>E-mail: cmit@email.su, ICQ: 295 36 855, Skype: st_komo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436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«Театр начинается с вешал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198900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ова К.С. Станиславского из письма к цеху гардеробщиков МХАТа от 23 янв. 193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61680" y="3717000"/>
            <a:ext cx="60649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речение приписывалось также В. И. Немировичу-Данчен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в кн.: П. А. Марков. О театре. - М., 197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596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Всё здравоохранение начинается с регистрату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рач-методист, врач-генетик А.Ш. Латып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 выступления в прениях на банкете МедСофт-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и источника и три составные части медицинской регистрату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42560" y="2205000"/>
            <a:ext cx="47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нтификация пац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213000"/>
            <a:ext cx="518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утентификация пац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4221000"/>
            <a:ext cx="554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спетчеризация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ая продукция ЛПУ – изменение состояния паци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55280" y="299736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енаправленное изменение состояния объектов в первую очередь требует регистрации как объектов, так и субъектов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2560" y="907920"/>
            <a:ext cx="7777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нтификация и аутентификация требуют организации поступления, анализа и проверок вход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8560" y="4221000"/>
            <a:ext cx="554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спетчеризация события требует диагно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8920" y="486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а варианта предполагают проведение лечебно-диагностическ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549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ий поток ЛПУ всегда начинается в регистратуре и очень часто заканчивается в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3280" y="2408400"/>
            <a:ext cx="75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состояние пациента неизбежно меняется, либо в части его определённости, либо в части его (пато)физиологических показ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87280" y="549360"/>
            <a:ext cx="67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то регистратура является распределённой и гетерогенно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989000"/>
            <a:ext cx="7056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отровые различной функциона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пределение регистрации по кабинетам ВО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чки входа пациентов в приёмном отделении стационара, поликлинике, роддоме, коммерческом отделе, клинических отделения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обые точки входа, например, санитарная ави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270828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3429000"/>
            <a:ext cx="69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5300640"/>
            <a:ext cx="69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0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приёмном отделении крупного ЛПУ име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1557360"/>
            <a:ext cx="6335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онна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аним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бинеты инструментальной диагнос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абораторная диагност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цедурные кабине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5000"/>
              </a:lnSpc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87280" y="3141720"/>
            <a:ext cx="69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149720"/>
            <a:ext cx="69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276640"/>
            <a:ext cx="755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522936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1353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20:35:26Z</dcterms:created>
  <dc:creator>Stanley Komoff</dc:creator>
  <dc:description/>
  <dc:language>en-US</dc:language>
  <cp:lastModifiedBy>Stanley Komoff</cp:lastModifiedBy>
  <dcterms:modified xsi:type="dcterms:W3CDTF">2010-04-11T20:09:27Z</dcterms:modified>
  <cp:revision>44</cp:revision>
  <dc:subject/>
  <dc:title>Медицинская регистратура – основные концепции автоматизации</dc:title>
</cp:coreProperties>
</file>