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59E9-2E81-42DB-9451-DF4D6CB3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06C7-65C7-4D2E-A730-B699C78E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0570-D09A-4BCA-98E2-BE402057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9718-EAB7-427A-9E0E-01393EED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4547-A1F4-49A8-923A-6566AB9F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BF66-98B0-4A95-A641-4530A203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C103-51BF-4A02-B1EA-10BFAF74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486C-579A-4321-99BD-49F0452A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4D64-39F2-4469-959B-B9FBE269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EE0D-E95B-4A2B-B85A-55B8774A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B550-35E4-4FBA-A34D-752B39E3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BDC9-A3E1-4D0C-A3BC-F80A6BE8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99D8-CC8F-4A54-8FBE-AD3B28AB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3781-357E-47D1-9EF0-2F92FC9B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582F-2FC6-456D-826F-243D55DD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75AE-395E-4ADA-B311-F23AE3E4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D211-E1B7-4328-ABD0-164F3132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62734-891F-4ECF-9851-83972C86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70F89-A5FD-4C1A-863B-E18D5E78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D9A32-75D2-453F-9D1B-02862AAB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51F3B-8D38-4893-A405-AF93137A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9A090-765E-404E-83B9-A4B7B9C7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9ADA-04AC-4966-986D-290F0AD7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51EBA-2EE0-4497-B207-E0C98EB6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EB054-98A6-4A90-AC09-0CB009B4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2E6F8-C193-4A72-8611-25F288A4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E26D3-DEC1-43A6-9100-68B8A5AF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1A5CA-5A70-4AEE-9383-451DC1BB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999AF-F937-4E64-8431-279A72A9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2CAC5-8209-4859-92B6-97D4885F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C24CA-CE05-43EA-8E8A-D6F503E0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E4336-A24A-4C6E-A0CC-B9B51815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C1DCE-1C59-4F6D-BC7E-644F2FF7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9347-7934-4A7A-A9C4-25DC646F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86FF4-52D6-4CD7-AA0A-E78D47DD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C2918-63C3-416E-9861-F6F09FEF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6A57B-95E0-44BB-8DE6-043352B6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C4CD1-169C-4C00-9E3B-E373F321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34F88-5E45-4D31-B249-492E029B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A82C1-0948-4247-B9B4-EC194BB8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E617B-9D60-464C-81F8-DB9A1156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9B164-A2F0-4E75-AF3C-43706186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15125-DC79-4D0C-8DC1-3A10D2A9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6555-F95F-4B5E-AEEC-D9234715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54D3-8D53-4CD3-BC96-B21A80D2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5EBA-8455-4416-9B11-D8BB8205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8A1A-1D79-4301-AD42-1971E66A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4D5F-3772-40C8-9D61-F0939F74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14E5-1FA3-4F62-94A6-97049287C9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8D11-76C7-4C03-97EE-0337D3A9EF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3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5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7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5DD9-8F5C-4239-913E-023D2E10400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2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2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4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6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7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BD6A-D7D4-4D47-9A6A-6D161C9A6DE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нформатизация 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оссийского здравоохранения 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 комментариями: 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 Крылова до Высоцкого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Москва.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edSoft-2010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.  Москва. 14 апреля 2010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52280" y="472392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хаил Эльян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идент АРМИТ, к.т.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99) 200-10-6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info@armit.ru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ww.armit.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труктура парка компьютерных систем ЛПУ(в %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76560" y="604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051840" y="56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64960" y="982800"/>
          <a:ext cx="8562960" cy="57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" y="982800"/>
                    <a:ext cx="856296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179280" y="836640"/>
          <a:ext cx="896472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896472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труктура парка компьютерных систем ЛПУ(в шт.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76560" y="604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051840" y="56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аким образом: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К используется в качестве пишущих машинок или не используется вообще (большинство их этих ПК 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ntium III, IV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. </a:t>
            </a:r>
            <a:r>
              <a:rPr b="0" lang="ru-RU" sz="3200" spc="-1" strike="noStrike">
                <a:solidFill>
                  <a:srgbClr val="cccc00"/>
                </a:solidFill>
                <a:latin typeface="Times New Roman"/>
              </a:rPr>
              <a:t>Это почти в 4 (!) раза больше числа медицинских АРМ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долю менее 8% персонала приходится более 80% вычислительных ресурсов ЛП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78920" y="764640"/>
            <a:ext cx="8713800" cy="28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cecff"/>
                </a:solidFill>
                <a:latin typeface="Arial"/>
              </a:rPr>
              <a:t>«Однажды Лебедь, Рак, да Щука…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8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И.А.Крыл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7138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временное состояние парка компьютерных систем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оминает конструктор ЛЕГО: огромное число разработанных модулей - компьютерных систем для всего спектра медицинских применений, имеющих сходную архитектур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отличие от ЛЕГО: отсутствует стандартизированная система сопряжения модул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277560"/>
            <a:ext cx="8893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ост числа МИС,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едставленных в каталоге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199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9280" y="1557360"/>
          <a:ext cx="8713800" cy="5300640"/>
        </p:xfrm>
        <a:graphic>
          <a:graphicData uri="http://schemas.openxmlformats.org/drawingml/2006/table">
            <a:tbl>
              <a:tblPr/>
              <a:tblGrid>
                <a:gridCol w="1474920"/>
                <a:gridCol w="2698560"/>
                <a:gridCol w="2019600"/>
                <a:gridCol w="2520720"/>
              </a:tblGrid>
              <a:tr h="121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 систем в каталог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.ч.  МИ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С в %% от общего числа систе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3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.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.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.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«Если бы губы Никанора Ивановича да приставить к носу Ивана Кузьмича, да взять сколько‑нибудь развязности, какая у Балтазара Балтазарыча …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»</a:t>
            </a:r>
            <a:br>
              <a:rPr sz="48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250560" y="4581000"/>
            <a:ext cx="87138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иколай Гоголь, «Женитьб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-5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856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крытое письмо в МЗСР по поводу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крытого конкурса на право заключения гос.  контракта на выполнение работ по разработке комплекса прикладных программ типовой информационной системы льготного лекарственного обеспечения граждан РФ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ос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специалистов в сфере здравоохранения «Как Вы оцениваете деятельность Департамента информатизации?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крытое письмо в МЗСР по результатам этого опро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а письма остались без отв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«Где деньги, Зин?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899640" y="2707920"/>
            <a:ext cx="7993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Владимир Высоцк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78920" y="277560"/>
            <a:ext cx="871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Финансирование ИК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2009 г. Минздравсоцразвития провел конкурсов по тематике «ИКТ для здравоохранения» на общую сумму чуть менее 400 млн. ру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курсы проводятся в условиях отсутствия концепции развития ИКТ для здравоохран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матика многих конкурсов вызывает удивление (мягко говоря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Выбор»  победителей – еще большее удив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лый бизнес оттирается от участия в конкурсах административными метод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84960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зиция Президента России по созданию информационного общест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23640" y="2997360"/>
            <a:ext cx="8569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ебование преодоления разрыва с развитыми стран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здание межведомственной рабочей группы по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здравоохранен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держка малого бизн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риентация на инновационную экономик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«Поспорят, пошумят и разойдутся</a:t>
            </a:r>
            <a:br>
              <a:rPr sz="4000"/>
            </a:b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Прямые канцлеры в отставке по уму!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900000" y="2707920"/>
            <a:ext cx="7344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Александр Грибоед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8920" y="277560"/>
            <a:ext cx="87138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офессиональное сообществ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56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общен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способно объединяться для решения общих зада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ощущает себя реальной сил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имеет четкой программы действ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84960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ирмы-экспоненты недовольны низким числом посетителей, но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23640" y="3284640"/>
            <a:ext cx="8569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и ничего по привлечению посетителей не делаю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70 фирм-экспонентов привлекли на выставку 44 посетителя (0.6 чел. на одну фирму)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842472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 5 лет анкетирования на лучший доклад на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Soft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ИКТО (!) не поинтересовался рейтингом доклада: ни докладчик, ни фирма, которую он представля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здано 13 рабочих групп АРМИ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лая книга «ИКТ в здравоохранении России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нцепция развития ИКТ в здравоохранен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конодательство в сфере ИКТ для здравоохран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андартизация и информационная совместим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разование в сфере медицинских ИКТ. ИКТ в дистанционном образован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ука. Защита диссертац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ниторинг литературы и СМ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КТ в регионах. Взаимодействие с МИАЦ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ниторинг конкурсов, тендеров и т.д. проводимых в сфере ИКТ для здравоохран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служивание компьютерных систем в ЛПУ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служба ЛП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дицинские ИКТ и закон о персональных данны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кономика медицинских ИК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КТ для лечебно-диагностического процес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84960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езультат из работы – ноль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23640" y="3284640"/>
            <a:ext cx="8569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84960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онцепция информатизации здравоохранения Росси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3640" y="3284640"/>
            <a:ext cx="8569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Благодарю за внимание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Желающие принять участие в мероприятиях Ассоциации и (или) регулярно получать информацию о событиях в мире медицинских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IT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– обращайтесь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52280" y="3789360"/>
            <a:ext cx="87631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хаил Эльян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идент Ассоциации Развития Медицински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формационных Технологий (АРМИТ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99) 200-10-6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info@armit.ru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ww.armit.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8920" y="980640"/>
            <a:ext cx="8713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cecff"/>
                </a:solidFill>
                <a:latin typeface="Arial"/>
              </a:rPr>
              <a:t>«И веселою гурьбой звери ринулися в бой»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79280" y="4005360"/>
            <a:ext cx="8785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Корней Чуковски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MedSoft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самая большая специализированная выставк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0" y="1638360"/>
          <a:ext cx="899316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38360"/>
                    <a:ext cx="899316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исло членов АРМИ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395280" y="1077840"/>
          <a:ext cx="8280360" cy="564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077840"/>
                    <a:ext cx="8280360" cy="56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78920" y="1828800"/>
            <a:ext cx="87138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cecff"/>
                </a:solidFill>
                <a:latin typeface="Arial"/>
              </a:rPr>
              <a:t>«У победы - сто отцов</a:t>
            </a:r>
            <a:br>
              <a:rPr sz="4800"/>
            </a:br>
            <a:r>
              <a:rPr b="0" i="1" lang="ru-RU" sz="4800" spc="-1" strike="noStrike">
                <a:solidFill>
                  <a:srgbClr val="ccecff"/>
                </a:solidFill>
                <a:latin typeface="Arial"/>
              </a:rPr>
              <a:t>Поражение - всегда сирота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8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Джон Ф. Кеннед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ы стоим перед альтернативой -   цели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IT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в здравоохранении:</a:t>
            </a:r>
            <a:br>
              <a:rPr sz="40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Сценарий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1                    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Сценарий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6432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лавная цель: информати-зация статистики и системы взаиморасче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пьютеры – «кассовые аппараты»,  калькуляторы и пишущие машин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очечная компью-теризация на усмотрение руководител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минирование бумажных носител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427280" y="1557000"/>
            <a:ext cx="471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Главная цель: сокращение числа врачебных и управленческих ошиб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Анализ эффективности (в т.ч. финансовой) проводимых мероприятий (напр., диспансеризации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ереход к статистике, основанной на анализе искл. первичных да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ереход к ЭДО и ведению ЭИ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3040" y="409680"/>
            <a:ext cx="75106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0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-й выпуск Каталог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424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93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омпьютерных сист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8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фирм-разработчи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2 разделов, более 100 рубри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80%-90% рынка российских компьютерных сист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регионов Росс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5210280" y="1731960"/>
            <a:ext cx="3249360" cy="45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Постоянное сокращение числа фирм – разработчиков компьютерных систем (по данным каталога «Медицинские информационные технологии»)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0" y="2708280"/>
          <a:ext cx="9036000" cy="4443480"/>
        </p:xfrm>
        <a:graphic>
          <a:graphicData uri="http://schemas.openxmlformats.org/drawingml/2006/table">
            <a:tbl>
              <a:tblPr/>
              <a:tblGrid>
                <a:gridCol w="2313000"/>
                <a:gridCol w="865080"/>
                <a:gridCol w="819360"/>
                <a:gridCol w="790560"/>
                <a:gridCol w="917640"/>
                <a:gridCol w="820440"/>
                <a:gridCol w="820800"/>
                <a:gridCol w="897120"/>
                <a:gridCol w="792000"/>
              </a:tblGrid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Число фир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бавлено в каталог за 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ключено из каталога за 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eec94"/>
                          </a:solidFill>
                          <a:latin typeface="Times New Roman"/>
                          <a:ea typeface="Times New Roman"/>
                        </a:rPr>
                        <a:t>Всего фир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eec94"/>
                          </a:solidFill>
                          <a:latin typeface="Times New Roman"/>
                          <a:ea typeface="Times New Roman"/>
                        </a:rPr>
                        <a:t>4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eec94"/>
                          </a:solidFill>
                          <a:latin typeface="Times New Roman"/>
                          <a:ea typeface="Times New Roman"/>
                        </a:rPr>
                        <a:t>3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eec94"/>
                          </a:solidFill>
                          <a:latin typeface="Times New Roman"/>
                          <a:ea typeface="Times New Roman"/>
                        </a:rPr>
                        <a:t>34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eec94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eec94"/>
                          </a:solidFill>
                          <a:latin typeface="Times New Roman"/>
                          <a:ea typeface="Arial"/>
                        </a:rPr>
                        <a:t>2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eec94"/>
                          </a:solidFill>
                          <a:latin typeface="Times New Roman"/>
                          <a:ea typeface="Arial"/>
                        </a:rPr>
                        <a:t>2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eec94"/>
                          </a:solidFill>
                          <a:latin typeface="Times New Roman"/>
                          <a:ea typeface="Arial"/>
                        </a:rPr>
                        <a:t>28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eec94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eec94"/>
                          </a:solidFill>
                          <a:latin typeface="Times New Roman"/>
                          <a:ea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sha</cp:lastModifiedBy>
  <dcterms:modified xsi:type="dcterms:W3CDTF">2010-04-14T04:21:17Z</dcterms:modified>
  <cp:revision>454</cp:revision>
  <dc:subject/>
  <dc:title>PowerPoint Presentation</dc:title>
</cp:coreProperties>
</file>