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13D-CC63-4DB2-8082-000DE9EE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BB0-9ABF-4302-8D27-9AE38E78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84B-75EC-4A27-8EA7-BC0571E6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5CF-5E48-4727-A623-C8F55E79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8F5-95B5-4296-9CAC-554BD39B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AD15-C03D-4FC5-9037-97F1DCDAA2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5B7E-A72D-4B06-B0DF-83935443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F7B1-B48C-43C0-9AB5-0D66529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4E2D-ECBE-43D4-978F-6EF14A67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02A-51C9-40AA-AEDD-86AF75C0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377-482B-48D1-976A-F003336B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BF92-1C07-4CD5-A544-3E18B401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1796-0EB7-44A1-959C-A7B1194B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2215-6906-487C-ACE0-283B6DDE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AF1C-BF8A-4FCD-A684-0991C953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2451-34EF-4010-AC4C-13820DF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5F8C-0B7A-44F2-BC09-FDF66B9C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5D02-5F3F-4612-B2E7-8C8FB373D6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888D-F820-4020-BDE4-90985571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C6C5-2881-4205-9285-0CB8F16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CA62-034F-4366-938B-63FB6B7E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34B-9A7A-4D75-95C2-A9D2CF1A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0BBF-71CF-47B3-9961-8BB4810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DBCC6-0A8A-48C6-A483-35271597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8AE0-F464-4E7D-BBCF-801B31E2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DFFA-3164-44C0-9FBE-4606F957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14F5C-B201-4207-8F09-EE5125EE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0AED-BCD1-41FD-AA5E-2D0ED30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58C7-9E9A-48B4-9391-C71F728F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07E18-5D00-4EDE-B5DD-CA36FBE5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A4F5-9D7B-4F02-9DDA-3963EB76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CCDF6-DE28-4FFF-91DB-F2833B71AD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079-7CE2-42AA-810B-76358B35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DCF6E-059E-450B-B9D0-A6EFC0AB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91EAA-67D0-49E2-AED4-BDF9E0BF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A6FA6-914B-408A-BFFA-BEDEFE7E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15DF5-87D6-496E-98C1-CF3A21EF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61EF7-C621-4C77-9102-38CD6D21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FE2F1-58A3-40C0-852A-F6CE1FA6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CA53A-C933-4C50-A1E4-3C6C8AC5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B1808-08F5-49A0-829D-1C70A922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F9876-A564-47B6-8347-958A00AE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FBF107-787F-4AA5-ADC0-2D03158B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CFF-72DD-45EE-B24C-84E5FFA5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371B4-44A7-4156-BABC-E1C0D4D8F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180E92-03D8-4F92-8537-EB58BB2E7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4C7D1B-85C4-4F89-87A6-6DD0F6D2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F7F0D7-24E0-496A-AAF9-24C2BB3B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BC212-7E4B-4C48-B7FA-CF97C5C1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9011E5-CA32-460F-8491-DC0B6007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807B91-4E9A-4662-8E4E-14E54FE2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BC461C-BE1B-4E59-9A62-D11ACB2E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B35CC-1CD0-4378-8638-A62B4418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A822E8-FAAE-4904-9DB9-C228453E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C77-9C96-42A0-8551-723982B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9B5D22-9D61-4AEC-BC7E-4C919286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2F6F1-09DA-4EB3-BAFC-8DAA1C7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08C799-913A-4C97-8C2F-34D72600A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21D-1A29-4007-A3D0-E7EF620B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ECB4A-1E93-42BF-95B5-4CCAAFCB87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E1C94-C1D0-4B7C-B3B3-1247F9A9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105B-B6A6-475D-ADF2-64CF7719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CBB21-8459-4221-AB83-6CCC63F9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3394D-20F5-45A6-978C-E13ECEDF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4F9-D560-4B9E-8472-5C98CCA9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2D40-F21A-43CB-9EFA-533D7D08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AFE2D-3726-40BE-9E9B-2ABD0C78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7E8E7-6BC0-401E-AB0A-3E9CA2B6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7F040-E6FA-4C05-8EF9-3D84E3F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1D2BD-B8C7-4B15-8409-B827482C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5A2D7-847C-40CA-B6D8-0F3E5A2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3AA5-2D3C-4CD9-A7FE-72896B32E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B57C-E0DB-4A5A-942E-95B7DE904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MEDIALOG_LOGO_1STRIPE_DOWN.jpg"/>
          <p:cNvPicPr/>
          <p:nvPr/>
        </p:nvPicPr>
        <p:blipFill>
          <a:blip r:embed="rId2"/>
          <a:stretch/>
        </p:blipFill>
        <p:spPr>
          <a:xfrm>
            <a:off x="785880" y="571680"/>
            <a:ext cx="3117960" cy="71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6215040" y="6215040"/>
            <a:ext cx="2390760" cy="361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968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9360" y="5915160"/>
            <a:ext cx="915336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logo.png"/>
          <p:cNvPicPr/>
          <p:nvPr/>
        </p:nvPicPr>
        <p:blipFill>
          <a:blip r:embed="rId3"/>
          <a:stretch/>
        </p:blipFill>
        <p:spPr>
          <a:xfrm>
            <a:off x="5429160" y="571680"/>
            <a:ext cx="3332160" cy="590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MEDIALOG_LOGO_ONLY.png"/>
          <p:cNvPicPr/>
          <p:nvPr/>
        </p:nvPicPr>
        <p:blipFill>
          <a:blip r:embed="rId4"/>
          <a:stretch/>
        </p:blipFill>
        <p:spPr>
          <a:xfrm>
            <a:off x="428760" y="6215040"/>
            <a:ext cx="428400" cy="428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1643040" y="62866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349992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62D-CE63-4A12-ADB9-227708231E4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B518-7864-407F-B267-EF48E9260FA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-9360" y="5915160"/>
            <a:ext cx="9153360" cy="942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MEDIALOG_LOGO_1STRIPE_DOWN.jpg"/>
          <p:cNvPicPr/>
          <p:nvPr/>
        </p:nvPicPr>
        <p:blipFill>
          <a:blip r:embed="rId3"/>
          <a:stretch/>
        </p:blipFill>
        <p:spPr>
          <a:xfrm>
            <a:off x="5572080" y="428760"/>
            <a:ext cx="3117960" cy="7142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35676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349992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8C9B-5CD3-4D30-81AF-E79E08B67BE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-9360" y="5915160"/>
            <a:ext cx="9153360" cy="9428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MEDIALOG_LOGO_1STRIPE_DOWN.jpg"/>
          <p:cNvPicPr/>
          <p:nvPr/>
        </p:nvPicPr>
        <p:blipFill>
          <a:blip r:embed="rId3"/>
          <a:stretch/>
        </p:blipFill>
        <p:spPr>
          <a:xfrm>
            <a:off x="5572080" y="428760"/>
            <a:ext cx="3117960" cy="714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2"/>
          </p:nvPr>
        </p:nvSpPr>
        <p:spPr>
          <a:xfrm>
            <a:off x="42876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3"/>
          </p:nvPr>
        </p:nvSpPr>
        <p:spPr>
          <a:xfrm>
            <a:off x="335772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FB97-6E23-4FF8-ACC6-7C9825156D1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7" descr="MEDIALOG_LOGO_1STRIPE_DOWN.jpg"/>
          <p:cNvPicPr/>
          <p:nvPr/>
        </p:nvPicPr>
        <p:blipFill>
          <a:blip r:embed="rId2"/>
          <a:stretch/>
        </p:blipFill>
        <p:spPr>
          <a:xfrm>
            <a:off x="428760" y="357120"/>
            <a:ext cx="3117600" cy="714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3"/>
          <a:stretch/>
        </p:blipFill>
        <p:spPr>
          <a:xfrm>
            <a:off x="3357720" y="6286680"/>
            <a:ext cx="2390760" cy="3618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8" descr="logo.png"/>
          <p:cNvPicPr/>
          <p:nvPr/>
        </p:nvPicPr>
        <p:blipFill>
          <a:blip r:embed="rId4"/>
          <a:stretch/>
        </p:blipFill>
        <p:spPr>
          <a:xfrm>
            <a:off x="5143680" y="357120"/>
            <a:ext cx="3571560" cy="63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-9360" y="5915160"/>
            <a:ext cx="9153360" cy="94284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7" descr="MEDIALOG_LOGO_1STRIPE_DOWN.jpg"/>
          <p:cNvPicPr/>
          <p:nvPr/>
        </p:nvPicPr>
        <p:blipFill>
          <a:blip r:embed="rId3"/>
          <a:stretch/>
        </p:blipFill>
        <p:spPr>
          <a:xfrm>
            <a:off x="5572080" y="428760"/>
            <a:ext cx="3117960" cy="714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4"/>
          </p:nvPr>
        </p:nvSpPr>
        <p:spPr>
          <a:xfrm>
            <a:off x="42876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3357720" y="62866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4810-D5F9-4720-A670-73B6D1DACE5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2928600" y="421488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  <a:ea typeface="Arial"/>
              </a:rPr>
              <a:t>Краткий обзор функциональных возможностей порт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5" descr="C:\Documents and Settings\boreyko\Рабочий стол\logo.png"/>
          <p:cNvPicPr/>
          <p:nvPr/>
        </p:nvPicPr>
        <p:blipFill>
          <a:blip r:embed="rId1"/>
          <a:stretch/>
        </p:blipFill>
        <p:spPr>
          <a:xfrm>
            <a:off x="785880" y="2428920"/>
            <a:ext cx="7619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77080" cy="4375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:</a:t>
            </a:r>
            <a:br>
              <a:rPr sz="36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запись на прием (2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оугольник 5"/>
          <p:cNvSpPr/>
          <p:nvPr/>
        </p:nvSpPr>
        <p:spPr>
          <a:xfrm>
            <a:off x="2124000" y="2781360"/>
            <a:ext cx="6193080" cy="286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Выбор времени при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и специа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:</a:t>
            </a:r>
            <a:br>
              <a:rPr sz="36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список приемо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C:\Documents and Settings\boreyko\Мои документы\Post Modern Technology\MOBIMED.RU\MOBIMED.RU (screenshots)\04-reception(list).JPG"/>
          <p:cNvPicPr/>
          <p:nvPr/>
        </p:nvPicPr>
        <p:blipFill>
          <a:blip r:embed="rId1"/>
          <a:stretch/>
        </p:blipFill>
        <p:spPr>
          <a:xfrm>
            <a:off x="428760" y="1785960"/>
            <a:ext cx="8429400" cy="3909960"/>
          </a:xfrm>
          <a:prstGeom prst="rect">
            <a:avLst/>
          </a:prstGeom>
          <a:ln w="0">
            <a:noFill/>
          </a:ln>
        </p:spPr>
      </p:pic>
      <p:sp>
        <p:nvSpPr>
          <p:cNvPr id="365" name="Скругленный прямоугольник 3"/>
          <p:cNvSpPr/>
          <p:nvPr/>
        </p:nvSpPr>
        <p:spPr>
          <a:xfrm>
            <a:off x="7215120" y="2428920"/>
            <a:ext cx="1714680" cy="2928960"/>
          </a:xfrm>
          <a:custGeom>
            <a:avLst/>
            <a:gdLst>
              <a:gd name="textAreaLeft" fmla="*/ 83520 w 1714680"/>
              <a:gd name="textAreaRight" fmla="*/ 1631160 w 1714680"/>
              <a:gd name="textAreaTop" fmla="*/ 83520 h 2928960"/>
              <a:gd name="textAreaBottom" fmla="*/ 2845440 h 2928960"/>
            </a:gdLst>
            <a:ahLst/>
            <a:rect l="textAreaLeft" t="textAreaTop" r="textAreaRight" b="textAreaBottom"/>
            <a:pathLst>
              <a:path w="21600" h="36893">
                <a:moveTo>
                  <a:pt x="3600" y="0"/>
                </a:moveTo>
                <a:arcTo wR="3600" hR="3600" stAng="16200000" swAng="-5400000"/>
                <a:lnTo>
                  <a:pt x="0" y="33293"/>
                </a:lnTo>
                <a:arcTo wR="3600" hR="3600" stAng="10800000" swAng="-5400000"/>
                <a:lnTo>
                  <a:pt x="18000" y="368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Возможность от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при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:</a:t>
            </a:r>
            <a:br>
              <a:rPr sz="36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заказ лекарст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2" descr="C:\Documents and Settings\boreyko\Мои документы\Post Modern Technology\MOBIMED.RU\MOBIMED.RU (screenshots)\10-drugs.JPG"/>
          <p:cNvPicPr/>
          <p:nvPr/>
        </p:nvPicPr>
        <p:blipFill>
          <a:blip r:embed="rId1"/>
          <a:stretch/>
        </p:blipFill>
        <p:spPr>
          <a:xfrm>
            <a:off x="1500120" y="1571760"/>
            <a:ext cx="6348600" cy="431784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5"/>
          <p:cNvSpPr/>
          <p:nvPr/>
        </p:nvSpPr>
        <p:spPr>
          <a:xfrm>
            <a:off x="3643200" y="3286080"/>
            <a:ext cx="4071960" cy="2571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Список интернет-аптек с возможностью заказа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5194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:</a:t>
            </a:r>
            <a:br>
              <a:rPr sz="36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настройка уведомлен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C:\Documents and Settings\boreyko\Мои документы\Post Modern Technology\MOBIMED.RU\MOBIMED.RU (screenshots)\06-messages.JPG"/>
          <p:cNvPicPr/>
          <p:nvPr/>
        </p:nvPicPr>
        <p:blipFill>
          <a:blip r:embed="rId1"/>
          <a:stretch/>
        </p:blipFill>
        <p:spPr>
          <a:xfrm>
            <a:off x="1357200" y="1643040"/>
            <a:ext cx="6259680" cy="42148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6"/>
          <p:cNvSpPr/>
          <p:nvPr/>
        </p:nvSpPr>
        <p:spPr>
          <a:xfrm>
            <a:off x="3143160" y="2214720"/>
            <a:ext cx="4429080" cy="3286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Настройка сообщ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о 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e-mail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или 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071440" y="4500360"/>
            <a:ext cx="4857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  <a:ea typeface="Arial"/>
              </a:rPr>
              <a:t>+7(495)780-60-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www.medialog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одзаголовок 2"/>
          <p:cNvSpPr/>
          <p:nvPr/>
        </p:nvSpPr>
        <p:spPr>
          <a:xfrm>
            <a:off x="2428920" y="2928960"/>
            <a:ext cx="42861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Arial"/>
                <a:ea typeface="Arial"/>
              </a:rPr>
              <a:t>По вопросам партнерского подключения к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  <a:ea typeface="Arial"/>
              </a:rPr>
              <a:t>MOBIMED.RU</a:t>
            </a:r>
            <a:r>
              <a:rPr b="0" lang="ru-RU" sz="2400" spc="-1" strike="noStrike">
                <a:solidFill>
                  <a:srgbClr val="898989"/>
                </a:solidFill>
                <a:latin typeface="Arial"/>
                <a:ea typeface="Arial"/>
              </a:rPr>
              <a:t> обращайтесь в коммерческий отдел компании ПМ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8400" y="333360"/>
            <a:ext cx="73119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71680" y="177336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на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BIMED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елевая аудитор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BIMED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рвис ТЕЛЕМЕДИА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ин экаунт – несколько мед. к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рвисы и возможности мобильной медицинской кар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значение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BIMED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2852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значение портал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безопасное и эффективное управление медицинскими записями, организация консультаций и лечебно-диагностических мероприятий для себя и своей семьи из любой географической точки с доступом в Интерн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елевая аудитория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BIMED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469800" y="1830240"/>
            <a:ext cx="6141960" cy="35323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000320" y="1928520"/>
            <a:ext cx="4686120" cy="38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150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левая аудитория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пациенты, которые имеют минимальные навыки использования компьютера и Интернета, заботятся о собственном здоровье и/или о здоровье членов своей семь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490068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Сервис ТЕЛЕМЕДИАЛ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57760" y="1928520"/>
            <a:ext cx="48290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лугами портала могут воспользов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циенты, исходные медицинские запи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орых ведутся в МИС МЕДИАЛОГ, 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ющее МИС лечеб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лжно быть подключено 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BIMED.R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жиме реального времени при 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рвиса ТЕЛЕМЕДИАЛ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Рисунок 3" descr="gvrach-desktop.JPG"/>
          <p:cNvPicPr/>
          <p:nvPr/>
        </p:nvPicPr>
        <p:blipFill>
          <a:blip r:embed="rId1"/>
          <a:stretch/>
        </p:blipFill>
        <p:spPr>
          <a:xfrm>
            <a:off x="428760" y="1857240"/>
            <a:ext cx="3117600" cy="24624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Documents and Settings\boreyko\Мои документы\Post Modern Technology\MOBIMED.RU\MOBIMED.RU (screenshots)\header.JPG"/>
          <p:cNvPicPr/>
          <p:nvPr/>
        </p:nvPicPr>
        <p:blipFill>
          <a:blip r:embed="rId2"/>
          <a:stretch/>
        </p:blipFill>
        <p:spPr>
          <a:xfrm>
            <a:off x="1857240" y="4643280"/>
            <a:ext cx="7034400" cy="1109880"/>
          </a:xfrm>
          <a:prstGeom prst="rect">
            <a:avLst/>
          </a:prstGeom>
          <a:ln w="0">
            <a:noFill/>
          </a:ln>
        </p:spPr>
      </p:pic>
      <p:sp>
        <p:nvSpPr>
          <p:cNvPr id="346" name="Стрелка углом 5"/>
          <p:cNvSpPr/>
          <p:nvPr/>
        </p:nvSpPr>
        <p:spPr>
          <a:xfrm flipH="1" rot="10800000">
            <a:off x="785880" y="4429080"/>
            <a:ext cx="100008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дин экаунт –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мед. кар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Рисунок 7" descr="01-many_cards.JPG"/>
          <p:cNvPicPr/>
          <p:nvPr/>
        </p:nvPicPr>
        <p:blipFill>
          <a:blip r:embed="rId1"/>
          <a:stretch/>
        </p:blipFill>
        <p:spPr>
          <a:xfrm>
            <a:off x="214200" y="1603440"/>
            <a:ext cx="8715600" cy="4174920"/>
          </a:xfrm>
          <a:prstGeom prst="rect">
            <a:avLst/>
          </a:prstGeom>
          <a:ln w="0">
            <a:noFill/>
          </a:ln>
        </p:spPr>
      </p:pic>
      <p:sp>
        <p:nvSpPr>
          <p:cNvPr id="349" name="Овал 8"/>
          <p:cNvSpPr/>
          <p:nvPr/>
        </p:nvSpPr>
        <p:spPr>
          <a:xfrm>
            <a:off x="642960" y="2500200"/>
            <a:ext cx="150012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: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ед. зап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C:\Documents and Settings\boreyko\Мои документы\Post Modern Technology\MOBIMED.RU\MOBIMED.RU (screenshots)\02-med_entries.JPG"/>
          <p:cNvPicPr/>
          <p:nvPr/>
        </p:nvPicPr>
        <p:blipFill>
          <a:blip r:embed="rId1"/>
          <a:stretch/>
        </p:blipFill>
        <p:spPr>
          <a:xfrm>
            <a:off x="285840" y="1714680"/>
            <a:ext cx="8621640" cy="411948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5"/>
          <p:cNvSpPr/>
          <p:nvPr/>
        </p:nvSpPr>
        <p:spPr>
          <a:xfrm>
            <a:off x="2000160" y="2143080"/>
            <a:ext cx="6929640" cy="3571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490068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: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персонифицированная медицинская зап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3" descr="C:\Documents and Settings\boreyko\Мои документы\Post Modern Technology\MOBIMED.RU\MOBIMED.RU (screenshots)\02-med_entries(example).JPG"/>
          <p:cNvPicPr/>
          <p:nvPr/>
        </p:nvPicPr>
        <p:blipFill>
          <a:blip r:embed="rId1"/>
          <a:stretch/>
        </p:blipFill>
        <p:spPr>
          <a:xfrm>
            <a:off x="428760" y="1611360"/>
            <a:ext cx="8331120" cy="4322880"/>
          </a:xfrm>
          <a:prstGeom prst="rect">
            <a:avLst/>
          </a:prstGeom>
          <a:ln w="0">
            <a:noFill/>
          </a:ln>
        </p:spPr>
      </p:pic>
      <p:sp>
        <p:nvSpPr>
          <p:cNvPr id="355" name="Стрелка вправо с вырезом 6"/>
          <p:cNvSpPr/>
          <p:nvPr/>
        </p:nvSpPr>
        <p:spPr>
          <a:xfrm flipH="1">
            <a:off x="3071880" y="1571760"/>
            <a:ext cx="4929120" cy="571320"/>
          </a:xfrm>
          <a:custGeom>
            <a:avLst/>
            <a:gdLst>
              <a:gd name="textAreaLeft" fmla="*/ 142560 w 4929120"/>
              <a:gd name="textAreaRight" fmla="*/ 4786560 w 492912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48" y="5400"/>
                </a:lnTo>
                <a:lnTo>
                  <a:pt x="20348" y="0"/>
                </a:lnTo>
                <a:lnTo>
                  <a:pt x="21600" y="10800"/>
                </a:lnTo>
                <a:lnTo>
                  <a:pt x="20348" y="21600"/>
                </a:lnTo>
                <a:lnTo>
                  <a:pt x="20348" y="16200"/>
                </a:lnTo>
                <a:lnTo>
                  <a:pt x="0" y="16200"/>
                </a:lnTo>
                <a:lnTo>
                  <a:pt x="62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словное наименование карты па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трелка углом 8"/>
          <p:cNvSpPr/>
          <p:nvPr/>
        </p:nvSpPr>
        <p:spPr>
          <a:xfrm rot="16200000">
            <a:off x="5726880" y="114840"/>
            <a:ext cx="642960" cy="511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 исследования и 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мя специа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00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и:</a:t>
            </a:r>
            <a:br>
              <a:rPr sz="36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запись на прием (1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C:\Documents and Settings\boreyko\Мои документы\Post Modern Technology\MOBIMED.RU\MOBIMED.RU (screenshots)\04-reception(choice).JPG"/>
          <p:cNvPicPr/>
          <p:nvPr/>
        </p:nvPicPr>
        <p:blipFill>
          <a:blip r:embed="rId1"/>
          <a:stretch/>
        </p:blipFill>
        <p:spPr>
          <a:xfrm>
            <a:off x="428760" y="1500120"/>
            <a:ext cx="8210520" cy="4417920"/>
          </a:xfrm>
          <a:prstGeom prst="rect">
            <a:avLst/>
          </a:prstGeom>
          <a:ln w="0">
            <a:noFill/>
          </a:ln>
        </p:spPr>
      </p:pic>
      <p:sp>
        <p:nvSpPr>
          <p:cNvPr id="359" name="Скругленный прямоугольник 4"/>
          <p:cNvSpPr/>
          <p:nvPr/>
        </p:nvSpPr>
        <p:spPr>
          <a:xfrm>
            <a:off x="3143160" y="3214800"/>
            <a:ext cx="5572080" cy="21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Выбор дня, клиники и и фил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3:51:22Z</dcterms:created>
  <dc:creator>Boreyko</dc:creator>
  <dc:description/>
  <dc:language>en-US</dc:language>
  <cp:lastModifiedBy>User</cp:lastModifiedBy>
  <dcterms:modified xsi:type="dcterms:W3CDTF">2010-03-15T19:07:39Z</dcterms:modified>
  <cp:revision>144</cp:revision>
  <dc:subject/>
  <dc:title>Стратегия развития системы МЕДИАЛОГ в партнерстве с компанией «Майкрософт»</dc:title>
</cp:coreProperties>
</file>