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64AD-25A0-4F6C-B593-929F62EB7D9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2D0F-4B6F-4D9A-9DFF-50F2C46B0241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60AC-74A4-466A-833E-D4E59DA819F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04C5-BF67-4400-A46E-BAB4DF951E0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B019-E1EE-473D-B7DF-BDA1D634633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1720-92E4-40BD-AFDD-2E48E5ADE01D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D45B-ABBE-48C0-8B8A-D8A2BF88E66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B281-83E7-42BD-9DD6-6F578E23A17F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7D52-3AFD-439C-890E-2CA0095A9C5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FC17-DBD8-4EA3-8264-0021A75B2726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0D4B-763B-4DD9-8907-D477E1BA1DC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AAE4-07BB-40FD-A823-DE7B53073759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81AC-545C-46A0-BFDF-00AFA6EB74C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6717-0748-43F6-974B-5E8AC57BABC5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0713-BC9D-47D3-8EED-BC5C04E28FB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19F6-D951-46F3-A0B8-0AE8B1F7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6D57-135B-4EA5-BA44-7288C224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B161-FFBD-43A8-BC17-76BE88ED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17A-1046-497E-A7F7-5CBEB579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0752-DC75-4CF5-89A5-D397EDDF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66B8-2013-407E-81DC-85B16BB0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8177-6230-41CB-AB90-94BD194E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435C-19EA-4071-9D34-CE959A50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8A10-F2A9-4FB8-A1FF-1AB45E60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4A50-3AE9-478A-8ED9-663D5BAA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2681-E252-4E28-A5AA-44B1653F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8F5C-3BB2-42CF-B8EA-BEAACEBA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2E39-2792-498B-A018-999869C6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F53B-8066-42FA-9F10-8537383F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4DDB-B229-48AA-9F62-69A6FEF1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F06C-1E71-423D-BA1E-57B2F5BE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0B62-47A5-43E6-9DE6-E39EADDB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B823F-755E-4E72-A96D-0DC81606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1FFB-1430-42CD-B65E-C920CF95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C66EC-EEB1-4408-8DC5-547706AD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C21CE-303E-40E0-8E12-30123469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0DD96-6E03-449F-98EC-934FD67B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BFB-24ED-4A10-A2E0-A3FEE6B7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A9AA2-6A3B-4FF3-98D6-51317410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ABA3D-770F-4866-A457-D82EF8DD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F5D4A-94F0-4AA5-B26A-BDCFA8D6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4B257-384B-440C-90DB-6796775F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63695-DBFA-4169-A68F-F694E989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0694B-BD3B-4A9A-B515-CBB338CE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53A35-D78F-409D-A96B-2DF9E0F1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BCC-EC24-4056-A4ED-A9F6DFB0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97CD-3346-4489-8E79-9DFEB854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5E42-70D5-4B81-A769-5EB22B24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2AAC-7ED3-430A-8132-66B7CD27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2AF0-06AA-4E2F-AA40-69E069B8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DEF6-B12E-47CA-AD30-1F2EA35D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40C1-BDB0-4D95-B9EF-F2A1CF726FC0}" type="datetime2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735F-5833-4CA4-B568-6F1F5A82DC76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FD51-7CD5-4506-B817-97DC204B6B2D}" type="datetime2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3D41-73D1-4422-9896-113601A62CDC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CAE2-289A-42F4-BC5D-4348F261D928}" type="datetime2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fb83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CDCB-593E-470E-9B18-8A754DD113B7}" type="slidenum">
              <a:rPr b="0" lang="en-US" sz="1200" spc="-1" strike="noStrike">
                <a:solidFill>
                  <a:srgbClr val="6fb83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5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5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5.wmf"/><Relationship Id="rId4" Type="http://schemas.openxmlformats.org/officeDocument/2006/relationships/hyperlink" Target="http://www.medarhiv.ru/" TargetMode="External"/><Relationship Id="rId5" Type="http://schemas.openxmlformats.org/officeDocument/2006/relationships/hyperlink" Target="http://www.medarhiv.ru/" TargetMode="External"/><Relationship Id="rId6" Type="http://schemas.openxmlformats.org/officeDocument/2006/relationships/hyperlink" Target="http://www.medarhiv.ru/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5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Rectangle 2" descr=""/>
          <p:cNvPicPr/>
          <p:nvPr/>
        </p:nvPicPr>
        <p:blipFill>
          <a:blip r:embed="rId2"/>
          <a:stretch/>
        </p:blipFill>
        <p:spPr>
          <a:xfrm>
            <a:off x="4638600" y="414360"/>
            <a:ext cx="4853160" cy="11952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457200" y="612468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932360" y="6215040"/>
            <a:ext cx="4211640" cy="571680"/>
          </a:xfrm>
          <a:prstGeom prst="rect">
            <a:avLst/>
          </a:prstGeom>
          <a:gradFill rotWithShape="0">
            <a:gsLst>
              <a:gs pos="0">
                <a:srgbClr val="c5e9fb"/>
              </a:gs>
              <a:gs pos="100000">
                <a:srgbClr val="f8f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www.medarhiv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4286160" cy="10540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7"/>
          <p:cNvSpPr/>
          <p:nvPr/>
        </p:nvSpPr>
        <p:spPr>
          <a:xfrm>
            <a:off x="214200" y="1357200"/>
            <a:ext cx="878688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Franklin Gothic Book"/>
              </a:rPr>
              <a:t>Мед</a:t>
            </a:r>
            <a:r>
              <a:rPr b="1" lang="en-US" sz="2400" spc="-1" strike="noStrike">
                <a:solidFill>
                  <a:srgbClr val="de0000"/>
                </a:solidFill>
                <a:latin typeface="Franklin Gothic Book"/>
              </a:rPr>
              <a:t>@</a:t>
            </a:r>
            <a:r>
              <a:rPr b="1" lang="ru-RU" sz="2400" spc="-1" strike="noStrike">
                <a:solidFill>
                  <a:srgbClr val="de0000"/>
                </a:solidFill>
                <a:latin typeface="Franklin Gothic Book"/>
              </a:rPr>
              <a:t>рхив</a:t>
            </a:r>
            <a:r>
              <a:rPr b="1" lang="en-US" sz="2400" spc="-1" strike="noStrike">
                <a:solidFill>
                  <a:srgbClr val="de0000"/>
                </a:solidFill>
                <a:latin typeface="Franklin Gothic Book"/>
              </a:rPr>
              <a:t> –</a:t>
            </a:r>
            <a:r>
              <a:rPr b="1" lang="ru-RU" sz="2400" spc="-1" strike="noStrike">
                <a:solidFill>
                  <a:srgbClr val="de0000"/>
                </a:solidFill>
                <a:latin typeface="Franklin Gothic Book"/>
              </a:rPr>
              <a:t>площадка для электронного взаимодействия пациентов и врач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Franklin Gothic Book"/>
              </a:rPr>
              <a:t>Мы хотим, чтобы он охватывал все виды таких взаимо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иск медучреждения и выбор врача. Просмотр и оценка представленной ими информации включая копии лицензий, сертификатов, диплом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арту; описание услуг, расценок, научные статьи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зависимы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тзывы пациентов.  (Сделано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дение расписаний врачей (Сделано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ись на прием онлайн (Сделано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зывы пациентов о врачах (Сделано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исные книжки «Мои врачи», «Мои визиты», «Мои коллеги» для врача (Сделано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лендарь и «Напоминалки» медицинского характера, в том числе и через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M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в разработк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ска объявлений медицинской тематики (Сделано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…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и еще много-много других планов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Rectangle 2" descr=""/>
          <p:cNvPicPr/>
          <p:nvPr/>
        </p:nvPicPr>
        <p:blipFill>
          <a:blip r:embed="rId2"/>
          <a:stretch/>
        </p:blipFill>
        <p:spPr>
          <a:xfrm>
            <a:off x="4456080" y="414360"/>
            <a:ext cx="4907160" cy="1195200"/>
          </a:xfrm>
          <a:prstGeom prst="rect">
            <a:avLst/>
          </a:prstGeom>
          <a:ln w="0">
            <a:noFill/>
          </a:ln>
        </p:spPr>
      </p:pic>
      <p:pic>
        <p:nvPicPr>
          <p:cNvPr id="157" name="Схема 6" descr=""/>
          <p:cNvPicPr/>
          <p:nvPr/>
        </p:nvPicPr>
        <p:blipFill>
          <a:blip r:embed="rId3"/>
          <a:stretch/>
        </p:blipFill>
        <p:spPr>
          <a:xfrm>
            <a:off x="201600" y="1547640"/>
            <a:ext cx="8881920" cy="45356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457200" y="612468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932360" y="6215040"/>
            <a:ext cx="4211640" cy="571680"/>
          </a:xfrm>
          <a:prstGeom prst="rect">
            <a:avLst/>
          </a:prstGeom>
          <a:gradFill rotWithShape="0">
            <a:gsLst>
              <a:gs pos="0">
                <a:srgbClr val="c5e9fb"/>
              </a:gs>
              <a:gs pos="100000">
                <a:srgbClr val="f8f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www.medarhiv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42861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Rectangle 2" descr=""/>
          <p:cNvPicPr/>
          <p:nvPr/>
        </p:nvPicPr>
        <p:blipFill>
          <a:blip r:embed="rId2"/>
          <a:stretch/>
        </p:blipFill>
        <p:spPr>
          <a:xfrm>
            <a:off x="4280040" y="23760"/>
            <a:ext cx="5113080" cy="1487520"/>
          </a:xfrm>
          <a:prstGeom prst="rect">
            <a:avLst/>
          </a:prstGeom>
          <a:ln w="0">
            <a:noFill/>
          </a:ln>
        </p:spPr>
      </p:pic>
      <p:pic>
        <p:nvPicPr>
          <p:cNvPr id="162" name="Схема 9" descr=""/>
          <p:cNvPicPr/>
          <p:nvPr/>
        </p:nvPicPr>
        <p:blipFill>
          <a:blip r:embed="rId3"/>
          <a:stretch/>
        </p:blipFill>
        <p:spPr>
          <a:xfrm>
            <a:off x="139680" y="1384200"/>
            <a:ext cx="8918640" cy="13464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457200" y="612468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932360" y="6215040"/>
            <a:ext cx="4211640" cy="571680"/>
          </a:xfrm>
          <a:prstGeom prst="rect">
            <a:avLst/>
          </a:prstGeom>
          <a:gradFill rotWithShape="0">
            <a:gsLst>
              <a:gs pos="0">
                <a:srgbClr val="c5e9fb"/>
              </a:gs>
              <a:gs pos="100000">
                <a:srgbClr val="f8f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www.medarhiv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4286160" cy="1054080"/>
          </a:xfrm>
          <a:prstGeom prst="rect">
            <a:avLst/>
          </a:prstGeom>
          <a:ln w="0">
            <a:noFill/>
          </a:ln>
        </p:spPr>
      </p:pic>
      <p:grpSp>
        <p:nvGrpSpPr>
          <p:cNvPr id="166" name="Скругленный прямоугольник 10"/>
          <p:cNvGrpSpPr/>
          <p:nvPr/>
        </p:nvGrpSpPr>
        <p:grpSpPr>
          <a:xfrm>
            <a:off x="133200" y="2803680"/>
            <a:ext cx="8877600" cy="3554280"/>
            <a:chOff x="133200" y="2803680"/>
            <a:chExt cx="8877600" cy="3554280"/>
          </a:xfrm>
        </p:grpSpPr>
        <p:pic>
          <p:nvPicPr>
            <p:cNvPr id="167" name="Скругленный 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133200" y="2803680"/>
              <a:ext cx="8877600" cy="35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92040" y="3013200"/>
              <a:ext cx="8359920" cy="30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Прямоугольник 13"/>
          <p:cNvSpPr/>
          <p:nvPr/>
        </p:nvSpPr>
        <p:spPr>
          <a:xfrm>
            <a:off x="285840" y="2857680"/>
            <a:ext cx="84294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ranklin Gothic Book"/>
              </a:rPr>
              <a:t>Он может поместить запись в один из 3-х раздел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ranklin Gothic Book"/>
              </a:rPr>
              <a:t>Личные данные (недоступны никому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ranklin Gothic Book"/>
              </a:rPr>
              <a:t>Медицинские данные (пациент может предоставить к ним доступ своим врачам</a:t>
            </a:r>
            <a:r>
              <a:rPr b="1" lang="en-US" sz="30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Franklin Gothic Book"/>
              </a:rPr>
              <a:t>Жизнено-важные данные (лежат почти открыто)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2"/>
          <a:stretch/>
        </p:blipFill>
        <p:spPr>
          <a:xfrm>
            <a:off x="4280040" y="23760"/>
            <a:ext cx="5108400" cy="1487520"/>
          </a:xfrm>
          <a:prstGeom prst="rect">
            <a:avLst/>
          </a:prstGeom>
          <a:ln w="0">
            <a:noFill/>
          </a:ln>
        </p:spPr>
      </p:pic>
      <p:pic>
        <p:nvPicPr>
          <p:cNvPr id="171" name="Схема 10" descr=""/>
          <p:cNvPicPr/>
          <p:nvPr/>
        </p:nvPicPr>
        <p:blipFill>
          <a:blip r:embed="rId3"/>
          <a:stretch/>
        </p:blipFill>
        <p:spPr>
          <a:xfrm>
            <a:off x="201600" y="1420920"/>
            <a:ext cx="8881920" cy="4724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457200" y="612468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4932360" y="6215040"/>
            <a:ext cx="4211640" cy="571680"/>
          </a:xfrm>
          <a:prstGeom prst="rect">
            <a:avLst/>
          </a:prstGeom>
          <a:gradFill rotWithShape="0">
            <a:gsLst>
              <a:gs pos="0">
                <a:srgbClr val="c5e9fb"/>
              </a:gs>
              <a:gs pos="100000">
                <a:srgbClr val="f8f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www.medarhiv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42861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Rectangle 2" descr=""/>
          <p:cNvPicPr/>
          <p:nvPr/>
        </p:nvPicPr>
        <p:blipFill>
          <a:blip r:embed="rId2"/>
          <a:stretch/>
        </p:blipFill>
        <p:spPr>
          <a:xfrm>
            <a:off x="4280040" y="23760"/>
            <a:ext cx="5126040" cy="14875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4"/>
          <p:cNvSpPr/>
          <p:nvPr/>
        </p:nvSpPr>
        <p:spPr>
          <a:xfrm>
            <a:off x="457200" y="612468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4932360" y="6286680"/>
            <a:ext cx="4211640" cy="571320"/>
          </a:xfrm>
          <a:prstGeom prst="rect">
            <a:avLst/>
          </a:prstGeom>
          <a:gradFill rotWithShape="0">
            <a:gsLst>
              <a:gs pos="0">
                <a:srgbClr val="c5e9fb"/>
              </a:gs>
              <a:gs pos="100000">
                <a:srgbClr val="f8f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www.medarhiv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4286160" cy="1054080"/>
          </a:xfrm>
          <a:prstGeom prst="rect">
            <a:avLst/>
          </a:prstGeom>
          <a:ln w="0">
            <a:noFill/>
          </a:ln>
        </p:spPr>
      </p:pic>
      <p:pic>
        <p:nvPicPr>
          <p:cNvPr id="179" name="Схема 8" descr=""/>
          <p:cNvPicPr/>
          <p:nvPr/>
        </p:nvPicPr>
        <p:blipFill>
          <a:blip r:embed="rId4"/>
          <a:stretch/>
        </p:blipFill>
        <p:spPr>
          <a:xfrm>
            <a:off x="268200" y="1122480"/>
            <a:ext cx="897912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ctangle 2" descr=""/>
          <p:cNvPicPr/>
          <p:nvPr/>
        </p:nvPicPr>
        <p:blipFill>
          <a:blip r:embed="rId2"/>
          <a:stretch/>
        </p:blipFill>
        <p:spPr>
          <a:xfrm>
            <a:off x="4280040" y="208080"/>
            <a:ext cx="5035320" cy="1060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457200" y="612468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4286160" cy="10540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214200" y="1647360"/>
            <a:ext cx="8786880" cy="4474440"/>
          </a:xfrm>
          <a:prstGeom prst="rect">
            <a:avLst/>
          </a:prstGeom>
          <a:solidFill>
            <a:srgbClr val="ffffff"/>
          </a:solidFill>
          <a:ln w="9360">
            <a:solidFill>
              <a:srgbClr val="a7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формационное пись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Гематологическом научном центре РАМН действует компьютерная клиническая информационная система, которая сохраняет большую часть результатов обследования наших пациентов. По Закону о здравоохранении, пациент имеет право получать копии записей о состоянии своего здоровья. У нас появилась возможность переносить данные из Информационной системы ГНЦ РАМН в Персональную электронную медицинскую карту (ПЭМК), создаваемую по заявке пациента на сайте </a:t>
            </a:r>
            <a:r>
              <a:rPr b="0" lang="en-US" sz="1600" spc="-1" strike="noStrike" u="sng">
                <a:solidFill>
                  <a:srgbClr val="f3d43b"/>
                </a:solidFill>
                <a:uFillTx/>
                <a:latin typeface="Calibri"/>
                <a:ea typeface="Times New Roman"/>
                <a:hlinkClick r:id="rId4"/>
              </a:rPr>
              <a:t>www</a:t>
            </a:r>
            <a:r>
              <a:rPr b="0" lang="ru-RU" sz="1600" spc="-1" strike="noStrike" u="sng">
                <a:solidFill>
                  <a:srgbClr val="f3d43b"/>
                </a:solidFill>
                <a:uFillTx/>
                <a:latin typeface="Calibri"/>
                <a:ea typeface="Times New Roman"/>
                <a:hlinkClick r:id="rId5"/>
              </a:rPr>
              <a:t>.</a:t>
            </a:r>
            <a:r>
              <a:rPr b="0" lang="en-US" sz="1600" spc="-1" strike="noStrike" u="sng">
                <a:solidFill>
                  <a:srgbClr val="f3d43b"/>
                </a:solidFill>
                <a:uFillTx/>
                <a:latin typeface="Calibri"/>
                <a:ea typeface="Times New Roman"/>
                <a:hlinkClick r:id="rId6"/>
              </a:rPr>
              <a:t>medarhiv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.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ru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Электронные версии медицинских документов приобретают все большее распространение, их можно и нужно использовать для ведения записей о своем здоровье, для очных и заочных консультаций. ПЭМК показывает динамику клинических показателей на таблицах и графиках - это особенно важно при большом количестве исследований. Собирая свои медицинские данные в ПЭМК, Вы облегчите стоящую перед врачом задачу полноценного анализа вашего заболевания. ПЭМК защищена от несанкционированного доступа, но открыта Вам и вашему врачу в любое время и из любого места, где есть Интерн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Мы рекомендуем Вам завести Персональную электронную медицинскую карту на сайте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www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medarhiv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ru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этого, если Вы – пациент ГНЦ РАМН, Вам надо заполнить бланк в Отдел компьютеризации (Главный корпус, 1 этаж, коридор поликлиники, Комната 119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 flipV="1" rot="10800000">
            <a:off x="214200" y="6204240"/>
            <a:ext cx="87868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ректор ГНЦ РАМ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деми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.И.Воробь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" descr="подпись воробьева 2 (2)"/>
          <p:cNvPicPr/>
          <p:nvPr/>
        </p:nvPicPr>
        <p:blipFill>
          <a:blip r:embed="rId7"/>
          <a:stretch/>
        </p:blipFill>
        <p:spPr>
          <a:xfrm>
            <a:off x="3643200" y="5857920"/>
            <a:ext cx="226692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Rectangle 2" descr=""/>
          <p:cNvPicPr/>
          <p:nvPr/>
        </p:nvPicPr>
        <p:blipFill>
          <a:blip r:embed="rId2"/>
          <a:stretch/>
        </p:blipFill>
        <p:spPr>
          <a:xfrm>
            <a:off x="4280040" y="208080"/>
            <a:ext cx="5035320" cy="10602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457200" y="612468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4286160" cy="1054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4"/>
          <a:stretch/>
        </p:blipFill>
        <p:spPr>
          <a:xfrm>
            <a:off x="3071880" y="1214280"/>
            <a:ext cx="569124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1:35:27Z</dcterms:created>
  <dc:creator/>
  <dc:description/>
  <dc:language>en-US</dc:language>
  <cp:lastModifiedBy/>
  <dcterms:modified xsi:type="dcterms:W3CDTF">2010-04-21T06:53:00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851999990</vt:lpwstr>
  </property>
</Properties>
</file>